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6.png" ContentType="image/png"/>
  <Override PartName="/ppt/media/image35.png" ContentType="image/png"/>
  <Override PartName="/ppt/media/image5.jpeg" ContentType="image/jpeg"/>
  <Override PartName="/ppt/media/image11.png" ContentType="image/png"/>
  <Override PartName="/ppt/media/image48.png" ContentType="image/png"/>
  <Override PartName="/ppt/media/image13.png" ContentType="image/png"/>
  <Override PartName="/ppt/media/image36.png" ContentType="image/png"/>
  <Override PartName="/ppt/media/image40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9.png" ContentType="image/png"/>
  <Override PartName="/ppt/media/image10.png" ContentType="image/png"/>
  <Override PartName="/ppt/media/image47.png" ContentType="image/png"/>
  <Override PartName="/ppt/media/image39.png" ContentType="image/png"/>
  <Override PartName="/ppt/media/image9.png" ContentType="image/png"/>
  <Override PartName="/ppt/media/image37.png" ContentType="image/png"/>
  <Override PartName="/ppt/media/image7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8.png" ContentType="image/png"/>
  <Override PartName="/ppt/media/image8.png" ContentType="image/png"/>
  <Override PartName="/ppt/media/image33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3b30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968A-23C6-4885-A0CD-F9560749C5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2417-6262-4645-BC61-BA2C0C7EC4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27AF0-219D-4C06-B105-315F8DF272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24BE-6A51-43AC-A07F-3DCE7DC235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D1D7-394C-4FCA-B9D0-2AD187689E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6E3F-54F2-4BEC-A275-2CA1640605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5FC0-E449-4940-B4A4-3905B82357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0289-6585-48EB-804E-140AA8370B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39DD-1BB7-4308-A174-B86965E9E4E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07A3-486F-4BAB-8A91-8A28683A9F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1747D-186E-4AD3-A3FB-05B77F1ED7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5B53-2498-4968-8E07-263AB41628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74E5A-839E-45D3-B443-272B410CB5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9F4DE-E6F7-409B-9A7B-2445A58693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8A97-C0A6-40BC-8E4B-438568EE55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FB062-162B-46F9-965E-B657333216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67B0E-1128-4B2B-85DD-265D829AAA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97585-9F16-49F9-A937-446E312D82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C43A-A538-4260-B42A-EA9E88403D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BBE6-BF49-4CB8-9E6E-FFC336BC78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7259-C12C-48BE-88AD-2D0D76E574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8092E-68DD-4494-8689-30830147F6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6B03-F6EA-4489-9D68-991649FC8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1097-8E16-48E9-A937-343338F44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22EF-988A-4FEA-9901-6B102907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3C76-1A10-4469-9D9C-784F80304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49B7A-5AFC-41B1-8F28-D18B170EB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8BDD1-A0E9-428F-816D-669F7228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24BE-4433-4519-89C3-1E290FEF2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DE33-0D11-4362-BD17-F719C131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6B5F-F4D2-458C-98AE-DF6D45B8B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FD48-E7C2-4A1C-B7CD-8C04C299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6525-52DA-4E14-A635-73A10F7E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A676-A794-4E21-8E67-7023BE7D8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826AA-C5E3-43AF-8B50-1808C3CAF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4B1E3-0E54-42D3-BA89-4E24F752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B8614-C1D8-4752-8D6E-6282B074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73CA-BCAE-4DAE-87C8-466062F6F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67B15-E502-479A-BD7A-EED87800D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2E6A1-8E82-4C21-83F4-EB2015D7F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2E33D-2FC0-418D-AD29-B1F47509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86A72-829D-474B-8725-EC909B0C4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5211A-0901-4438-9471-2212D577D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E5662-00A0-4FF7-AE79-C1D6DB45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79B3-9360-49E9-850F-BD8427BA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6A559-6C3C-4510-ADEF-BDBE4DAFD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14320-D943-454E-9123-30892A716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394F5-69E0-4D67-B93E-38F71E105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A5BD8-E902-4C10-9972-0130039E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4DFF9-18E9-4E29-A02A-992EAABD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4FD0E-5B5D-42D8-B5B7-7BC85C7A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BEB0E-4911-4C9C-8649-A6B5EB17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4F56C-E4CD-494F-BE1E-D4CE6D88B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47599-861B-4EFC-AFA0-623AF05F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C2650-8390-4245-9632-406087EE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4380-9633-4E7A-B966-0059CD478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E0BF71-BA0E-41A1-A19D-EC4783FF5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7D87D-FF8C-44E0-97C8-562423ED4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8A54E-2876-45C5-A70B-38067196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751B2-3815-48EC-9BB3-6C95BCBED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8B2163-AC56-4118-A48B-D45B3E8F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C0DA3-D6E1-407F-AAEB-35083B79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C3E998-9413-436B-BE53-584080CC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24FF0-C375-48E4-94D3-592DDAC82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EA3C5-52C3-4F8A-8226-40C56848D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AC373-011B-4E4F-80FC-8C0B3170E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89E1-B572-4F90-B0E4-56523C0D5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83DBB-6CAA-466C-A3CE-956DA2622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FD808-24EE-4511-B7A8-CD6245AD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80DF9B-1EA2-43F6-A7D2-12B82EB15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FB429-51CD-4013-A13C-8C23D209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FD3D2-5F9F-431E-98B6-1A06ABDC5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F122C-2DA6-4A1F-80E7-E148A8DA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258B2-F052-4B45-ACDB-1616F698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C5A3F-9C9F-4DEA-8C0A-98514AB1F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CD2D3-4D2D-4086-A5DE-8B484ECA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6234DF-00CA-489D-8B4F-BB6EA1362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BB00-56E0-4FD0-B403-FC163178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874B1E-E90C-4C64-AF60-EFD3FD4C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32F5CC-6D24-499A-8750-A30FBE797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27B224-C25C-4359-BC2C-CAC0622CB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AB28C-8251-41D2-9D3E-A72BC6E22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CBA0D2-F836-4B0F-81F8-AFC3003CC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AD0D2-C3D4-49A3-9A22-179D5F00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7207A-EC98-44CD-90F3-55766B4A0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7D194-E4B2-4C1F-9013-35DA035A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8FB0A8-F9D0-4C7F-979C-19E426903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0ADFA-7D5D-4337-A2DD-69CB042D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1260-0359-4640-B4ED-91EA97E4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744A6-908F-4B69-9E50-CC519137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7D20B-4C52-4E06-994D-2EDA3348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742765-2447-46CA-A551-4F7D4771D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3DD01-FE06-4725-BCE5-5B453F67C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D31C4-03CA-4E08-A790-B5C92B037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63465-E3B2-4624-BC92-24C872D7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0E8C8-6DFB-4073-A4AE-98F211DB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1646E-891A-4864-ABB0-68F18630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9963B-DA5B-42B2-8B7E-93CFDA964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E2227B-7AC3-46B6-8703-AF14DA10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DC9B-1035-4C13-9E61-365FC8BB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29A10-7D09-4AB8-8BF4-7A5CD4DEA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202B7A-E6A3-4006-ABD9-CE568BD8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97E29-01AE-4425-A5AA-B8E6BC1C3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97850-55AB-4059-A7B6-202C9355A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B1EE10-2845-479A-BD07-5D2CCCBE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5491C4-72A5-4A0D-8190-60EC42D9D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802B4D-B63B-4F38-9774-80058A4F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308FEF-97C9-4314-B5A9-74EAB717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49854D-BE4A-4A80-AD77-1FA3635B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DC9DB-4D20-4753-920F-0758592C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977C-2D29-40BB-9355-26491F29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8A6342-11D8-43E6-BF0C-E3CAE925B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25E120-1309-4064-9635-8722C46F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4071F4-5DD2-48DC-9954-521ECAAC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1E4114-9589-4930-BCE4-3613AB3A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38257-0A11-42AD-A1F7-2E2CBD031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2A12B-577E-4492-B153-8ADA9F09B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64537-B23D-4E0A-B4B1-6498D89A6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cc99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3b3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3EBC-C344-4446-889A-2C8D272E34D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c26c00"/>
              </a:gs>
              <a:gs pos="50000">
                <a:srgbClr val="ffb03f"/>
              </a:gs>
              <a:gs pos="100000">
                <a:srgbClr val="c26c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fcc99d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3b3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92F2-7E81-4A22-9C1F-7D0AC115E649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cc99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3840f"/>
              </a:gs>
              <a:gs pos="100000">
                <a:srgbClr val="ffbd79"/>
              </a:gs>
            </a:gsLst>
            <a:lin ang="16200000"/>
          </a:gradFill>
          <a:ln cap="rnd" w="3240">
            <a:solidFill>
              <a:srgbClr val="b0761f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3840f"/>
              </a:gs>
              <a:gs pos="100000">
                <a:srgbClr val="ffbd79"/>
              </a:gs>
            </a:gsLst>
            <a:lin ang="16200000"/>
          </a:gradFill>
          <a:ln cap="rnd" w="3240">
            <a:solidFill>
              <a:srgbClr val="b0761f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beec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beec9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4FBC1-972B-49DD-87F9-A5D000914DA0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cc99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beec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beec9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155B-C0BA-43BF-A34A-488AEDC801F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3b3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FDB9-F812-4D48-A875-591A4D4DBF2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cc99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beec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beec9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D624-2CD6-4043-A2FE-76B76E2DCB7E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3b30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3b30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912C-4341-45A0-93B4-A863AEF2195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fcc99d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3840f"/>
              </a:gs>
              <a:gs pos="100000">
                <a:srgbClr val="ffbd79"/>
              </a:gs>
            </a:gsLst>
            <a:lin ang="16200000"/>
          </a:gradFill>
          <a:ln cap="rnd" w="3240">
            <a:solidFill>
              <a:srgbClr val="b0761f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d3840f"/>
              </a:gs>
              <a:gs pos="100000">
                <a:srgbClr val="ffbd79"/>
              </a:gs>
            </a:gsLst>
            <a:lin ang="16200000"/>
          </a:gradFill>
          <a:ln cap="rnd" w="3240">
            <a:solidFill>
              <a:srgbClr val="b0761f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beec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beec9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5644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7218-3657-493C-9003-81C98F9CA603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7" descr=""/>
          <p:cNvPicPr/>
          <p:nvPr/>
        </p:nvPicPr>
        <p:blipFill>
          <a:blip r:embed="rId1"/>
          <a:stretch/>
        </p:blipFill>
        <p:spPr>
          <a:xfrm>
            <a:off x="822240" y="1292400"/>
            <a:ext cx="81025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e3b30"/>
                </a:solidFill>
                <a:latin typeface="Garamond"/>
              </a:rPr>
              <a:t>Sergey Brushtei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e3b30"/>
                </a:solidFill>
                <a:latin typeface="Garamond"/>
              </a:rPr>
              <a:t>Amit Desai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e3b30"/>
                </a:solidFill>
                <a:latin typeface="Garamond"/>
              </a:rPr>
              <a:t>Gautam Dhal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e3b30"/>
                </a:solidFill>
                <a:latin typeface="Garamond"/>
              </a:rPr>
              <a:t>Shuying Fa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4e3b30"/>
                </a:solidFill>
                <a:latin typeface="Garamond"/>
              </a:rPr>
              <a:t>Tharun  Joh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Title 2" descr=""/>
          <p:cNvPicPr/>
          <p:nvPr/>
        </p:nvPicPr>
        <p:blipFill>
          <a:blip r:embed="rId1"/>
          <a:stretch/>
        </p:blipFill>
        <p:spPr>
          <a:xfrm>
            <a:off x="281160" y="268200"/>
            <a:ext cx="8412120" cy="11588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" descr=""/>
          <p:cNvPicPr/>
          <p:nvPr/>
        </p:nvPicPr>
        <p:blipFill>
          <a:blip r:embed="rId2"/>
          <a:stretch/>
        </p:blipFill>
        <p:spPr>
          <a:xfrm>
            <a:off x="1952640" y="1986120"/>
            <a:ext cx="523872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Title 2" descr=""/>
          <p:cNvPicPr/>
          <p:nvPr/>
        </p:nvPicPr>
        <p:blipFill>
          <a:blip r:embed="rId1"/>
          <a:stretch/>
        </p:blipFill>
        <p:spPr>
          <a:xfrm>
            <a:off x="281160" y="268200"/>
            <a:ext cx="8412120" cy="11588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"/>
          <p:cNvPicPr/>
          <p:nvPr/>
        </p:nvPicPr>
        <p:blipFill>
          <a:blip r:embed="rId2"/>
          <a:stretch/>
        </p:blipFill>
        <p:spPr>
          <a:xfrm>
            <a:off x="1952640" y="1986120"/>
            <a:ext cx="523872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Title 2" descr=""/>
          <p:cNvPicPr/>
          <p:nvPr/>
        </p:nvPicPr>
        <p:blipFill>
          <a:blip r:embed="rId1"/>
          <a:stretch/>
        </p:blipFill>
        <p:spPr>
          <a:xfrm>
            <a:off x="281160" y="268200"/>
            <a:ext cx="8412120" cy="115884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2" descr=""/>
          <p:cNvPicPr/>
          <p:nvPr/>
        </p:nvPicPr>
        <p:blipFill>
          <a:blip r:embed="rId2"/>
          <a:stretch/>
        </p:blipFill>
        <p:spPr>
          <a:xfrm>
            <a:off x="1952640" y="1986120"/>
            <a:ext cx="5238720" cy="35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650440" cy="11588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"/>
          <p:cNvPicPr/>
          <p:nvPr/>
        </p:nvPicPr>
        <p:blipFill>
          <a:blip r:embed="rId2"/>
          <a:stretch/>
        </p:blipFill>
        <p:spPr>
          <a:xfrm>
            <a:off x="380880" y="1219320"/>
            <a:ext cx="3962520" cy="26668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8" descr=""/>
          <p:cNvPicPr/>
          <p:nvPr/>
        </p:nvPicPr>
        <p:blipFill>
          <a:blip r:embed="rId3"/>
          <a:stretch/>
        </p:blipFill>
        <p:spPr>
          <a:xfrm>
            <a:off x="4419720" y="1219320"/>
            <a:ext cx="4071960" cy="26668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9" descr=""/>
          <p:cNvPicPr/>
          <p:nvPr/>
        </p:nvPicPr>
        <p:blipFill>
          <a:blip r:embed="rId4"/>
          <a:stretch/>
        </p:blipFill>
        <p:spPr>
          <a:xfrm>
            <a:off x="3276720" y="3962520"/>
            <a:ext cx="39621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Title 2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4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8229600" cy="3438720"/>
          </a:xfrm>
          <a:prstGeom prst="rect">
            <a:avLst/>
          </a:prstGeom>
          <a:ln w="0">
            <a:noFill/>
          </a:ln>
        </p:spPr>
      </p:pic>
      <p:sp>
        <p:nvSpPr>
          <p:cNvPr id="413" name="TextBox 6"/>
          <p:cNvSpPr/>
          <p:nvPr/>
        </p:nvSpPr>
        <p:spPr>
          <a:xfrm>
            <a:off x="533520" y="121932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ing each quarter for 3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ue cells: Minimum return per quarter, R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2" descr=""/>
          <p:cNvPicPr/>
          <p:nvPr/>
        </p:nvPicPr>
        <p:blipFill>
          <a:blip r:embed="rId1"/>
          <a:stretch/>
        </p:blipFill>
        <p:spPr>
          <a:xfrm>
            <a:off x="281160" y="268200"/>
            <a:ext cx="8412120" cy="11588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" descr=""/>
          <p:cNvPicPr/>
          <p:nvPr/>
        </p:nvPicPr>
        <p:blipFill>
          <a:blip r:embed="rId2"/>
          <a:stretch/>
        </p:blipFill>
        <p:spPr>
          <a:xfrm>
            <a:off x="990720" y="1866960"/>
            <a:ext cx="7696080" cy="3855960"/>
          </a:xfrm>
          <a:prstGeom prst="rect">
            <a:avLst/>
          </a:prstGeom>
          <a:ln w="0">
            <a:noFill/>
          </a:ln>
        </p:spPr>
      </p:pic>
      <p:sp>
        <p:nvSpPr>
          <p:cNvPr id="416" name="TextBox 4"/>
          <p:cNvSpPr/>
          <p:nvPr/>
        </p:nvSpPr>
        <p:spPr>
          <a:xfrm>
            <a:off x="609480" y="1143000"/>
            <a:ext cx="80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cash flows for each category and type for 10 years (cash-on-cas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Title 2" descr=""/>
          <p:cNvPicPr/>
          <p:nvPr/>
        </p:nvPicPr>
        <p:blipFill>
          <a:blip r:embed="rId1"/>
          <a:stretch/>
        </p:blipFill>
        <p:spPr>
          <a:xfrm>
            <a:off x="268200" y="249120"/>
            <a:ext cx="8425080" cy="75096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"/>
          <p:cNvPicPr/>
          <p:nvPr/>
        </p:nvPicPr>
        <p:blipFill>
          <a:blip r:embed="rId2"/>
          <a:stretch/>
        </p:blipFill>
        <p:spPr>
          <a:xfrm>
            <a:off x="1676520" y="1674720"/>
            <a:ext cx="6933960" cy="4345200"/>
          </a:xfrm>
          <a:prstGeom prst="rect">
            <a:avLst/>
          </a:prstGeom>
          <a:ln w="0">
            <a:noFill/>
          </a:ln>
        </p:spPr>
      </p:pic>
      <p:sp>
        <p:nvSpPr>
          <p:cNvPr id="419" name="TextBox 3"/>
          <p:cNvSpPr/>
          <p:nvPr/>
        </p:nvSpPr>
        <p:spPr>
          <a:xfrm>
            <a:off x="685800" y="9144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form distribution for categ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tted distributions for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2" descr=""/>
          <p:cNvPicPr/>
          <p:nvPr/>
        </p:nvPicPr>
        <p:blipFill>
          <a:blip r:embed="rId1"/>
          <a:stretch/>
        </p:blipFill>
        <p:spPr>
          <a:xfrm>
            <a:off x="268200" y="268200"/>
            <a:ext cx="8425080" cy="11588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" descr=""/>
          <p:cNvPicPr/>
          <p:nvPr/>
        </p:nvPicPr>
        <p:blipFill>
          <a:blip r:embed="rId2"/>
          <a:stretch/>
        </p:blipFill>
        <p:spPr>
          <a:xfrm>
            <a:off x="1676520" y="2120760"/>
            <a:ext cx="6476760" cy="3886200"/>
          </a:xfrm>
          <a:prstGeom prst="rect">
            <a:avLst/>
          </a:prstGeom>
          <a:ln w="0">
            <a:noFill/>
          </a:ln>
        </p:spPr>
      </p:pic>
      <p:sp>
        <p:nvSpPr>
          <p:cNvPr id="422" name="TextBox 3"/>
          <p:cNvSpPr/>
          <p:nvPr/>
        </p:nvSpPr>
        <p:spPr>
          <a:xfrm>
            <a:off x="990720" y="12193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et allocation for Original, Revival and Tour investments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%, 21%, 53% resp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Title 2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sp>
        <p:nvSpPr>
          <p:cNvPr id="424" name="TextBox 4"/>
          <p:cNvSpPr/>
          <p:nvPr/>
        </p:nvSpPr>
        <p:spPr>
          <a:xfrm>
            <a:off x="304920" y="121932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imum return per quar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ments during the first three years generate negative retu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6" descr=""/>
          <p:cNvPicPr/>
          <p:nvPr/>
        </p:nvPicPr>
        <p:blipFill>
          <a:blip r:embed="rId2"/>
          <a:stretch/>
        </p:blipFill>
        <p:spPr>
          <a:xfrm>
            <a:off x="4648320" y="2971800"/>
            <a:ext cx="4190760" cy="30481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5" descr=""/>
          <p:cNvPicPr/>
          <p:nvPr/>
        </p:nvPicPr>
        <p:blipFill>
          <a:blip r:embed="rId3"/>
          <a:stretch/>
        </p:blipFill>
        <p:spPr>
          <a:xfrm>
            <a:off x="457200" y="1981080"/>
            <a:ext cx="4191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8" name="Content Placeholder 3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4147920" cy="288144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4" descr=""/>
          <p:cNvPicPr/>
          <p:nvPr/>
        </p:nvPicPr>
        <p:blipFill>
          <a:blip r:embed="rId3"/>
          <a:stretch/>
        </p:blipFill>
        <p:spPr>
          <a:xfrm>
            <a:off x="4648320" y="3581280"/>
            <a:ext cx="4114800" cy="2895840"/>
          </a:xfrm>
          <a:prstGeom prst="rect">
            <a:avLst/>
          </a:prstGeom>
          <a:ln w="0">
            <a:noFill/>
          </a:ln>
        </p:spPr>
      </p:pic>
      <p:sp>
        <p:nvSpPr>
          <p:cNvPr id="430" name="TextBox 5"/>
          <p:cNvSpPr/>
          <p:nvPr/>
        </p:nvSpPr>
        <p:spPr>
          <a:xfrm>
            <a:off x="685800" y="129528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ney is reinvested into th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megahit is worth 10 lo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91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Overview of Theatre Industry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Approach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Historical Return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Goodness of Fi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Formulation – Financial Mode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Monte Carlo Simulation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Min return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ROI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correlated Forces with Marke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rd to predict and Foreca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istory data Profiling –Distribution F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tually exclusive randomizations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troducing dependency of one Green randomized cell on another green ce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ciphering calculations based on 58 X 4 Quarters X 8 year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ediction of undervalue when it touches Breakeven poin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ank yo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394840" cy="1158840"/>
          </a:xfrm>
          <a:prstGeom prst="rect">
            <a:avLst/>
          </a:prstGeom>
          <a:ln w="0">
            <a:noFill/>
          </a:ln>
        </p:spPr>
      </p:pic>
      <p:pic>
        <p:nvPicPr>
          <p:cNvPr id="382" name="Content Placeholder 3" descr=""/>
          <p:cNvPicPr/>
          <p:nvPr/>
        </p:nvPicPr>
        <p:blipFill>
          <a:blip r:embed="rId2"/>
          <a:stretch/>
        </p:blipFill>
        <p:spPr>
          <a:xfrm>
            <a:off x="450720" y="1474920"/>
            <a:ext cx="808992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46160" y="219240"/>
            <a:ext cx="8547120" cy="933120"/>
          </a:xfrm>
          <a:prstGeom prst="rect">
            <a:avLst/>
          </a:prstGeom>
          <a:ln w="0">
            <a:noFill/>
          </a:ln>
        </p:spPr>
      </p:pic>
      <p:sp>
        <p:nvSpPr>
          <p:cNvPr id="384" name="Rectangle 3"/>
          <p:cNvSpPr/>
          <p:nvPr/>
        </p:nvSpPr>
        <p:spPr>
          <a:xfrm>
            <a:off x="228600" y="1219320"/>
            <a:ext cx="8553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Sans Unicode"/>
                <a:ea typeface="Arial"/>
              </a:rPr>
              <a:t>Over the past 25 years, Broadway box office revenue has continued to grow despite periods of steep decline in the marke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8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792504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Title 2" descr=""/>
          <p:cNvPicPr/>
          <p:nvPr/>
        </p:nvPicPr>
        <p:blipFill>
          <a:blip r:embed="rId1"/>
          <a:stretch/>
        </p:blipFill>
        <p:spPr>
          <a:xfrm>
            <a:off x="298440" y="-30240"/>
            <a:ext cx="8394840" cy="1103400"/>
          </a:xfrm>
          <a:prstGeom prst="rect">
            <a:avLst/>
          </a:prstGeom>
          <a:ln w="0">
            <a:noFill/>
          </a:ln>
        </p:spPr>
      </p:pic>
      <p:sp>
        <p:nvSpPr>
          <p:cNvPr id="387" name="Content Placeholder 1"/>
          <p:cNvSpPr/>
          <p:nvPr/>
        </p:nvSpPr>
        <p:spPr>
          <a:xfrm>
            <a:off x="393840" y="990720"/>
            <a:ext cx="875016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0440" tIns="0" bIns="18360" anchor="t">
            <a:noAutofit/>
          </a:bodyPr>
          <a:p>
            <a:pPr lvl="1"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Sans Unicode"/>
                <a:ea typeface="Arial"/>
              </a:rPr>
              <a:t>Applying portfolio theory to Broadway investments reduces volatility and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Lucida Sans Unicode"/>
                <a:ea typeface="Arial"/>
              </a:rPr>
              <a:t>creates consistently high retur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Content Placeholder 5" descr=""/>
          <p:cNvPicPr/>
          <p:nvPr/>
        </p:nvPicPr>
        <p:blipFill>
          <a:blip r:embed="rId2"/>
          <a:stretch/>
        </p:blipFill>
        <p:spPr>
          <a:xfrm>
            <a:off x="378000" y="1749600"/>
            <a:ext cx="8235720" cy="1731960"/>
          </a:xfrm>
          <a:prstGeom prst="rect">
            <a:avLst/>
          </a:prstGeom>
          <a:ln w="0">
            <a:noFill/>
          </a:ln>
        </p:spPr>
      </p:pic>
      <p:pic>
        <p:nvPicPr>
          <p:cNvPr id="389" name="Chart 6" descr=""/>
          <p:cNvPicPr/>
          <p:nvPr/>
        </p:nvPicPr>
        <p:blipFill>
          <a:blip r:embed="rId3"/>
          <a:stretch/>
        </p:blipFill>
        <p:spPr>
          <a:xfrm>
            <a:off x="450720" y="3803760"/>
            <a:ext cx="843120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company is going to raise a fund which will make 50 total investments in Broadway shows over 3 years.  We want to know what the probable return will be on this portfolio of investments, and the minimum return per quarter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company will invest in 3 categories of Broadway shows, and each with 5 type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364600" cy="115884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Three categorie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roadway Origina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Broadway Revival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Touring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Five different types in each of above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Loss, Failure, Breakeven, Hit, Mega Hit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Sans Unicode"/>
              </a:rPr>
              <a:t>3 X 5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f0a22e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f0a22e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364600" cy="1158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6" descr=""/>
          <p:cNvPicPr/>
          <p:nvPr/>
        </p:nvPicPr>
        <p:blipFill>
          <a:blip r:embed="rId2"/>
          <a:stretch/>
        </p:blipFill>
        <p:spPr>
          <a:xfrm>
            <a:off x="838080" y="1295280"/>
            <a:ext cx="3219480" cy="96228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7" descr=""/>
          <p:cNvPicPr/>
          <p:nvPr/>
        </p:nvPicPr>
        <p:blipFill>
          <a:blip r:embed="rId3"/>
          <a:stretch/>
        </p:blipFill>
        <p:spPr>
          <a:xfrm>
            <a:off x="2438280" y="2438280"/>
            <a:ext cx="2981520" cy="198144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8" descr=""/>
          <p:cNvPicPr/>
          <p:nvPr/>
        </p:nvPicPr>
        <p:blipFill>
          <a:blip r:embed="rId4"/>
          <a:stretch/>
        </p:blipFill>
        <p:spPr>
          <a:xfrm>
            <a:off x="4267080" y="4572000"/>
            <a:ext cx="3029040" cy="10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2" descr=""/>
          <p:cNvPicPr/>
          <p:nvPr/>
        </p:nvPicPr>
        <p:blipFill>
          <a:blip r:embed="rId1"/>
          <a:stretch/>
        </p:blipFill>
        <p:spPr>
          <a:xfrm>
            <a:off x="328680" y="268200"/>
            <a:ext cx="8364600" cy="15670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"/>
          <p:cNvPicPr/>
          <p:nvPr/>
        </p:nvPicPr>
        <p:blipFill>
          <a:blip r:embed="rId2"/>
          <a:stretch/>
        </p:blipFill>
        <p:spPr>
          <a:xfrm>
            <a:off x="938160" y="1986120"/>
            <a:ext cx="7394760" cy="3576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400" name="Oval 4"/>
          <p:cNvSpPr/>
          <p:nvPr/>
        </p:nvSpPr>
        <p:spPr>
          <a:xfrm>
            <a:off x="7010280" y="2666880"/>
            <a:ext cx="990720" cy="609840"/>
          </a:xfrm>
          <a:prstGeom prst="ellipse">
            <a:avLst/>
          </a:prstGeom>
          <a:noFill/>
          <a:ln w="55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21:38:38Z</dcterms:created>
  <dc:creator>User</dc:creator>
  <dc:description/>
  <dc:language>en-US</dc:language>
  <cp:lastModifiedBy> </cp:lastModifiedBy>
  <dcterms:modified xsi:type="dcterms:W3CDTF">2008-12-01T17:41:05Z</dcterms:modified>
  <cp:revision>32</cp:revision>
  <dc:subject/>
  <dc:title>Live Theater Industry MESA</dc:title>
</cp:coreProperties>
</file>