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9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8372-A8E5-4B1B-94D7-03AADA47F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D97A-6267-4C35-A275-8DEF82EBF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C96-C3C6-4589-AEF9-5FB2064B6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98E2-B5F9-4012-B5E9-E7DDA962F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8603-5184-4F8D-88CA-208F04693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2582-7DAF-450F-B4A6-6E85D3905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7706-6790-4B62-A759-11937CFA4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FE43-BD58-484E-A96C-442B28B90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ED98-87B2-40EB-BF97-253543C66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E19C-9881-484D-8C4B-489B95A45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FBDD-7250-450C-82A3-94190EF6B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EBF8-AF5F-4A17-98B7-A083F1A1D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537E-ED27-4DA0-BD03-4E5453864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EDA-994E-4A88-AD9C-3A7BAE91E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1537-8614-499C-80C2-070BDDEA9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84D8-4156-4EC5-B5B5-C26221932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79F4-CFBF-4B67-9B49-EB5874DFB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5CC5-9A7C-47D6-AD1D-5592BD4D4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8C0B-2625-4F8E-93FB-2A10E3B2C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A18F-1CDC-4104-9393-A6A355F50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623D-D93F-4D3D-AADC-B99A818F0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D7FC-BB7C-4F56-90EC-9467A1700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9C8-B201-4B7C-AFCF-2E3C1275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AF9-97FA-420B-A1AE-B7B86E7C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536-B627-47AE-BA9F-D5E8477B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A38-49DF-4F3F-BD4B-DAD5C875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E19E-1438-4FAF-A691-1BDB56A3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5DF0-516C-4E31-BC65-B22BC087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BEF-F965-471B-8177-520DC663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A43C-9ED6-4F17-B0F6-E69C122C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FB84-7651-4438-AB18-50E39074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11A4-4354-4BDF-A170-6B656D66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75F7-F431-49E7-9DAD-606765A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C7E-DC76-4A2B-BB32-F949666F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30C6-6283-4F48-961A-B78045A7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6EC3-230A-49EB-9A18-CC19E30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5F62-9D3C-49E8-97B9-91E0CD99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7783-3DF5-4D58-8A87-E342168A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2CB5-863D-449E-92C4-A3DE9935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79BD-B33F-41AF-8B7D-E4BCE3FA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E994-5B33-4965-81FB-B71141C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73F6-8BED-4792-A589-684EC33C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66F7-EE20-42BC-883F-A4ECB00D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CD76E-E9C2-4A3A-876D-5ADF995A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FA0-F66B-4E69-9FAA-9440963F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CF5D-F72B-4772-90B0-6C3CCD8C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B89B-69E1-42DB-B6F8-972CBBF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A52F-A876-4182-AC78-868EBC25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0A72-5FDF-48D5-BBBE-E46FDF0B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AB24-0F9E-40CB-82D2-52CA0A56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570D-6796-4416-A03A-EDB7BB11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8142-C75C-452B-BB9B-A831E599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C69B-9D50-420A-BC6A-7F308435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8C3D-3BC7-4DC1-9A9A-0C9292E4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6EF0-9117-4B88-B53E-80D18C92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8B7-0E87-4C0C-AFF1-2EED8BBB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282EE-84D7-4DEB-A948-597870FC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CB82-A997-47E4-B572-BEEC88E6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5477E-45A3-4DF1-8DCD-076478D6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79D1-F1FC-45D4-9414-AC11BBF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FEED-3E1D-48CC-8405-BC3B29E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62C5-DE19-4EC0-97B5-71B36DF6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20383-5BCD-4A6D-A3D4-FAC562B7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DFC7-4E51-430E-BF4E-89B30D4E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01BA-AF00-4E6A-853B-1BFC8273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9E2E-C12C-49FE-9C63-77F7A34D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29B-3692-4779-9789-FB54B0CB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B9C85-6D07-4495-BC00-8F4D1098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86859-5F96-439E-9420-B0547A5F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876EE-8876-4A50-9070-20278DB9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9F3D3-111C-4B79-B470-39C2335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EF86-79A0-4685-97B6-F079951C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8D648-05AC-415C-86BA-75F1607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531EB-BA5F-43FA-B934-6C5915CA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5D2F-4B27-4607-A419-D1C4311D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65EDD-8AF4-4992-B9E8-57CA75C8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7FE0-0D84-431F-86FF-D4B3B8C6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FBF-427D-4106-B14B-F50E06B4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D9045-5530-44E9-83DF-1E57D5D8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BE0D6-A6EF-4038-83EA-FF85C807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89BB7-2D51-46C7-B8A7-BAFB72DB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5B805-DABC-411D-A017-7CF05225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47D38-BCE5-4F48-9BDE-37902861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C6496-BBC4-473D-867B-C960A093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2A305-8229-4462-8169-B00D95E0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7C3E1-5D86-4665-82ED-6B865F8B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AEE83-E017-4C7B-A662-F0145D85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40152-374E-44C5-9500-573C990F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DF8-3D72-49FF-89A6-FAF5E17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E0593-87FC-46D0-A02F-E4F422E1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6132-8386-420D-82F5-377E3F98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11BE6-2360-420D-B1D3-E6AC1213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534D8-EA32-4560-AEE0-BFA56327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7DCB-C6F2-424F-9861-12C8576C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D677C-4097-4CA8-91BC-C474EE85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43474-F90C-4DEE-A056-7C0B6F74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A229E-C6D4-494B-89D6-B4100A6C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1C56-D660-4925-B638-7FF17D9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426C9-4238-47A7-BC0D-2DFD309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762-9FC6-42A3-B9EC-01713550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B8989-CB6F-4ED0-8EFB-262045E3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406D-6AA1-43B7-ADFF-CDD1E06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FAB16-BF31-4680-92CE-5F12CCCF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E31C4-241B-4CF2-AA47-E103B351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F1730-9904-44DE-98E1-737A5937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07B4D-59CB-4E9D-8A8E-02FCD4C9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A929F-4902-4F12-B189-53F00F61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396D9-6570-49E4-8B2F-00E699D7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F7F15-F3D5-4E9C-8B1F-7AE43B29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A5C4A-F07E-4A4C-B137-7251112D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0EA-875C-48F1-9A71-AAF3D3DB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B7A6E-7130-4F3F-859B-11F3AF4A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97B24-257E-4D25-8B6B-FAD33288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72844-0651-42C4-B10D-9FC65711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C6A9E-4280-4F8D-A37D-8CF513A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377F8-AE2A-4E90-ACD3-054DE53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A96C5-683D-4F96-BE98-50D2E24A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593DA-A218-494A-8F4F-D342FCEA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1DEB-5ACE-4313-A19F-2B86C696FEB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26c00"/>
              </a:gs>
              <a:gs pos="50000">
                <a:srgbClr val="ffb03f"/>
              </a:gs>
              <a:gs pos="100000">
                <a:srgbClr val="c26c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cc9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C631-5A71-4D5E-BF6D-B22549E13A6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38A8-8C9A-4116-A087-9C9A4A87F5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7B1-7D71-4C9A-9227-4A16D6C15AF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E2F1-3AC9-4E1D-BD9D-8DCB9273BEF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FE0D-C04F-4EBE-895F-652310663E9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98BA-D3AB-4CC1-997E-25D71BA3FF8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DE02-80DE-47C1-80E5-160513AD955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7" descr=""/>
          <p:cNvPicPr/>
          <p:nvPr/>
        </p:nvPicPr>
        <p:blipFill>
          <a:blip r:embed="rId1"/>
          <a:stretch/>
        </p:blipFill>
        <p:spPr>
          <a:xfrm>
            <a:off x="822240" y="1292400"/>
            <a:ext cx="81025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Sergey Brushtei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Amit Desa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Gautam Dhal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Shuying Fa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Tharun  Joh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1952640" y="1986120"/>
            <a:ext cx="5238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952640" y="1986120"/>
            <a:ext cx="5238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1952640" y="1986120"/>
            <a:ext cx="5238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962520" cy="2666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4071960" cy="2666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"/>
          <p:cNvPicPr/>
          <p:nvPr/>
        </p:nvPicPr>
        <p:blipFill>
          <a:blip r:embed="rId4"/>
          <a:stretch/>
        </p:blipFill>
        <p:spPr>
          <a:xfrm>
            <a:off x="3276720" y="3962520"/>
            <a:ext cx="3962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29600" cy="34387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33520" y="1219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ng each quarter for 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cells: Minimum return per quarter,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990720" y="1866960"/>
            <a:ext cx="7696080" cy="385596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609480" y="11430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cash flows for each category and type for 10 years (cash-on-c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268200" y="249120"/>
            <a:ext cx="8425080" cy="750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1676520" y="1674720"/>
            <a:ext cx="6933960" cy="43452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685800" y="914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distribution fo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ted distributions fo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1676520" y="2120760"/>
            <a:ext cx="6476760" cy="38862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990720" y="1219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allocation for Original, Revival and Tour investment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%, 21%, 53%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04920" y="1219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return per quar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ments during the first three years generate negativ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190760" cy="3048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4191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8" name="Content Placeholder 3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4147920" cy="28814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5"/>
          <p:cNvSpPr/>
          <p:nvPr/>
        </p:nvSpPr>
        <p:spPr>
          <a:xfrm>
            <a:off x="685800" y="1295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is reinvested into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gahit is worth 10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verview of Theatre Indust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istorical Retur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oodness of Fi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rmulation – Financial Mod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nte Carlo Simul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in retur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OI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correlated Forces with Mark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rd to predict and Forec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tory data Profiling –Distribution F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tually exclusive randomiza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ing dependency of one Green randomized cell on another green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ciphering calculations based on 58 X 4 Quarters X 8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diction of undervalue when it touches Breakeven 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3" descr=""/>
          <p:cNvPicPr/>
          <p:nvPr/>
        </p:nvPicPr>
        <p:blipFill>
          <a:blip r:embed="rId2"/>
          <a:stretch/>
        </p:blipFill>
        <p:spPr>
          <a:xfrm>
            <a:off x="450720" y="1474920"/>
            <a:ext cx="80899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46160" y="219240"/>
            <a:ext cx="8547120" cy="9331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228600" y="1219320"/>
            <a:ext cx="855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Over the past 25 years, Broadway box office revenue has continued to grow despite periods of steep decline in the marke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7925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98440" y="-30240"/>
            <a:ext cx="8394840" cy="1103400"/>
          </a:xfrm>
          <a:prstGeom prst="rect">
            <a:avLst/>
          </a:prstGeom>
          <a:ln w="0">
            <a:noFill/>
          </a:ln>
        </p:spPr>
      </p:pic>
      <p:sp>
        <p:nvSpPr>
          <p:cNvPr id="387" name="Content Placeholder 1"/>
          <p:cNvSpPr/>
          <p:nvPr/>
        </p:nvSpPr>
        <p:spPr>
          <a:xfrm>
            <a:off x="393840" y="990720"/>
            <a:ext cx="87501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1836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Applying portfolio theory to Broadway investments reduces volatility an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creates consistently high retur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Content Placeholder 5" descr=""/>
          <p:cNvPicPr/>
          <p:nvPr/>
        </p:nvPicPr>
        <p:blipFill>
          <a:blip r:embed="rId2"/>
          <a:stretch/>
        </p:blipFill>
        <p:spPr>
          <a:xfrm>
            <a:off x="378000" y="1749600"/>
            <a:ext cx="8235720" cy="1731960"/>
          </a:xfrm>
          <a:prstGeom prst="rect">
            <a:avLst/>
          </a:prstGeom>
          <a:ln w="0">
            <a:noFill/>
          </a:ln>
        </p:spPr>
      </p:pic>
      <p:pic>
        <p:nvPicPr>
          <p:cNvPr id="389" name="Chart 6" descr=""/>
          <p:cNvPicPr/>
          <p:nvPr/>
        </p:nvPicPr>
        <p:blipFill>
          <a:blip r:embed="rId3"/>
          <a:stretch/>
        </p:blipFill>
        <p:spPr>
          <a:xfrm>
            <a:off x="450720" y="3803760"/>
            <a:ext cx="84312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mpany is going to raise a fund which will make 50 total investments in Broadway shows over 3 years.  We want to know what the probable return will be on this portfolio of investments, and the minimum return per quart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mpany will invest in 3 categories of Broadway shows, and each with 5 typ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ree categor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roadway Origi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roadway Reviv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u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ve different types in each of abo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ss, Failure, Breakeven, Hit, Mega Hi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3 X 5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3219480" cy="962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2438280" y="2438280"/>
            <a:ext cx="2981520" cy="1981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4"/>
          <a:stretch/>
        </p:blipFill>
        <p:spPr>
          <a:xfrm>
            <a:off x="4267080" y="4572000"/>
            <a:ext cx="3029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567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938160" y="1986120"/>
            <a:ext cx="7394760" cy="3576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00" name="Oval 4"/>
          <p:cNvSpPr/>
          <p:nvPr/>
        </p:nvSpPr>
        <p:spPr>
          <a:xfrm>
            <a:off x="7010280" y="2666880"/>
            <a:ext cx="990720" cy="609840"/>
          </a:xfrm>
          <a:prstGeom prst="ellipse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21:38:38Z</dcterms:created>
  <dc:creator>User</dc:creator>
  <dc:description/>
  <dc:language>en-US</dc:language>
  <cp:lastModifiedBy> </cp:lastModifiedBy>
  <dcterms:modified xsi:type="dcterms:W3CDTF">2008-12-01T17:41:05Z</dcterms:modified>
  <cp:revision>32</cp:revision>
  <dc:subject/>
  <dc:title>Live Theater Industry MESA</dc:title>
</cp:coreProperties>
</file>