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C026-EE58-409B-A1D6-7873C0AA6A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Vlookup function was critical for us to sort through a significant amount of information and effectively incorporate the integral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EF5-FDE4-407D-AA21-0B614AC7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445-EBB4-4406-95B0-274EAEEC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FD6-4995-4454-9E7A-238F695A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8CC-8473-451D-90EB-A45EC09D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F90-FFCC-42BD-A205-28B28859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8B5-E3D2-458D-BE37-13AE9A4F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0D5-E423-460E-A55A-FAA39582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4D4-5AB9-455F-AC24-ADEEEAF2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F90-C925-43A6-A142-0398C122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8F3-CE89-43F8-BF39-BDF1DAD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2E9-BA64-4AD3-9A8B-D4CF34CE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B71-CD93-4DF3-9CB5-D93CFC1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8952-E71A-465A-A6C9-D660A786CA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itle 5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 2008 Decision Models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57200" y="129528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 and Classroom Optimizer for NYU Academic Depar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m 8 Memb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vin Dil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rabh Gupt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hit Red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an Squibb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Vint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9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Methodology: Challe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57200" y="10666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olver models are limited to 200 decision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imit the number of courses and use a modular function to reduce the number of decision variables to one for room and one for schedul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tandard Evolutionary Solver failed to optimize all penalties simultaneous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un multiple times with varying targets and penalty weights. (e.g. first to find the neighborhood, then to find the add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98" name="Title 5"/>
          <p:cNvSpPr/>
          <p:nvPr/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Methodology: Decision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Methodology: Objectiv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772956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05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Methodology: Double B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6604200" cy="4027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4800600"/>
            <a:ext cx="41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s all double bookings for this day.  Model replicated for each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648320"/>
            <a:ext cx="403848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-17138"/>
              <a:gd name="adj5" fmla="val -356773"/>
              <a:gd name="adj6" fmla="val -2244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143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1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ations &amp;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2840" y="1542960"/>
            <a:ext cx="821196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57200" y="10666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keholder buy-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of of con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nsus on penalty functions and tar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rcial versions of Solver with unlimited decision vari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izable genetic algorithm pack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5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457200" y="11430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 and Penalt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 &amp;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ri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57200" y="114300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Each semester, NYU manually assigns classes to times and eventually realizes that classroom supply fails to meet dem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agerial 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e want to create a decision model that enables NYU to more effectively schedule classes and efficiently utilize available classro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64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57200" y="1066680"/>
            <a:ext cx="8153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information for NYU’s Spring 2008 ter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ction 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rt Time/Time Blocks Need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ays of the Week Each Class Was H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storical Enrollmen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tential Classroo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urses with Co-Registration Confli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applied to the French Department before attempting to scal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68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3692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72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457200" y="1143000"/>
            <a:ext cx="815328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both scheduling and classroom utilization for NYU academic depart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volutionary Solver with various “penalties: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uble Boo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-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flat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i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quence Bre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 Ro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tal Rooms U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total “penalty” for failing to meet the desired level for each item abo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76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alt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uble book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wo classes cannot be scheduled for the same classroom at the same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-registr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or more classes catering to the same group of students cannot be scheduled at the same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flatn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variation in the number of classrooms needed at particular times across the available sched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i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ofessors have times and days of the week during which they prefer to teach.  Any deviation from a professor’s preferred schedule creates frictio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quence Break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 professors prefer to teach back to back classes. Any sequence break is coun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80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alt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57200" y="1066680"/>
            <a:ext cx="815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rt Room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rses of similar enrollment should be assigned to the same room where possible. This addresses the issue of classroom seat ineffici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tal Rooms Used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classrooms required to efficiently accommodate an academic depar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chedule &amp; Classroom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286000" cy="685800"/>
          </a:xfrm>
          <a:prstGeom prst="rect">
            <a:avLst/>
          </a:prstGeom>
          <a:ln w="0">
            <a:noFill/>
          </a:ln>
        </p:spPr>
      </p:pic>
      <p:sp>
        <p:nvSpPr>
          <p:cNvPr id="84" name="Title 5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Methodology: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019920" y="236232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Patterns: Integer  [1 - 4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Rooms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5334120" cy="2874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752480" y="2666880"/>
            <a:ext cx="419112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523880" y="3352680"/>
            <a:ext cx="45720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5812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0:35:18Z</dcterms:created>
  <dc:creator>syco</dc:creator>
  <dc:description/>
  <dc:language>en-US</dc:language>
  <cp:lastModifiedBy>David Vintinner</cp:lastModifiedBy>
  <cp:lastPrinted>2008-11-21T20:11:56Z</cp:lastPrinted>
  <dcterms:modified xsi:type="dcterms:W3CDTF">2008-11-22T01:49:33Z</dcterms:modified>
  <cp:revision>335</cp:revision>
  <dc:subject/>
  <dc:title>Slide 1</dc:title>
</cp:coreProperties>
</file>