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FDB-C155-42C3-BA0F-70772106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97B-A65E-4E74-98DB-B8B17A44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6F94-6FDA-446F-8DB8-88E6E75B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9BB2-F75A-443F-885E-BD7FF7CE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D10D-B8F5-4327-9035-EAFA26D6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C2F6-B79D-4CF9-84A1-5EB69585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A500-73C1-45F3-8420-64C5F1EF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6A13-9FED-433D-B7B9-DB22CDB3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5840-548C-4CB5-92DF-D20AD2D2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9758-2C4A-4BC7-8BF1-E3915670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0AEF-D14D-47FA-9238-41AF36F3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1FDB-4C03-48E8-B0F5-F7841B8F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4537-C74A-4053-8F9E-2F0BEA5F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9DCB-9394-4FCB-9983-FDCE3666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437A-9CC5-40DB-A6CC-B45EEB73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203E-2DBB-470D-A942-CC5CA8CC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8398-C371-4C33-97BF-CE295858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09FDD-BD6A-4BEB-8EF2-61D5851E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38254-9238-46C0-937A-31EEAC44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B0419-0DF7-4541-BC29-0D42FD31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B773D-E2E8-4E92-9D5A-918B0042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BB7EA-1B1F-4207-8F96-5FB24A88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59C-4F38-4866-B07E-A53CB3E4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5E556-459E-4A9B-B94B-1D718744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5B11C-EB80-4506-BF67-3DDFF071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25278-2D14-4C9F-B8F2-31BD889F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4126B-5F71-402B-9324-533B89CD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A86C7-ACB8-42E0-BF36-F3BC5564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E168B-700B-486D-BDE3-0CB4D9D3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2B18B-CB11-4B24-B9FB-224A8B5E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94CE1-1B84-485A-B18A-1806BA39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AA6F9-2247-4A30-BDB9-AC9E63B7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9FDF2-53DE-459B-9A3F-00BACF56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690-6A94-40DA-B227-2559DF72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BE4C7-0735-48A8-AB15-2BD8277F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B39E1-77BB-4C9A-B116-4424C947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4A2B1-9477-4E75-9C04-23F86C45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1BCFC-982C-485F-9647-DB52C60A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4E2B7-2335-49EB-A258-24C06AD4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D1C75-33AB-4245-A588-194BD03F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1C301-223B-411D-A01D-460A64C1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607BC-DB8A-4BAC-A788-12E977F5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0B0C7-4351-4D4E-82B2-18181784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EA122-7A3D-443B-B5BD-10E3621B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3B73-9A65-415A-953B-05422A15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FF6FA-8D15-485B-90DE-C0FC65D5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7DF9A-E2A5-4D79-B175-B1032F65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5D22E-0579-4A8F-B3B7-8F7EBE42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9B6E1-2976-4713-9BFD-167530BF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EAA94-A337-4D06-8803-7F6379FA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B53FC-B2EC-472D-BF1F-0959187E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2EDAD-2703-4588-B64C-22F0049C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61EA1-D217-4BAF-8E60-71E4610A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50A05-B5F8-4022-80FC-D14F05C3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F22AE-76E0-4102-8E44-47C1A9FF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029-D374-4F0B-B9A9-A19EAD56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0980B-2949-4B38-87CD-1D27D63E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7FA51-625D-4E73-A9CB-150C65FF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7DFC4-C3E7-4D78-B5BA-45EB35B5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5ABF2-9FF1-49A5-8256-392F072B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F8B64-B9C3-4FB1-91D5-340631E8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EFA35-C9C8-43ED-81FE-B67F5C82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59E63-00D2-4500-B5C0-2905F3AE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021FD-9459-42A5-A764-49C672D2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48962-F379-46C0-992F-0796DDC7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CBC60-04D1-4EC1-BA4B-6658F38C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FA5-C648-4254-B743-8DF47FD3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E73E4-64BD-43B7-90C8-FCCBD251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30D97-D83D-4CE2-9E4D-946CE6AD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88E43-C7F3-4C44-9B1A-1BE0FC64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347FE-A47F-4FCE-A63C-60FD2CB3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CE8E0-620D-44A0-BAEE-E07A7086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7CCF3-E4A4-4215-9642-4F7A9818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E39B0-CB48-46EB-AD83-4011DF83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07E9B-B684-4569-86DF-DF0619D4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BB40D-81E3-4F21-99CD-38482F32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9E3A2-D438-4F49-AA89-CBDB8C01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BCF-886F-46B2-BCBF-F02D3AE1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C979A-BE20-42AA-BCFD-A59E0720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87A01-11D2-4EBF-8359-2FEF9208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6B1F3-2A2C-44B1-B6A3-DEC58149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002B8-CE9F-4A3E-BFEA-D17063C2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65C52-1DC3-4179-9688-05EF1699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9BA83-327C-4F0E-AEE8-CE3C2A45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9701A-B018-4F49-B728-6B94D606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8F636-CD15-4BBC-A183-F3FFCC2B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55860-C746-43DF-A8C3-EC508E4E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FD529-3E2E-4372-9DEF-5079AC48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F12-C6E9-4FDF-833A-8A00FF56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8AEE1-EAD7-46FE-BD8D-B61EF883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8690C-27C9-4B3D-9D4B-ACC8EA13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CDB03-5462-46CF-9B8E-4CA83C82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5916F-8ED1-43D5-86CB-B65F3CFA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3CD76-DF5E-445F-B82A-2B53654A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73CDD-CCF5-4871-BFBB-6779E3AD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28543-2180-4308-AE06-B3C0BEBF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BCEA7-5547-4B28-A9A0-4B69316A5B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63961-2A42-4EE7-9085-F9CEA418C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FCBCD-60D2-4A38-A43A-CAA4C32577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98BDD-4526-46AE-99C2-F5EA1B78D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457200" y="1509840"/>
            <a:ext cx="8229600" cy="1440"/>
          </a:xfrm>
          <a:prstGeom prst="line">
            <a:avLst/>
          </a:prstGeom>
          <a:ln w="3240">
            <a:solidFill>
              <a:srgbClr val="c4bd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traight Connector 6"/>
          <p:cNvSpPr/>
          <p:nvPr/>
        </p:nvSpPr>
        <p:spPr>
          <a:xfrm>
            <a:off x="457200" y="3733920"/>
            <a:ext cx="8229600" cy="1440"/>
          </a:xfrm>
          <a:prstGeom prst="line">
            <a:avLst/>
          </a:prstGeom>
          <a:ln w="3240">
            <a:solidFill>
              <a:srgbClr val="c4bd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7"/>
          <p:cNvSpPr/>
          <p:nvPr/>
        </p:nvSpPr>
        <p:spPr>
          <a:xfrm>
            <a:off x="457200" y="1981080"/>
            <a:ext cx="8229600" cy="1800"/>
          </a:xfrm>
          <a:prstGeom prst="line">
            <a:avLst/>
          </a:prstGeom>
          <a:ln w="3240">
            <a:solidFill>
              <a:srgbClr val="c4bd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41DE6-C101-467D-A3C5-287CD6A2EA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7CE35-B3BC-4F14-B728-287C0E4CB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traight Connector 6"/>
          <p:cNvSpPr/>
          <p:nvPr/>
        </p:nvSpPr>
        <p:spPr>
          <a:xfrm>
            <a:off x="457200" y="1295280"/>
            <a:ext cx="8229600" cy="1800"/>
          </a:xfrm>
          <a:prstGeom prst="line">
            <a:avLst/>
          </a:prstGeom>
          <a:ln w="3240">
            <a:solidFill>
              <a:srgbClr val="c4bd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7"/>
          <p:cNvSpPr/>
          <p:nvPr/>
        </p:nvSpPr>
        <p:spPr>
          <a:xfrm>
            <a:off x="457200" y="6246720"/>
            <a:ext cx="8229600" cy="1800"/>
          </a:xfrm>
          <a:prstGeom prst="line">
            <a:avLst/>
          </a:prstGeom>
          <a:ln w="3240">
            <a:solidFill>
              <a:srgbClr val="c4bd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E0A49-1237-4474-AB6A-9B0833B4F7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04068-7C69-4A93-9659-4C91AD8B1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traight Connector 6"/>
          <p:cNvSpPr/>
          <p:nvPr/>
        </p:nvSpPr>
        <p:spPr>
          <a:xfrm>
            <a:off x="457200" y="1509840"/>
            <a:ext cx="8229600" cy="1440"/>
          </a:xfrm>
          <a:prstGeom prst="line">
            <a:avLst/>
          </a:prstGeom>
          <a:ln w="3240">
            <a:solidFill>
              <a:srgbClr val="c4bd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2B786-BCEE-423D-924F-B71649056C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B53E0-A95C-4963-9EB2-86AC7E3CC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traight Connector 6"/>
          <p:cNvSpPr/>
          <p:nvPr/>
        </p:nvSpPr>
        <p:spPr>
          <a:xfrm>
            <a:off x="457200" y="1509840"/>
            <a:ext cx="8229600" cy="1440"/>
          </a:xfrm>
          <a:prstGeom prst="line">
            <a:avLst/>
          </a:prstGeom>
          <a:ln w="3240">
            <a:solidFill>
              <a:srgbClr val="c4bd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EFE81-4EA6-4AFB-8CCF-9AF14AE9AF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51CBF-520D-4AAC-8D61-C02476C94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6"/>
          <p:cNvSpPr/>
          <p:nvPr/>
        </p:nvSpPr>
        <p:spPr>
          <a:xfrm>
            <a:off x="457200" y="1509840"/>
            <a:ext cx="8229600" cy="1440"/>
          </a:xfrm>
          <a:prstGeom prst="line">
            <a:avLst/>
          </a:prstGeom>
          <a:ln w="3240">
            <a:solidFill>
              <a:srgbClr val="c4bd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7AD3C-4C37-477B-96A4-F3FEB1C2E5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D70BD-5AC3-4841-B8D5-3667F3694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traight Connector 6"/>
          <p:cNvSpPr/>
          <p:nvPr/>
        </p:nvSpPr>
        <p:spPr>
          <a:xfrm>
            <a:off x="457200" y="1509840"/>
            <a:ext cx="8229600" cy="1440"/>
          </a:xfrm>
          <a:prstGeom prst="line">
            <a:avLst/>
          </a:prstGeom>
          <a:ln w="3240">
            <a:solidFill>
              <a:srgbClr val="c4bd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A63B3-CBB2-40C0-9310-4DE926FB03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063B7-30AF-411B-B3B5-410A2A4EA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Decision Models: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nching a Clothing Lin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 1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les Alonz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lyn Armstr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hryn Gi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 Mos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hony Odi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1981080" y="6488280"/>
            <a:ext cx="51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day you’re in and the next day you’re ou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ult is an optimum mix of sheer talent on each city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598320" y="1371600"/>
            <a:ext cx="8114040" cy="5334120"/>
          </a:xfrm>
          <a:prstGeom prst="rect">
            <a:avLst/>
          </a:prstGeom>
          <a:ln w="0">
            <a:noFill/>
          </a:ln>
        </p:spPr>
      </p:pic>
      <p:sp>
        <p:nvSpPr>
          <p:cNvPr id="365" name="5-Point Star 4"/>
          <p:cNvSpPr/>
          <p:nvPr/>
        </p:nvSpPr>
        <p:spPr>
          <a:xfrm>
            <a:off x="7467480" y="2895480"/>
            <a:ext cx="304920" cy="304920"/>
          </a:xfrm>
          <a:prstGeom prst="pie">
            <a:avLst/>
          </a:prstGeom>
          <a:solidFill>
            <a:srgbClr val="953735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5-Point Star 5"/>
          <p:cNvSpPr/>
          <p:nvPr/>
        </p:nvSpPr>
        <p:spPr>
          <a:xfrm>
            <a:off x="1828800" y="3657600"/>
            <a:ext cx="304920" cy="304920"/>
          </a:xfrm>
          <a:prstGeom prst="pie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5-Point Star 6"/>
          <p:cNvSpPr/>
          <p:nvPr/>
        </p:nvSpPr>
        <p:spPr>
          <a:xfrm>
            <a:off x="5638680" y="2971800"/>
            <a:ext cx="304920" cy="304920"/>
          </a:xfrm>
          <a:prstGeom prst="pie">
            <a:avLst/>
          </a:prstGeom>
          <a:solidFill>
            <a:srgbClr val="31859c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5-Point Star 7"/>
          <p:cNvSpPr/>
          <p:nvPr/>
        </p:nvSpPr>
        <p:spPr>
          <a:xfrm>
            <a:off x="7086600" y="5638680"/>
            <a:ext cx="304920" cy="30492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5-Point Star 8"/>
          <p:cNvSpPr/>
          <p:nvPr/>
        </p:nvSpPr>
        <p:spPr>
          <a:xfrm>
            <a:off x="1066680" y="3276720"/>
            <a:ext cx="304920" cy="304560"/>
          </a:xfrm>
          <a:prstGeom prst="pie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5-Point Star 9"/>
          <p:cNvSpPr/>
          <p:nvPr/>
        </p:nvSpPr>
        <p:spPr>
          <a:xfrm>
            <a:off x="1295280" y="3962520"/>
            <a:ext cx="304920" cy="3045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5"/>
          <p:cNvSpPr/>
          <p:nvPr/>
        </p:nvSpPr>
        <p:spPr>
          <a:xfrm>
            <a:off x="6667560" y="3276720"/>
            <a:ext cx="2400120" cy="763560"/>
          </a:xfrm>
          <a:prstGeom prst="rect">
            <a:avLst/>
          </a:prstGeom>
          <a:solidFill>
            <a:srgbClr val="9537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ew Y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rl Enroth – Hair &amp; Make-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tthew Formica - Tail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rew Meyerson – PR &amp; Even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6"/>
          <p:cNvSpPr/>
          <p:nvPr/>
        </p:nvSpPr>
        <p:spPr>
          <a:xfrm>
            <a:off x="38160" y="2506680"/>
            <a:ext cx="2095560" cy="763560"/>
          </a:xfrm>
          <a:prstGeom prst="rect">
            <a:avLst/>
          </a:prstGeom>
          <a:solidFill>
            <a:srgbClr val="806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an Francis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ve Daly – Make-up &amp; Tail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eg Dufraisse – Event Coor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ulie Ha – PR &amp; Hair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7"/>
          <p:cNvSpPr/>
          <p:nvPr/>
        </p:nvSpPr>
        <p:spPr>
          <a:xfrm>
            <a:off x="1066680" y="4572000"/>
            <a:ext cx="1943280" cy="930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on Ange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on Henrich – Event Co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ackie Mendez – Hai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im Nixon – PR &amp; Make-up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 Tsang - Tailor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8"/>
          <p:cNvSpPr/>
          <p:nvPr/>
        </p:nvSpPr>
        <p:spPr>
          <a:xfrm>
            <a:off x="2209680" y="3481560"/>
            <a:ext cx="2438640" cy="93096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as Veg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therine Beal – Hair &amp; Make-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am Gromis – Event Co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ri Kellman – P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ra Quinn-Porzig - Tail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9"/>
          <p:cNvSpPr/>
          <p:nvPr/>
        </p:nvSpPr>
        <p:spPr>
          <a:xfrm>
            <a:off x="4800600" y="5715000"/>
            <a:ext cx="2209680" cy="763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ia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mmy Loh – Make-up &amp; Tail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areen Rosefort – PR &amp; Hai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lbert So – Event Coord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0"/>
          <p:cNvSpPr/>
          <p:nvPr/>
        </p:nvSpPr>
        <p:spPr>
          <a:xfrm>
            <a:off x="3962520" y="2201760"/>
            <a:ext cx="2514600" cy="763560"/>
          </a:xfrm>
          <a:prstGeom prst="rect">
            <a:avLst/>
          </a:prstGeom>
          <a:solidFill>
            <a:srgbClr val="3185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hica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dha Belllamkonda - P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aspal Singh – Hair &amp; Event Co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lex Zaretsky – Make-up &amp; Tail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ario 3: Distributing to Bou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fully, the promotions all went well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les must now deliver his suits and shirts from the Chinatown and Garment District ateliers to five Manhattan-based boutiques in the most cost-efficient way possib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9800" indent="-10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53722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rts and suits must be delivered in bund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9800" indent="-10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53722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atelier has limited supply of suits and shirts to bund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05800" indent="-109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r" pos="53722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town              5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05800" indent="-109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r" pos="53722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ment District     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-10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53722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tore has specific demand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05800" indent="-109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r" pos="53722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Ho                       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5800" indent="-109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r" pos="53722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st Village            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5800" indent="-109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r" pos="53722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ison Ave           2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5800" indent="-109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r" pos="53722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th Ave                    2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5800" indent="-109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r" pos="53722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West Side     16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-10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3722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y, manufacturing, and demand constraints must be considered when distributing the suits and shi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ario 3: Distributing to Bou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447920"/>
            <a:ext cx="6019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 distributio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t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87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Ho – 10 bund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7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st Village – 6 bund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7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ison Ave – 20 bund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7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e – 3 bund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ment Distr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87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e – 24  bund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7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West Side – 16  bund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1"/>
          <a:stretch/>
        </p:blipFill>
        <p:spPr>
          <a:xfrm>
            <a:off x="6280200" y="1523880"/>
            <a:ext cx="2635200" cy="512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4" name="5-Point Star 23"/>
          <p:cNvSpPr/>
          <p:nvPr/>
        </p:nvSpPr>
        <p:spPr>
          <a:xfrm>
            <a:off x="7848720" y="5638680"/>
            <a:ext cx="304560" cy="3049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iamond 25"/>
          <p:cNvSpPr/>
          <p:nvPr/>
        </p:nvSpPr>
        <p:spPr>
          <a:xfrm>
            <a:off x="7607160" y="3809880"/>
            <a:ext cx="228600" cy="22860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iamond 26"/>
          <p:cNvSpPr/>
          <p:nvPr/>
        </p:nvSpPr>
        <p:spPr>
          <a:xfrm>
            <a:off x="7238880" y="5029200"/>
            <a:ext cx="228600" cy="22860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iamond 27"/>
          <p:cNvSpPr/>
          <p:nvPr/>
        </p:nvSpPr>
        <p:spPr>
          <a:xfrm>
            <a:off x="7543800" y="5334120"/>
            <a:ext cx="228600" cy="22860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5-Point Star 28"/>
          <p:cNvSpPr/>
          <p:nvPr/>
        </p:nvSpPr>
        <p:spPr>
          <a:xfrm>
            <a:off x="7238880" y="4114800"/>
            <a:ext cx="304920" cy="3049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Diamond 30"/>
          <p:cNvSpPr/>
          <p:nvPr/>
        </p:nvSpPr>
        <p:spPr>
          <a:xfrm>
            <a:off x="7531200" y="3657600"/>
            <a:ext cx="228600" cy="228600"/>
          </a:xfrm>
          <a:prstGeom prst="diamond">
            <a:avLst/>
          </a:prstGeom>
          <a:gradFill rotWithShape="0">
            <a:gsLst>
              <a:gs pos="0">
                <a:srgbClr val="0000ff"/>
              </a:gs>
              <a:gs pos="100000">
                <a:srgbClr val="66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iamond 31"/>
          <p:cNvSpPr/>
          <p:nvPr/>
        </p:nvSpPr>
        <p:spPr>
          <a:xfrm>
            <a:off x="7162920" y="3505320"/>
            <a:ext cx="228600" cy="228600"/>
          </a:xfrm>
          <a:prstGeom prst="diamond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ario 3: Distributing to Bou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523520"/>
            <a:ext cx="8381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to deliver 1 bundle from atelier to bout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minimized cost to distribute suits and shirts to bout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7" descr=""/>
          <p:cNvPicPr/>
          <p:nvPr/>
        </p:nvPicPr>
        <p:blipFill>
          <a:blip r:embed="rId1"/>
          <a:stretch/>
        </p:blipFill>
        <p:spPr>
          <a:xfrm>
            <a:off x="3263760" y="4343400"/>
            <a:ext cx="2616480" cy="5335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"/>
          <p:cNvPicPr/>
          <p:nvPr/>
        </p:nvPicPr>
        <p:blipFill>
          <a:blip r:embed="rId2"/>
          <a:stretch/>
        </p:blipFill>
        <p:spPr>
          <a:xfrm>
            <a:off x="1155600" y="2133720"/>
            <a:ext cx="683280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1:  Used solver to maximize profits from shi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2:  Used Evolutionary solver to assign representatives to the different fashion sh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3:  Used solver to minimize cost and determine optimal shipping plan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4"/>
          <p:cNvSpPr/>
          <p:nvPr/>
        </p:nvSpPr>
        <p:spPr>
          <a:xfrm>
            <a:off x="1981080" y="6488280"/>
            <a:ext cx="51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day you’re in and the next day you’re ou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les Alonzo:  Biograp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-and-coming fashion desig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 of award-winning fashion colum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Stern’s “most eligible bachelor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103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ario 1: Decid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y-to-W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ario 2: Selecting Promotion Te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ario 3: Distributing to Bou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ario 1: Deciding Custom or Ready-to-W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decision Charles must make is to determine the most profitable mix of custom and ready-to-wear shir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rrent suit sales and after speaking with a number of fashionable Stern students as well as conducting a short survey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Opp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harles has determined that there is significant demand at roughly 600 shirts per week in the NYC Metro area alon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assumptions had to be made in deciding to produce custom or ready-to-wear shi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2133720"/>
            <a:ext cx="4114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1240" indent="-111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les currently employs 3 tailors and already has sewing machin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1240" indent="-111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ailor can make 1 shirt in 1 hour (includes client measurement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1240" indent="-111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lors can only work 40 hours per week (union rul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1240" indent="-111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t for atelier is $4000 per mont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1240" indent="-111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e of $150 per custom shirt is based on competitive pric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3"/>
          <p:cNvSpPr/>
          <p:nvPr/>
        </p:nvSpPr>
        <p:spPr>
          <a:xfrm>
            <a:off x="1295280" y="1600200"/>
            <a:ext cx="2057400" cy="36828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4"/>
          <p:cNvSpPr/>
          <p:nvPr/>
        </p:nvSpPr>
        <p:spPr>
          <a:xfrm>
            <a:off x="5791320" y="1600200"/>
            <a:ext cx="2057400" cy="36828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-to-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ontent Placeholder 2"/>
          <p:cNvSpPr/>
          <p:nvPr/>
        </p:nvSpPr>
        <p:spPr>
          <a:xfrm>
            <a:off x="5029200" y="2133720"/>
            <a:ext cx="4114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1240" indent="-111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al cutting and sewing machines would be needed for the mass production of ready-to-wear shi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t for cutting machines is $1000/w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t for sewing machines is $500/w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to run the cutting and sewing machines is $25 per shi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 of the machines is 500 shirts per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t for atelier is $4000 per mon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e of $80 per ready-to-wear shirt is based on competitive pr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 shirts are the better option to pursue due to higher margi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6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4375440" cy="47545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724280" y="14479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1240" indent="-111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y-to-wear shirts require high fixed and variable cos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1240" indent="-111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chines needed for ready-to-wear shirts have limited capacity available, therefore we are unable to scale pro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1240" indent="-111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in on custom shirts is better due to premium pri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1240" indent="-111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: Charles should consider hiring more tailors to produce more custom shirts and increase prof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8" descr=""/>
          <p:cNvPicPr/>
          <p:nvPr/>
        </p:nvPicPr>
        <p:blipFill>
          <a:blip r:embed="rId2"/>
          <a:stretch/>
        </p:blipFill>
        <p:spPr>
          <a:xfrm>
            <a:off x="5003640" y="4883040"/>
            <a:ext cx="383544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ario 2: Selecting Promotion Te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les must now promote his line of custom shirts at six fashion shows across the country. He will send teams of 3-4 representatives to the events to generate interest in his lin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20 people on Charles’ staff, each of whom has expertise in at least one of the following areas:  PR, hair, makeup, event coordination and tailoring. Each team must be composed with experts in each of the five are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step in composing teams is identifying expertis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476280" y="1600200"/>
            <a:ext cx="8191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team members will have to represent the fashion house as experts in more than on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2097000" y="1411200"/>
            <a:ext cx="4953240" cy="16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2" name="Picture 4" descr=""/>
          <p:cNvPicPr/>
          <p:nvPr/>
        </p:nvPicPr>
        <p:blipFill>
          <a:blip r:embed="rId2"/>
          <a:stretch/>
        </p:blipFill>
        <p:spPr>
          <a:xfrm>
            <a:off x="988920" y="3151080"/>
            <a:ext cx="7392960" cy="355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1:07:07Z</dcterms:created>
  <dc:creator>CHARLES ALONZO</dc:creator>
  <dc:description/>
  <dc:language>en-US</dc:language>
  <cp:lastModifiedBy>Kara Mosher</cp:lastModifiedBy>
  <dcterms:modified xsi:type="dcterms:W3CDTF">2008-12-01T18:19:18Z</dcterms:modified>
  <cp:revision>41</cp:revision>
  <dc:subject/>
  <dc:title>Slide 1</dc:title>
</cp:coreProperties>
</file>