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jpeg" ContentType="image/jpeg"/>
  <Override PartName="/ppt/media/image28.png" ContentType="image/png"/>
  <Override PartName="/ppt/media/image5.png" ContentType="image/png"/>
  <Override PartName="/ppt/media/image25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11.png" ContentType="image/png"/>
  <Override PartName="/ppt/media/image31.png" ContentType="image/png"/>
  <Override PartName="/ppt/media/image33.wmf" ContentType="image/x-wmf"/>
  <Override PartName="/ppt/media/image13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37.wmf" ContentType="image/x-wmf"/>
  <Override PartName="/ppt/media/image42.png" ContentType="image/png"/>
  <Override PartName="/ppt/media/image43.wmf" ContentType="image/x-wmf"/>
  <Override PartName="/ppt/media/image40.wmf" ContentType="image/x-wmf"/>
  <Override PartName="/ppt/media/image7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B4E479-A12B-471C-83DE-130C8576980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C3BF3E-F007-41AB-83F9-8DAD44ED76E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48BF95-D6BA-40BE-85EB-736E8E2079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461E78-A56E-4E0F-A8A5-2544086F6D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876ED4-CF5E-4D4A-8B94-956578058F8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5F5324-8AEF-43E4-B65E-D79FA89ABB6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AF58F9-25F2-4D8B-BDD5-DC481380C4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0CA2FC-6271-4EF1-9528-659FAEAFFB6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is real OEM project between HP &amp; LG for a tablet PC product in 2002.  The supply contract for 18 month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t the time all simulations were done manually.  So we wanted to try apply practices from decision models to this cas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 was a very new product, thus there was very little known about the demand, viability of the product, and the profitabilit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FE0F30-0E2B-404E-9626-AC2726B5B11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problem we were evaluating were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Forecast the demand for the new product, which we had no historical data because it was a new product.  HP performed marketing research and provided three monthly demand estimat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Based on the forecasted demand and estimated optimize manufacturing capacity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3) Decision to start development of the next generation model based profit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6B78D0-B9A1-40F0-869A-B5D8C1F0CE9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decision variables are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The initial monthly capac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Whether or not we are going to invest in the next generation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he objective function of this analysis is to maximize profit of the projec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65904A4-F87B-44D3-BE86-A50E6BBFD24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ODM contrac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BTO - We can only imitate build after receiving orders, thus we have no inventorie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) 48hrs F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All orders must be shipped within 48hr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D69711-EF26-435F-9E3E-FD988DF8DA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e used Crystal ball to simulate the randomn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1) Monthly Demand Simulation, and with this information we conduct the  2) Optimal Capacity Simulation, and then finally 3) Project Financial Simul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4E5E50-868D-42DC-9668-340D2BF0EC8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sing a triangle distribution for the daily demands and then adding them up to simulate a monthly deman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697AED-FA16-4701-B16E-76EEBE22B9A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sing a triangle distribution for the daily demands and then adding them up to simulate a monthly deman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9EA-C0E3-4875-94CF-F0DB0994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0030-FEF6-4389-AAF9-AAA6B381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6944-5E12-4A77-B625-B026D0AD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7D7-A761-4741-B943-E8FF1A8C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7397-5EBD-4ECA-B4B2-A26A3892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30D4-B9F5-4003-A08A-8E147B84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EFC4-22CC-465A-B3B0-5ACB8D4F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B183-1B0A-4EFB-9736-39E97BFC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C8F8-FD54-46CF-89B2-00163661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CBF5-4EFB-4FA1-B253-EBCA8EDF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4C3C-1DB6-4029-8CAD-A2AD2B78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883B-DB73-444E-88D3-53B452F1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0CEA-3849-4B43-9E87-4F9D311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9487-DE31-4924-A8E0-4CBC11D5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EB23-7D6F-4591-8A04-D084EF49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D2B2-B221-48AA-A05C-1535AF09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045F-AEDE-466E-A8A0-470CCAAA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541-5691-44A1-905F-0BF89474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61E-8574-41D9-B72A-480470E1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CA4-C5EB-4EB4-8233-9A57E955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59C-5146-44E1-B8E8-994CA798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3926-6520-403A-8273-6EAFBC16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7CD-845D-40BB-A8F5-16B24A0F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FC8B-4C9F-4482-A101-03F4C92A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55C1-B161-4CD0-A596-4CC6CF712EB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" name="Picture 2" descr="\\Filesvr\펀공유\파워포인트(지니)\J17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grpSp>
        <p:nvGrpSpPr>
          <p:cNvPr id="6" name="AutoShape 5"/>
          <p:cNvGrpSpPr/>
          <p:nvPr/>
        </p:nvGrpSpPr>
        <p:grpSpPr>
          <a:xfrm>
            <a:off x="-19080" y="407880"/>
            <a:ext cx="9182160" cy="682560"/>
            <a:chOff x="-19080" y="407880"/>
            <a:chExt cx="9182160" cy="682560"/>
          </a:xfrm>
        </p:grpSpPr>
        <p:pic>
          <p:nvPicPr>
            <p:cNvPr id="7" name="AutoShape 5" descr=""/>
            <p:cNvPicPr/>
            <p:nvPr/>
          </p:nvPicPr>
          <p:blipFill>
            <a:blip r:embed="rId3"/>
            <a:stretch/>
          </p:blipFill>
          <p:spPr>
            <a:xfrm>
              <a:off x="-19080" y="407880"/>
              <a:ext cx="9182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9360" y="438120"/>
              <a:ext cx="912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" name="Rectangle 3" descr=""/>
          <p:cNvPicPr/>
          <p:nvPr/>
        </p:nvPicPr>
        <p:blipFill>
          <a:blip r:embed="rId4"/>
          <a:stretch/>
        </p:blipFill>
        <p:spPr>
          <a:xfrm>
            <a:off x="-85680" y="1060560"/>
            <a:ext cx="9321840" cy="1074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2E68-891E-47DE-9F06-86BC7F134FD5}" type="slidenum">
              <a:rPr b="0" lang="ko-KR" sz="1200" spc="-1" strike="noStrike">
                <a:solidFill>
                  <a:srgbClr val="898989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\\Filesvr\펀공유\파워포인트(지니)\J17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grpSp>
        <p:nvGrpSpPr>
          <p:cNvPr id="88" name="AutoShape 5"/>
          <p:cNvGrpSpPr/>
          <p:nvPr/>
        </p:nvGrpSpPr>
        <p:grpSpPr>
          <a:xfrm>
            <a:off x="-19080" y="407880"/>
            <a:ext cx="9182160" cy="682560"/>
            <a:chOff x="-19080" y="407880"/>
            <a:chExt cx="9182160" cy="682560"/>
          </a:xfrm>
        </p:grpSpPr>
        <p:pic>
          <p:nvPicPr>
            <p:cNvPr id="89" name="AutoShape 5" descr=""/>
            <p:cNvPicPr/>
            <p:nvPr/>
          </p:nvPicPr>
          <p:blipFill>
            <a:blip r:embed="rId3"/>
            <a:stretch/>
          </p:blipFill>
          <p:spPr>
            <a:xfrm>
              <a:off x="-19080" y="407880"/>
              <a:ext cx="91821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9360" y="438120"/>
              <a:ext cx="912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1" name="Rectangle 3" descr=""/>
          <p:cNvPicPr/>
          <p:nvPr/>
        </p:nvPicPr>
        <p:blipFill>
          <a:blip r:embed="rId4"/>
          <a:stretch/>
        </p:blipFill>
        <p:spPr>
          <a:xfrm>
            <a:off x="-85680" y="1060560"/>
            <a:ext cx="9321840" cy="10740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\\Filesvr\펀공유\파워포인트(지니)\J17\4.jpg"/>
          <p:cNvPicPr/>
          <p:nvPr/>
        </p:nvPicPr>
        <p:blipFill>
          <a:blip r:embed="rId5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grpSp>
        <p:nvGrpSpPr>
          <p:cNvPr id="93" name="AutoShape 5"/>
          <p:cNvGrpSpPr/>
          <p:nvPr/>
        </p:nvGrpSpPr>
        <p:grpSpPr>
          <a:xfrm>
            <a:off x="-49320" y="255600"/>
            <a:ext cx="4560840" cy="1036800"/>
            <a:chOff x="-49320" y="255600"/>
            <a:chExt cx="4560840" cy="1036800"/>
          </a:xfrm>
        </p:grpSpPr>
        <p:pic>
          <p:nvPicPr>
            <p:cNvPr id="94" name="AutoShape 5" descr=""/>
            <p:cNvPicPr/>
            <p:nvPr/>
          </p:nvPicPr>
          <p:blipFill>
            <a:blip r:embed="rId6"/>
            <a:stretch/>
          </p:blipFill>
          <p:spPr>
            <a:xfrm>
              <a:off x="-49320" y="255600"/>
              <a:ext cx="45608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9360" y="314280"/>
              <a:ext cx="412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96" name="Rectangle 11" descr=""/>
          <p:cNvPicPr/>
          <p:nvPr/>
        </p:nvPicPr>
        <p:blipFill>
          <a:blip r:embed="rId7"/>
          <a:stretch/>
        </p:blipFill>
        <p:spPr>
          <a:xfrm>
            <a:off x="-55440" y="738360"/>
            <a:ext cx="9570960" cy="11434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37.wmf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3.wmf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wmf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33.wmf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\\Filesvr\펀공유\파워포인트(지니)\J17\1.jpg"/>
          <p:cNvPicPr/>
          <p:nvPr/>
        </p:nvPicPr>
        <p:blipFill>
          <a:blip r:embed="rId1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hp_tablet_pc_tc1100_tastatur"/>
          <p:cNvPicPr/>
          <p:nvPr/>
        </p:nvPicPr>
        <p:blipFill>
          <a:blip r:embed="rId2"/>
          <a:stretch/>
        </p:blipFill>
        <p:spPr>
          <a:xfrm>
            <a:off x="128520" y="554040"/>
            <a:ext cx="4456080" cy="40370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499920" y="2500200"/>
            <a:ext cx="5357880" cy="9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22226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Focusing on Strategic Decision Making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  </a:t>
            </a:r>
            <a:r>
              <a:rPr b="1" i="1" lang="en-US" sz="2400" spc="-1" strike="noStrike">
                <a:solidFill>
                  <a:srgbClr val="222268"/>
                </a:solidFill>
                <a:latin typeface="Calibri"/>
              </a:rPr>
              <a:t>for OEM Manufactur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785840" y="-360"/>
            <a:ext cx="428652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d2d8a"/>
                </a:solidFill>
                <a:uFillTx/>
                <a:latin typeface="Calibri"/>
                <a:ea typeface="Tunga"/>
              </a:rPr>
              <a:t>Decision Model Final Projec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429000" y="1143000"/>
            <a:ext cx="54435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bri"/>
              </a:rPr>
              <a:t>Optimization in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bri"/>
              </a:rPr>
              <a:t>New Product Planning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7" name="Picture 5" descr="6a00d834543aaf69e200e54f296d728834-800wi"/>
          <p:cNvPicPr/>
          <p:nvPr/>
        </p:nvPicPr>
        <p:blipFill>
          <a:blip r:embed="rId3"/>
          <a:stretch/>
        </p:blipFill>
        <p:spPr>
          <a:xfrm>
            <a:off x="4413240" y="3187800"/>
            <a:ext cx="4670280" cy="3908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57240" y="5857920"/>
            <a:ext cx="45720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Kyu Han, Joon Kim, Junghoon Kim, Joongseong Bae, Jaehoon W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6" descr="C:\Documents and Settings\Administrator\My Documents\My MBA\reference\파워포인트 디자인 자료\윤디자인 Powerpoint Templates\ClipArt\금융\FI005.PNG"/>
          <p:cNvPicPr/>
          <p:nvPr/>
        </p:nvPicPr>
        <p:blipFill>
          <a:blip r:embed="rId1"/>
          <a:stretch/>
        </p:blipFill>
        <p:spPr>
          <a:xfrm>
            <a:off x="1571760" y="1214280"/>
            <a:ext cx="5214960" cy="45054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Project Financial Simul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Crystal Ball Analysi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10,000 tria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Profitability objective: $20 Mill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Discrete Uniform Distribu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2" name="Picture 4" descr="C:\Documents and Settings\Administrator\My Documents\My MBA\reference\파워포인트 디자인 자료\윤디자인 Powerpoint Templates\ClipArt\문자심볼\CL0019_3.emf"/>
          <p:cNvPicPr/>
          <p:nvPr/>
        </p:nvPicPr>
        <p:blipFill>
          <a:blip r:embed="rId6"/>
          <a:stretch/>
        </p:blipFill>
        <p:spPr>
          <a:xfrm>
            <a:off x="119160" y="533520"/>
            <a:ext cx="452520" cy="4698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900000" y="4581360"/>
            <a:ext cx="180036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Project Financial Simul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C:\Documents and Settings\Administrator\My Documents\My MBA\reference\파워포인트 디자인 자료\윤디자인 Powerpoint Templates\ClipArt\문자심볼\CL0019_3.emf"/>
          <p:cNvPicPr/>
          <p:nvPr/>
        </p:nvPicPr>
        <p:blipFill>
          <a:blip r:embed="rId1"/>
          <a:stretch/>
        </p:blipFill>
        <p:spPr>
          <a:xfrm>
            <a:off x="119160" y="533520"/>
            <a:ext cx="452520" cy="46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576"/>
          <p:cNvGraphicFramePr/>
          <p:nvPr/>
        </p:nvGraphicFramePr>
        <p:xfrm>
          <a:off x="106200" y="1268280"/>
          <a:ext cx="8929800" cy="498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7" name="Object 5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200" y="1268280"/>
                    <a:ext cx="892980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417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Recommenda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56800" y="1714680"/>
            <a:ext cx="75726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The analysis resulted in the following recommendatio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0" name="Picture 4" descr="C:\Documents and Settings\Administrator\My Documents\My MBA\reference\파워포인트 디자인 자료\윤디자인 Powerpoint Templates\ClipArt\문자심볼\CL0020_3.emf"/>
          <p:cNvPicPr/>
          <p:nvPr/>
        </p:nvPicPr>
        <p:blipFill>
          <a:blip r:embed="rId1"/>
          <a:stretch/>
        </p:blipFill>
        <p:spPr>
          <a:xfrm>
            <a:off x="81000" y="546120"/>
            <a:ext cx="393840" cy="482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2"/>
          <a:stretch/>
        </p:blipFill>
        <p:spPr>
          <a:xfrm>
            <a:off x="214200" y="1857240"/>
            <a:ext cx="714600" cy="53496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50"/>
          <p:cNvGrpSpPr/>
          <p:nvPr/>
        </p:nvGrpSpPr>
        <p:grpSpPr>
          <a:xfrm>
            <a:off x="571680" y="3714840"/>
            <a:ext cx="6286320" cy="2286000"/>
            <a:chOff x="571680" y="3714840"/>
            <a:chExt cx="6286320" cy="2286000"/>
          </a:xfrm>
        </p:grpSpPr>
        <p:sp>
          <p:nvSpPr>
            <p:cNvPr id="313" name="Rectangle 37"/>
            <p:cNvSpPr/>
            <p:nvPr/>
          </p:nvSpPr>
          <p:spPr>
            <a:xfrm>
              <a:off x="1042920" y="3714840"/>
              <a:ext cx="5243400" cy="1838520"/>
            </a:xfrm>
            <a:prstGeom prst="rect">
              <a:avLst/>
            </a:prstGeom>
            <a:solidFill>
              <a:srgbClr val="dde6f7"/>
            </a:solidFill>
            <a:ln w="12600">
              <a:solidFill>
                <a:srgbClr val="a1a1d1"/>
              </a:solidFill>
              <a:miter/>
            </a:ln>
            <a:effectLst>
              <a:outerShdw dist="53966" dir="2700000" blurRad="0" rotWithShape="0">
                <a:srgbClr val="9e9ea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4" name="Rectangle 44"/>
            <p:cNvSpPr/>
            <p:nvPr/>
          </p:nvSpPr>
          <p:spPr>
            <a:xfrm>
              <a:off x="1109520" y="3782880"/>
              <a:ext cx="5105520" cy="16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714240" y="3929040"/>
              <a:ext cx="564372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50000"/>
                </a:lnSpc>
                <a:spcBef>
                  <a:spcPts val="601"/>
                </a:spcBef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161645"/>
                  </a:solidFill>
                  <a:uFillTx/>
                  <a:latin typeface="Calibri"/>
                  <a:ea typeface="굴림"/>
                </a:rPr>
                <a:t>Initial month capacity of 13K/month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lvl="1" marL="743040" indent="-285840">
                <a:lnSpc>
                  <a:spcPct val="150000"/>
                </a:lnSpc>
                <a:spcBef>
                  <a:spcPts val="601"/>
                </a:spcBef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161645"/>
                  </a:solidFill>
                  <a:uFillTx/>
                  <a:latin typeface="Calibri"/>
                  <a:ea typeface="굴림"/>
                </a:rPr>
                <a:t>Invest in next generation model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16" name="Picture 30" descr="ti"/>
            <p:cNvPicPr/>
            <p:nvPr/>
          </p:nvPicPr>
          <p:blipFill>
            <a:blip r:embed="rId5"/>
            <a:stretch/>
          </p:blipFill>
          <p:spPr>
            <a:xfrm>
              <a:off x="571680" y="5357880"/>
              <a:ext cx="6286320" cy="64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Picture 5" descr="C:\Documents and Settings\Administrator\My Documents\My MBA\reference\파워포인트 디자인 자료\윤디자인 Powerpoint Templates\ClipArt\손모양\CC0027_6.gif"/>
          <p:cNvPicPr/>
          <p:nvPr/>
        </p:nvPicPr>
        <p:blipFill>
          <a:blip r:embed="rId6"/>
          <a:stretch/>
        </p:blipFill>
        <p:spPr>
          <a:xfrm>
            <a:off x="0" y="3000240"/>
            <a:ext cx="17859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Reality Check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C:\Documents and Settings\Administrator\My Documents\My MBA\reference\파워포인트 디자인 자료\윤디자인 Powerpoint Templates\ClipArt\문자심볼\CL0011_3.emf"/>
          <p:cNvPicPr/>
          <p:nvPr/>
        </p:nvPicPr>
        <p:blipFill>
          <a:blip r:embed="rId1"/>
          <a:stretch/>
        </p:blipFill>
        <p:spPr>
          <a:xfrm>
            <a:off x="82440" y="558720"/>
            <a:ext cx="390600" cy="43200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3"/>
          <p:cNvGrpSpPr/>
          <p:nvPr/>
        </p:nvGrpSpPr>
        <p:grpSpPr>
          <a:xfrm>
            <a:off x="1214280" y="1571760"/>
            <a:ext cx="6257520" cy="4203000"/>
            <a:chOff x="1214280" y="1571760"/>
            <a:chExt cx="6257520" cy="4203000"/>
          </a:xfrm>
        </p:grpSpPr>
        <p:grpSp>
          <p:nvGrpSpPr>
            <p:cNvPr id="321" name="Group 4"/>
            <p:cNvGrpSpPr/>
            <p:nvPr/>
          </p:nvGrpSpPr>
          <p:grpSpPr>
            <a:xfrm>
              <a:off x="3082320" y="1571760"/>
              <a:ext cx="2490840" cy="2108160"/>
              <a:chOff x="3082320" y="1571760"/>
              <a:chExt cx="2490840" cy="2108160"/>
            </a:xfrm>
          </p:grpSpPr>
          <p:sp>
            <p:nvSpPr>
              <p:cNvPr id="322" name="AutoShape 5"/>
              <p:cNvSpPr/>
              <p:nvPr/>
            </p:nvSpPr>
            <p:spPr>
              <a:xfrm>
                <a:off x="3102840" y="1607760"/>
                <a:ext cx="2470320" cy="2072160"/>
              </a:xfrm>
              <a:prstGeom prst="hexagon">
                <a:avLst>
                  <a:gd name="adj" fmla="val 2980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3" name="AutoShape 6"/>
              <p:cNvSpPr/>
              <p:nvPr/>
            </p:nvSpPr>
            <p:spPr>
              <a:xfrm>
                <a:off x="3082320" y="1571760"/>
                <a:ext cx="2470320" cy="2072160"/>
              </a:xfrm>
              <a:prstGeom prst="hexagon">
                <a:avLst>
                  <a:gd name="adj" fmla="val 2980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4" name="AutoShape 7"/>
              <p:cNvSpPr/>
              <p:nvPr/>
            </p:nvSpPr>
            <p:spPr>
              <a:xfrm>
                <a:off x="3227040" y="1696680"/>
                <a:ext cx="2171160" cy="1822680"/>
              </a:xfrm>
              <a:prstGeom prst="hexagon">
                <a:avLst>
                  <a:gd name="adj" fmla="val 29780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25" name="Group 8"/>
            <p:cNvGrpSpPr/>
            <p:nvPr/>
          </p:nvGrpSpPr>
          <p:grpSpPr>
            <a:xfrm>
              <a:off x="1214280" y="2621520"/>
              <a:ext cx="2492640" cy="2108160"/>
              <a:chOff x="1214280" y="2621520"/>
              <a:chExt cx="2492640" cy="2108160"/>
            </a:xfrm>
          </p:grpSpPr>
          <p:sp>
            <p:nvSpPr>
              <p:cNvPr id="326" name="AutoShape 9"/>
              <p:cNvSpPr/>
              <p:nvPr/>
            </p:nvSpPr>
            <p:spPr>
              <a:xfrm>
                <a:off x="1234800" y="2657520"/>
                <a:ext cx="2472120" cy="2072160"/>
              </a:xfrm>
              <a:prstGeom prst="hexagon">
                <a:avLst>
                  <a:gd name="adj" fmla="val 2982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7" name="AutoShape 10"/>
              <p:cNvSpPr/>
              <p:nvPr/>
            </p:nvSpPr>
            <p:spPr>
              <a:xfrm>
                <a:off x="1214280" y="2621520"/>
                <a:ext cx="2472120" cy="2072160"/>
              </a:xfrm>
              <a:prstGeom prst="hexagon">
                <a:avLst>
                  <a:gd name="adj" fmla="val 2982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8" name="AutoShape 11"/>
              <p:cNvSpPr/>
              <p:nvPr/>
            </p:nvSpPr>
            <p:spPr>
              <a:xfrm>
                <a:off x="1359000" y="2746440"/>
                <a:ext cx="2172600" cy="1822680"/>
              </a:xfrm>
              <a:prstGeom prst="hexagon">
                <a:avLst>
                  <a:gd name="adj" fmla="val 29800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29" name="Group 14"/>
            <p:cNvGrpSpPr/>
            <p:nvPr/>
          </p:nvGrpSpPr>
          <p:grpSpPr>
            <a:xfrm>
              <a:off x="4978800" y="2626920"/>
              <a:ext cx="2493000" cy="2108160"/>
              <a:chOff x="4978800" y="2626920"/>
              <a:chExt cx="2493000" cy="2108160"/>
            </a:xfrm>
          </p:grpSpPr>
          <p:sp>
            <p:nvSpPr>
              <p:cNvPr id="330" name="AutoShape 15"/>
              <p:cNvSpPr/>
              <p:nvPr/>
            </p:nvSpPr>
            <p:spPr>
              <a:xfrm>
                <a:off x="4999680" y="2662920"/>
                <a:ext cx="2472120" cy="2072160"/>
              </a:xfrm>
              <a:prstGeom prst="hexagon">
                <a:avLst>
                  <a:gd name="adj" fmla="val 2982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1" name="AutoShape 16"/>
              <p:cNvSpPr/>
              <p:nvPr/>
            </p:nvSpPr>
            <p:spPr>
              <a:xfrm>
                <a:off x="4978800" y="2626920"/>
                <a:ext cx="2472480" cy="2072160"/>
              </a:xfrm>
              <a:prstGeom prst="hexagon">
                <a:avLst>
                  <a:gd name="adj" fmla="val 298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2" name="AutoShape 17"/>
              <p:cNvSpPr/>
              <p:nvPr/>
            </p:nvSpPr>
            <p:spPr>
              <a:xfrm>
                <a:off x="5123520" y="2751840"/>
                <a:ext cx="2172600" cy="1822680"/>
              </a:xfrm>
              <a:prstGeom prst="hexagon">
                <a:avLst>
                  <a:gd name="adj" fmla="val 29800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333" name="Group 19"/>
            <p:cNvGrpSpPr/>
            <p:nvPr/>
          </p:nvGrpSpPr>
          <p:grpSpPr>
            <a:xfrm>
              <a:off x="3099240" y="3666600"/>
              <a:ext cx="2492640" cy="2108160"/>
              <a:chOff x="3099240" y="3666600"/>
              <a:chExt cx="2492640" cy="2108160"/>
            </a:xfrm>
          </p:grpSpPr>
          <p:sp>
            <p:nvSpPr>
              <p:cNvPr id="334" name="AutoShape 20"/>
              <p:cNvSpPr/>
              <p:nvPr/>
            </p:nvSpPr>
            <p:spPr>
              <a:xfrm>
                <a:off x="3120120" y="3702600"/>
                <a:ext cx="2471760" cy="2072160"/>
              </a:xfrm>
              <a:prstGeom prst="hexagon">
                <a:avLst>
                  <a:gd name="adj" fmla="val 2982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5" name="AutoShape 21"/>
              <p:cNvSpPr/>
              <p:nvPr/>
            </p:nvSpPr>
            <p:spPr>
              <a:xfrm>
                <a:off x="3099240" y="3666600"/>
                <a:ext cx="2472120" cy="2072160"/>
              </a:xfrm>
              <a:prstGeom prst="hexagon">
                <a:avLst>
                  <a:gd name="adj" fmla="val 2982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6" name="AutoShape 22"/>
              <p:cNvSpPr/>
              <p:nvPr/>
            </p:nvSpPr>
            <p:spPr>
              <a:xfrm>
                <a:off x="3243960" y="3791520"/>
                <a:ext cx="2172240" cy="1822680"/>
              </a:xfrm>
              <a:prstGeom prst="hexagon">
                <a:avLst>
                  <a:gd name="adj" fmla="val 29795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337" name="Rectangle 3"/>
          <p:cNvSpPr/>
          <p:nvPr/>
        </p:nvSpPr>
        <p:spPr>
          <a:xfrm>
            <a:off x="3405240" y="2171880"/>
            <a:ext cx="22572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Seasonal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476360" y="3006720"/>
            <a:ext cx="25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Product Life Cyc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511440" y="3929040"/>
            <a:ext cx="25005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Inventor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Risk Buil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5292720" y="2857680"/>
            <a:ext cx="1857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NPV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Q&amp;A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2" name="Picture 4" descr="C:\Documents and Settings\Administrator\My Documents\My MBA\reference\파워포인트 디자인 자료\윤디자인 Powerpoint Templates\ClipArt\문자심볼\CL0011_3.emf"/>
          <p:cNvPicPr/>
          <p:nvPr/>
        </p:nvPicPr>
        <p:blipFill>
          <a:blip r:embed="rId1"/>
          <a:stretch/>
        </p:blipFill>
        <p:spPr>
          <a:xfrm>
            <a:off x="82440" y="558720"/>
            <a:ext cx="390600" cy="4320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3"/>
          <p:cNvSpPr/>
          <p:nvPr/>
        </p:nvSpPr>
        <p:spPr>
          <a:xfrm>
            <a:off x="755640" y="1484280"/>
            <a:ext cx="757224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161645"/>
                </a:solidFill>
                <a:latin typeface="Calibri"/>
              </a:rPr>
              <a:t>Q&amp;A</a:t>
            </a:r>
            <a:endParaRPr b="0" lang="en-US" sz="14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I . Project Introdu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0" name="Picture 6" descr="C:\Documents and Settings\Administrator\My Documents\My MBA\reference\파워포인트 디자인 자료\윤디자인 Powerpoint Templates\ClipArt\문자심볼\CL0012_3.emf"/>
          <p:cNvPicPr/>
          <p:nvPr/>
        </p:nvPicPr>
        <p:blipFill>
          <a:blip r:embed="rId1"/>
          <a:stretch/>
        </p:blipFill>
        <p:spPr>
          <a:xfrm>
            <a:off x="38160" y="541440"/>
            <a:ext cx="247680" cy="458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57240" y="1214280"/>
            <a:ext cx="7014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Background : Product - Tablet PC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2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2"/>
          <a:stretch/>
        </p:blipFill>
        <p:spPr>
          <a:xfrm>
            <a:off x="0" y="1212840"/>
            <a:ext cx="714240" cy="534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3000240" y="1814400"/>
            <a:ext cx="31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61645"/>
                </a:solidFill>
                <a:uFillTx/>
                <a:latin typeface="Calibri"/>
              </a:rPr>
              <a:t>Mobile Computing Product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4" name="Group 19"/>
          <p:cNvGrpSpPr/>
          <p:nvPr/>
        </p:nvGrpSpPr>
        <p:grpSpPr>
          <a:xfrm>
            <a:off x="571680" y="2031840"/>
            <a:ext cx="3512880" cy="2397240"/>
            <a:chOff x="571680" y="2031840"/>
            <a:chExt cx="3512880" cy="2397240"/>
          </a:xfrm>
        </p:grpSpPr>
        <p:pic>
          <p:nvPicPr>
            <p:cNvPr id="155" name="Picture 4" descr="C:\Documents and Settings\Administrator\My Documents\My MBA\reference\파워포인트 디자인 자료\윤디자인 Powerpoint Templates\ClipArt\사무\CF0165_6.gif"/>
            <p:cNvPicPr/>
            <p:nvPr/>
          </p:nvPicPr>
          <p:blipFill>
            <a:blip r:embed="rId3"/>
            <a:stretch/>
          </p:blipFill>
          <p:spPr>
            <a:xfrm>
              <a:off x="571680" y="2031840"/>
              <a:ext cx="3512880" cy="23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Oval 14"/>
            <p:cNvSpPr/>
            <p:nvPr/>
          </p:nvSpPr>
          <p:spPr>
            <a:xfrm>
              <a:off x="1212480" y="2205360"/>
              <a:ext cx="2548440" cy="2101680"/>
            </a:xfrm>
            <a:prstGeom prst="ellipse">
              <a:avLst/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Group 20"/>
          <p:cNvGrpSpPr/>
          <p:nvPr/>
        </p:nvGrpSpPr>
        <p:grpSpPr>
          <a:xfrm>
            <a:off x="4406760" y="2154240"/>
            <a:ext cx="3880080" cy="2274840"/>
            <a:chOff x="4406760" y="2154240"/>
            <a:chExt cx="3880080" cy="2274840"/>
          </a:xfrm>
        </p:grpSpPr>
        <p:pic>
          <p:nvPicPr>
            <p:cNvPr id="158" name="Picture 3" descr="C:\Documents and Settings\Administrator\My Documents\My MBA\reference\파워포인트 디자인 자료\윤디자인 Powerpoint Templates\ClipArt\사무\CF0163_6.gif"/>
            <p:cNvPicPr/>
            <p:nvPr/>
          </p:nvPicPr>
          <p:blipFill>
            <a:blip r:embed="rId4"/>
            <a:stretch/>
          </p:blipFill>
          <p:spPr>
            <a:xfrm>
              <a:off x="4406760" y="2157840"/>
              <a:ext cx="3880080" cy="22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Oval 17"/>
            <p:cNvSpPr/>
            <p:nvPr/>
          </p:nvSpPr>
          <p:spPr>
            <a:xfrm>
              <a:off x="5216760" y="2154240"/>
              <a:ext cx="2602080" cy="2180880"/>
            </a:xfrm>
            <a:prstGeom prst="ellipse">
              <a:avLst/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0" name="TextBox 23"/>
          <p:cNvSpPr/>
          <p:nvPr/>
        </p:nvSpPr>
        <p:spPr>
          <a:xfrm>
            <a:off x="5049720" y="2143080"/>
            <a:ext cx="32371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mart Handheld Devic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D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H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en Tabl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en Notep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24"/>
          <p:cNvSpPr/>
          <p:nvPr/>
        </p:nvSpPr>
        <p:spPr>
          <a:xfrm>
            <a:off x="1467000" y="2286000"/>
            <a:ext cx="21351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rtable P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obile Deskto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in &amp; Light Valu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ini-no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ub-not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5" descr="C:\Documents and Settings\Administrator\My Documents\My MBA\reference\파워포인트 디자인 자료\윤디자인 Powerpoint Templates\ClipArt\입체버튼\CJ0040_1.emf"/>
          <p:cNvPicPr/>
          <p:nvPr/>
        </p:nvPicPr>
        <p:blipFill>
          <a:blip r:embed="rId5"/>
          <a:stretch/>
        </p:blipFill>
        <p:spPr>
          <a:xfrm>
            <a:off x="3968640" y="2597040"/>
            <a:ext cx="1116000" cy="116388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4"/>
          <p:cNvGrpSpPr/>
          <p:nvPr/>
        </p:nvGrpSpPr>
        <p:grpSpPr>
          <a:xfrm>
            <a:off x="3143160" y="4500720"/>
            <a:ext cx="4381560" cy="2143080"/>
            <a:chOff x="3143160" y="4500720"/>
            <a:chExt cx="4381560" cy="2143080"/>
          </a:xfrm>
        </p:grpSpPr>
        <p:pic>
          <p:nvPicPr>
            <p:cNvPr id="164" name="Picture 11" descr="http://pencomputing.com/images/hp_tc1100_notebook.jpg"/>
            <p:cNvPicPr/>
            <p:nvPr/>
          </p:nvPicPr>
          <p:blipFill>
            <a:blip r:embed="rId6"/>
            <a:stretch/>
          </p:blipFill>
          <p:spPr>
            <a:xfrm>
              <a:off x="5677560" y="4561200"/>
              <a:ext cx="1847160" cy="19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" descr="hp_tablet_pc_tc1100_tastatur"/>
            <p:cNvPicPr/>
            <p:nvPr/>
          </p:nvPicPr>
          <p:blipFill>
            <a:blip r:embed="rId7">
              <a:lum bright="2000"/>
            </a:blip>
            <a:stretch/>
          </p:blipFill>
          <p:spPr>
            <a:xfrm>
              <a:off x="3143160" y="4526640"/>
              <a:ext cx="2381400" cy="21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16"/>
            <p:cNvSpPr/>
            <p:nvPr/>
          </p:nvSpPr>
          <p:spPr>
            <a:xfrm>
              <a:off x="3166920" y="4500720"/>
              <a:ext cx="4357800" cy="2071800"/>
            </a:xfrm>
            <a:prstGeom prst="rect">
              <a:avLst/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1428840" y="4857840"/>
            <a:ext cx="1285920" cy="1143000"/>
            <a:chOff x="1428840" y="4857840"/>
            <a:chExt cx="1285920" cy="1143000"/>
          </a:xfrm>
        </p:grpSpPr>
        <p:pic>
          <p:nvPicPr>
            <p:cNvPr id="168" name="Picture 12" descr="C:\Documents and Settings\Administrator\My Documents\My MBA\reference\파워포인트 디자인 자료\윤디자인 Powerpoint Templates\ClipArt\화살표\CB0263_6.gif"/>
            <p:cNvPicPr/>
            <p:nvPr/>
          </p:nvPicPr>
          <p:blipFill>
            <a:blip r:embed="rId8"/>
            <a:stretch/>
          </p:blipFill>
          <p:spPr>
            <a:xfrm>
              <a:off x="1428840" y="4857840"/>
              <a:ext cx="1285920" cy="70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2" descr="C:\Documents and Settings\Administrator\My Documents\My MBA\reference\파워포인트 디자인 자료\윤디자인 Powerpoint Templates\ClipArt\화살표\CB0263_6.gif"/>
            <p:cNvPicPr/>
            <p:nvPr/>
          </p:nvPicPr>
          <p:blipFill>
            <a:blip r:embed="rId9"/>
            <a:stretch/>
          </p:blipFill>
          <p:spPr>
            <a:xfrm>
              <a:off x="1428840" y="5299200"/>
              <a:ext cx="1285920" cy="70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Group 25"/>
          <p:cNvGrpSpPr/>
          <p:nvPr/>
        </p:nvGrpSpPr>
        <p:grpSpPr>
          <a:xfrm>
            <a:off x="4049640" y="4987800"/>
            <a:ext cx="2451240" cy="941400"/>
            <a:chOff x="4049640" y="4987800"/>
            <a:chExt cx="2451240" cy="941400"/>
          </a:xfrm>
        </p:grpSpPr>
        <p:pic>
          <p:nvPicPr>
            <p:cNvPr id="171" name="Picture 23" descr="C:\Documents and Settings\Administrator\My Documents\My MBA\reference\파워포인트 디자인 자료\윤디자인 Powerpoint Templates\ClipArt\문자심볼\CL0034_2.emf"/>
            <p:cNvPicPr/>
            <p:nvPr/>
          </p:nvPicPr>
          <p:blipFill>
            <a:blip r:embed="rId10"/>
            <a:stretch/>
          </p:blipFill>
          <p:spPr>
            <a:xfrm>
              <a:off x="4049640" y="5023080"/>
              <a:ext cx="746280" cy="90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4" descr="C:\Documents and Settings\Administrator\My Documents\My MBA\reference\파워포인트 디자인 자료\윤디자인 Powerpoint Templates\ClipArt\문자심볼\CL0025_2.emf"/>
            <p:cNvPicPr/>
            <p:nvPr/>
          </p:nvPicPr>
          <p:blipFill>
            <a:blip r:embed="rId11"/>
            <a:stretch/>
          </p:blipFill>
          <p:spPr>
            <a:xfrm>
              <a:off x="4835520" y="5023080"/>
              <a:ext cx="679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5" descr="C:\Documents and Settings\Administrator\My Documents\My MBA\reference\파워포인트 디자인 자료\윤디자인 Powerpoint Templates\ClipArt\문자심볼\CL0043_2.emf"/>
            <p:cNvPicPr/>
            <p:nvPr/>
          </p:nvPicPr>
          <p:blipFill>
            <a:blip r:embed="rId12"/>
            <a:stretch/>
          </p:blipFill>
          <p:spPr>
            <a:xfrm>
              <a:off x="5478480" y="4987800"/>
              <a:ext cx="102240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I . Project Introduc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9800" y="2045880"/>
            <a:ext cx="822960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-144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Actual Case From Previous OEM Business Contrac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1440" indent="-144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Contracted Month of Supply: 18 Month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1440" indent="-144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Totally New Product Concep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1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No Historical Data on Demand, Product Life Cycle  and Profitabil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54080" y="1285920"/>
            <a:ext cx="691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Background: Business Sit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7" name="Picture 6" descr="C:\Documents and Settings\Administrator\My Documents\My MBA\reference\파워포인트 디자인 자료\윤디자인 Powerpoint Templates\ClipArt\문자심볼\CL0012_3.emf"/>
          <p:cNvPicPr/>
          <p:nvPr/>
        </p:nvPicPr>
        <p:blipFill>
          <a:blip r:embed="rId4"/>
          <a:stretch/>
        </p:blipFill>
        <p:spPr>
          <a:xfrm>
            <a:off x="38160" y="541440"/>
            <a:ext cx="247680" cy="458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5"/>
          <a:stretch/>
        </p:blipFill>
        <p:spPr>
          <a:xfrm>
            <a:off x="0" y="127152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C:\Documents and Settings\Administrator\My Documents\My MBA\reference\파워포인트 디자인 자료\윤디자인 Powerpoint Templates\ClipArt\화살표\CB0266_1.gif"/>
          <p:cNvPicPr/>
          <p:nvPr/>
        </p:nvPicPr>
        <p:blipFill>
          <a:blip r:embed="rId6"/>
          <a:stretch/>
        </p:blipFill>
        <p:spPr>
          <a:xfrm>
            <a:off x="-71280" y="4572000"/>
            <a:ext cx="952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398520" y="1428840"/>
            <a:ext cx="8173800" cy="4142160"/>
            <a:chOff x="398520" y="1428840"/>
            <a:chExt cx="8173800" cy="4142160"/>
          </a:xfrm>
        </p:grpSpPr>
        <p:sp>
          <p:nvSpPr>
            <p:cNvPr id="181" name="Freeform 3"/>
            <p:cNvSpPr/>
            <p:nvPr/>
          </p:nvSpPr>
          <p:spPr>
            <a:xfrm flipH="1">
              <a:off x="398160" y="1428840"/>
              <a:ext cx="8173800" cy="4142160"/>
            </a:xfrm>
            <a:prstGeom prst="pie">
              <a:avLst/>
            </a:prstGeom>
            <a:gradFill rotWithShape="0">
              <a:gsLst>
                <a:gs pos="0">
                  <a:srgbClr val="3366cc"/>
                </a:gs>
                <a:gs pos="50000">
                  <a:srgbClr val="ffffff"/>
                </a:gs>
                <a:gs pos="100000">
                  <a:srgbClr val="3366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 flipH="1">
              <a:off x="638280" y="1599120"/>
              <a:ext cx="7715160" cy="3811320"/>
            </a:xfrm>
            <a:prstGeom prst="pie">
              <a:avLst/>
            </a:pr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3" name="Group 6"/>
          <p:cNvGrpSpPr/>
          <p:nvPr/>
        </p:nvGrpSpPr>
        <p:grpSpPr>
          <a:xfrm>
            <a:off x="396720" y="1476360"/>
            <a:ext cx="1103040" cy="499320"/>
            <a:chOff x="396720" y="1476360"/>
            <a:chExt cx="1103040" cy="499320"/>
          </a:xfrm>
        </p:grpSpPr>
        <p:sp>
          <p:nvSpPr>
            <p:cNvPr id="184" name="Freeform 7"/>
            <p:cNvSpPr/>
            <p:nvPr/>
          </p:nvSpPr>
          <p:spPr>
            <a:xfrm>
              <a:off x="497880" y="1613520"/>
              <a:ext cx="114480" cy="9864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Freeform 8"/>
            <p:cNvSpPr/>
            <p:nvPr/>
          </p:nvSpPr>
          <p:spPr>
            <a:xfrm>
              <a:off x="1022760" y="1697760"/>
              <a:ext cx="66600" cy="421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Freeform 9"/>
            <p:cNvSpPr/>
            <p:nvPr/>
          </p:nvSpPr>
          <p:spPr>
            <a:xfrm>
              <a:off x="874080" y="1729800"/>
              <a:ext cx="49320" cy="403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396720" y="1479600"/>
              <a:ext cx="513000" cy="4960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Freeform 11"/>
            <p:cNvSpPr/>
            <p:nvPr/>
          </p:nvSpPr>
          <p:spPr>
            <a:xfrm>
              <a:off x="396720" y="1479600"/>
              <a:ext cx="513000" cy="4960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Freeform 12"/>
            <p:cNvSpPr/>
            <p:nvPr/>
          </p:nvSpPr>
          <p:spPr>
            <a:xfrm>
              <a:off x="789840" y="1585080"/>
              <a:ext cx="37800" cy="8604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Freeform 13"/>
            <p:cNvSpPr/>
            <p:nvPr/>
          </p:nvSpPr>
          <p:spPr>
            <a:xfrm>
              <a:off x="789840" y="1585080"/>
              <a:ext cx="37800" cy="8604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Freeform 14"/>
            <p:cNvSpPr/>
            <p:nvPr/>
          </p:nvSpPr>
          <p:spPr>
            <a:xfrm>
              <a:off x="835560" y="1616760"/>
              <a:ext cx="15480" cy="565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Freeform 15"/>
            <p:cNvSpPr/>
            <p:nvPr/>
          </p:nvSpPr>
          <p:spPr>
            <a:xfrm>
              <a:off x="835560" y="1616760"/>
              <a:ext cx="15480" cy="5652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Freeform 16"/>
            <p:cNvSpPr/>
            <p:nvPr/>
          </p:nvSpPr>
          <p:spPr>
            <a:xfrm>
              <a:off x="909720" y="1491840"/>
              <a:ext cx="316800" cy="2782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Freeform 17"/>
            <p:cNvSpPr/>
            <p:nvPr/>
          </p:nvSpPr>
          <p:spPr>
            <a:xfrm>
              <a:off x="909720" y="1491840"/>
              <a:ext cx="316800" cy="2782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Freeform 18"/>
            <p:cNvSpPr/>
            <p:nvPr/>
          </p:nvSpPr>
          <p:spPr>
            <a:xfrm>
              <a:off x="1066680" y="1626120"/>
              <a:ext cx="37800" cy="7380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Freeform 19"/>
            <p:cNvSpPr/>
            <p:nvPr/>
          </p:nvSpPr>
          <p:spPr>
            <a:xfrm>
              <a:off x="1066680" y="1626120"/>
              <a:ext cx="37800" cy="7380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Freeform 20"/>
            <p:cNvSpPr/>
            <p:nvPr/>
          </p:nvSpPr>
          <p:spPr>
            <a:xfrm>
              <a:off x="1141200" y="1685520"/>
              <a:ext cx="18720" cy="208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Freeform 21"/>
            <p:cNvSpPr/>
            <p:nvPr/>
          </p:nvSpPr>
          <p:spPr>
            <a:xfrm>
              <a:off x="1141200" y="1685520"/>
              <a:ext cx="18720" cy="208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Freeform 22"/>
            <p:cNvSpPr/>
            <p:nvPr/>
          </p:nvSpPr>
          <p:spPr>
            <a:xfrm>
              <a:off x="1219320" y="1476360"/>
              <a:ext cx="280440" cy="2797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Freeform 23"/>
            <p:cNvSpPr/>
            <p:nvPr/>
          </p:nvSpPr>
          <p:spPr>
            <a:xfrm>
              <a:off x="1219320" y="1476360"/>
              <a:ext cx="280440" cy="27972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Freeform 24"/>
            <p:cNvSpPr/>
            <p:nvPr/>
          </p:nvSpPr>
          <p:spPr>
            <a:xfrm>
              <a:off x="1268640" y="1666440"/>
              <a:ext cx="9720" cy="208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Freeform 25"/>
            <p:cNvSpPr/>
            <p:nvPr/>
          </p:nvSpPr>
          <p:spPr>
            <a:xfrm>
              <a:off x="1268640" y="1666440"/>
              <a:ext cx="9720" cy="208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Freeform 26"/>
            <p:cNvSpPr/>
            <p:nvPr/>
          </p:nvSpPr>
          <p:spPr>
            <a:xfrm>
              <a:off x="1312920" y="1599120"/>
              <a:ext cx="15120" cy="8964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Freeform 27"/>
            <p:cNvSpPr/>
            <p:nvPr/>
          </p:nvSpPr>
          <p:spPr>
            <a:xfrm>
              <a:off x="1312920" y="1599120"/>
              <a:ext cx="15120" cy="8964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Freeform 28"/>
            <p:cNvSpPr/>
            <p:nvPr/>
          </p:nvSpPr>
          <p:spPr>
            <a:xfrm>
              <a:off x="1337400" y="1576440"/>
              <a:ext cx="37800" cy="11592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Freeform 29"/>
            <p:cNvSpPr/>
            <p:nvPr/>
          </p:nvSpPr>
          <p:spPr>
            <a:xfrm>
              <a:off x="1337400" y="1576440"/>
              <a:ext cx="37800" cy="11592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Freeform 30"/>
            <p:cNvSpPr/>
            <p:nvPr/>
          </p:nvSpPr>
          <p:spPr>
            <a:xfrm>
              <a:off x="1312920" y="1703520"/>
              <a:ext cx="33840" cy="1908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Freeform 31"/>
            <p:cNvSpPr/>
            <p:nvPr/>
          </p:nvSpPr>
          <p:spPr>
            <a:xfrm>
              <a:off x="1312920" y="1703520"/>
              <a:ext cx="33840" cy="1908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Freeform 32"/>
            <p:cNvSpPr/>
            <p:nvPr/>
          </p:nvSpPr>
          <p:spPr>
            <a:xfrm>
              <a:off x="606600" y="1777320"/>
              <a:ext cx="60840" cy="52560"/>
            </a:xfrm>
            <a:prstGeom prst="pie">
              <a:avLst/>
            </a:prstGeom>
            <a:solidFill>
              <a:srgbClr val="0033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Freeform 33"/>
            <p:cNvSpPr/>
            <p:nvPr/>
          </p:nvSpPr>
          <p:spPr>
            <a:xfrm>
              <a:off x="606600" y="1777320"/>
              <a:ext cx="60840" cy="52560"/>
            </a:xfrm>
            <a:prstGeom prst="pie">
              <a:avLst/>
            </a:prstGeom>
            <a:solidFill>
              <a:srgbClr val="003399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Managerial Problem Definition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85400" y="2014200"/>
            <a:ext cx="69548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Forecast demand for new produc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100160" y="3228840"/>
            <a:ext cx="73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Optimize capacity to maximize profi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100160" y="4429080"/>
            <a:ext cx="73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Decide on next generation mod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" name="Picture 6" descr="C:\Documents and Settings\Administrator\My Documents\My MBA\reference\파워포인트 디자인 자료\윤디자인 Powerpoint Templates\ClipArt\문자심볼\CL0013_3.emf"/>
          <p:cNvPicPr/>
          <p:nvPr/>
        </p:nvPicPr>
        <p:blipFill>
          <a:blip r:embed="rId1"/>
          <a:stretch/>
        </p:blipFill>
        <p:spPr>
          <a:xfrm>
            <a:off x="71280" y="538200"/>
            <a:ext cx="358920" cy="447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2"/>
          <a:stretch/>
        </p:blipFill>
        <p:spPr>
          <a:xfrm>
            <a:off x="539640" y="2157480"/>
            <a:ext cx="714600" cy="534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3"/>
          <a:stretch/>
        </p:blipFill>
        <p:spPr>
          <a:xfrm>
            <a:off x="541440" y="334800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4"/>
          <a:stretch/>
        </p:blipFill>
        <p:spPr>
          <a:xfrm>
            <a:off x="539640" y="4518000"/>
            <a:ext cx="71460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30"/>
          <p:cNvGrpSpPr/>
          <p:nvPr/>
        </p:nvGrpSpPr>
        <p:grpSpPr>
          <a:xfrm>
            <a:off x="571320" y="1428840"/>
            <a:ext cx="7786800" cy="4530600"/>
            <a:chOff x="571320" y="1428840"/>
            <a:chExt cx="7786800" cy="4530600"/>
          </a:xfrm>
        </p:grpSpPr>
        <p:sp>
          <p:nvSpPr>
            <p:cNvPr id="220" name="AutoShape 7"/>
            <p:cNvSpPr/>
            <p:nvPr/>
          </p:nvSpPr>
          <p:spPr>
            <a:xfrm flipH="1">
              <a:off x="570960" y="1468080"/>
              <a:ext cx="2464920" cy="2056680"/>
            </a:xfrm>
            <a:prstGeom prst="cube">
              <a:avLst>
                <a:gd name="adj" fmla="val 4023"/>
              </a:avLst>
            </a:prstGeom>
            <a:solidFill>
              <a:srgbClr val="76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Arc 8"/>
            <p:cNvSpPr/>
            <p:nvPr/>
          </p:nvSpPr>
          <p:spPr>
            <a:xfrm flipH="1">
              <a:off x="706320" y="1516680"/>
              <a:ext cx="650880" cy="419400"/>
            </a:xfrm>
            <a:prstGeom prst="pie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AutoShape 9"/>
            <p:cNvSpPr/>
            <p:nvPr/>
          </p:nvSpPr>
          <p:spPr>
            <a:xfrm>
              <a:off x="1338840" y="1535400"/>
              <a:ext cx="1675080" cy="1975320"/>
            </a:xfrm>
            <a:custGeom>
              <a:avLst/>
              <a:gdLst>
                <a:gd name="textAreaLeft" fmla="*/ 0 w 1675080"/>
                <a:gd name="textAreaRight" fmla="*/ 1675440 w 1675080"/>
                <a:gd name="textAreaTop" fmla="*/ 0 h 1975320"/>
                <a:gd name="textAreaBottom" fmla="*/ 1975680 h 1975320"/>
              </a:gdLst>
              <a:ahLst/>
              <a:rect l="textAreaLeft" t="textAreaTop" r="textAreaRight" b="textAreaBottom"/>
              <a:pathLst>
                <a:path w="21600" h="25471">
                  <a:moveTo>
                    <a:pt x="0" y="0"/>
                  </a:moveTo>
                  <a:arcTo wR="0" hR="0" stAng="16200000" swAng="-5400000"/>
                  <a:lnTo>
                    <a:pt x="0" y="25471"/>
                  </a:lnTo>
                  <a:arcTo wR="0" hR="0" stAng="10800000" swAng="-5400000"/>
                  <a:lnTo>
                    <a:pt x="21600" y="25471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706320" y="1922400"/>
              <a:ext cx="1581120" cy="1588320"/>
            </a:xfrm>
            <a:prstGeom prst="rect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>
              <a:off x="3089520" y="1428840"/>
              <a:ext cx="5268600" cy="2082240"/>
            </a:xfrm>
            <a:prstGeom prst="roundRect">
              <a:avLst>
                <a:gd name="adj" fmla="val 6153"/>
              </a:avLst>
            </a:prstGeom>
            <a:solidFill>
              <a:srgbClr val="ffffff"/>
            </a:solidFill>
            <a:ln w="28440">
              <a:solidFill>
                <a:srgbClr val="c6d9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 flipH="1">
              <a:off x="570960" y="3680280"/>
              <a:ext cx="2464920" cy="2279160"/>
            </a:xfrm>
            <a:prstGeom prst="cube">
              <a:avLst>
                <a:gd name="adj" fmla="val 4023"/>
              </a:avLst>
            </a:prstGeom>
            <a:solidFill>
              <a:srgbClr val="76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Arc 13"/>
            <p:cNvSpPr/>
            <p:nvPr/>
          </p:nvSpPr>
          <p:spPr>
            <a:xfrm flipH="1">
              <a:off x="706320" y="3728880"/>
              <a:ext cx="650880" cy="419400"/>
            </a:xfrm>
            <a:prstGeom prst="pie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AutoShape 14"/>
            <p:cNvSpPr/>
            <p:nvPr/>
          </p:nvSpPr>
          <p:spPr>
            <a:xfrm>
              <a:off x="1338840" y="3747600"/>
              <a:ext cx="1675080" cy="2211840"/>
            </a:xfrm>
            <a:custGeom>
              <a:avLst/>
              <a:gdLst>
                <a:gd name="textAreaLeft" fmla="*/ 0 w 1675080"/>
                <a:gd name="textAreaRight" fmla="*/ 1675440 w 1675080"/>
                <a:gd name="textAreaTop" fmla="*/ 0 h 2211840"/>
                <a:gd name="textAreaBottom" fmla="*/ 2212200 h 2211840"/>
              </a:gdLst>
              <a:ahLst/>
              <a:rect l="textAreaLeft" t="textAreaTop" r="textAreaRight" b="textAreaBottom"/>
              <a:pathLst>
                <a:path w="21600" h="28520">
                  <a:moveTo>
                    <a:pt x="0" y="0"/>
                  </a:moveTo>
                  <a:arcTo wR="0" hR="0" stAng="16200000" swAng="-5400000"/>
                  <a:lnTo>
                    <a:pt x="0" y="28520"/>
                  </a:lnTo>
                  <a:arcTo wR="0" hR="0" stAng="10800000" swAng="-5400000"/>
                  <a:lnTo>
                    <a:pt x="21600" y="28520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706320" y="4134600"/>
              <a:ext cx="1562760" cy="1824840"/>
            </a:xfrm>
            <a:prstGeom prst="rect">
              <a:avLst/>
            </a:prstGeom>
            <a:solidFill>
              <a:srgbClr val="cad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63720" bIns="63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AutoShape 16"/>
            <p:cNvSpPr/>
            <p:nvPr/>
          </p:nvSpPr>
          <p:spPr>
            <a:xfrm>
              <a:off x="3089520" y="3640680"/>
              <a:ext cx="5268600" cy="2318760"/>
            </a:xfrm>
            <a:prstGeom prst="roundRect">
              <a:avLst>
                <a:gd name="adj" fmla="val 6153"/>
              </a:avLst>
            </a:prstGeom>
            <a:solidFill>
              <a:srgbClr val="ffffff"/>
            </a:solidFill>
            <a:ln w="28440">
              <a:solidFill>
                <a:srgbClr val="c6d9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30" name="Group 26"/>
            <p:cNvGrpSpPr/>
            <p:nvPr/>
          </p:nvGrpSpPr>
          <p:grpSpPr>
            <a:xfrm>
              <a:off x="834840" y="1720800"/>
              <a:ext cx="1958040" cy="344520"/>
              <a:chOff x="834840" y="1720800"/>
              <a:chExt cx="1958040" cy="344520"/>
            </a:xfrm>
          </p:grpSpPr>
          <p:grpSp>
            <p:nvGrpSpPr>
              <p:cNvPr id="231" name="Group 27"/>
              <p:cNvGrpSpPr/>
              <p:nvPr/>
            </p:nvGrpSpPr>
            <p:grpSpPr>
              <a:xfrm>
                <a:off x="834840" y="1720800"/>
                <a:ext cx="1958040" cy="344520"/>
                <a:chOff x="834840" y="1720800"/>
                <a:chExt cx="1958040" cy="344520"/>
              </a:xfrm>
            </p:grpSpPr>
            <p:sp>
              <p:nvSpPr>
                <p:cNvPr id="232" name="AutoShape 28"/>
                <p:cNvSpPr/>
                <p:nvPr/>
              </p:nvSpPr>
              <p:spPr>
                <a:xfrm>
                  <a:off x="949680" y="1761840"/>
                  <a:ext cx="1843200" cy="262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834840" y="1720800"/>
                  <a:ext cx="392040" cy="344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4" name="Oval 30"/>
              <p:cNvSpPr/>
              <p:nvPr/>
            </p:nvSpPr>
            <p:spPr>
              <a:xfrm>
                <a:off x="876240" y="1757880"/>
                <a:ext cx="249480" cy="268200"/>
              </a:xfrm>
              <a:prstGeom prst="ellipse">
                <a:avLst/>
              </a:prstGeom>
              <a:solidFill>
                <a:srgbClr val="cad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5" name="Group 31"/>
            <p:cNvGrpSpPr/>
            <p:nvPr/>
          </p:nvGrpSpPr>
          <p:grpSpPr>
            <a:xfrm>
              <a:off x="910080" y="3842640"/>
              <a:ext cx="1955880" cy="344520"/>
              <a:chOff x="910080" y="3842640"/>
              <a:chExt cx="1955880" cy="344520"/>
            </a:xfrm>
          </p:grpSpPr>
          <p:grpSp>
            <p:nvGrpSpPr>
              <p:cNvPr id="236" name="Group 32"/>
              <p:cNvGrpSpPr/>
              <p:nvPr/>
            </p:nvGrpSpPr>
            <p:grpSpPr>
              <a:xfrm>
                <a:off x="910080" y="3842640"/>
                <a:ext cx="1955880" cy="344520"/>
                <a:chOff x="910080" y="3842640"/>
                <a:chExt cx="1955880" cy="344520"/>
              </a:xfrm>
            </p:grpSpPr>
            <p:sp>
              <p:nvSpPr>
                <p:cNvPr id="237" name="AutoShape 33"/>
                <p:cNvSpPr/>
                <p:nvPr/>
              </p:nvSpPr>
              <p:spPr>
                <a:xfrm>
                  <a:off x="1024920" y="3883680"/>
                  <a:ext cx="1841040" cy="262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Oval 34"/>
                <p:cNvSpPr/>
                <p:nvPr/>
              </p:nvSpPr>
              <p:spPr>
                <a:xfrm>
                  <a:off x="910080" y="3842640"/>
                  <a:ext cx="391680" cy="344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9" name="Oval 35"/>
              <p:cNvSpPr/>
              <p:nvPr/>
            </p:nvSpPr>
            <p:spPr>
              <a:xfrm>
                <a:off x="951480" y="3879720"/>
                <a:ext cx="249120" cy="268200"/>
              </a:xfrm>
              <a:prstGeom prst="ellipse">
                <a:avLst/>
              </a:prstGeom>
              <a:solidFill>
                <a:srgbClr val="cad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38700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Decision Variable &amp; Objective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7080" y="1468080"/>
            <a:ext cx="424368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Initial monthly capacity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Next project investme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071880" y="3624120"/>
            <a:ext cx="54118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Maximize total profit of projec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155600" y="1619280"/>
            <a:ext cx="1857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Decis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1084320" y="3751200"/>
            <a:ext cx="21970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224b50"/>
                </a:solidFill>
                <a:latin typeface="Calibri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Picture 6" descr="C:\Documents and Settings\Administrator\My Documents\My MBA\reference\파워포인트 디자인 자료\윤디자인 Powerpoint Templates\ClipArt\문자심볼\CL0014_3.emf"/>
          <p:cNvPicPr/>
          <p:nvPr/>
        </p:nvPicPr>
        <p:blipFill>
          <a:blip r:embed="rId4"/>
          <a:stretch/>
        </p:blipFill>
        <p:spPr>
          <a:xfrm>
            <a:off x="57240" y="558720"/>
            <a:ext cx="371520" cy="433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5"/>
          <a:stretch/>
        </p:blipFill>
        <p:spPr>
          <a:xfrm>
            <a:off x="571680" y="160668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6"/>
          <a:stretch/>
        </p:blipFill>
        <p:spPr>
          <a:xfrm>
            <a:off x="631800" y="3762360"/>
            <a:ext cx="71424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02"/>
          <p:cNvSpPr/>
          <p:nvPr/>
        </p:nvSpPr>
        <p:spPr>
          <a:xfrm>
            <a:off x="452520" y="3083040"/>
            <a:ext cx="796608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Text Box 202"/>
          <p:cNvSpPr/>
          <p:nvPr/>
        </p:nvSpPr>
        <p:spPr>
          <a:xfrm>
            <a:off x="439560" y="1881360"/>
            <a:ext cx="796608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marL="190440" indent="-8892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AutoShape 206"/>
          <p:cNvSpPr/>
          <p:nvPr/>
        </p:nvSpPr>
        <p:spPr>
          <a:xfrm>
            <a:off x="428760" y="1428840"/>
            <a:ext cx="8001000" cy="420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fffff"/>
              </a:gs>
              <a:gs pos="100000">
                <a:srgbClr val="a4aab8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AutoShape 211"/>
          <p:cNvSpPr/>
          <p:nvPr/>
        </p:nvSpPr>
        <p:spPr>
          <a:xfrm>
            <a:off x="428760" y="2643120"/>
            <a:ext cx="8001000" cy="420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a4aab8"/>
              </a:gs>
              <a:gs pos="50000">
                <a:srgbClr val="ffffff"/>
              </a:gs>
              <a:gs pos="100000">
                <a:srgbClr val="a4aab8"/>
              </a:gs>
            </a:gsLst>
            <a:lin ang="27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Constraint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112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BTO Model (Build To Order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161645"/>
                </a:solidFill>
                <a:latin typeface="Calibri"/>
              </a:rPr>
              <a:t>- Products are built after orders are received (No Inventory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4" name="Picture 4" descr="C:\Documents and Settings\Administrator\My Documents\My MBA\reference\파워포인트 디자인 자료\윤디자인 Powerpoint Templates\ClipArt\문자심볼\CL0015_3.emf"/>
          <p:cNvPicPr/>
          <p:nvPr/>
        </p:nvPicPr>
        <p:blipFill>
          <a:blip r:embed="rId2"/>
          <a:stretch/>
        </p:blipFill>
        <p:spPr>
          <a:xfrm>
            <a:off x="34920" y="533520"/>
            <a:ext cx="393840" cy="4284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3"/>
          <p:cNvSpPr/>
          <p:nvPr/>
        </p:nvSpPr>
        <p:spPr>
          <a:xfrm>
            <a:off x="428760" y="25718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48hr FCT (Factory Cycle Time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45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161645"/>
                </a:solidFill>
                <a:latin typeface="Calibri"/>
              </a:rPr>
              <a:t>- All orders must be shipped within 48 hours of receip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35"/>
          <p:cNvGrpSpPr/>
          <p:nvPr/>
        </p:nvGrpSpPr>
        <p:grpSpPr>
          <a:xfrm>
            <a:off x="714240" y="4229280"/>
            <a:ext cx="8533080" cy="1979280"/>
            <a:chOff x="714240" y="4229280"/>
            <a:chExt cx="8533080" cy="1979280"/>
          </a:xfrm>
        </p:grpSpPr>
        <p:sp>
          <p:nvSpPr>
            <p:cNvPr id="257" name="Rectangle 138"/>
            <p:cNvSpPr/>
            <p:nvPr/>
          </p:nvSpPr>
          <p:spPr>
            <a:xfrm rot="5400000">
              <a:off x="1143000" y="4942800"/>
              <a:ext cx="1712880" cy="285480"/>
            </a:xfrm>
            <a:prstGeom prst="rect">
              <a:avLst/>
            </a:prstGeom>
            <a:gradFill rotWithShape="0">
              <a:gsLst>
                <a:gs pos="0">
                  <a:srgbClr val="bbc5d3"/>
                </a:gs>
                <a:gs pos="100000">
                  <a:srgbClr val="f7f8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AutoShape 140"/>
            <p:cNvSpPr/>
            <p:nvPr/>
          </p:nvSpPr>
          <p:spPr>
            <a:xfrm rot="5400000">
              <a:off x="4974120" y="2681640"/>
              <a:ext cx="409320" cy="6643800"/>
            </a:xfrm>
            <a:prstGeom prst="upArrow">
              <a:avLst>
                <a:gd name="adj1" fmla="val 59176"/>
                <a:gd name="adj2" fmla="val 25023"/>
              </a:avLst>
            </a:prstGeom>
            <a:gradFill rotWithShape="0">
              <a:gsLst>
                <a:gs pos="0">
                  <a:srgbClr val="bbc5d3"/>
                </a:gs>
                <a:gs pos="100000">
                  <a:srgbClr val="f7f8f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TextBox 19"/>
            <p:cNvSpPr/>
            <p:nvPr/>
          </p:nvSpPr>
          <p:spPr>
            <a:xfrm>
              <a:off x="714240" y="427572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rder Collectio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TextBox 20"/>
            <p:cNvSpPr/>
            <p:nvPr/>
          </p:nvSpPr>
          <p:spPr>
            <a:xfrm>
              <a:off x="714240" y="461880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aterial Kitt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TextBox 21"/>
            <p:cNvSpPr/>
            <p:nvPr/>
          </p:nvSpPr>
          <p:spPr>
            <a:xfrm>
              <a:off x="714240" y="488952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Unit Buil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2" name="TextBox 22"/>
            <p:cNvSpPr/>
            <p:nvPr/>
          </p:nvSpPr>
          <p:spPr>
            <a:xfrm>
              <a:off x="714240" y="5172840"/>
              <a:ext cx="14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g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3" name="TextBox 23"/>
            <p:cNvSpPr/>
            <p:nvPr/>
          </p:nvSpPr>
          <p:spPr>
            <a:xfrm>
              <a:off x="714240" y="5481000"/>
              <a:ext cx="171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acking &amp; Shipp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4" name="TextBox 24"/>
            <p:cNvSpPr/>
            <p:nvPr/>
          </p:nvSpPr>
          <p:spPr>
            <a:xfrm>
              <a:off x="1960560" y="5902200"/>
              <a:ext cx="7286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2d2d8a"/>
                  </a:solidFill>
                  <a:latin typeface="Calibri"/>
                </a:rPr>
                <a:t>     </a:t>
              </a:r>
              <a:r>
                <a:rPr b="1" lang="en-US" sz="1100" spc="-1" strike="noStrike">
                  <a:solidFill>
                    <a:srgbClr val="2d2d8a"/>
                  </a:solidFill>
                  <a:latin typeface="Calibri"/>
                </a:rPr>
                <a:t>1                       5                      10                   15                    20                   25                   30                   35                    40 </a:t>
              </a:r>
              <a:endParaRPr b="0" lang="en-US" sz="11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65" name="Group 32"/>
            <p:cNvGrpSpPr/>
            <p:nvPr/>
          </p:nvGrpSpPr>
          <p:grpSpPr>
            <a:xfrm>
              <a:off x="2071440" y="4248360"/>
              <a:ext cx="2091600" cy="346320"/>
              <a:chOff x="2071440" y="4248360"/>
              <a:chExt cx="2091600" cy="346320"/>
            </a:xfrm>
          </p:grpSpPr>
          <p:pic>
            <p:nvPicPr>
              <p:cNvPr id="266" name="Picture 2" descr="C:\Documents and Settings\Administrator\My Documents\My MBA\reference\파워포인트 디자인 자료\윤디자인 Powerpoint Templates\ClipArt\3D그래프\TD085.png"/>
              <p:cNvPicPr/>
              <p:nvPr/>
            </p:nvPicPr>
            <p:blipFill>
              <a:blip r:embed="rId4"/>
              <a:stretch/>
            </p:blipFill>
            <p:spPr>
              <a:xfrm>
                <a:off x="2151720" y="4335480"/>
                <a:ext cx="1803600" cy="20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AutoShape 15"/>
              <p:cNvSpPr/>
              <p:nvPr/>
            </p:nvSpPr>
            <p:spPr>
              <a:xfrm>
                <a:off x="2071440" y="4248360"/>
                <a:ext cx="2091600" cy="346320"/>
              </a:xfrm>
              <a:prstGeom prst="rightArrow">
                <a:avLst>
                  <a:gd name="adj1" fmla="val 100000"/>
                  <a:gd name="adj2" fmla="val 6814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0 ~ 12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68" name="Group 33"/>
            <p:cNvGrpSpPr/>
            <p:nvPr/>
          </p:nvGrpSpPr>
          <p:grpSpPr>
            <a:xfrm>
              <a:off x="3363480" y="4570920"/>
              <a:ext cx="1528560" cy="346320"/>
              <a:chOff x="3363480" y="4570920"/>
              <a:chExt cx="1528560" cy="346320"/>
            </a:xfrm>
          </p:grpSpPr>
          <p:pic>
            <p:nvPicPr>
              <p:cNvPr id="269" name="Picture 3" descr="C:\Documents and Settings\Administrator\My Documents\My MBA\reference\파워포인트 디자인 자료\윤디자인 Powerpoint Templates\ClipArt\3D그래프\TD086.png"/>
              <p:cNvPicPr/>
              <p:nvPr/>
            </p:nvPicPr>
            <p:blipFill>
              <a:blip r:embed="rId5"/>
              <a:stretch/>
            </p:blipFill>
            <p:spPr>
              <a:xfrm>
                <a:off x="3733200" y="4642200"/>
                <a:ext cx="64440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AutoShape 14"/>
              <p:cNvSpPr/>
              <p:nvPr/>
            </p:nvSpPr>
            <p:spPr>
              <a:xfrm>
                <a:off x="3363480" y="4570920"/>
                <a:ext cx="1528560" cy="346320"/>
              </a:xfrm>
              <a:prstGeom prst="rightArrow">
                <a:avLst>
                  <a:gd name="adj1" fmla="val 100000"/>
                  <a:gd name="adj2" fmla="val 4979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10 ~ 13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71" name="Group 34"/>
            <p:cNvGrpSpPr/>
            <p:nvPr/>
          </p:nvGrpSpPr>
          <p:grpSpPr>
            <a:xfrm>
              <a:off x="4092120" y="4894560"/>
              <a:ext cx="1584360" cy="346320"/>
              <a:chOff x="4092120" y="4894560"/>
              <a:chExt cx="1584360" cy="346320"/>
            </a:xfrm>
          </p:grpSpPr>
          <p:pic>
            <p:nvPicPr>
              <p:cNvPr id="272" name="Picture 4" descr="C:\Documents and Settings\Administrator\My Documents\My MBA\reference\파워포인트 디자인 자료\윤디자인 Powerpoint Templates\ClipArt\3D그래프\TD087.png"/>
              <p:cNvPicPr/>
              <p:nvPr/>
            </p:nvPicPr>
            <p:blipFill>
              <a:blip r:embed="rId6"/>
              <a:stretch/>
            </p:blipFill>
            <p:spPr>
              <a:xfrm>
                <a:off x="4163400" y="4954320"/>
                <a:ext cx="128592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AutoShape 13"/>
              <p:cNvSpPr/>
              <p:nvPr/>
            </p:nvSpPr>
            <p:spPr>
              <a:xfrm>
                <a:off x="4092120" y="4894560"/>
                <a:ext cx="1584360" cy="346320"/>
              </a:xfrm>
              <a:prstGeom prst="rightArrow">
                <a:avLst>
                  <a:gd name="adj1" fmla="val 100000"/>
                  <a:gd name="adj2" fmla="val 5161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12 ~ 20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74" name="Group 35"/>
            <p:cNvGrpSpPr/>
            <p:nvPr/>
          </p:nvGrpSpPr>
          <p:grpSpPr>
            <a:xfrm>
              <a:off x="4878000" y="5179320"/>
              <a:ext cx="1800360" cy="346320"/>
              <a:chOff x="4878000" y="5179320"/>
              <a:chExt cx="1800360" cy="346320"/>
            </a:xfrm>
          </p:grpSpPr>
          <p:pic>
            <p:nvPicPr>
              <p:cNvPr id="275" name="Picture 6" descr="C:\Documents and Settings\Administrator\My Documents\My MBA\reference\파워포인트 디자인 자료\윤디자인 Powerpoint Templates\ClipArt\3D그래프\TD088.png"/>
              <p:cNvPicPr/>
              <p:nvPr/>
            </p:nvPicPr>
            <p:blipFill>
              <a:blip r:embed="rId7"/>
              <a:stretch/>
            </p:blipFill>
            <p:spPr>
              <a:xfrm>
                <a:off x="4878000" y="5250600"/>
                <a:ext cx="1714680" cy="2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AutoShape 12"/>
              <p:cNvSpPr/>
              <p:nvPr/>
            </p:nvSpPr>
            <p:spPr>
              <a:xfrm>
                <a:off x="4878000" y="5179320"/>
                <a:ext cx="1800360" cy="346320"/>
              </a:xfrm>
              <a:prstGeom prst="rightArrow">
                <a:avLst>
                  <a:gd name="adj1" fmla="val 100000"/>
                  <a:gd name="adj2" fmla="val 5865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17 ~ 28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77" name="Group 36"/>
            <p:cNvGrpSpPr/>
            <p:nvPr/>
          </p:nvGrpSpPr>
          <p:grpSpPr>
            <a:xfrm>
              <a:off x="5655240" y="5514120"/>
              <a:ext cx="1871640" cy="346320"/>
              <a:chOff x="5655240" y="5514120"/>
              <a:chExt cx="1871640" cy="346320"/>
            </a:xfrm>
          </p:grpSpPr>
          <p:pic>
            <p:nvPicPr>
              <p:cNvPr id="278" name="Picture 6" descr="C:\Documents and Settings\Administrator\My Documents\My MBA\reference\파워포인트 디자인 자료\윤디자인 Powerpoint Templates\ClipArt\3D그래프\TD088.png"/>
              <p:cNvPicPr/>
              <p:nvPr/>
            </p:nvPicPr>
            <p:blipFill>
              <a:blip r:embed="rId8"/>
              <a:stretch/>
            </p:blipFill>
            <p:spPr>
              <a:xfrm>
                <a:off x="6059160" y="5577840"/>
                <a:ext cx="85356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AutoShape 11"/>
              <p:cNvSpPr/>
              <p:nvPr/>
            </p:nvSpPr>
            <p:spPr>
              <a:xfrm>
                <a:off x="5655240" y="5514120"/>
                <a:ext cx="1871640" cy="346320"/>
              </a:xfrm>
              <a:prstGeom prst="rightArrow">
                <a:avLst>
                  <a:gd name="adj1" fmla="val 100000"/>
                  <a:gd name="adj2" fmla="val 609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66"/>
                    </a:solidFill>
                    <a:latin typeface="Calibri"/>
                  </a:rPr>
                  <a:t>25 ~ 30 Hrs</a:t>
                </a:r>
                <a:endParaRPr b="0" lang="en-US" sz="11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280" name="Text Box 9"/>
          <p:cNvSpPr/>
          <p:nvPr/>
        </p:nvSpPr>
        <p:spPr>
          <a:xfrm>
            <a:off x="571680" y="3736800"/>
            <a:ext cx="40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161645"/>
                </a:solidFill>
                <a:uFillTx/>
                <a:latin typeface="Calibri"/>
              </a:rPr>
              <a:t>Gantt Chart: Factory Cycle Tim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470520" y="1928880"/>
            <a:ext cx="8173440" cy="4142160"/>
            <a:chOff x="470520" y="1928880"/>
            <a:chExt cx="8173440" cy="4142160"/>
          </a:xfrm>
        </p:grpSpPr>
        <p:sp>
          <p:nvSpPr>
            <p:cNvPr id="282" name="Freeform 3"/>
            <p:cNvSpPr/>
            <p:nvPr/>
          </p:nvSpPr>
          <p:spPr>
            <a:xfrm flipH="1">
              <a:off x="470520" y="1928880"/>
              <a:ext cx="8173440" cy="4142160"/>
            </a:xfrm>
            <a:prstGeom prst="pie">
              <a:avLst/>
            </a:prstGeom>
            <a:gradFill rotWithShape="0">
              <a:gsLst>
                <a:gs pos="0">
                  <a:srgbClr val="3366cc"/>
                </a:gs>
                <a:gs pos="50000">
                  <a:srgbClr val="ffffff"/>
                </a:gs>
                <a:gs pos="100000">
                  <a:srgbClr val="3366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 flipH="1">
              <a:off x="710640" y="2099160"/>
              <a:ext cx="7714800" cy="3811320"/>
            </a:xfrm>
            <a:prstGeom prst="pie">
              <a:avLst/>
            </a:prstGeom>
            <a:solidFill>
              <a:srgbClr val="d4ddf4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560" y="49968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Analysi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42920" y="2674440"/>
            <a:ext cx="758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Monthly Demand &amp; Optimal Capacity Simu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Project Financial Simul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6" name="Picture 4" descr="C:\Documents and Settings\Administrator\My Documents\My MBA\reference\파워포인트 디자인 자료\윤디자인 Powerpoint Templates\ClipArt\문자심볼\CL0016_3.emf"/>
          <p:cNvPicPr/>
          <p:nvPr/>
        </p:nvPicPr>
        <p:blipFill>
          <a:blip r:embed="rId1"/>
          <a:stretch/>
        </p:blipFill>
        <p:spPr>
          <a:xfrm>
            <a:off x="38160" y="558720"/>
            <a:ext cx="390600" cy="381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2"/>
          <a:stretch/>
        </p:blipFill>
        <p:spPr>
          <a:xfrm>
            <a:off x="514440" y="266868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Documents and Settings\Administrator\My Documents\My MBA\reference\파워포인트 디자인 자료\윤디자인 Powerpoint Templates\ClipArt\화살표\CB0274_1.gif"/>
          <p:cNvPicPr/>
          <p:nvPr/>
        </p:nvPicPr>
        <p:blipFill>
          <a:blip r:embed="rId3"/>
          <a:stretch/>
        </p:blipFill>
        <p:spPr>
          <a:xfrm>
            <a:off x="501480" y="4221000"/>
            <a:ext cx="714600" cy="535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C:\Documents and Settings\Administrator\My Documents\My MBA\reference\파워포인트 디자인 자료\윤디자인 Powerpoint Templates\ClipArt\일반심볼\CA0243_1.gif"/>
          <p:cNvPicPr/>
          <p:nvPr/>
        </p:nvPicPr>
        <p:blipFill>
          <a:blip r:embed="rId4"/>
          <a:stretch/>
        </p:blipFill>
        <p:spPr>
          <a:xfrm rot="20037600">
            <a:off x="-243000" y="996840"/>
            <a:ext cx="26877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C:\Documents and Settings\Administrator\My Documents\My MBA\reference\파워포인트 디자인 자료\윤디자인 Powerpoint Templates\ClipArt\일반심볼\CA0244_6.gif"/>
          <p:cNvPicPr/>
          <p:nvPr/>
        </p:nvPicPr>
        <p:blipFill>
          <a:blip r:embed="rId1"/>
          <a:stretch/>
        </p:blipFill>
        <p:spPr>
          <a:xfrm>
            <a:off x="250920" y="749160"/>
            <a:ext cx="8143920" cy="53578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31000"/>
              </a:srgbClr>
            </a:outerShdw>
          </a:effectLst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Demand Simulation &amp; Capacity Optimiz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59984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Crystal Ball analysi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43360" indent="-24336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10,000 tria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43360" indent="-24336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Monthly Demand Scenario </a:t>
            </a:r>
            <a:r>
              <a:rPr b="1" lang="en-US" sz="2800" spc="-1" strike="noStrike">
                <a:solidFill>
                  <a:srgbClr val="161645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 Daily Demand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43360" indent="-2433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243360" indent="-24336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45"/>
                </a:solidFill>
                <a:latin typeface="Calibri"/>
              </a:rPr>
              <a:t>Multiple simulation using different initial capacitie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3" name="Picture 4" descr="C:\Documents and Settings\Administrator\My Documents\My MBA\reference\파워포인트 디자인 자료\윤디자인 Powerpoint Templates\ClipArt\문자심볼\CL0017_3.emf"/>
          <p:cNvPicPr/>
          <p:nvPr/>
        </p:nvPicPr>
        <p:blipFill>
          <a:blip r:embed="rId6"/>
          <a:stretch/>
        </p:blipFill>
        <p:spPr>
          <a:xfrm>
            <a:off x="55440" y="571680"/>
            <a:ext cx="516240" cy="419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5383080" y="3757680"/>
            <a:ext cx="1781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    </a:t>
            </a:r>
            <a:r>
              <a:rPr b="1" i="1" lang="en-US" sz="3600" spc="-1" strike="noStrike">
                <a:solidFill>
                  <a:srgbClr val="161645"/>
                </a:solidFill>
                <a:latin typeface="Calibri"/>
              </a:rPr>
              <a:t>. Demand Simulation &amp; Capacity Optimiz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6" name="Picture 4" descr="C:\Documents and Settings\Administrator\My Documents\My MBA\reference\파워포인트 디자인 자료\윤디자인 Powerpoint Templates\ClipArt\문자심볼\CL0017_3.emf"/>
          <p:cNvPicPr/>
          <p:nvPr/>
        </p:nvPicPr>
        <p:blipFill>
          <a:blip r:embed="rId1"/>
          <a:stretch/>
        </p:blipFill>
        <p:spPr>
          <a:xfrm>
            <a:off x="55440" y="571680"/>
            <a:ext cx="516240" cy="4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360360" y="1162080"/>
          <a:ext cx="8388360" cy="519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0360" y="1162080"/>
                    <a:ext cx="8388360" cy="519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6:20:28Z</dcterms:created>
  <dc:creator>HKS</dc:creator>
  <dc:description/>
  <dc:language>en-US</dc:language>
  <cp:lastModifiedBy>HKS</cp:lastModifiedBy>
  <dcterms:modified xsi:type="dcterms:W3CDTF">2008-12-01T17:28:50Z</dcterms:modified>
  <cp:revision>68</cp:revision>
  <dc:subject/>
  <dc:title>Decision Model</dc:title>
</cp:coreProperties>
</file>