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A6B-FF9D-47D9-A42E-1F184E98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2186-1C85-4B96-BB29-9BBCBE3A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8DE6-8861-4A6D-9509-375C714E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6FE-29C5-4F20-BBE2-5FDA1D76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9BE-4B26-44C3-BF69-9D57E30C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83D-725D-44B4-A105-558D808A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6570-CEAC-41D2-BD06-A9172291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4B6-9815-48FF-AE81-FEF65F72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7C3-D945-405F-8209-C832B73C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C34-C458-4031-9A78-DD14E826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8930-FA6D-4852-8F3E-9BC1C8D6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BF4-0524-4CB8-90D5-BA5D9A6B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891C-B955-4715-906D-B99F5247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DE9A-60BA-45F4-93B7-D7605E83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8B71-1908-4441-85EF-A3FCFC34A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5E7-56B0-4FB1-B4D1-78225C50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B85-356E-403D-971E-3AB6CCC21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CD1D-33C6-4DBC-BFBA-42590120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5E6-5758-477F-B575-E1353A6C1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276-44F1-48BC-A067-45492809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73A-9FD7-491F-8289-48E98245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41F-C411-4139-98F3-BF4865A1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B23-88F1-4A1F-A99B-1FD4C73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5AD-449F-4183-95A2-192825D0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81F-99E7-4922-874D-D271FFB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1E3-B6CC-4334-BA5B-2C3DA1D1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DA6-C036-420B-9CAA-D266472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DF8-8F19-4E5B-B336-91E5116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6C-1981-4FA9-8543-F304E59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2CA-B2CE-436E-88E6-6C7AB03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EFF-0026-46D8-A68F-C093EFD3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97F-255D-48E7-B217-00431F4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A6D1-0BAC-4630-BE29-C387E8552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istoricalstatistic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1323" t="25223" r="31252" b="16403"/>
          <a:stretch/>
        </p:blipFill>
        <p:spPr>
          <a:xfrm>
            <a:off x="1676520" y="1828800"/>
            <a:ext cx="582912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6553080" y="5181480"/>
            <a:ext cx="1828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Group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gnes  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ndice Di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rla Quint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logo.jpg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54000" y="533520"/>
            <a:ext cx="43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odel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A29-51C1-4C3F-B41E-689174269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58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ill group 53 selected cities in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309600" y="2433600"/>
          <a:ext cx="8453520" cy="23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433600"/>
                    <a:ext cx="84535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4"/>
          <p:cNvSpPr/>
          <p:nvPr/>
        </p:nvSpPr>
        <p:spPr>
          <a:xfrm>
            <a:off x="147600" y="304920"/>
            <a:ext cx="23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n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D513-634D-4C26-9032-CB08513DC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80880" y="10666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We will have three offices in the US (New York, Texas and California) and one in Hong Kong, Brazil, Switzerland, Australia, Germany, Netherlands and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Our offices have some specialization towards industry. Houston: 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Hong Kong: Wireless Tele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Rio De Janeiro: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Basel, Switzerland: Pharmaceu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elbourne: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unich: Industrial Conglom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San Francisco: Diversifie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The Hague: Oil an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Purchase: 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Beijing: Diversifie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1219320" y="2743200"/>
            <a:ext cx="723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I. Expected Revenue Grow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A89-0CD3-4152-B930-03168D26D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BE8-5C1C-4764-BE11-E40D2B379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70440" y="533520"/>
            <a:ext cx="42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09480" y="144792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2009 revenue generated from each country is assumed to be 0.001% of total annual revenues of companies in that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Only in the USA will there be revenue in 2008.  It too is 0.001% of total annual revenues of companies in the U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Country GDP collected over a 53 year period (1950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Assume revenues from each country increase/decrease with that country’s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5371-6C31-4E1A-9B1C-C595F94AE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91320" y="533520"/>
            <a:ext cx="63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Data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06560" y="16002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GDP and revenue data for each count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209680"/>
          <a:ext cx="6705360" cy="4256280"/>
        </p:xfrm>
        <a:graphic>
          <a:graphicData uri="http://schemas.openxmlformats.org/drawingml/2006/table">
            <a:tbl>
              <a:tblPr/>
              <a:tblGrid>
                <a:gridCol w="1295280"/>
                <a:gridCol w="1109520"/>
                <a:gridCol w="1185840"/>
                <a:gridCol w="760680"/>
                <a:gridCol w="806400"/>
                <a:gridCol w="1547640"/>
              </a:tblGrid>
              <a:tr h="45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P % 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LDWIDE'S REVENUE in $ 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REVENUE OF COMPANIES ($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59,93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4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46,909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14,526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75,666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68,265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4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467,005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 K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56,428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54,077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4.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422,937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0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 30,60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5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540,654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09,847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14,32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30,59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.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196,166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7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   730,302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29.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 2,957,483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43CE-B753-41FD-8B8F-06CA7D68F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96720" y="533520"/>
            <a:ext cx="47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Set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094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Define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% revenue growth in each country is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Define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expected annual revenue and cumulative revenue in the 10</a:t>
            </a:r>
            <a:r>
              <a:rPr b="0" lang="en-US" sz="2400" spc="-1" strike="noStrike" baseline="30000">
                <a:solidFill>
                  <a:srgbClr val="d9d9d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and 20</a:t>
            </a:r>
            <a:r>
              <a:rPr b="0" lang="en-US" sz="2400" spc="-1" strike="noStrike" baseline="30000">
                <a:solidFill>
                  <a:srgbClr val="d9d9d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-  average annual revenue and revenue growth rate over first 10 and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358200" y="533520"/>
            <a:ext cx="46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E9A-BC63-4603-9760-0B9CBDBA7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762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</a:rPr>
              <a:t>Australia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23078" r="58815" b="26154"/>
          <a:stretch/>
        </p:blipFill>
        <p:spPr>
          <a:xfrm>
            <a:off x="1447920" y="2133720"/>
            <a:ext cx="624816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381600" y="53352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4E3-4D98-4CBF-88CC-1AB66CCAE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2757" t="22823" r="33174" b="30000"/>
          <a:stretch/>
        </p:blipFill>
        <p:spPr>
          <a:xfrm>
            <a:off x="2209680" y="2666880"/>
            <a:ext cx="4724640" cy="3124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700920" y="1523880"/>
            <a:ext cx="741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Uniform Distribution for Australia’s Annual % Revenue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358200" y="533520"/>
            <a:ext cx="46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imul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B30-019E-4CF1-87AD-F040F1258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62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</a:rPr>
              <a:t>Total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47439" t="23078" r="11539" b="25384"/>
          <a:stretch/>
        </p:blipFill>
        <p:spPr>
          <a:xfrm>
            <a:off x="2057400" y="2133720"/>
            <a:ext cx="548640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452160" y="533520"/>
            <a:ext cx="23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n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7266-65EA-4B5E-83E0-A43519296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057400"/>
          <a:ext cx="5105520" cy="1447920"/>
        </p:xfrm>
        <a:graphic>
          <a:graphicData uri="http://schemas.openxmlformats.org/drawingml/2006/table">
            <a:tbl>
              <a:tblPr/>
              <a:tblGrid>
                <a:gridCol w="2755800"/>
                <a:gridCol w="1219320"/>
                <a:gridCol w="1130400"/>
              </a:tblGrid>
              <a:tr h="48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$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1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2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Annual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94.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128.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Cumulative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838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,964.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828800" y="3886200"/>
          <a:ext cx="5181480" cy="1295280"/>
        </p:xfrm>
        <a:graphic>
          <a:graphicData uri="http://schemas.openxmlformats.org/drawingml/2006/table">
            <a:tbl>
              <a:tblPr/>
              <a:tblGrid>
                <a:gridCol w="2597040"/>
                <a:gridCol w="1176480"/>
                <a:gridCol w="1407960"/>
              </a:tblGrid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nnual Revenu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nnual Revenue ($ m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83.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          98.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46600" y="609480"/>
            <a:ext cx="23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ce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4479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Worldwide Consulting is a U.S. based consulting firm that specializes in large scaled infrastructure projects and currently services domestic companies with market caps over $50 billion.  On average, revenues for Worldwide are 0.001% of the revenues of every company under con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Worldwide is looking to expand into the international market.  Due to the company’s success in the past, we want to employ a similar strategy of targeting international companies with market caps over $50 billion.  We expect to begin and complete our expansion in 20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659-7A64-4FE7-9259-95B4B429B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F16-ED2F-48D2-B7B9-F7C65A007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1536840" y="2766960"/>
            <a:ext cx="601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913680" y="2797200"/>
            <a:ext cx="72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II. Summary &amp; Sugg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C0B1-1142-454B-846D-D9EECCE1F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533520" y="6094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A27-CFAF-4B18-883C-BA7C6AB3F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33520" y="4114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Good news!  All forecasts indicate that expected annual revenue for Worldwide will, on average, increase from year to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3520" y="1676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d9d9"/>
                </a:solidFill>
                <a:uFillTx/>
                <a:latin typeface="Times New Roman"/>
                <a:ea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We will have three offices in the US and one in Hong Kong, Brazil, Switzerland, Australia, Germany, Netherlands and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223920" y="457200"/>
            <a:ext cx="32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0CBD-9C0C-42A6-87DC-DDEE26BA2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33520" y="17524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Based on cost of living in each country, estimate the cost of doing business to forecast net profit for World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Apply net profit from above and estimate cost of expansion to determine year in which Worldwide will breake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Evaluate revenue generation by cluster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657600" y="259092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rebuchet MS"/>
              </a:rPr>
              <a:t>Q&amp;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E2C-9113-415E-BA7D-27A32E6E2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2360" y="609480"/>
            <a:ext cx="499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roblem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1447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Develop an international expansion plan for our U.S. based consulting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We need to address the following for our expansion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d9d9d9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In which cities should Worldwide open an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2)  What are the expected annual revenue and revenue growth rate for World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D654-D5BB-487A-972D-FB5F00106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48400" y="609480"/>
            <a:ext cx="15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14479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Maximize access to businesses with market capitalization over $5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Forecast annual revenue and revenue growth rate for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D4BF-A493-45C4-A650-71D9DD410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150120" y="609480"/>
            <a:ext cx="48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ecision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1523880"/>
            <a:ext cx="70866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Chose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Arial"/>
              </a:rPr>
              <a:t>Capital IQ: 79 companies in 53 cities worldwide with market caps greater than $50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www.historicalstatistics.org</a:t>
            </a:r>
            <a:r>
              <a:rPr b="1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:  Country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8C2-620F-4AC1-A7F9-FAD33EA9B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44000" y="6094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" y="1523880"/>
            <a:ext cx="8153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Clust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d9d9d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group companies depending on similarities in certai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9d9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Monte-Carl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d9d9d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  <a:ea typeface="Arial"/>
              </a:rPr>
              <a:t>forecast expected annual revenue and revenue growth rate for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61B-E0B8-4EFA-BEC4-9F61BA4DA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4"/>
          <p:cNvSpPr/>
          <p:nvPr/>
        </p:nvSpPr>
        <p:spPr>
          <a:xfrm>
            <a:off x="1630440" y="2743200"/>
            <a:ext cx="58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I. Company Group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D9DD-2CF4-45C7-8EA7-806BDA23E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4"/>
          <p:cNvSpPr/>
          <p:nvPr/>
        </p:nvSpPr>
        <p:spPr>
          <a:xfrm>
            <a:off x="465480" y="53352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ust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3B80-50D4-4FA1-B0D8-0522646D6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14400" y="1447920"/>
            <a:ext cx="73152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nitially we picked 53 cities that contained the companies with a market cap of at least $50 b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To establish hubs to operate from, we grouped these cities accor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Size of local companies measured by 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arket 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- Latitude and 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dentify 10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B33-E4AE-4FDC-8BFE-45340AA87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222920" y="533520"/>
            <a:ext cx="71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ents Locations by Re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north america.jpg"/>
          <p:cNvPicPr/>
          <p:nvPr/>
        </p:nvPicPr>
        <p:blipFill>
          <a:blip r:embed="rId1"/>
          <a:stretch/>
        </p:blipFill>
        <p:spPr>
          <a:xfrm>
            <a:off x="304920" y="1371600"/>
            <a:ext cx="2609640" cy="224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outh america.jpg"/>
          <p:cNvPicPr/>
          <p:nvPr/>
        </p:nvPicPr>
        <p:blipFill>
          <a:blip r:embed="rId2"/>
          <a:stretch/>
        </p:blipFill>
        <p:spPr>
          <a:xfrm>
            <a:off x="1752480" y="3962520"/>
            <a:ext cx="27622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europe russia.jpg"/>
          <p:cNvPicPr/>
          <p:nvPr/>
        </p:nvPicPr>
        <p:blipFill>
          <a:blip r:embed="rId3"/>
          <a:stretch/>
        </p:blipFill>
        <p:spPr>
          <a:xfrm>
            <a:off x="3276720" y="1371600"/>
            <a:ext cx="2609640" cy="224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east asia.jpg"/>
          <p:cNvPicPr/>
          <p:nvPr/>
        </p:nvPicPr>
        <p:blipFill>
          <a:blip r:embed="rId4"/>
          <a:stretch/>
        </p:blipFill>
        <p:spPr>
          <a:xfrm>
            <a:off x="6172200" y="1371600"/>
            <a:ext cx="2649600" cy="2278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ustralia.jpg"/>
          <p:cNvPicPr/>
          <p:nvPr/>
        </p:nvPicPr>
        <p:blipFill>
          <a:blip r:embed="rId5"/>
          <a:stretch/>
        </p:blipFill>
        <p:spPr>
          <a:xfrm>
            <a:off x="4952880" y="3962520"/>
            <a:ext cx="2743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6:31:26Z</dcterms:created>
  <dc:creator>Roberto Kriete</dc:creator>
  <dc:description/>
  <dc:language>en-US</dc:language>
  <cp:lastModifiedBy>Agnes</cp:lastModifiedBy>
  <dcterms:modified xsi:type="dcterms:W3CDTF">2008-12-01T18:31:56Z</dcterms:modified>
  <cp:revision>430</cp:revision>
  <dc:subject/>
  <dc:title>PowerPoint Presentation</dc:title>
</cp:coreProperties>
</file>