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6A8-A87A-4613-B228-9EBAD843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56F-A3DF-43D8-AFEF-09C6A4E9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F51-C2DE-4B53-9CFE-9A17A6D8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BD3-6D45-4BF3-8BB2-C0C6B34B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BC9-9346-4585-9E49-7495AF67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6ED-4271-4710-9613-C1E2A7C32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D2EA-DC4E-4C17-8CB0-F42C3BD6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561-03F3-40CD-8802-E0C21BD5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E718-9F91-4E53-A52D-353D65BF8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2DD-47D1-4ED4-906C-E46CC164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A3AB-9382-4A7E-8D4F-1F798DDA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2C14-C04A-4DC4-A21D-F8B7C8694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BAC-DD71-4C79-9EA3-D72448A81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C1B8-C05D-49A5-8878-97290E00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A71-7CA1-495B-BDDF-0F8C573B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1DC5-26D5-45DF-96BC-66D24257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2EE-46B8-4CE6-9CCA-9059DFCC4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0A78-A752-4752-82CC-198A3FDF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C0B0-B696-4D0F-B36D-FDB29ADF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5299-8365-403F-98E5-130ECDCE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922-AB13-411A-85D0-B042FD37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0F6-3121-4406-BF09-DF4F4F7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E40-2154-4E91-A1CA-B6F8E216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059-3550-4E21-9482-E6FA87EE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50F-571C-42A9-99CA-2417A84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656-7A5F-4026-8B58-8A39E6A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044-42B2-4D93-B6A5-E6BB802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685-830A-4453-AA3E-8E37DCD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0AA-4454-4691-8128-DB7644B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278-5E99-4095-9B79-5ACE421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9C9-17F9-4F2F-837C-87B428B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1C6-5E5F-4AB9-9296-3E70286B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2DD-D73B-42B1-A8DF-6496F4107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storicalstatistic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1323" t="25223" r="31252" b="16403"/>
          <a:stretch/>
        </p:blipFill>
        <p:spPr>
          <a:xfrm>
            <a:off x="1676520" y="1828800"/>
            <a:ext cx="582912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6553080" y="5181480"/>
            <a:ext cx="1828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Group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gnes  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ndice Di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rla Quint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logo.jpg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54000" y="533520"/>
            <a:ext cx="43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del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A46-353F-400D-9DED-57EF16C25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58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ill group 53 selected cities in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309600" y="2433600"/>
          <a:ext cx="8453520" cy="23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433600"/>
                    <a:ext cx="84535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147600" y="304920"/>
            <a:ext cx="23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n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F99-F6C5-4B54-B951-4A52F0531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80880" y="10666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We will have three offices in the US (New York, Texas and California) and one in Hong Kong, Brazil, Switzerland, Australia, Germany, Netherlands and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Our offices have some specialization towards industry. Houston: 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Hong Kong: Wireless Tele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Rio De Janeiro: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Basel, Switzerland: Pharmaceu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elbourne: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unich: Industrial Conglom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San Francisco: Diversifie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The Hague: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Purchase: 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Beijing: Diversifie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219320" y="2743200"/>
            <a:ext cx="723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I. Expected Revenue Grow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EC7-0A83-4154-9C3D-6A3F23EBA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DE1-E315-49FE-9830-EC82D04EE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70440" y="533520"/>
            <a:ext cx="42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09480" y="144792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2009 revenue generated from each country is assumed to be 0.001% of total annual revenues of companies in that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Only in the USA will there be revenue in 2008.  It too is 0.001% of total annual revenues of companies in the U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Country GDP collected over a 53 year period (1950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Assume revenues from each country increase/decrease with that country’s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C89D-64AB-4373-9120-57D176190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91320" y="533520"/>
            <a:ext cx="63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Data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06560" y="16002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GDP and revenue data for each count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209680"/>
          <a:ext cx="6705360" cy="4256280"/>
        </p:xfrm>
        <a:graphic>
          <a:graphicData uri="http://schemas.openxmlformats.org/drawingml/2006/table">
            <a:tbl>
              <a:tblPr/>
              <a:tblGrid>
                <a:gridCol w="1295280"/>
                <a:gridCol w="1109520"/>
                <a:gridCol w="1185840"/>
                <a:gridCol w="760680"/>
                <a:gridCol w="806400"/>
                <a:gridCol w="1547640"/>
              </a:tblGrid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P % 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LDWIDE'S REVENUE in $ 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REVENUE OF COMPANIES ($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59,93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4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46,909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14,526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75,666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68,265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4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467,005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 K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56,428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54,077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4.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422,937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30,60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40,654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09,847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14,32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30,59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96,166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7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730,302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29.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2,957,483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365-260C-44C9-84E4-71BCF6510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96720" y="533520"/>
            <a:ext cx="47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Set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094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Define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% revenue growth in each country is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Define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expected annual revenue and cumulative revenue in the 10</a:t>
            </a:r>
            <a:r>
              <a:rPr b="0" lang="en-US" sz="2400" spc="-1" strike="noStrike" baseline="30000">
                <a:solidFill>
                  <a:srgbClr val="d9d9d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and 20</a:t>
            </a:r>
            <a:r>
              <a:rPr b="0" lang="en-US" sz="2400" spc="-1" strike="noStrike" baseline="30000">
                <a:solidFill>
                  <a:srgbClr val="d9d9d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average annual revenue and revenue growth rate over first 10 and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58200" y="533520"/>
            <a:ext cx="46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6EF-A97C-4F0F-89A7-B698EE59E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762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</a:rPr>
              <a:t>Australia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23078" r="58815" b="26154"/>
          <a:stretch/>
        </p:blipFill>
        <p:spPr>
          <a:xfrm>
            <a:off x="1447920" y="2133720"/>
            <a:ext cx="62481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1600" y="53352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03C6-32EF-4680-ADE0-1ADDDA7C7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2757" t="22823" r="33174" b="30000"/>
          <a:stretch/>
        </p:blipFill>
        <p:spPr>
          <a:xfrm>
            <a:off x="2209680" y="2666880"/>
            <a:ext cx="4724640" cy="3124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700920" y="1523880"/>
            <a:ext cx="741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Uniform Distribution for Australia’s Annual % Revenue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358200" y="533520"/>
            <a:ext cx="46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879-6BFE-4649-B34A-759B4016C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62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47439" t="23078" r="11539" b="25384"/>
          <a:stretch/>
        </p:blipFill>
        <p:spPr>
          <a:xfrm>
            <a:off x="2057400" y="2133720"/>
            <a:ext cx="548640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452160" y="533520"/>
            <a:ext cx="23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n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CCB-ED66-4FFD-98A0-03B7BD861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057400"/>
          <a:ext cx="5105520" cy="1447920"/>
        </p:xfrm>
        <a:graphic>
          <a:graphicData uri="http://schemas.openxmlformats.org/drawingml/2006/table">
            <a:tbl>
              <a:tblPr/>
              <a:tblGrid>
                <a:gridCol w="2755800"/>
                <a:gridCol w="1219320"/>
                <a:gridCol w="1130400"/>
              </a:tblGrid>
              <a:tr h="48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$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1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2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Annual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94.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28.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Cumulative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838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,964.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828800" y="3886200"/>
          <a:ext cx="5181480" cy="1295280"/>
        </p:xfrm>
        <a:graphic>
          <a:graphicData uri="http://schemas.openxmlformats.org/drawingml/2006/table">
            <a:tbl>
              <a:tblPr/>
              <a:tblGrid>
                <a:gridCol w="2597040"/>
                <a:gridCol w="1176480"/>
                <a:gridCol w="1407960"/>
              </a:tblGrid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nnual Revenu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nnual Revenue ($ 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83.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98.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46600" y="609480"/>
            <a:ext cx="23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ce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4479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Worldwide Consulting is a U.S. based consulting firm that specializes in large scaled infrastructure projects and currently services domestic companies with market caps over $50 billion.  On average, revenues for Worldwide are 0.001% of the revenues of every company under con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Worldwide is looking to expand into the international market.  Due to the company’s success in the past, we want to employ a similar strategy of targeting international companies with market caps over $50 billion.  We expect to begin and complete our expansion in 20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0040-2B2C-474E-8539-A5E7E84DC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802F-146D-4234-8A76-E2A667659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1536840" y="2766960"/>
            <a:ext cx="601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913680" y="2797200"/>
            <a:ext cx="72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II. Summary &amp; Sugg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C0A-C431-40E6-B923-26C118260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533520" y="6094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A60-E98C-47DE-B06E-FF7591A28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33520" y="4114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Good news!  All forecasts indicate that expected annual revenue for Worldwide will, on average, increase from year to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3520" y="1676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We will have three offices in the US and one in Hong Kong, Brazil, Switzerland, Australia, Germany, Netherlands and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23920" y="457200"/>
            <a:ext cx="32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A55-3521-4F99-B76C-998226F44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33520" y="17524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Based on cost of living in each country, estimate the cost of doing business to forecast net profit for World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Apply net profit from above and estimate cost of expansion to determine year in which Worldwide will breake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Evaluate revenue generation by cluster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657600" y="259092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rebuchet MS"/>
              </a:rPr>
              <a:t>Q&amp;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A3B-E50D-4782-8DA3-6C40C93D7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2360" y="609480"/>
            <a:ext cx="499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roblem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1447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Develop an international expansion plan for our U.S. based consulting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We need to address the following for our expans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d9d9d9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In which cities should Worldwide open an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2)  What are the expected annual revenue and revenue growth rate for World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19D1-8D2C-4786-BF09-CE2517D85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48400" y="609480"/>
            <a:ext cx="15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14479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Maximize access to businesses with market capitalization over $5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Forecast annual revenue and revenue growth rate for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FF7B-8C22-4FBD-BE91-1A1BD1880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150120" y="609480"/>
            <a:ext cx="48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ecision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1523880"/>
            <a:ext cx="7086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Chose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Capital IQ: 79 companies in 53 cities worldwide with market caps greater than $50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www.historicalstatistics.org</a:t>
            </a: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:  Country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2C5-63F9-464E-83C2-9CDD3C972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44000" y="6094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" y="1523880"/>
            <a:ext cx="8153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Clust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d9d9d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group companies depending on similarities in certai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Monte-Carl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d9d9d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forecast expected annual revenue and revenue growth rate for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D588-D00A-4C58-A083-E8C82BA4D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4"/>
          <p:cNvSpPr/>
          <p:nvPr/>
        </p:nvSpPr>
        <p:spPr>
          <a:xfrm>
            <a:off x="1630440" y="2743200"/>
            <a:ext cx="58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. Company Group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8938-AF11-423D-9916-D842A51E8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4"/>
          <p:cNvSpPr/>
          <p:nvPr/>
        </p:nvSpPr>
        <p:spPr>
          <a:xfrm>
            <a:off x="465480" y="53352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ust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140-229F-4520-9D72-1D1455ADE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14400" y="1447920"/>
            <a:ext cx="73152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nitially we picked 53 cities that contained the companies with a market cap of at least $50 b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To establish hubs to operate from, we grouped these cities accor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Size of local companies measured by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arket 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Latitude and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dentify 10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B01-21D2-476A-8F97-BCF907A25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222920" y="533520"/>
            <a:ext cx="71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ents Locations by Re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north america.jpg"/>
          <p:cNvPicPr/>
          <p:nvPr/>
        </p:nvPicPr>
        <p:blipFill>
          <a:blip r:embed="rId1"/>
          <a:stretch/>
        </p:blipFill>
        <p:spPr>
          <a:xfrm>
            <a:off x="304920" y="1371600"/>
            <a:ext cx="2609640" cy="224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outh america.jpg"/>
          <p:cNvPicPr/>
          <p:nvPr/>
        </p:nvPicPr>
        <p:blipFill>
          <a:blip r:embed="rId2"/>
          <a:stretch/>
        </p:blipFill>
        <p:spPr>
          <a:xfrm>
            <a:off x="1752480" y="3962520"/>
            <a:ext cx="27622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europe russia.jpg"/>
          <p:cNvPicPr/>
          <p:nvPr/>
        </p:nvPicPr>
        <p:blipFill>
          <a:blip r:embed="rId3"/>
          <a:stretch/>
        </p:blipFill>
        <p:spPr>
          <a:xfrm>
            <a:off x="3276720" y="1371600"/>
            <a:ext cx="2609640" cy="224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east asia.jpg"/>
          <p:cNvPicPr/>
          <p:nvPr/>
        </p:nvPicPr>
        <p:blipFill>
          <a:blip r:embed="rId4"/>
          <a:stretch/>
        </p:blipFill>
        <p:spPr>
          <a:xfrm>
            <a:off x="6172200" y="1371600"/>
            <a:ext cx="2649600" cy="227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ustralia.jpg"/>
          <p:cNvPicPr/>
          <p:nvPr/>
        </p:nvPicPr>
        <p:blipFill>
          <a:blip r:embed="rId5"/>
          <a:stretch/>
        </p:blipFill>
        <p:spPr>
          <a:xfrm>
            <a:off x="4952880" y="3962520"/>
            <a:ext cx="2743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6:31:26Z</dcterms:created>
  <dc:creator>Roberto Kriete</dc:creator>
  <dc:description/>
  <dc:language>en-US</dc:language>
  <cp:lastModifiedBy>Agnes</cp:lastModifiedBy>
  <dcterms:modified xsi:type="dcterms:W3CDTF">2008-12-01T18:31:56Z</dcterms:modified>
  <cp:revision>430</cp:revision>
  <dc:subject/>
  <dc:title>PowerPoint Presentation</dc:title>
</cp:coreProperties>
</file>