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539-D345-4298-8FCF-62EB68A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21C-33D2-4B18-8D8B-70DD075B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3C6-B553-40C8-84AD-B49DB156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50A-215E-4AC2-B400-B63A061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BED-A369-4974-8C3A-7B8B8086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F1D9-0C4F-4F6E-BA39-DC320359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D6AA-C927-4CCF-B7E8-CCD2F63D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1F8-B015-4831-863C-87A575AC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F8C4-99AC-4EB9-B8E4-49E841F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CE30-8D4B-46DA-840A-534BD2CA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92EE-C90B-4DBD-A75F-FFBF3C8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1D2-9F29-49C2-BE2B-A8BF3219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82F-68E8-454F-9CDD-63D41B7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DECF-E57C-4DB3-B4FA-C806F8A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720E-8CFB-4754-8834-20D02A3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88E7-6882-459D-9DB2-40EE3DD5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5785-C5A8-44A0-8387-6B125754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AEF-3BFD-4579-8579-2411D967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3E1-BC50-4F6A-A549-8D668BF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A00-B5FF-481B-B7F4-6F0C8C84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307-820E-47B3-B98B-B95DA7B0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9AB-52BA-44BD-8B44-5BCFBE7F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FF8-CC88-4576-84A1-186AEC1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2A6-72B8-4222-B052-B2F4CCF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mtrak.com/servlet/ContentServer?pagename=Amtrak/HomePage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en.wikipedia.org/wiki/Image:Acela_logo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0F94-1BFD-479C-A87B-EDAB2EA3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mtra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00840" y="6477120"/>
            <a:ext cx="1190880" cy="22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upload.wikimedia.org/wikipedia/en/9/9a/Acela_logo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1647720" cy="67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9482-5C6F-4007-85DF-FFFDC68D5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adtechblog.com/uploads/your_ad-here.jpg&amp;imgrefurl=http://www.adrants.com/mt335/mt-search.cgi?IncludeBlogs=1&amp;search=ad:tech&amp;x=0&amp;y=0&amp;usg=__opCseySn0oI-haCs5824red50AI=&amp;h=270&amp;w=360&amp;sz=38&amp;hl=en&amp;start=105&amp;um=1&amp;tbnid=j2nF4PxPqi4d6M:&amp;tbnh=91&amp;tbnw=121&amp;prev=/images?q=ad+on+amtrak&amp;start=90&amp;ndsp=18&amp;um=1&amp;hl=en&amp;rlz=1T4LENT_enUS216US216&amp;sa=N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gettyimages.com/Search/Search.aspx?contractUrl=2&amp;language=en-US&amp;p=rush%20hour&amp;assetType=image&amp;src=quick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ttyimages.com/Search/Search.aspx?contractUrl=2&amp;language=en-US&amp;p=rush%20hour&amp;assetType=image&amp;src=quick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ettyimages.com/Search/Search.aspx?contractUrl=2&amp;language=en-US&amp;family=editorial&amp;assetType=image&amp;p=acela&amp;src=standard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7/74/SouthStation.agr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Penn_Station_NYC_main_entrance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4" descr=""/>
          <p:cNvPicPr/>
          <p:nvPr/>
        </p:nvPicPr>
        <p:blipFill>
          <a:blip r:embed="rId1"/>
          <a:stretch/>
        </p:blipFill>
        <p:spPr>
          <a:xfrm>
            <a:off x="682560" y="1511280"/>
            <a:ext cx="7785000" cy="1792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briela Arrillaga, Catherine Beal, Maria Olave, Kareen Rosefort, Jaspal Sin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View image detai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5210280"/>
            <a:ext cx="161928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5210280"/>
            <a:ext cx="161928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View image detai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52102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View image detai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52102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iew image detail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81080" y="5210280"/>
            <a:ext cx="1619280" cy="9619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8" descr=""/>
          <p:cNvPicPr/>
          <p:nvPr/>
        </p:nvPicPr>
        <p:blipFill>
          <a:blip r:embed="rId12"/>
          <a:stretch/>
        </p:blipFill>
        <p:spPr>
          <a:xfrm>
            <a:off x="3303720" y="3024360"/>
            <a:ext cx="2450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Crystal Ball, we find that the maximum profit are typically generated by using 11-16 trains per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ing on the risk level, Amtrak can make profits of up to $51,130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ait...there’s more we could 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count for demand shifts during different times of the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 elasticity varies according to day and time, higher prices could be sustained for peak tra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orporate ancillary income from advertising and food/beverage sales into revenue simulation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passengers leads to more ancillary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View image det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495680"/>
            <a:ext cx="2133720" cy="143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View image detai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4952880"/>
            <a:ext cx="2362320" cy="1570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your_ad-here"/>
          <p:cNvPicPr/>
          <p:nvPr/>
        </p:nvPicPr>
        <p:blipFill>
          <a:blip r:embed="rId5"/>
          <a:stretch/>
        </p:blipFill>
        <p:spPr>
          <a:xfrm>
            <a:off x="838080" y="4935600"/>
            <a:ext cx="2210040" cy="154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View image detail"/>
          <p:cNvPicPr/>
          <p:nvPr/>
        </p:nvPicPr>
        <p:blipFill>
          <a:blip r:embed="rId6"/>
          <a:stretch/>
        </p:blipFill>
        <p:spPr>
          <a:xfrm>
            <a:off x="2362320" y="4495680"/>
            <a:ext cx="205740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 Profi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trak Acela ex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nsit Profits are Not on Tr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spite of strong subsidies almost every public transit systems cannot generate sufficient income to cover its operating and capita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public transit systems, or parts of them, are either over or under us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uring peak hours, crowdedness creates discomfort for u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w ridership makes many services financially unsustainable, particularly in suburban are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mtrak is unprofitable, government subsidies keep it in 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mtrak Acela Exp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28600" y="1371600"/>
            <a:ext cx="6705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an service in 2000 as the only true high speed train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speed is 15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mium service that only serves the Northeast Corr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6-2007 a total of 2,668,174 passengers rode Acela, an 8.8% year-over-year increase in pa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dly the only Amtrak route that breaks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stops at stations with the highest passenger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Acela Express Boston, New York, and Washington, DC Poster"/>
          <p:cNvPicPr/>
          <p:nvPr/>
        </p:nvPicPr>
        <p:blipFill>
          <a:blip r:embed="rId1"/>
          <a:srcRect l="17953" t="0" r="20516" b="0"/>
          <a:stretch/>
        </p:blipFill>
        <p:spPr>
          <a:xfrm>
            <a:off x="7010280" y="1600200"/>
            <a:ext cx="1828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ston to NYC Ro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Image:SouthStation.ag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19112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upload.wikimedia.org/wikipedia/commons/thumb/4/41/Penn_Station_NYC_main_entrance.jpg/300px-Penn_Station_NYC_main_entranc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19112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33520" y="1219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2 million people used Boston stations and almost 8 million departed and arrived at NYC using Am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se totals, 14% took the A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competition on the New York to Boston route is air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trip is three and a half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h hour ticket price is $189, non-peak hour ticket price is $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Acela Express Route Map"/>
          <p:cNvPicPr/>
          <p:nvPr/>
        </p:nvPicPr>
        <p:blipFill>
          <a:blip r:embed="rId5"/>
          <a:srcRect l="0" t="0" r="0" b="9478"/>
          <a:stretch/>
        </p:blipFill>
        <p:spPr>
          <a:xfrm>
            <a:off x="4114800" y="4191120"/>
            <a:ext cx="137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Objectiv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timize the number of trains in operation between Boston and New York in order to maximize pro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http://www.adobe.com/designcenter/thinktank/greenfield/tt_greenfield_2.jpg"/>
          <p:cNvPicPr/>
          <p:nvPr/>
        </p:nvPicPr>
        <p:blipFill>
          <a:blip r:embed="rId1"/>
          <a:stretch/>
        </p:blipFill>
        <p:spPr>
          <a:xfrm>
            <a:off x="3048120" y="3571920"/>
            <a:ext cx="3105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 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4% of every dollar goes to operat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 costs per train of $1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 capacity is 504 passen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ximum of 25 trains per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0% of tickets are sold during peak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mand assumes a lognormal distribution with mean of 7397 and standard deviation of 1165 based on actual Amtrak Acela demands per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400800" y="1795320"/>
            <a:ext cx="26337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3680" indent="-463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6320" y="1447920"/>
            <a:ext cx="8991360" cy="480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85680" y="1730520"/>
            <a:ext cx="89708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de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"/>
          <p:cNvPicPr/>
          <p:nvPr/>
        </p:nvPicPr>
        <p:blipFill>
          <a:blip r:embed="rId1"/>
          <a:stretch/>
        </p:blipFill>
        <p:spPr>
          <a:xfrm>
            <a:off x="450720" y="1749600"/>
            <a:ext cx="8242560" cy="453528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7"/>
          <p:cNvCxnSpPr/>
          <p:nvPr/>
        </p:nvCxnSpPr>
        <p:spPr>
          <a:xfrm flipH="1" flipV="1">
            <a:off x="1447560" y="3580560"/>
            <a:ext cx="167688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095880" y="266688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34:23Z</dcterms:created>
  <dc:creator>Jassi</dc:creator>
  <dc:description/>
  <dc:language>en-US</dc:language>
  <cp:lastModifiedBy>Catherine Beal</cp:lastModifiedBy>
  <dcterms:modified xsi:type="dcterms:W3CDTF">2008-12-01T17:49:41Z</dcterms:modified>
  <cp:revision>15</cp:revision>
  <dc:subject/>
  <dc:title>Amtrak Acela Express</dc:title>
</cp:coreProperties>
</file>