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11.png" ContentType="image/png"/>
  <Override PartName="/ppt/media/image31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78E-8D2C-477C-A0AF-7B21A42B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E37-0C3D-4C1A-85C4-D9B40469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1257-50F4-465B-B81D-922415C9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297-DE7A-485D-A611-13D68B24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B0D1-8B39-4D90-A02D-FFB11C5C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AE92-3051-43C4-9D7C-AEBA8CAF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CAA-12B7-448B-AC20-8A054C06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B2DF-D89C-4296-855C-285D4EAA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BA44-8393-4F4A-AA2E-5A265643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D09B-EDD7-4B11-9FF5-B5565551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0E2A-A3AA-4AB7-A75A-BB1504C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8C8A-9A0D-4C15-AE01-58EE3E26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B2CF-AC68-4769-8030-636E391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E7E6-BFE8-43BB-89A0-67269C8B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B269-2E71-42A0-8584-7CCDFA4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2205-BC77-46E4-964C-F6314166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6425-4036-4C5D-A70E-EBF3FFA9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8D7-FE19-4D03-9F08-DE2EBDE2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635-CCB6-4BED-8D03-4B8B4B76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EA7-1AA1-4036-B1BD-45F3A7D5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45E-1401-4BAA-B56C-0FAB283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5BC-206F-4E9A-957F-312D61D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A96-EE7E-466B-A89A-3241952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515-002E-4346-BAD1-288DB2D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7E3-3683-4ADC-8B51-0AF660AF9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ubway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E404-4D07-4A4A-817A-85958484A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9.jpeg"/><Relationship Id="rId10" Type="http://schemas.openxmlformats.org/officeDocument/2006/relationships/image" Target="../media/image4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80920" y="1523880"/>
            <a:ext cx="5334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way Diet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vember 24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BMT - Parmesan Oregano - Footlong.jpg"/>
          <p:cNvPicPr/>
          <p:nvPr/>
        </p:nvPicPr>
        <p:blipFill>
          <a:blip r:embed="rId1"/>
          <a:stretch/>
        </p:blipFill>
        <p:spPr>
          <a:xfrm>
            <a:off x="228600" y="2819520"/>
            <a:ext cx="4572000" cy="3066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181480" y="4114800"/>
            <a:ext cx="2057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ona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illiam C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rene F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nnie T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arlotte 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80880" y="2971800"/>
          <a:ext cx="2514600" cy="13874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1524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Banana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Cuc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Green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Jalapeno Pepp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2" name="Picture 4" descr="Condiments.bmp"/>
          <p:cNvPicPr/>
          <p:nvPr/>
        </p:nvPicPr>
        <p:blipFill>
          <a:blip r:embed="rId1"/>
          <a:stretch/>
        </p:blipFill>
        <p:spPr>
          <a:xfrm>
            <a:off x="2971800" y="24382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6"/>
          <p:cNvSpPr/>
          <p:nvPr/>
        </p:nvSpPr>
        <p:spPr>
          <a:xfrm>
            <a:off x="7000920" y="2895480"/>
            <a:ext cx="143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On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Pick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O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3"/>
                </a:solidFill>
                <a:latin typeface="Arial Black"/>
                <a:ea typeface="ＭＳ Ｐゴシック"/>
              </a:rPr>
              <a:t>Tomat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53"/>
                </a:solidFill>
                <a:latin typeface="Arial Black"/>
              </a:rPr>
              <a:t>Lett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 Different Kinds of Vege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715000" y="2743200"/>
          <a:ext cx="3429000" cy="3048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04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Italian (Whit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Parmesan Oreg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Honey O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Hearty Ital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Monterey Chedd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Italian Herb &amp; Che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Flatb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Deli Style Ro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53"/>
                          </a:solidFill>
                          <a:latin typeface="Arial Black"/>
                        </a:rPr>
                        <a:t>Wr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4" descr="Traditional Breads.jpg"/>
          <p:cNvPicPr/>
          <p:nvPr/>
        </p:nvPicPr>
        <p:blipFill>
          <a:blip r:embed="rId1"/>
          <a:stretch/>
        </p:blipFill>
        <p:spPr>
          <a:xfrm>
            <a:off x="304920" y="2438280"/>
            <a:ext cx="5029200" cy="36799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Different Kinds of B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033"/>
          <p:cNvSpPr/>
          <p:nvPr/>
        </p:nvSpPr>
        <p:spPr>
          <a:xfrm>
            <a:off x="762120" y="27432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49 Different 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34"/>
          <p:cNvSpPr/>
          <p:nvPr/>
        </p:nvSpPr>
        <p:spPr>
          <a:xfrm>
            <a:off x="4191120" y="2819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35"/>
          <p:cNvSpPr/>
          <p:nvPr/>
        </p:nvSpPr>
        <p:spPr>
          <a:xfrm>
            <a:off x="5486400" y="274320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3 Sandwiches a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36"/>
          <p:cNvSpPr/>
          <p:nvPr/>
        </p:nvSpPr>
        <p:spPr>
          <a:xfrm>
            <a:off x="1905120" y="4724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147 Decision Variabl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410080" y="2362320"/>
            <a:ext cx="3429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th these ingredients, there are 635,040 combinations of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finger_sandwiches_9_lg.jpg"/>
          <p:cNvPicPr/>
          <p:nvPr/>
        </p:nvPicPr>
        <p:blipFill>
          <a:blip r:embed="rId1"/>
          <a:stretch/>
        </p:blipFill>
        <p:spPr>
          <a:xfrm>
            <a:off x="380880" y="2133720"/>
            <a:ext cx="4724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676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nimize daily cal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88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21640" cy="2549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7"/>
          <p:cNvSpPr/>
          <p:nvPr/>
        </p:nvSpPr>
        <p:spPr>
          <a:xfrm>
            <a:off x="4114800" y="2286000"/>
            <a:ext cx="45720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676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tal fat is less than 60 grams per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88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216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177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type of meat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1038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79" name="Rectangle 1031"/>
            <p:cNvSpPr/>
            <p:nvPr/>
          </p:nvSpPr>
          <p:spPr>
            <a:xfrm>
              <a:off x="228600" y="2209680"/>
              <a:ext cx="28954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032"/>
            <p:cNvSpPr/>
            <p:nvPr/>
          </p:nvSpPr>
          <p:spPr>
            <a:xfrm>
              <a:off x="3124080" y="2209680"/>
              <a:ext cx="5867640" cy="685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033"/>
            <p:cNvSpPr/>
            <p:nvPr/>
          </p:nvSpPr>
          <p:spPr>
            <a:xfrm>
              <a:off x="5638680" y="2895480"/>
              <a:ext cx="33530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34"/>
            <p:cNvSpPr/>
            <p:nvPr/>
          </p:nvSpPr>
          <p:spPr>
            <a:xfrm>
              <a:off x="3124080" y="5715000"/>
              <a:ext cx="35053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035"/>
            <p:cNvSpPr/>
            <p:nvPr/>
          </p:nvSpPr>
          <p:spPr>
            <a:xfrm>
              <a:off x="609480" y="373392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Set these to binomial 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036"/>
            <p:cNvSpPr/>
            <p:nvPr/>
          </p:nvSpPr>
          <p:spPr>
            <a:xfrm>
              <a:off x="2286000" y="419112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type of cheese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553240" cy="307152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89" name="Rectangle 6"/>
            <p:cNvSpPr/>
            <p:nvPr/>
          </p:nvSpPr>
          <p:spPr>
            <a:xfrm>
              <a:off x="228600" y="2209680"/>
              <a:ext cx="571500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"/>
            <p:cNvSpPr/>
            <p:nvPr/>
          </p:nvSpPr>
          <p:spPr>
            <a:xfrm>
              <a:off x="3124080" y="2209680"/>
              <a:ext cx="58676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8"/>
            <p:cNvSpPr/>
            <p:nvPr/>
          </p:nvSpPr>
          <p:spPr>
            <a:xfrm>
              <a:off x="7238880" y="2895480"/>
              <a:ext cx="17528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3124080" y="5715000"/>
              <a:ext cx="419112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10"/>
            <p:cNvSpPr/>
            <p:nvPr/>
          </p:nvSpPr>
          <p:spPr>
            <a:xfrm>
              <a:off x="1523880" y="365760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akes sure that the cheese is used once a 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1"/>
            <p:cNvSpPr/>
            <p:nvPr/>
          </p:nvSpPr>
          <p:spPr>
            <a:xfrm>
              <a:off x="4648320" y="411480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condiment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8076960" cy="377820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199" name="Rectangle 6"/>
            <p:cNvSpPr/>
            <p:nvPr/>
          </p:nvSpPr>
          <p:spPr>
            <a:xfrm>
              <a:off x="228600" y="2209680"/>
              <a:ext cx="26668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2286000" y="2209680"/>
              <a:ext cx="670572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943600" y="2895480"/>
              <a:ext cx="304812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2438280" y="6095880"/>
              <a:ext cx="487692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6095880" y="33526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Makes sure that only one condiment is used per sandw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6172200" y="4572000"/>
              <a:ext cx="1295280" cy="129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6002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 bread type per sandw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944120" cy="372744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12"/>
          <p:cNvGrpSpPr/>
          <p:nvPr/>
        </p:nvGrpSpPr>
        <p:grpSpPr>
          <a:xfrm>
            <a:off x="228600" y="2209680"/>
            <a:ext cx="8763120" cy="4114800"/>
            <a:chOff x="228600" y="2209680"/>
            <a:chExt cx="8763120" cy="4114800"/>
          </a:xfrm>
        </p:grpSpPr>
        <p:sp>
          <p:nvSpPr>
            <p:cNvPr id="209" name="Rectangle 6"/>
            <p:cNvSpPr/>
            <p:nvPr/>
          </p:nvSpPr>
          <p:spPr>
            <a:xfrm>
              <a:off x="228600" y="2209680"/>
              <a:ext cx="2666880" cy="411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2286000" y="2209680"/>
              <a:ext cx="6705720" cy="762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8610480" y="2895480"/>
              <a:ext cx="381240" cy="3429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2438280" y="5410080"/>
              <a:ext cx="6400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0"/>
            <p:cNvSpPr/>
            <p:nvPr/>
          </p:nvSpPr>
          <p:spPr>
            <a:xfrm>
              <a:off x="380880" y="5486400"/>
              <a:ext cx="670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</a:rPr>
                <a:t>If solver picks a decision variable, the model automatically populates calories and fat cont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 flipV="1">
              <a:off x="7086600" y="5562720"/>
              <a:ext cx="6858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fter a year of MBA life consisting of drinking beer and eating pizza, we packed on a few extra 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21939959.FrodosPhotos081.jpg"/>
          <p:cNvPicPr/>
          <p:nvPr/>
        </p:nvPicPr>
        <p:blipFill>
          <a:blip r:embed="rId1"/>
          <a:stretch/>
        </p:blipFill>
        <p:spPr>
          <a:xfrm>
            <a:off x="5257800" y="3124080"/>
            <a:ext cx="339876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beerpizza.jpg"/>
          <p:cNvPicPr/>
          <p:nvPr/>
        </p:nvPicPr>
        <p:blipFill>
          <a:blip r:embed="rId2"/>
          <a:stretch/>
        </p:blipFill>
        <p:spPr>
          <a:xfrm>
            <a:off x="380880" y="320040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Right Arrow 6"/>
          <p:cNvSpPr/>
          <p:nvPr/>
        </p:nvSpPr>
        <p:spPr>
          <a:xfrm>
            <a:off x="3962520" y="3886200"/>
            <a:ext cx="990360" cy="53352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8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616200" cy="5139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6162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ontent Placeholder 2"/>
          <p:cNvSpPr/>
          <p:nvPr/>
        </p:nvSpPr>
        <p:spPr>
          <a:xfrm>
            <a:off x="609480" y="2514600"/>
            <a:ext cx="8153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urkey breast, Swiss cheese, yellow mustard, banana peppers, jalapeño peppers, tomatoes, hearty Italian b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190512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533520" y="2438280"/>
            <a:ext cx="81532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2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ast beef, provolone cheese, red wine vinaigrette, lettuce, onions, olives, white Italian b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ontent Placeholder 2"/>
          <p:cNvSpPr/>
          <p:nvPr/>
        </p:nvSpPr>
        <p:spPr>
          <a:xfrm>
            <a:off x="609480" y="2590920"/>
            <a:ext cx="8153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andwich 3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Ham, American cheese, vinegar, cucumbers, green peppers, pickles, deli style ro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15494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6868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895120" y="2666880"/>
            <a:ext cx="30481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b64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Barack Obama eating sandwich at SoGood blog(1).png"/>
          <p:cNvPicPr/>
          <p:nvPr/>
        </p:nvPicPr>
        <p:blipFill>
          <a:blip r:embed="rId1"/>
          <a:stretch/>
        </p:blipFill>
        <p:spPr>
          <a:xfrm>
            <a:off x="1981080" y="4838760"/>
            <a:ext cx="17431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9" descr="eat2.jpg"/>
          <p:cNvPicPr/>
          <p:nvPr/>
        </p:nvPicPr>
        <p:blipFill>
          <a:blip r:embed="rId2"/>
          <a:stretch/>
        </p:blipFill>
        <p:spPr>
          <a:xfrm>
            <a:off x="5257800" y="814320"/>
            <a:ext cx="182880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10" descr="dave sandwich.jpg"/>
          <p:cNvPicPr/>
          <p:nvPr/>
        </p:nvPicPr>
        <p:blipFill>
          <a:blip r:embed="rId3"/>
          <a:stretch/>
        </p:blipFill>
        <p:spPr>
          <a:xfrm>
            <a:off x="7086600" y="72864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eat3.jpg"/>
          <p:cNvPicPr/>
          <p:nvPr/>
        </p:nvPicPr>
        <p:blipFill>
          <a:blip r:embed="rId4"/>
          <a:stretch/>
        </p:blipFill>
        <p:spPr>
          <a:xfrm>
            <a:off x="152280" y="4915080"/>
            <a:ext cx="162576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13" descr="kerrywhiz.jpg"/>
          <p:cNvPicPr/>
          <p:nvPr/>
        </p:nvPicPr>
        <p:blipFill>
          <a:blip r:embed="rId5"/>
          <a:stretch/>
        </p:blipFill>
        <p:spPr>
          <a:xfrm>
            <a:off x="3809880" y="723960"/>
            <a:ext cx="1143000" cy="155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14" descr="hillaryc.jpg"/>
          <p:cNvPicPr/>
          <p:nvPr/>
        </p:nvPicPr>
        <p:blipFill>
          <a:blip r:embed="rId6"/>
          <a:stretch/>
        </p:blipFill>
        <p:spPr>
          <a:xfrm>
            <a:off x="152280" y="776160"/>
            <a:ext cx="133200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15" descr="eat4.jpg"/>
          <p:cNvPicPr/>
          <p:nvPr/>
        </p:nvPicPr>
        <p:blipFill>
          <a:blip r:embed="rId7"/>
          <a:stretch/>
        </p:blipFill>
        <p:spPr>
          <a:xfrm>
            <a:off x="3962520" y="4915080"/>
            <a:ext cx="162540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9" name="Picture 17" descr="eat6.jpg"/>
          <p:cNvPicPr/>
          <p:nvPr/>
        </p:nvPicPr>
        <p:blipFill>
          <a:blip r:embed="rId8"/>
          <a:stretch/>
        </p:blipFill>
        <p:spPr>
          <a:xfrm>
            <a:off x="5886360" y="4724280"/>
            <a:ext cx="12002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0" name="Picture 18" descr="paris_hilton eaing sandwich-after jail.jpg"/>
          <p:cNvPicPr/>
          <p:nvPr/>
        </p:nvPicPr>
        <p:blipFill>
          <a:blip r:embed="rId9"/>
          <a:stretch/>
        </p:blipFill>
        <p:spPr>
          <a:xfrm>
            <a:off x="7467480" y="4800600"/>
            <a:ext cx="14479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1" name="Picture 14" descr="spotlight-homer.gif"/>
          <p:cNvPicPr/>
          <p:nvPr/>
        </p:nvPicPr>
        <p:blipFill>
          <a:blip r:embed="rId10"/>
          <a:stretch/>
        </p:blipFill>
        <p:spPr>
          <a:xfrm>
            <a:off x="1981080" y="725400"/>
            <a:ext cx="1371600" cy="1551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nagerial Prob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 decided to create our own Subway diet after we were inspired by Jared Fogle, the Subway gu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8640" indent="-188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8600" indent="-15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07-Jared-Subway-Guy.jpg"/>
          <p:cNvPicPr/>
          <p:nvPr/>
        </p:nvPicPr>
        <p:blipFill>
          <a:blip r:embed="rId1"/>
          <a:stretch/>
        </p:blipFill>
        <p:spPr>
          <a:xfrm>
            <a:off x="3276720" y="3048120"/>
            <a:ext cx="1904760" cy="293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jared-fogle-before.jpg"/>
          <p:cNvPicPr/>
          <p:nvPr/>
        </p:nvPicPr>
        <p:blipFill>
          <a:blip r:embed="rId2"/>
          <a:stretch/>
        </p:blipFill>
        <p:spPr>
          <a:xfrm>
            <a:off x="2286000" y="2971800"/>
            <a:ext cx="3746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990720" y="251460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we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riety (3 different sandwi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st overall calori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the fa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190476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7086600" y="838080"/>
            <a:ext cx="1905120" cy="143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4267080" y="144792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0476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5"/>
          <a:stretch/>
        </p:blipFill>
        <p:spPr>
          <a:xfrm>
            <a:off x="5105520" y="4648320"/>
            <a:ext cx="1130040" cy="14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0020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ipe for a Sandwi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M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Che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Cond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 Veg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Bread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943600" y="3417840"/>
            <a:ext cx="218268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520" y="15998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600200" y="274320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90720" y="220968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ingredients of the sandwi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7432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3200400" y="2362320"/>
            <a:ext cx="2533680" cy="31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16" name="Group 37"/>
          <p:cNvGrpSpPr/>
          <p:nvPr/>
        </p:nvGrpSpPr>
        <p:grpSpPr>
          <a:xfrm>
            <a:off x="79560" y="2668680"/>
            <a:ext cx="8946360" cy="3566880"/>
            <a:chOff x="79560" y="2668680"/>
            <a:chExt cx="8946360" cy="3566880"/>
          </a:xfrm>
        </p:grpSpPr>
        <p:sp>
          <p:nvSpPr>
            <p:cNvPr id="117" name="Text Box 21"/>
            <p:cNvSpPr/>
            <p:nvPr/>
          </p:nvSpPr>
          <p:spPr>
            <a:xfrm>
              <a:off x="6349680" y="5867280"/>
              <a:ext cx="179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Roast 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13840" y="2897280"/>
              <a:ext cx="126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Egg Pat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3"/>
            <p:cNvSpPr/>
            <p:nvPr/>
          </p:nvSpPr>
          <p:spPr>
            <a:xfrm>
              <a:off x="1091160" y="3583080"/>
              <a:ext cx="181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Chicken Stri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4"/>
            <p:cNvSpPr/>
            <p:nvPr/>
          </p:nvSpPr>
          <p:spPr>
            <a:xfrm>
              <a:off x="7218720" y="3354480"/>
              <a:ext cx="113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Cold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5"/>
            <p:cNvSpPr/>
            <p:nvPr/>
          </p:nvSpPr>
          <p:spPr>
            <a:xfrm>
              <a:off x="5885640" y="3278160"/>
              <a:ext cx="71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H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6"/>
            <p:cNvSpPr/>
            <p:nvPr/>
          </p:nvSpPr>
          <p:spPr>
            <a:xfrm>
              <a:off x="7528320" y="404028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Italian B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7"/>
            <p:cNvSpPr/>
            <p:nvPr/>
          </p:nvSpPr>
          <p:spPr>
            <a:xfrm>
              <a:off x="340200" y="4954680"/>
              <a:ext cx="119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Meatb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498600" y="5791320"/>
              <a:ext cx="228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eafood Sen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6098400" y="47260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Roast Be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0"/>
            <p:cNvSpPr/>
            <p:nvPr/>
          </p:nvSpPr>
          <p:spPr>
            <a:xfrm>
              <a:off x="5757840" y="396396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t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1"/>
            <p:cNvSpPr/>
            <p:nvPr/>
          </p:nvSpPr>
          <p:spPr>
            <a:xfrm>
              <a:off x="79560" y="419256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ubway Cl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2"/>
            <p:cNvSpPr/>
            <p:nvPr/>
          </p:nvSpPr>
          <p:spPr>
            <a:xfrm>
              <a:off x="7950960" y="502920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Tu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3"/>
            <p:cNvSpPr/>
            <p:nvPr/>
          </p:nvSpPr>
          <p:spPr>
            <a:xfrm>
              <a:off x="6866640" y="2668680"/>
              <a:ext cx="177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Turkey Bre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34"/>
            <p:cNvSpPr/>
            <p:nvPr/>
          </p:nvSpPr>
          <p:spPr>
            <a:xfrm>
              <a:off x="3886920" y="586728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Veggie Pat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"/>
          <p:cNvSpPr/>
          <p:nvPr/>
        </p:nvSpPr>
        <p:spPr>
          <a:xfrm>
            <a:off x="30492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4 Different Kinds of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1046"/>
          <p:cNvGrpSpPr/>
          <p:nvPr/>
        </p:nvGrpSpPr>
        <p:grpSpPr>
          <a:xfrm>
            <a:off x="77040" y="2590920"/>
            <a:ext cx="8774280" cy="3490920"/>
            <a:chOff x="77040" y="2590920"/>
            <a:chExt cx="8774280" cy="3490920"/>
          </a:xfrm>
        </p:grpSpPr>
        <p:sp>
          <p:nvSpPr>
            <p:cNvPr id="134" name="Text Box 1029"/>
            <p:cNvSpPr/>
            <p:nvPr/>
          </p:nvSpPr>
          <p:spPr>
            <a:xfrm>
              <a:off x="6665400" y="5256360"/>
              <a:ext cx="15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Pepper J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30"/>
            <p:cNvSpPr/>
            <p:nvPr/>
          </p:nvSpPr>
          <p:spPr>
            <a:xfrm>
              <a:off x="201600" y="2819520"/>
              <a:ext cx="12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Americ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034"/>
            <p:cNvSpPr/>
            <p:nvPr/>
          </p:nvSpPr>
          <p:spPr>
            <a:xfrm>
              <a:off x="7512480" y="3962520"/>
              <a:ext cx="13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Provol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036"/>
            <p:cNvSpPr/>
            <p:nvPr/>
          </p:nvSpPr>
          <p:spPr>
            <a:xfrm>
              <a:off x="449280" y="5713560"/>
              <a:ext cx="20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Natural Ched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039"/>
            <p:cNvSpPr/>
            <p:nvPr/>
          </p:nvSpPr>
          <p:spPr>
            <a:xfrm>
              <a:off x="77040" y="411480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Monterey Chedd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41"/>
            <p:cNvSpPr/>
            <p:nvPr/>
          </p:nvSpPr>
          <p:spPr>
            <a:xfrm>
              <a:off x="6841440" y="25909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3d"/>
                  </a:solidFill>
                  <a:latin typeface="Arial Black"/>
                </a:rPr>
                <a:t>Swi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 Different Kinds of Che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cheese.jpg"/>
          <p:cNvPicPr/>
          <p:nvPr/>
        </p:nvPicPr>
        <p:blipFill>
          <a:blip r:embed="rId1"/>
          <a:stretch/>
        </p:blipFill>
        <p:spPr>
          <a:xfrm>
            <a:off x="2743200" y="2819520"/>
            <a:ext cx="3571920" cy="25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9"/>
          <p:cNvGrpSpPr/>
          <p:nvPr/>
        </p:nvGrpSpPr>
        <p:grpSpPr>
          <a:xfrm>
            <a:off x="2895480" y="2133720"/>
            <a:ext cx="6553080" cy="4073040"/>
            <a:chOff x="2895480" y="2133720"/>
            <a:chExt cx="6553080" cy="4073040"/>
          </a:xfrm>
        </p:grpSpPr>
        <p:pic>
          <p:nvPicPr>
            <p:cNvPr id="143" name="Picture 4" descr="condimentsBall.jpg"/>
            <p:cNvPicPr/>
            <p:nvPr/>
          </p:nvPicPr>
          <p:blipFill>
            <a:blip r:embed="rId1"/>
            <a:stretch/>
          </p:blipFill>
          <p:spPr>
            <a:xfrm>
              <a:off x="2895480" y="2209680"/>
              <a:ext cx="6553080" cy="39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16"/>
            <p:cNvSpPr/>
            <p:nvPr/>
          </p:nvSpPr>
          <p:spPr>
            <a:xfrm>
              <a:off x="4114800" y="2133720"/>
              <a:ext cx="365760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7"/>
            <p:cNvSpPr/>
            <p:nvPr/>
          </p:nvSpPr>
          <p:spPr>
            <a:xfrm>
              <a:off x="5105160" y="2438280"/>
              <a:ext cx="2590920" cy="10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8"/>
            <p:cNvSpPr/>
            <p:nvPr/>
          </p:nvSpPr>
          <p:spPr>
            <a:xfrm>
              <a:off x="5790960" y="2286000"/>
              <a:ext cx="2590920" cy="6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7" name=""/>
          <p:cNvGraphicFramePr/>
          <p:nvPr/>
        </p:nvGraphicFramePr>
        <p:xfrm>
          <a:off x="152280" y="2819520"/>
          <a:ext cx="3581640" cy="2819160"/>
        </p:xfrm>
        <a:graphic>
          <a:graphicData uri="http://schemas.openxmlformats.org/drawingml/2006/table">
            <a:tbl>
              <a:tblPr/>
              <a:tblGrid>
                <a:gridCol w="3581640"/>
              </a:tblGrid>
              <a:tr h="281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Chipotle Southwest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Honey Mustard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Light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Mayonna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Mustard Yellow or Deli 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Olive Oil Ble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Ranch Dress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Red Wine Vinaigret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Sweet Onion Sa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4e"/>
                          </a:solidFill>
                          <a:latin typeface="Arial Black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Rectangle 25"/>
          <p:cNvSpPr/>
          <p:nvPr/>
        </p:nvSpPr>
        <p:spPr>
          <a:xfrm>
            <a:off x="1295280" y="502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cision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04920" y="16765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 Different Kinds of Con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36:47Z</dcterms:created>
  <dc:creator>Admin</dc:creator>
  <dc:description/>
  <dc:language>en-US</dc:language>
  <cp:lastModifiedBy>Admin</cp:lastModifiedBy>
  <dcterms:modified xsi:type="dcterms:W3CDTF">2008-11-24T17:32:31Z</dcterms:modified>
  <cp:revision>69</cp:revision>
  <dc:subject/>
  <dc:title>The Subway Diet November 24, 2008</dc:title>
</cp:coreProperties>
</file>