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png" ContentType="image/png"/>
  <Override PartName="/ppt/media/image33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4DEA8-CD61-4815-9665-5DC37240CA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D8FE6-AB19-4D39-B57C-FA41C7CD1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41256-470F-4623-9109-2A134B61E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14F9-FDCA-42BB-AD6D-0AA0CEF0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CD9-BFA1-4E08-9A50-DED31251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CFE-76BC-4225-8B28-DA320F2D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EA5-B8F9-42BA-A24D-0B21067E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6A00-284D-40D8-AB3E-FE14E90F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82D5-31D9-4EB1-8C08-D53C54D2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FD7F-4B3D-4B36-9366-44C69EF6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71FA-04CF-4810-9FF1-6B3D2212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87DF-B9D9-485C-A7DD-5E8F1FCE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6D4E-0831-4ECD-81F8-08A088A1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8666-7DE4-4F45-81A5-57AE29E5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58A-FD03-4B22-BF3A-9D202BCB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CDA0-68F9-4E72-8544-6D6F6858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F68D-1AFC-44AF-AB2A-48C80001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8288-9A49-4263-BE24-EFB5649B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EFE2-F9E2-4FD2-AA3F-5181F942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B2DC-5785-4DA1-BB61-4F9B2CEB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F2450-822D-4C63-889A-7A3A25C0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7A5DC-921A-445A-88B9-8EC1CD0B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3CFA7-5CF4-4734-8120-2B2ECC53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352F7-4CC1-48BF-901E-1D7C0BF0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EC25F-73CF-4318-A367-E0F09298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4E5-633F-49F6-973F-EE7E657C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9D5F9-3D84-4D30-BA93-85AE9ED5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19181-F045-4B83-9C98-BA76E3CB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07FAC-0C5C-48E3-990E-CEA9F135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A9BE9-8CE5-4934-912C-97AE5FF6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1FF4B-2FD3-470A-8DFD-F0701335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79EBE-1F39-47E0-9B6F-DF2776E1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AA251-36E4-4B76-B97B-F937C572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555AD-32EC-4C15-ADA3-75C05FD1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05813-037E-4DAE-AC76-E8A7881F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6E4AC-971D-416F-BE12-78BC4948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05E7-B050-4D9A-A6D0-3A2890F2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E0FD6-DE98-4598-AA41-0BB0C084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D323A-09B5-44EF-AAC4-4798629B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FE94E-15E8-43A2-AD83-9ECEF516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0FD5B-9371-450B-8419-BB61F7B5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9904-67B2-42C5-A1D4-782D7DA4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7A273-2AE2-4373-8A19-991AD75E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C250E-BCF2-4CDA-B123-0EAF798F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2A919-A70B-4C65-ADF1-8729B0B3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80D71-B589-43AD-AFFE-C3556A14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4E635A-75A1-435C-8EF7-DEBF0339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73B-171F-402D-B589-8FC70F37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DBC663-4EDA-4BE9-A2D6-6B18ED33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5C999-6C40-431E-812C-936D0158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96AB6-4D0C-4BAB-B7FC-FAF58C3E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0A708-2416-4E0B-9E74-9197DABF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73866-4CD2-41F7-BC23-B128912D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9A302-1FF6-4130-BFC6-2526AC4C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3A8A34-BB7D-4FFF-961F-26AF4E86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6943F0-B829-44EA-911F-35AC9399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B1377-95A5-400E-BF63-9846014B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CE16A-F5EF-4A46-AD85-5BA1639D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EDD-244A-4E87-81CB-1314C7AC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32AC1-0843-4B85-BF53-A8FD1EAD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B65CA8-4F9E-4923-BE10-B5A6FB17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0C915A-A04E-4411-AF18-8F567FC3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A520D-A34B-42F8-BB41-89AF8A97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2EE41-731B-4824-BE5A-53385BC0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CD3228-60CD-450F-9058-D1AB8A46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C211A-5C22-46C0-9AFD-5FDC4C89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D90D6-A613-4183-B55C-00EC88DB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C2986-DC1B-4C16-9968-14A78D80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CE669F-62B2-4150-A0BB-01F12F0F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0B3-D757-4147-A4BD-C81F0FDF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D29289-6BFC-47A9-92B6-4FC2A5A6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E16EE-CCEB-44D4-B944-7870FDBB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05D83-83A1-48A4-91A3-09586D05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68B40-297B-4BFD-A74C-431FADFF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F1C221-7EB9-4DB6-B0C0-77CF1474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8F101B-9395-4817-AFDC-2751AF44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756F6-8852-4DB7-B1CC-57DAE03D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EA8AC7-3FD2-481A-8FE3-7598ACAA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7F9F7F-3366-4C2B-88C8-487AD4F2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D56888-B116-427C-856A-70126937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7840-8AB7-43D2-A0D2-453CE512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CDC3A2-1B26-4D30-9029-1EE390D2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48C0EC-B9F6-49A9-82CD-94EF0B74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727588-FA7D-46C3-BB6B-AE1A109F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B5E7D8-E58A-44B2-84FE-4A1DA394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A3847D-55F8-4BA7-8CAF-3C448E96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68F-6563-4449-BF13-854F1EAC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C05FF-F4F4-43E3-A110-4824A7C0B7B7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600EB-EE97-4211-8557-3E05E44F2D5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8EED9-28F2-4563-AE87-4AE79DC779F9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342C1-8439-441E-91BE-43478F1CBFB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8BF7C-9106-4502-B5B3-DF4FA387CE76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2C92F-AAB3-4EC1-8056-33C397BA472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BDB9F-B3C1-453E-B08F-478FD2AAB165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FFDE0-5C5B-455F-BCF7-73F26F2B939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60DC5-D77B-41B4-B877-C8D8D5C2FF84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3306D-7012-4556-AC41-CE0F1A64081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04464-5C75-4DF8-9865-9EA47DF61BC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34748-72EF-4D28-BEF7-1AB38C7F1B1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8A070-49CA-4C0C-94E6-57252FFE8C44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A0794-85CA-4910-B409-AC88E1E6E08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NDEAN REGION PRODUCTION PLA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antiago Arambula, Helvecio Borges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ondon Davies and Diana Espi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LUTION 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Text Placeholder 4"/>
          <p:cNvSpPr/>
          <p:nvPr/>
        </p:nvSpPr>
        <p:spPr>
          <a:xfrm>
            <a:off x="457200" y="99072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ecision Variables and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6" descr=""/>
          <p:cNvPicPr/>
          <p:nvPr/>
        </p:nvPicPr>
        <p:blipFill>
          <a:blip r:embed="rId1"/>
          <a:srcRect l="4430" t="0" r="6961" b="0"/>
          <a:stretch/>
        </p:blipFill>
        <p:spPr>
          <a:xfrm>
            <a:off x="152280" y="1981080"/>
            <a:ext cx="8001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LUTION 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Text Placeholder 4"/>
          <p:cNvSpPr/>
          <p:nvPr/>
        </p:nvSpPr>
        <p:spPr>
          <a:xfrm>
            <a:off x="457200" y="99072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Objectiv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5" descr=""/>
          <p:cNvPicPr/>
          <p:nvPr/>
        </p:nvPicPr>
        <p:blipFill>
          <a:blip r:embed="rId1"/>
          <a:srcRect l="2791" t="0" r="0" b="0"/>
          <a:stretch/>
        </p:blipFill>
        <p:spPr>
          <a:xfrm>
            <a:off x="152280" y="1828800"/>
            <a:ext cx="7963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457200" y="3044880"/>
            <a:ext cx="6972480" cy="3048120"/>
          </a:xfrm>
          <a:prstGeom prst="rect">
            <a:avLst/>
          </a:prstGeom>
          <a:ln w="0">
            <a:noFill/>
          </a:ln>
        </p:spPr>
      </p:pic>
      <p:sp>
        <p:nvSpPr>
          <p:cNvPr id="444" name="TextBox 4"/>
          <p:cNvSpPr/>
          <p:nvPr/>
        </p:nvSpPr>
        <p:spPr>
          <a:xfrm>
            <a:off x="457200" y="1600200"/>
            <a:ext cx="77724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sed on current demand, Kellogg’s should use the following production 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Placeholder 4"/>
          <p:cNvSpPr/>
          <p:nvPr/>
        </p:nvSpPr>
        <p:spPr>
          <a:xfrm>
            <a:off x="457200" y="99072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Optimal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SUL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NSITIVITY ANALY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cenario 1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ogenization of taste in the Andean Reg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reased demand for RK in Ecuad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Text Placeholder 4"/>
          <p:cNvSpPr/>
          <p:nvPr/>
        </p:nvSpPr>
        <p:spPr>
          <a:xfrm>
            <a:off x="533520" y="162720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dapting to changes in dem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1: RICE KRISPI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1" name="Content Placeholder 3" descr=""/>
          <p:cNvPicPr/>
          <p:nvPr/>
        </p:nvPicPr>
        <p:blipFill>
          <a:blip r:embed="rId1"/>
          <a:stretch/>
        </p:blipFill>
        <p:spPr>
          <a:xfrm>
            <a:off x="444600" y="822240"/>
            <a:ext cx="79502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1: CORN FLAK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3" name="Content Placeholder 5" descr=""/>
          <p:cNvPicPr/>
          <p:nvPr/>
        </p:nvPicPr>
        <p:blipFill>
          <a:blip r:embed="rId1"/>
          <a:stretch/>
        </p:blipFill>
        <p:spPr>
          <a:xfrm>
            <a:off x="444600" y="890640"/>
            <a:ext cx="7956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1: UNIT COST VARIA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5" name="Content Placeholder 4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NSITIVITY ANALY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cenario 2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ogenization of taste in the Andean Reg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reased demand for RK in Venezuel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Text Placeholder 4"/>
          <p:cNvSpPr/>
          <p:nvPr/>
        </p:nvSpPr>
        <p:spPr>
          <a:xfrm>
            <a:off x="533520" y="162720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dapting to changes in dem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2: RICE KRISPI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0" name="Content Placeholder 5" descr=""/>
          <p:cNvPicPr/>
          <p:nvPr/>
        </p:nvPicPr>
        <p:blipFill>
          <a:blip r:embed="rId1"/>
          <a:stretch/>
        </p:blipFill>
        <p:spPr>
          <a:xfrm>
            <a:off x="444600" y="82224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2: CORN FLAK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2" name="Content Placeholder 4" descr=""/>
          <p:cNvPicPr/>
          <p:nvPr/>
        </p:nvPicPr>
        <p:blipFill>
          <a:blip r:embed="rId1"/>
          <a:stretch/>
        </p:blipFill>
        <p:spPr>
          <a:xfrm>
            <a:off x="444600" y="82224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4" descr=""/>
          <p:cNvPicPr/>
          <p:nvPr/>
        </p:nvPicPr>
        <p:blipFill>
          <a:blip r:embed="rId1"/>
          <a:stretch/>
        </p:blipFill>
        <p:spPr>
          <a:xfrm>
            <a:off x="76320" y="1422360"/>
            <a:ext cx="652320" cy="6350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OCE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Content Placeholder 4" descr=""/>
          <p:cNvPicPr/>
          <p:nvPr/>
        </p:nvPicPr>
        <p:blipFill>
          <a:blip r:embed="rId2"/>
          <a:stretch/>
        </p:blipFill>
        <p:spPr>
          <a:xfrm>
            <a:off x="396720" y="907920"/>
            <a:ext cx="3778560" cy="4584960"/>
          </a:xfrm>
          <a:prstGeom prst="rect">
            <a:avLst/>
          </a:prstGeom>
          <a:ln w="0">
            <a:noFill/>
          </a:ln>
        </p:spPr>
      </p:pic>
      <p:pic>
        <p:nvPicPr>
          <p:cNvPr id="364" name="Content Placeholder 5" descr=""/>
          <p:cNvPicPr/>
          <p:nvPr/>
        </p:nvPicPr>
        <p:blipFill>
          <a:blip r:embed="rId3"/>
          <a:stretch/>
        </p:blipFill>
        <p:spPr>
          <a:xfrm>
            <a:off x="4896000" y="907920"/>
            <a:ext cx="3771720" cy="4584960"/>
          </a:xfrm>
          <a:prstGeom prst="rect">
            <a:avLst/>
          </a:prstGeom>
          <a:ln w="0">
            <a:noFill/>
          </a:ln>
        </p:spPr>
      </p:pic>
      <p:grpSp>
        <p:nvGrpSpPr>
          <p:cNvPr id="365" name="Group 6"/>
          <p:cNvGrpSpPr/>
          <p:nvPr/>
        </p:nvGrpSpPr>
        <p:grpSpPr>
          <a:xfrm>
            <a:off x="4554360" y="2971800"/>
            <a:ext cx="322560" cy="378000"/>
            <a:chOff x="4554360" y="2971800"/>
            <a:chExt cx="322560" cy="378000"/>
          </a:xfrm>
        </p:grpSpPr>
        <p:grpSp>
          <p:nvGrpSpPr>
            <p:cNvPr id="366" name="Right Arrow 7"/>
            <p:cNvGrpSpPr/>
            <p:nvPr/>
          </p:nvGrpSpPr>
          <p:grpSpPr>
            <a:xfrm>
              <a:off x="4554360" y="2971800"/>
              <a:ext cx="322560" cy="378000"/>
              <a:chOff x="4554360" y="2971800"/>
              <a:chExt cx="322560" cy="378000"/>
            </a:xfrm>
          </p:grpSpPr>
          <p:pic>
            <p:nvPicPr>
              <p:cNvPr id="367" name="Right Arrow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554360" y="2971800"/>
                <a:ext cx="32256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99000" y="3058920"/>
                <a:ext cx="16344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Right Arrow 4"/>
            <p:cNvSpPr/>
            <p:nvPr/>
          </p:nvSpPr>
          <p:spPr>
            <a:xfrm>
              <a:off x="4599000" y="3059280"/>
              <a:ext cx="1634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Picture 9" descr=""/>
          <p:cNvPicPr/>
          <p:nvPr/>
        </p:nvPicPr>
        <p:blipFill>
          <a:blip r:embed="rId5"/>
          <a:stretch/>
        </p:blipFill>
        <p:spPr>
          <a:xfrm>
            <a:off x="1498680" y="3505320"/>
            <a:ext cx="635040" cy="5205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"/>
          <p:cNvPicPr/>
          <p:nvPr/>
        </p:nvPicPr>
        <p:blipFill>
          <a:blip r:embed="rId6"/>
          <a:stretch/>
        </p:blipFill>
        <p:spPr>
          <a:xfrm>
            <a:off x="5943600" y="3429000"/>
            <a:ext cx="635040" cy="5205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"/>
          <p:cNvPicPr/>
          <p:nvPr/>
        </p:nvPicPr>
        <p:blipFill>
          <a:blip r:embed="rId7"/>
          <a:stretch/>
        </p:blipFill>
        <p:spPr>
          <a:xfrm>
            <a:off x="5292720" y="4762440"/>
            <a:ext cx="650880" cy="990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"/>
          <p:cNvPicPr/>
          <p:nvPr/>
        </p:nvPicPr>
        <p:blipFill>
          <a:blip r:embed="rId8"/>
          <a:stretch/>
        </p:blipFill>
        <p:spPr>
          <a:xfrm>
            <a:off x="5292720" y="838080"/>
            <a:ext cx="650880" cy="8780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4" descr="cornIcon.gif"/>
          <p:cNvPicPr/>
          <p:nvPr/>
        </p:nvPicPr>
        <p:blipFill>
          <a:blip r:embed="rId9"/>
          <a:stretch/>
        </p:blipFill>
        <p:spPr>
          <a:xfrm>
            <a:off x="1219320" y="1523880"/>
            <a:ext cx="415800" cy="439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"/>
          <p:cNvPicPr/>
          <p:nvPr/>
        </p:nvPicPr>
        <p:blipFill>
          <a:blip r:embed="rId10"/>
          <a:stretch/>
        </p:blipFill>
        <p:spPr>
          <a:xfrm>
            <a:off x="228600" y="4724280"/>
            <a:ext cx="880920" cy="650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"/>
          <p:cNvPicPr/>
          <p:nvPr/>
        </p:nvPicPr>
        <p:blipFill>
          <a:blip r:embed="rId11"/>
          <a:stretch/>
        </p:blipFill>
        <p:spPr>
          <a:xfrm>
            <a:off x="1171440" y="475308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2: UNIT COST VARIATION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4" name="Content Placeholder 4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NSITIVITY ANALY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cenario 3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olitical issues in Venezuel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ed productivity (to 30%) and unstab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lombia and Ecuador Supply to Meet Venezuela demand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Text Placeholder 4"/>
          <p:cNvSpPr/>
          <p:nvPr/>
        </p:nvSpPr>
        <p:spPr>
          <a:xfrm>
            <a:off x="533520" y="162720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dapting to changes in capacity and dem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3: RICE KRISPI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9" name="Content Placeholder 3" descr=""/>
          <p:cNvPicPr/>
          <p:nvPr/>
        </p:nvPicPr>
        <p:blipFill>
          <a:blip r:embed="rId1"/>
          <a:stretch/>
        </p:blipFill>
        <p:spPr>
          <a:xfrm>
            <a:off x="444600" y="82224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3: CORN FLAKES PRODU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1" name="Content Placeholder 5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3: UNIT COST VARIATION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3" name="Content Placeholder 5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NSITIVITY ANALY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cenario 4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olitical issues in Venezuel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stable  productivity in Venezuela with stable dem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lombia and Ecuador Supply to Meet Venezuela demand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Text Placeholder 4"/>
          <p:cNvSpPr/>
          <p:nvPr/>
        </p:nvSpPr>
        <p:spPr>
          <a:xfrm>
            <a:off x="533520" y="162720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dapting to changes in capacit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4: RICE KRISPI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8" name="Content Placeholder 5" descr=""/>
          <p:cNvPicPr/>
          <p:nvPr/>
        </p:nvPicPr>
        <p:blipFill>
          <a:blip r:embed="rId1"/>
          <a:stretch/>
        </p:blipFill>
        <p:spPr>
          <a:xfrm>
            <a:off x="444600" y="82224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4: CORN FLAKES PRODU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0" name="Content Placeholder 4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4: UNIT COST VARIATION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2" name="Content Placeholder 4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QUESTIONS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4" name="Picture 7" descr="haan_cornelius.jpg"/>
          <p:cNvPicPr/>
          <p:nvPr/>
        </p:nvPicPr>
        <p:blipFill>
          <a:blip r:embed="rId1"/>
          <a:stretch/>
        </p:blipFill>
        <p:spPr>
          <a:xfrm>
            <a:off x="609480" y="2933640"/>
            <a:ext cx="18162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61"/>
          <p:cNvGrpSpPr/>
          <p:nvPr/>
        </p:nvGrpSpPr>
        <p:grpSpPr>
          <a:xfrm>
            <a:off x="270000" y="685800"/>
            <a:ext cx="5895720" cy="5334120"/>
            <a:chOff x="270000" y="685800"/>
            <a:chExt cx="5895720" cy="5334120"/>
          </a:xfrm>
        </p:grpSpPr>
        <p:grpSp>
          <p:nvGrpSpPr>
            <p:cNvPr id="378" name="Freeform 57"/>
            <p:cNvGrpSpPr/>
            <p:nvPr/>
          </p:nvGrpSpPr>
          <p:grpSpPr>
            <a:xfrm>
              <a:off x="794520" y="685800"/>
              <a:ext cx="3439800" cy="5149800"/>
              <a:chOff x="794520" y="685800"/>
              <a:chExt cx="3439800" cy="5149800"/>
            </a:xfrm>
          </p:grpSpPr>
          <p:pic>
            <p:nvPicPr>
              <p:cNvPr id="379" name="Freeform 57" descr=""/>
              <p:cNvPicPr/>
              <p:nvPr/>
            </p:nvPicPr>
            <p:blipFill>
              <a:blip r:embed="rId1"/>
              <a:stretch/>
            </p:blipFill>
            <p:spPr>
              <a:xfrm>
                <a:off x="794520" y="685800"/>
                <a:ext cx="3439800" cy="514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"/>
              <p:cNvSpPr/>
              <p:nvPr/>
            </p:nvSpPr>
            <p:spPr>
              <a:xfrm>
                <a:off x="862920" y="736200"/>
                <a:ext cx="3311280" cy="50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Freeform 64"/>
            <p:cNvGrpSpPr/>
            <p:nvPr/>
          </p:nvGrpSpPr>
          <p:grpSpPr>
            <a:xfrm>
              <a:off x="270000" y="4010040"/>
              <a:ext cx="1686960" cy="2009880"/>
              <a:chOff x="270000" y="4010040"/>
              <a:chExt cx="1686960" cy="2009880"/>
            </a:xfrm>
          </p:grpSpPr>
          <p:pic>
            <p:nvPicPr>
              <p:cNvPr id="382" name="Freeform 64" descr=""/>
              <p:cNvPicPr/>
              <p:nvPr/>
            </p:nvPicPr>
            <p:blipFill>
              <a:blip r:embed="rId2"/>
              <a:stretch/>
            </p:blipFill>
            <p:spPr>
              <a:xfrm>
                <a:off x="270000" y="4010040"/>
                <a:ext cx="1686960" cy="200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336960" y="4056840"/>
                <a:ext cx="1557360" cy="18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6000"/>
                  </a:lnSpc>
                  <a:buClr>
                    <a:srgbClr val="ffffff"/>
                  </a:buClr>
                  <a:buFont typeface="Wingdings 2" charset="2"/>
                  <a:buChar char="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Freeform 156"/>
            <p:cNvGrpSpPr/>
            <p:nvPr/>
          </p:nvGrpSpPr>
          <p:grpSpPr>
            <a:xfrm>
              <a:off x="5414760" y="1203120"/>
              <a:ext cx="399240" cy="326880"/>
              <a:chOff x="5414760" y="1203120"/>
              <a:chExt cx="399240" cy="326880"/>
            </a:xfrm>
          </p:grpSpPr>
          <p:pic>
            <p:nvPicPr>
              <p:cNvPr id="385" name="Freeform 156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4760" y="1203120"/>
                <a:ext cx="399240" cy="32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5483880" y="1253520"/>
                <a:ext cx="268200" cy="19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6000"/>
                  </a:lnSpc>
                  <a:buClr>
                    <a:srgbClr val="ffffff"/>
                  </a:buClr>
                  <a:buFont typeface="Wingdings 2" charset="2"/>
                  <a:buChar char="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Freeform 175"/>
            <p:cNvGrpSpPr/>
            <p:nvPr/>
          </p:nvGrpSpPr>
          <p:grpSpPr>
            <a:xfrm>
              <a:off x="2350440" y="721440"/>
              <a:ext cx="3815280" cy="3615480"/>
              <a:chOff x="2350440" y="721440"/>
              <a:chExt cx="3815280" cy="3615480"/>
            </a:xfrm>
          </p:grpSpPr>
          <p:pic>
            <p:nvPicPr>
              <p:cNvPr id="388" name="Freeform 175" descr=""/>
              <p:cNvPicPr/>
              <p:nvPr/>
            </p:nvPicPr>
            <p:blipFill>
              <a:blip r:embed="rId4"/>
              <a:stretch/>
            </p:blipFill>
            <p:spPr>
              <a:xfrm>
                <a:off x="2350440" y="721440"/>
                <a:ext cx="3815280" cy="361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2420280" y="767160"/>
                <a:ext cx="3682440" cy="348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 rot="5400000">
            <a:off x="3350880" y="3200400"/>
            <a:ext cx="630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AREA MAP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765840" y="264960"/>
            <a:ext cx="152424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Factories: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onsumers’ Country: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Supplies: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Locally priced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Products: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650880" cy="990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"/>
          <p:cNvPicPr/>
          <p:nvPr/>
        </p:nvPicPr>
        <p:blipFill>
          <a:blip r:embed="rId6"/>
          <a:stretch/>
        </p:blipFill>
        <p:spPr>
          <a:xfrm>
            <a:off x="6934320" y="5410080"/>
            <a:ext cx="650880" cy="878040"/>
          </a:xfrm>
          <a:prstGeom prst="rect">
            <a:avLst/>
          </a:prstGeom>
          <a:ln w="0">
            <a:noFill/>
          </a:ln>
        </p:spPr>
      </p:pic>
      <p:sp>
        <p:nvSpPr>
          <p:cNvPr id="394" name="Freeform 53"/>
          <p:cNvSpPr/>
          <p:nvPr/>
        </p:nvSpPr>
        <p:spPr>
          <a:xfrm>
            <a:off x="2760840" y="5862600"/>
            <a:ext cx="41040" cy="20520"/>
          </a:xfrm>
          <a:prstGeom prst="pie">
            <a:avLst/>
          </a:prstGeom>
          <a:solidFill>
            <a:srgbClr val="575f6d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lnSpc>
                <a:spcPct val="106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66"/>
          <p:cNvSpPr/>
          <p:nvPr/>
        </p:nvSpPr>
        <p:spPr>
          <a:xfrm>
            <a:off x="3059280" y="5645160"/>
            <a:ext cx="66600" cy="36360"/>
          </a:xfrm>
          <a:prstGeom prst="pie">
            <a:avLst/>
          </a:prstGeom>
          <a:solidFill>
            <a:srgbClr val="575f6d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lnSpc>
                <a:spcPct val="106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48"/>
          <p:cNvSpPr/>
          <p:nvPr/>
        </p:nvSpPr>
        <p:spPr>
          <a:xfrm>
            <a:off x="2521080" y="5770440"/>
            <a:ext cx="58680" cy="36720"/>
          </a:xfrm>
          <a:prstGeom prst="pie">
            <a:avLst/>
          </a:prstGeom>
          <a:solidFill>
            <a:srgbClr val="575f6d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lnSpc>
                <a:spcPct val="106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62"/>
          <p:cNvSpPr/>
          <p:nvPr/>
        </p:nvSpPr>
        <p:spPr>
          <a:xfrm>
            <a:off x="4136400" y="168120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ra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63"/>
          <p:cNvSpPr/>
          <p:nvPr/>
        </p:nvSpPr>
        <p:spPr>
          <a:xfrm>
            <a:off x="2420640" y="342900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4"/>
          <p:cNvSpPr/>
          <p:nvPr/>
        </p:nvSpPr>
        <p:spPr>
          <a:xfrm>
            <a:off x="246960" y="548640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uayaqu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66"/>
          <p:cNvSpPr/>
          <p:nvPr/>
        </p:nvSpPr>
        <p:spPr>
          <a:xfrm flipH="1" flipV="1">
            <a:off x="4191120" y="1295280"/>
            <a:ext cx="102960" cy="15264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67"/>
          <p:cNvSpPr/>
          <p:nvPr/>
        </p:nvSpPr>
        <p:spPr>
          <a:xfrm flipH="1" flipV="1">
            <a:off x="1294920" y="3123720"/>
            <a:ext cx="1613160" cy="180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4" descr="cornIcon.gif"/>
          <p:cNvPicPr/>
          <p:nvPr/>
        </p:nvPicPr>
        <p:blipFill>
          <a:blip r:embed="rId7"/>
          <a:stretch/>
        </p:blipFill>
        <p:spPr>
          <a:xfrm>
            <a:off x="1870200" y="2438280"/>
            <a:ext cx="415800" cy="439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6" descr="cornIcon.gif"/>
          <p:cNvPicPr/>
          <p:nvPr/>
        </p:nvPicPr>
        <p:blipFill>
          <a:blip r:embed="rId8"/>
          <a:stretch/>
        </p:blipFill>
        <p:spPr>
          <a:xfrm>
            <a:off x="3429000" y="1752480"/>
            <a:ext cx="415800" cy="439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8" descr="factory.jpg"/>
          <p:cNvPicPr/>
          <p:nvPr/>
        </p:nvPicPr>
        <p:blipFill>
          <a:blip r:embed="rId9"/>
          <a:stretch/>
        </p:blipFill>
        <p:spPr>
          <a:xfrm>
            <a:off x="4267080" y="1193760"/>
            <a:ext cx="451080" cy="406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7" descr="factory.jpg"/>
          <p:cNvPicPr/>
          <p:nvPr/>
        </p:nvPicPr>
        <p:blipFill>
          <a:blip r:embed="rId10"/>
          <a:stretch/>
        </p:blipFill>
        <p:spPr>
          <a:xfrm>
            <a:off x="2819520" y="2971800"/>
            <a:ext cx="450720" cy="4064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7" descr="factory.jpg"/>
          <p:cNvPicPr/>
          <p:nvPr/>
        </p:nvPicPr>
        <p:blipFill>
          <a:blip r:embed="rId11"/>
          <a:stretch/>
        </p:blipFill>
        <p:spPr>
          <a:xfrm>
            <a:off x="533520" y="5156280"/>
            <a:ext cx="450720" cy="40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4" descr="cornIcon.gif"/>
          <p:cNvPicPr/>
          <p:nvPr/>
        </p:nvPicPr>
        <p:blipFill>
          <a:blip r:embed="rId12"/>
          <a:stretch/>
        </p:blipFill>
        <p:spPr>
          <a:xfrm>
            <a:off x="727200" y="4589640"/>
            <a:ext cx="415800" cy="439560"/>
          </a:xfrm>
          <a:prstGeom prst="rect">
            <a:avLst/>
          </a:prstGeom>
          <a:ln w="0">
            <a:noFill/>
          </a:ln>
        </p:spPr>
      </p:pic>
      <p:sp>
        <p:nvSpPr>
          <p:cNvPr id="408" name="Straight Connector 37"/>
          <p:cNvSpPr/>
          <p:nvPr/>
        </p:nvSpPr>
        <p:spPr>
          <a:xfrm flipH="1">
            <a:off x="3844800" y="1600200"/>
            <a:ext cx="534960" cy="37152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40"/>
          <p:cNvSpPr/>
          <p:nvPr/>
        </p:nvSpPr>
        <p:spPr>
          <a:xfrm flipH="1" flipV="1">
            <a:off x="2286000" y="2742840"/>
            <a:ext cx="533520" cy="29700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traight Connector 43"/>
          <p:cNvSpPr/>
          <p:nvPr/>
        </p:nvSpPr>
        <p:spPr>
          <a:xfrm flipH="1">
            <a:off x="726840" y="4902120"/>
            <a:ext cx="81000" cy="25416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rc 47"/>
          <p:cNvSpPr/>
          <p:nvPr/>
        </p:nvSpPr>
        <p:spPr>
          <a:xfrm>
            <a:off x="152280" y="2895480"/>
            <a:ext cx="1143000" cy="2336760"/>
          </a:xfrm>
          <a:prstGeom prst="pie">
            <a:avLst/>
          </a:prstGeom>
          <a:noFill/>
          <a:ln w="38160">
            <a:solidFill>
              <a:srgbClr val="0000ff"/>
            </a:solidFill>
            <a:prstDash val="dash"/>
            <a:miter/>
            <a:headEnd len="med" type="arrow" w="med"/>
            <a:tailEnd len="med" type="triangle" w="med"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Curved Connector 51"/>
          <p:cNvCxnSpPr/>
          <p:nvPr/>
        </p:nvCxnSpPr>
        <p:spPr>
          <a:xfrm rot="10800000">
            <a:off x="2194920" y="1193040"/>
            <a:ext cx="1996200" cy="224640"/>
          </a:xfrm>
          <a:prstGeom prst="curvedConnector5">
            <a:avLst>
              <a:gd name="adj1" fmla="val 50000"/>
              <a:gd name="adj2" fmla="val 49919"/>
              <a:gd name="adj3" fmla="val 50000"/>
            </a:avLst>
          </a:prstGeom>
          <a:ln w="25560">
            <a:solidFill>
              <a:srgbClr val="000000"/>
            </a:solidFill>
            <a:prstDash val="dashDot"/>
            <a:miter/>
          </a:ln>
        </p:spPr>
      </p:cxnSp>
      <p:cxnSp>
        <p:nvCxnSpPr>
          <p:cNvPr id="413" name="Curved Connector 60"/>
          <p:cNvCxnSpPr/>
          <p:nvPr/>
        </p:nvCxnSpPr>
        <p:spPr>
          <a:xfrm flipH="1" rot="16200000">
            <a:off x="1741320" y="1668960"/>
            <a:ext cx="1756440" cy="849960"/>
          </a:xfrm>
          <a:prstGeom prst="curvedConnector5">
            <a:avLst>
              <a:gd name="adj1" fmla="val 70172"/>
              <a:gd name="adj2" fmla="val 50000"/>
              <a:gd name="adj3" fmla="val 70172"/>
            </a:avLst>
          </a:prstGeom>
          <a:ln w="25560">
            <a:solidFill>
              <a:srgbClr val="000000"/>
            </a:solidFill>
            <a:prstDash val="dashDot"/>
            <a:miter/>
          </a:ln>
        </p:spPr>
      </p:cxnSp>
      <p:sp>
        <p:nvSpPr>
          <p:cNvPr id="414" name="TextBox 75"/>
          <p:cNvSpPr/>
          <p:nvPr/>
        </p:nvSpPr>
        <p:spPr>
          <a:xfrm>
            <a:off x="350280" y="427824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CU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6"/>
          <p:cNvSpPr/>
          <p:nvPr/>
        </p:nvSpPr>
        <p:spPr>
          <a:xfrm>
            <a:off x="1675440" y="379872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OLOMB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7"/>
          <p:cNvSpPr/>
          <p:nvPr/>
        </p:nvSpPr>
        <p:spPr>
          <a:xfrm>
            <a:off x="4073760" y="219240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VENEZU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NAGERIAL PROBLEM DEFINITION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14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should Kellogg’s allocate its production capacity to meet regional demand while minimizing cost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2437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op prices by count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nded packaging prices by count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sts for local and international transport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ctory capacities and efficiency r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mand by count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ther general factory costs (Labor and SG&amp;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88880" y="1602000"/>
            <a:ext cx="786060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Inputs (from Kellogg’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Content Placeholder 3"/>
          <p:cNvSpPr/>
          <p:nvPr/>
        </p:nvSpPr>
        <p:spPr>
          <a:xfrm>
            <a:off x="428760" y="2362320"/>
            <a:ext cx="757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Tons of product “i” to produce in factory “j”, for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untry “k” 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Placeholder 5"/>
          <p:cNvSpPr/>
          <p:nvPr/>
        </p:nvSpPr>
        <p:spPr>
          <a:xfrm>
            <a:off x="457200" y="156996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209160" y="3276720"/>
            <a:ext cx="4923720" cy="28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i=  1 Corn Fl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2 Rice Kris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j=  1 Factory A (Colom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2 Factory B (Ecu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3 Factory C (Venezue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4130640" y="3276720"/>
            <a:ext cx="341784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k=  1 Colo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2 Ecu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3 Venez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7"/>
          <p:cNvSpPr/>
          <p:nvPr/>
        </p:nvSpPr>
        <p:spPr>
          <a:xfrm>
            <a:off x="457200" y="611676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8 Total 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itle 1"/>
          <p:cNvSpPr/>
          <p:nvPr/>
        </p:nvSpPr>
        <p:spPr>
          <a:xfrm>
            <a:off x="4572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Content Placeholder 2"/>
          <p:cNvSpPr/>
          <p:nvPr/>
        </p:nvSpPr>
        <p:spPr>
          <a:xfrm>
            <a:off x="457200" y="243828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nimize total production cost for th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tal Cost = Factory A Cost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 Factory B Costs + Factory C Cost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ctory cost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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w materials +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bor and SG&amp;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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nsport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Placeholder 4"/>
          <p:cNvSpPr/>
          <p:nvPr/>
        </p:nvSpPr>
        <p:spPr>
          <a:xfrm>
            <a:off x="457200" y="156996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Objectiv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85280" y="23619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duce and ship to meet each country’s dem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duction capacity by facto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llogg’s does not ship products between Venezuela and Ecuador for strategic reas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n-negativ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Text Placeholder 10"/>
          <p:cNvSpPr/>
          <p:nvPr/>
        </p:nvSpPr>
        <p:spPr>
          <a:xfrm>
            <a:off x="457200" y="156996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LUTION 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tretch/>
        </p:blipFill>
        <p:spPr>
          <a:xfrm>
            <a:off x="152280" y="1682640"/>
            <a:ext cx="8001000" cy="5023080"/>
          </a:xfrm>
          <a:prstGeom prst="rect">
            <a:avLst/>
          </a:prstGeom>
          <a:ln w="0">
            <a:noFill/>
          </a:ln>
        </p:spPr>
      </p:pic>
      <p:sp>
        <p:nvSpPr>
          <p:cNvPr id="436" name="Text Placeholder 4"/>
          <p:cNvSpPr/>
          <p:nvPr/>
        </p:nvSpPr>
        <p:spPr>
          <a:xfrm>
            <a:off x="457200" y="99072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9:36:01Z</dcterms:created>
  <dc:creator>Diana Espin</dc:creator>
  <dc:description/>
  <dc:language>en-US</dc:language>
  <cp:lastModifiedBy>Diana Espin</cp:lastModifiedBy>
  <dcterms:modified xsi:type="dcterms:W3CDTF">2008-11-24T19:39:07Z</dcterms:modified>
  <cp:revision>21</cp:revision>
  <dc:subject/>
  <dc:title>North East South America Production Plan</dc:title>
</cp:coreProperties>
</file>