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3315F-F3CD-4A23-890C-BD8130BFB2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2A7DE-2888-48E3-B8F0-DF600CDC1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DDC9C-D33A-4E14-9C07-014EF57DC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3CF-EB9A-41F6-BBE1-E09FC0AE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176-794A-4D6C-B6EF-62F65B1F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496-4434-4C42-A4EC-DE065A42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B3E-2C66-4AD2-8F04-491EB321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591E-5EBB-476C-AA1E-07CD7B3C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B0EC-E7BE-45F6-997F-67F0DCE5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84E0-00ED-4B61-BE22-7A442B66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0AED-210D-4A2A-8439-FB5236BB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69EC-EE1A-4644-B829-6F7E51BE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8674-4BC1-4F7A-A130-C5EC70B7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240-80DD-4543-86FC-5DE5F40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0FC-566A-4AD0-9E8B-9741C779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295C-6EBF-406A-880D-C66EAEEB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4616-8DE1-4CD7-BB27-6CAC46D6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2B8-D38A-403E-B329-8E09E58E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3ED0-AC31-4F71-8EAE-9D1F4A97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548E-B63E-49F1-898F-DB1440F1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DA0F0-BE6F-4CFC-873D-87D7903E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4C707-98A9-47CD-862D-8343138F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F1C45-1EA5-4EC7-BFD9-C7885867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8C9D4-6CFE-4E23-9CDA-8458C419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7A2C4-3522-47EF-8045-C933AC23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6FA-EABF-4719-B4A6-E7BBE78F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4AFBB-00EC-4F3E-A89A-DB47B4B3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8678D-BA60-4643-985B-0EBEF4F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B0771-AAAB-4449-83FD-8FB2796D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9B26A-2DFF-4C99-8C6A-C56B07C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82B6F-32E3-4085-8ADF-F606A583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6A6C7-6EC9-4B5E-BA2C-F19AAF65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DBEBA-0038-4956-8F12-B0E6EAC8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C9804-308A-4E14-AA47-EDD0A97C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01AA-F3BC-40E2-A8CC-460D1462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A66F-10A4-4EE7-90F9-DAEB89BA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937-E7E4-437B-B33A-EA3713B2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98087-8D69-41CB-9E2F-ADC8B24B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4B047-88FD-4A80-8FC0-F4BD3136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AD80F-72A5-4BA8-BC63-712EE07B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01AED-322A-4B52-B133-A1B6C729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D4EE-4644-49D6-B661-F2B3D69D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76E8C-6367-4E74-B112-C5AAB82A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5454-CAFC-4E98-9E7E-F5D7DACD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118B0-B104-4A8D-9515-2F6B5C76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B8FFD-E4C3-4C6D-BFDD-9B5C0D5F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75EC1-9948-41D2-9BAD-3CA11AC0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C1F-D660-4333-BE16-4764CE6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1964B-382E-4565-B30D-1A097A58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68A0F-F51F-4C0E-BB7C-564DB709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8BCE8-984D-4ABD-A9AA-B6FEE64B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3830C-4BA5-477A-80C7-4D3B6D0B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6380B-0B9B-461F-8998-B94DEF95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0AB1B-58D9-4812-9FD0-D2D4B8A4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492D1-EA5F-4141-9697-6C06F94B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386A0-21C9-42B7-976A-6B7E0ED3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34F70-8DFA-4071-B4B0-7B8E23FA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2460F-6423-474C-93A0-D4A8CE12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64E-D822-4F08-BF96-C4CF4318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7F14E-E6E4-4D52-BEAD-1AFACF24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6072A-5362-4D33-B43D-5BAAD1F0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CBE08-22B0-465D-9E69-6C615ACC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0A749-7B98-48C0-B92C-91B71F4B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F5DFF-08A0-4205-B738-90E0A07D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FB908-65AC-4768-821E-7D4CCB21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8402B-1A60-447A-A6E6-BBFD35B5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E541E-14EA-403A-B987-0DAECCFA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A0ADC-2963-4A0A-BD61-035FBE66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A9C5C-018E-40B1-8D08-ECC13EB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B34-75D8-45B2-8E34-0315777D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397A0-F515-4C0F-9DFB-7D174854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2B1D8-3743-46F8-BDF9-72BF5780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0B3F5-C790-43B4-BEF1-69042ED9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4CE7F-273C-44AE-8028-AE72498D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8466F-36B3-4AC1-8BB5-E09D1C5E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11C76-EFAC-481E-8021-30A5C673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F84B2-0959-4E21-8450-C6447A57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E7506-4C79-4D1E-A516-1FA83911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0E4A5-F12E-4BEA-8B5E-C8050A6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F50A7-63D0-4BF7-BF13-9F3A2200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FB6-1785-4653-972A-C55A1F92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58DFB-79C1-4AE8-9AB9-831F6A01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C24C7-69E8-488D-ACE8-D464DB2B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8A8F9-2B66-4265-8BFE-58A42962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A2B3C-F7CA-469B-923E-265158EB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4D9956-8AC1-4E30-B4A0-6C33EF18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68A-92FC-43CC-A57F-BAEC5A24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EB48F-B996-4C12-ACE7-3FA71B033D3A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44622-445D-4925-BA59-AEBA03E4D28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0D8FC-B219-4143-93DF-4851AA72E94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C82AC-2F3B-4045-AB92-8C07ED55F19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8710B-AEA8-417B-B9B7-99E2F458C5C4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DA30F-CD2F-422B-8080-9F4844AB953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20D50-14A1-43F0-A8C4-B4373F276167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14110-5322-4862-AAEF-D2A36711840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64224-1339-42E4-B55C-64F8ED1EA12A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96F9C-7A6C-4C72-9C4A-1576E30725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AB086-F00A-4362-BE20-74DD4D170CFC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AEEB8-2ACD-4A4F-8830-36FB58320E4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7EA05-7666-4B1E-9386-EAEE2C3D786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3706C-5E4C-4F7F-88C7-7C6262FBF6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NDEAN REGION PRODUCTION PL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antiago Arambula, Helvecio Borges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ondon Davies and Diana Esp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ecision Variables and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rcRect l="4430" t="0" r="6961" b="0"/>
          <a:stretch/>
        </p:blipFill>
        <p:spPr>
          <a:xfrm>
            <a:off x="152280" y="1981080"/>
            <a:ext cx="8001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5" descr=""/>
          <p:cNvPicPr/>
          <p:nvPr/>
        </p:nvPicPr>
        <p:blipFill>
          <a:blip r:embed="rId1"/>
          <a:srcRect l="2791" t="0" r="0" b="0"/>
          <a:stretch/>
        </p:blipFill>
        <p:spPr>
          <a:xfrm>
            <a:off x="152280" y="1828800"/>
            <a:ext cx="7963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457200" y="3044880"/>
            <a:ext cx="6972480" cy="30481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457200" y="1600200"/>
            <a:ext cx="7772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sed on current demand, Kellogg’s should use the following production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Optimal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L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1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ogenization of taste in the Andean Reg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d demand for RK in Ecua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dem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1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1" name="Content Placeholder 3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0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1: CORN FLAK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3" name="Content Placeholder 5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7956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1: UNIT COST VARI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5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2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ogenization of taste in the Andean Reg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d demand for RK in Venezue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dem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2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0" name="Content Placeholder 5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2: CORN FLAK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2" name="Content Placeholder 4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4" descr=""/>
          <p:cNvPicPr/>
          <p:nvPr/>
        </p:nvPicPr>
        <p:blipFill>
          <a:blip r:embed="rId1"/>
          <a:stretch/>
        </p:blipFill>
        <p:spPr>
          <a:xfrm>
            <a:off x="76320" y="1422360"/>
            <a:ext cx="652320" cy="635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C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Content Placeholder 4" descr=""/>
          <p:cNvPicPr/>
          <p:nvPr/>
        </p:nvPicPr>
        <p:blipFill>
          <a:blip r:embed="rId2"/>
          <a:stretch/>
        </p:blipFill>
        <p:spPr>
          <a:xfrm>
            <a:off x="396720" y="907920"/>
            <a:ext cx="3778560" cy="4584960"/>
          </a:xfrm>
          <a:prstGeom prst="rect">
            <a:avLst/>
          </a:prstGeom>
          <a:ln w="0">
            <a:noFill/>
          </a:ln>
        </p:spPr>
      </p:pic>
      <p:pic>
        <p:nvPicPr>
          <p:cNvPr id="364" name="Content Placeholder 5" descr=""/>
          <p:cNvPicPr/>
          <p:nvPr/>
        </p:nvPicPr>
        <p:blipFill>
          <a:blip r:embed="rId3"/>
          <a:stretch/>
        </p:blipFill>
        <p:spPr>
          <a:xfrm>
            <a:off x="4896000" y="907920"/>
            <a:ext cx="3771720" cy="458496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6"/>
          <p:cNvGrpSpPr/>
          <p:nvPr/>
        </p:nvGrpSpPr>
        <p:grpSpPr>
          <a:xfrm>
            <a:off x="4554360" y="2971800"/>
            <a:ext cx="322560" cy="378000"/>
            <a:chOff x="4554360" y="2971800"/>
            <a:chExt cx="322560" cy="378000"/>
          </a:xfrm>
        </p:grpSpPr>
        <p:grpSp>
          <p:nvGrpSpPr>
            <p:cNvPr id="366" name="Right Arrow 7"/>
            <p:cNvGrpSpPr/>
            <p:nvPr/>
          </p:nvGrpSpPr>
          <p:grpSpPr>
            <a:xfrm>
              <a:off x="4554360" y="2971800"/>
              <a:ext cx="322560" cy="378000"/>
              <a:chOff x="4554360" y="2971800"/>
              <a:chExt cx="322560" cy="378000"/>
            </a:xfrm>
          </p:grpSpPr>
          <p:pic>
            <p:nvPicPr>
              <p:cNvPr id="367" name="Right Arrow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554360" y="2971800"/>
                <a:ext cx="32256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99000" y="3058920"/>
                <a:ext cx="16344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Right Arrow 4"/>
            <p:cNvSpPr/>
            <p:nvPr/>
          </p:nvSpPr>
          <p:spPr>
            <a:xfrm>
              <a:off x="4599000" y="3059280"/>
              <a:ext cx="163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9" descr=""/>
          <p:cNvPicPr/>
          <p:nvPr/>
        </p:nvPicPr>
        <p:blipFill>
          <a:blip r:embed="rId5"/>
          <a:stretch/>
        </p:blipFill>
        <p:spPr>
          <a:xfrm>
            <a:off x="1498680" y="3505320"/>
            <a:ext cx="635040" cy="520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"/>
          <p:cNvPicPr/>
          <p:nvPr/>
        </p:nvPicPr>
        <p:blipFill>
          <a:blip r:embed="rId6"/>
          <a:stretch/>
        </p:blipFill>
        <p:spPr>
          <a:xfrm>
            <a:off x="5943600" y="3429000"/>
            <a:ext cx="635040" cy="5205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"/>
          <p:cNvPicPr/>
          <p:nvPr/>
        </p:nvPicPr>
        <p:blipFill>
          <a:blip r:embed="rId7"/>
          <a:stretch/>
        </p:blipFill>
        <p:spPr>
          <a:xfrm>
            <a:off x="5292720" y="4762440"/>
            <a:ext cx="650880" cy="990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"/>
          <p:cNvPicPr/>
          <p:nvPr/>
        </p:nvPicPr>
        <p:blipFill>
          <a:blip r:embed="rId8"/>
          <a:stretch/>
        </p:blipFill>
        <p:spPr>
          <a:xfrm>
            <a:off x="5292720" y="838080"/>
            <a:ext cx="650880" cy="8780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cornIcon.gif"/>
          <p:cNvPicPr/>
          <p:nvPr/>
        </p:nvPicPr>
        <p:blipFill>
          <a:blip r:embed="rId9"/>
          <a:stretch/>
        </p:blipFill>
        <p:spPr>
          <a:xfrm>
            <a:off x="1219320" y="1523880"/>
            <a:ext cx="415800" cy="439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"/>
          <p:cNvPicPr/>
          <p:nvPr/>
        </p:nvPicPr>
        <p:blipFill>
          <a:blip r:embed="rId10"/>
          <a:stretch/>
        </p:blipFill>
        <p:spPr>
          <a:xfrm>
            <a:off x="228600" y="4724280"/>
            <a:ext cx="880920" cy="650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"/>
          <p:cNvPicPr/>
          <p:nvPr/>
        </p:nvPicPr>
        <p:blipFill>
          <a:blip r:embed="rId11"/>
          <a:stretch/>
        </p:blipFill>
        <p:spPr>
          <a:xfrm>
            <a:off x="1171440" y="47530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2: UNIT COST VARIATION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4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3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olitical issues in Venezuel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d productivity (to 30%) and unsta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ombia and Ecuador Supply to Meet Venezuela deman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capacity and dem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3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9" name="Content Placeholder 3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3: CORN FLAKES PRODU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1" name="Content Placeholder 5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3: UNIT COST VARIATION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3" name="Content Placeholder 5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4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olitical issues in Venezuel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stable  productivity in Venezuela with stable dem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ombia and Ecuador Supply to Meet Venezuela deman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capac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4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8" name="Content Placeholder 5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4: CORN FLAKES PRODU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0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4: UNIT COST VARIATION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2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QUESTIONS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4" name="Picture 7" descr="haan_cornelius.jpg"/>
          <p:cNvPicPr/>
          <p:nvPr/>
        </p:nvPicPr>
        <p:blipFill>
          <a:blip r:embed="rId1"/>
          <a:stretch/>
        </p:blipFill>
        <p:spPr>
          <a:xfrm>
            <a:off x="609480" y="2933640"/>
            <a:ext cx="1816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61"/>
          <p:cNvGrpSpPr/>
          <p:nvPr/>
        </p:nvGrpSpPr>
        <p:grpSpPr>
          <a:xfrm>
            <a:off x="270000" y="685800"/>
            <a:ext cx="5895720" cy="5334120"/>
            <a:chOff x="270000" y="685800"/>
            <a:chExt cx="5895720" cy="5334120"/>
          </a:xfrm>
        </p:grpSpPr>
        <p:grpSp>
          <p:nvGrpSpPr>
            <p:cNvPr id="378" name="Freeform 57"/>
            <p:cNvGrpSpPr/>
            <p:nvPr/>
          </p:nvGrpSpPr>
          <p:grpSpPr>
            <a:xfrm>
              <a:off x="794520" y="685800"/>
              <a:ext cx="3439800" cy="5149800"/>
              <a:chOff x="794520" y="685800"/>
              <a:chExt cx="3439800" cy="5149800"/>
            </a:xfrm>
          </p:grpSpPr>
          <p:pic>
            <p:nvPicPr>
              <p:cNvPr id="379" name="Freeform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794520" y="685800"/>
                <a:ext cx="3439800" cy="514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>
                <a:off x="862920" y="736200"/>
                <a:ext cx="3311280" cy="50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Freeform 64"/>
            <p:cNvGrpSpPr/>
            <p:nvPr/>
          </p:nvGrpSpPr>
          <p:grpSpPr>
            <a:xfrm>
              <a:off x="270000" y="4010040"/>
              <a:ext cx="1686960" cy="2009880"/>
              <a:chOff x="270000" y="4010040"/>
              <a:chExt cx="1686960" cy="2009880"/>
            </a:xfrm>
          </p:grpSpPr>
          <p:pic>
            <p:nvPicPr>
              <p:cNvPr id="382" name="Freeform 64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000" y="4010040"/>
                <a:ext cx="1686960" cy="20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336960" y="4056840"/>
                <a:ext cx="1557360" cy="18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buClr>
                    <a:srgbClr val="ffffff"/>
                  </a:buClr>
                  <a:buFont typeface="Wingdings 2" charset="2"/>
                  <a:buChar char="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Freeform 156"/>
            <p:cNvGrpSpPr/>
            <p:nvPr/>
          </p:nvGrpSpPr>
          <p:grpSpPr>
            <a:xfrm>
              <a:off x="5414760" y="1203120"/>
              <a:ext cx="399240" cy="326880"/>
              <a:chOff x="5414760" y="1203120"/>
              <a:chExt cx="399240" cy="326880"/>
            </a:xfrm>
          </p:grpSpPr>
          <p:pic>
            <p:nvPicPr>
              <p:cNvPr id="385" name="Freeform 156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4760" y="1203120"/>
                <a:ext cx="399240" cy="32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5483880" y="1253520"/>
                <a:ext cx="26820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buClr>
                    <a:srgbClr val="ffffff"/>
                  </a:buClr>
                  <a:buFont typeface="Wingdings 2" charset="2"/>
                  <a:buChar char="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Freeform 175"/>
            <p:cNvGrpSpPr/>
            <p:nvPr/>
          </p:nvGrpSpPr>
          <p:grpSpPr>
            <a:xfrm>
              <a:off x="2350440" y="721440"/>
              <a:ext cx="3815280" cy="3615480"/>
              <a:chOff x="2350440" y="721440"/>
              <a:chExt cx="3815280" cy="3615480"/>
            </a:xfrm>
          </p:grpSpPr>
          <p:pic>
            <p:nvPicPr>
              <p:cNvPr id="388" name="Freeform 175" descr=""/>
              <p:cNvPicPr/>
              <p:nvPr/>
            </p:nvPicPr>
            <p:blipFill>
              <a:blip r:embed="rId4"/>
              <a:stretch/>
            </p:blipFill>
            <p:spPr>
              <a:xfrm>
                <a:off x="2350440" y="721440"/>
                <a:ext cx="3815280" cy="36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420280" y="767160"/>
                <a:ext cx="3682440" cy="348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 rot="5400000">
            <a:off x="335088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AREA MAP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765840" y="264960"/>
            <a:ext cx="15242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Factories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nsumers’ Country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Supplies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Locally priced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roducts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650880" cy="990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6"/>
          <a:stretch/>
        </p:blipFill>
        <p:spPr>
          <a:xfrm>
            <a:off x="6934320" y="5410080"/>
            <a:ext cx="650880" cy="878040"/>
          </a:xfrm>
          <a:prstGeom prst="rect">
            <a:avLst/>
          </a:prstGeom>
          <a:ln w="0">
            <a:noFill/>
          </a:ln>
        </p:spPr>
      </p:pic>
      <p:sp>
        <p:nvSpPr>
          <p:cNvPr id="394" name="Freeform 53"/>
          <p:cNvSpPr/>
          <p:nvPr/>
        </p:nvSpPr>
        <p:spPr>
          <a:xfrm>
            <a:off x="2760840" y="5862600"/>
            <a:ext cx="41040" cy="20520"/>
          </a:xfrm>
          <a:prstGeom prst="pie">
            <a:avLst/>
          </a:prstGeom>
          <a:solidFill>
            <a:srgbClr val="575f6d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lnSpc>
                <a:spcPct val="106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66"/>
          <p:cNvSpPr/>
          <p:nvPr/>
        </p:nvSpPr>
        <p:spPr>
          <a:xfrm>
            <a:off x="3059280" y="5645160"/>
            <a:ext cx="66600" cy="36360"/>
          </a:xfrm>
          <a:prstGeom prst="pie">
            <a:avLst/>
          </a:prstGeom>
          <a:solidFill>
            <a:srgbClr val="575f6d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lnSpc>
                <a:spcPct val="106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48"/>
          <p:cNvSpPr/>
          <p:nvPr/>
        </p:nvSpPr>
        <p:spPr>
          <a:xfrm>
            <a:off x="2521080" y="5770440"/>
            <a:ext cx="58680" cy="36720"/>
          </a:xfrm>
          <a:prstGeom prst="pie">
            <a:avLst/>
          </a:prstGeom>
          <a:solidFill>
            <a:srgbClr val="575f6d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lnSpc>
                <a:spcPct val="106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2"/>
          <p:cNvSpPr/>
          <p:nvPr/>
        </p:nvSpPr>
        <p:spPr>
          <a:xfrm>
            <a:off x="4136400" y="168120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ra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3"/>
          <p:cNvSpPr/>
          <p:nvPr/>
        </p:nvSpPr>
        <p:spPr>
          <a:xfrm>
            <a:off x="2420640" y="34290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4"/>
          <p:cNvSpPr/>
          <p:nvPr/>
        </p:nvSpPr>
        <p:spPr>
          <a:xfrm>
            <a:off x="246960" y="54864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uayaqu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66"/>
          <p:cNvSpPr/>
          <p:nvPr/>
        </p:nvSpPr>
        <p:spPr>
          <a:xfrm flipH="1" flipV="1">
            <a:off x="4191120" y="1295280"/>
            <a:ext cx="102960" cy="15264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67"/>
          <p:cNvSpPr/>
          <p:nvPr/>
        </p:nvSpPr>
        <p:spPr>
          <a:xfrm flipH="1" flipV="1">
            <a:off x="1294920" y="3123720"/>
            <a:ext cx="1613160" cy="18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4" descr="cornIcon.gif"/>
          <p:cNvPicPr/>
          <p:nvPr/>
        </p:nvPicPr>
        <p:blipFill>
          <a:blip r:embed="rId7"/>
          <a:stretch/>
        </p:blipFill>
        <p:spPr>
          <a:xfrm>
            <a:off x="1870200" y="2438280"/>
            <a:ext cx="415800" cy="439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6" descr="cornIcon.gif"/>
          <p:cNvPicPr/>
          <p:nvPr/>
        </p:nvPicPr>
        <p:blipFill>
          <a:blip r:embed="rId8"/>
          <a:stretch/>
        </p:blipFill>
        <p:spPr>
          <a:xfrm>
            <a:off x="3429000" y="1752480"/>
            <a:ext cx="415800" cy="439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8" descr="factory.jpg"/>
          <p:cNvPicPr/>
          <p:nvPr/>
        </p:nvPicPr>
        <p:blipFill>
          <a:blip r:embed="rId9"/>
          <a:stretch/>
        </p:blipFill>
        <p:spPr>
          <a:xfrm>
            <a:off x="4267080" y="1193760"/>
            <a:ext cx="451080" cy="406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7" descr="factory.jpg"/>
          <p:cNvPicPr/>
          <p:nvPr/>
        </p:nvPicPr>
        <p:blipFill>
          <a:blip r:embed="rId10"/>
          <a:stretch/>
        </p:blipFill>
        <p:spPr>
          <a:xfrm>
            <a:off x="2819520" y="2971800"/>
            <a:ext cx="450720" cy="406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7" descr="factory.jpg"/>
          <p:cNvPicPr/>
          <p:nvPr/>
        </p:nvPicPr>
        <p:blipFill>
          <a:blip r:embed="rId11"/>
          <a:stretch/>
        </p:blipFill>
        <p:spPr>
          <a:xfrm>
            <a:off x="533520" y="5156280"/>
            <a:ext cx="450720" cy="40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cornIcon.gif"/>
          <p:cNvPicPr/>
          <p:nvPr/>
        </p:nvPicPr>
        <p:blipFill>
          <a:blip r:embed="rId12"/>
          <a:stretch/>
        </p:blipFill>
        <p:spPr>
          <a:xfrm>
            <a:off x="727200" y="4589640"/>
            <a:ext cx="415800" cy="439560"/>
          </a:xfrm>
          <a:prstGeom prst="rect">
            <a:avLst/>
          </a:prstGeom>
          <a:ln w="0">
            <a:noFill/>
          </a:ln>
        </p:spPr>
      </p:pic>
      <p:sp>
        <p:nvSpPr>
          <p:cNvPr id="408" name="Straight Connector 37"/>
          <p:cNvSpPr/>
          <p:nvPr/>
        </p:nvSpPr>
        <p:spPr>
          <a:xfrm flipH="1">
            <a:off x="3844800" y="1600200"/>
            <a:ext cx="534960" cy="37152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40"/>
          <p:cNvSpPr/>
          <p:nvPr/>
        </p:nvSpPr>
        <p:spPr>
          <a:xfrm flipH="1" flipV="1">
            <a:off x="2286000" y="2742840"/>
            <a:ext cx="533520" cy="2970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43"/>
          <p:cNvSpPr/>
          <p:nvPr/>
        </p:nvSpPr>
        <p:spPr>
          <a:xfrm flipH="1">
            <a:off x="726840" y="4902120"/>
            <a:ext cx="81000" cy="25416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47"/>
          <p:cNvSpPr/>
          <p:nvPr/>
        </p:nvSpPr>
        <p:spPr>
          <a:xfrm>
            <a:off x="152280" y="2895480"/>
            <a:ext cx="1143000" cy="2336760"/>
          </a:xfrm>
          <a:prstGeom prst="pie">
            <a:avLst/>
          </a:prstGeom>
          <a:noFill/>
          <a:ln w="38160">
            <a:solidFill>
              <a:srgbClr val="0000ff"/>
            </a:solidFill>
            <a:prstDash val="dash"/>
            <a:miter/>
            <a:headEnd len="med" type="arrow" w="med"/>
            <a:tailEnd len="med" type="triangle" w="med"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Curved Connector 51"/>
          <p:cNvCxnSpPr/>
          <p:nvPr/>
        </p:nvCxnSpPr>
        <p:spPr>
          <a:xfrm rot="10800000">
            <a:off x="2194920" y="1193040"/>
            <a:ext cx="1996200" cy="224640"/>
          </a:xfrm>
          <a:prstGeom prst="curvedConnector5">
            <a:avLst>
              <a:gd name="adj1" fmla="val 50000"/>
              <a:gd name="adj2" fmla="val 49919"/>
              <a:gd name="adj3" fmla="val 50000"/>
            </a:avLst>
          </a:prstGeom>
          <a:ln w="25560">
            <a:solidFill>
              <a:srgbClr val="000000"/>
            </a:solidFill>
            <a:prstDash val="dashDot"/>
            <a:miter/>
          </a:ln>
        </p:spPr>
      </p:cxnSp>
      <p:cxnSp>
        <p:nvCxnSpPr>
          <p:cNvPr id="413" name="Curved Connector 60"/>
          <p:cNvCxnSpPr/>
          <p:nvPr/>
        </p:nvCxnSpPr>
        <p:spPr>
          <a:xfrm flipH="1" rot="16200000">
            <a:off x="1741320" y="1668960"/>
            <a:ext cx="1756440" cy="849960"/>
          </a:xfrm>
          <a:prstGeom prst="curvedConnector5">
            <a:avLst>
              <a:gd name="adj1" fmla="val 70172"/>
              <a:gd name="adj2" fmla="val 50000"/>
              <a:gd name="adj3" fmla="val 70172"/>
            </a:avLst>
          </a:prstGeom>
          <a:ln w="25560">
            <a:solidFill>
              <a:srgbClr val="000000"/>
            </a:solidFill>
            <a:prstDash val="dashDot"/>
            <a:miter/>
          </a:ln>
        </p:spPr>
      </p:cxnSp>
      <p:sp>
        <p:nvSpPr>
          <p:cNvPr id="414" name="TextBox 75"/>
          <p:cNvSpPr/>
          <p:nvPr/>
        </p:nvSpPr>
        <p:spPr>
          <a:xfrm>
            <a:off x="350280" y="42782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CU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6"/>
          <p:cNvSpPr/>
          <p:nvPr/>
        </p:nvSpPr>
        <p:spPr>
          <a:xfrm>
            <a:off x="1675440" y="379872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LOMB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7"/>
          <p:cNvSpPr/>
          <p:nvPr/>
        </p:nvSpPr>
        <p:spPr>
          <a:xfrm>
            <a:off x="4073760" y="219240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VENEZU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NAGERIAL PROBLEM DEFINITI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should Kellogg’s allocate its production capacity to meet regional demand while minimizing cost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2437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op prices by cou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ded packaging prices by cou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sts for local and international transpor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ctory capacities and efficiency 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mand by cou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her general factory costs (Labor and SG&amp;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8880" y="1602000"/>
            <a:ext cx="786060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Inputs (from Kellogg’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Content Placeholder 3"/>
          <p:cNvSpPr/>
          <p:nvPr/>
        </p:nvSpPr>
        <p:spPr>
          <a:xfrm>
            <a:off x="428760" y="2362320"/>
            <a:ext cx="757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Tons of product “i” to produce in factory “j”, for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untry “k”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Placeholder 5"/>
          <p:cNvSpPr/>
          <p:nvPr/>
        </p:nvSpPr>
        <p:spPr>
          <a:xfrm>
            <a:off x="457200" y="156996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209160" y="3276720"/>
            <a:ext cx="492372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i=  1 Corn F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2 Rice Kris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j=  1 Factory A (Colom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2 Factory B (Ecu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3 Factory C (Venezu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4130640" y="3276720"/>
            <a:ext cx="341784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k=  1 Colo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2 Ecu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3 Venez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7"/>
          <p:cNvSpPr/>
          <p:nvPr/>
        </p:nvSpPr>
        <p:spPr>
          <a:xfrm>
            <a:off x="457200" y="611676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8 Total 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tle 1"/>
          <p:cNvSpPr/>
          <p:nvPr/>
        </p:nvSpPr>
        <p:spPr>
          <a:xfrm>
            <a:off x="4572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Content Placeholder 2"/>
          <p:cNvSpPr/>
          <p:nvPr/>
        </p:nvSpPr>
        <p:spPr>
          <a:xfrm>
            <a:off x="457200" y="24382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mize total production cost for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tal Cost = Factory A Cost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 Factory B Costs + Factory C Cost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ctory cost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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w materials +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bor and SG&amp;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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sport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Placeholder 4"/>
          <p:cNvSpPr/>
          <p:nvPr/>
        </p:nvSpPr>
        <p:spPr>
          <a:xfrm>
            <a:off x="457200" y="156996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85280" y="23619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uce and ship to meet each country’s dem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uction capacity by facto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llogg’s does not ship products between Venezuela and Ecuador for strategic reas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-negativ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Text Placeholder 10"/>
          <p:cNvSpPr/>
          <p:nvPr/>
        </p:nvSpPr>
        <p:spPr>
          <a:xfrm>
            <a:off x="457200" y="156996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152280" y="1682640"/>
            <a:ext cx="8001000" cy="5023080"/>
          </a:xfrm>
          <a:prstGeom prst="rect">
            <a:avLst/>
          </a:prstGeom>
          <a:ln w="0">
            <a:noFill/>
          </a:ln>
        </p:spPr>
      </p:pic>
      <p:sp>
        <p:nvSpPr>
          <p:cNvPr id="436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36:01Z</dcterms:created>
  <dc:creator>Diana Espin</dc:creator>
  <dc:description/>
  <dc:language>en-US</dc:language>
  <cp:lastModifiedBy>Diana Espin</cp:lastModifiedBy>
  <dcterms:modified xsi:type="dcterms:W3CDTF">2008-11-24T19:39:07Z</dcterms:modified>
  <cp:revision>21</cp:revision>
  <dc:subject/>
  <dc:title>North East South America Production Plan</dc:title>
</cp:coreProperties>
</file>