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png" ContentType="image/png"/>
  <Override PartName="/ppt/media/image3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D3DB9-D0E0-4945-B771-893976913A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BF5FA-2719-4F65-AAEB-7B3729619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ECA8D-63E6-4275-B745-C76260718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DAF-BED2-4B67-9C00-5E9AE878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024-61D9-4B4D-BC14-D0D1CA16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26E-EDC8-492E-94CF-B6D39D4D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2D0-B001-458F-8411-9A44F2DC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DA7B-F8AC-4EF0-A3A1-71135E02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C2E1-650A-42F1-ABB4-9D9E8E81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E597-329A-4847-9339-5B2F2FDD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1A77-7911-45B4-9AB9-BBB7CDBC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5891-845C-4ED0-BB58-9BB9E488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BF61-8ADF-46D1-9F97-3A752182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DA38-F66D-43E6-891C-24E9A84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C4D-E06A-4311-BEBD-29A85021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D18E-2A4A-4592-8AE6-24B8A3E4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D898-D1D1-4B38-89DE-CA1A832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24B9-78D9-4FA7-BC9C-AEDD2E4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B636-58F1-49D5-8C5E-B2BFD693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5403-64C2-450F-B6CD-70D707A5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6E268-1D46-41FE-9A9B-43253296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91626-BF63-4FBF-BFD4-A8EEE24E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04085-0EEA-466A-BE13-8A0222B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20346-682A-4EB9-B982-20037E41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C6075-CFAE-49BB-89C8-65CD3925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10A-4D64-4A20-9FE5-3D551E37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DF94C-4F5E-49EA-A57B-E73252EA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FBA6D-347A-4FF9-B07F-B41424B6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58C27-393D-40C6-9493-1C99A56D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CC14F-4804-4EBB-AF8D-ED771DBF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8F177-B22C-4E5F-9B85-9B359298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12FEC-0975-45FA-98E1-154C93D1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0811D-2316-41C2-A3D3-EA95C066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42E9-3B74-471F-9507-63AC33AC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A6CBB-D2C4-419D-BD41-4D516A37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25CD1-207A-4053-909D-D011EA55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4DA-884B-4E17-A39F-29EC29EA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9CF8-9BF0-409B-A47B-8153F102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23A7-CD70-4D57-BC28-AF857CCE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0D869-8E19-4E93-A1F6-3AFEEA34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CCEB-D243-44EC-8410-4564583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C1E8-5968-4002-9402-215C373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261C-AF24-4234-8039-FAFFD1F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F628D-29A3-4D03-83ED-C37595AF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E480-576A-4525-8D0B-B2992ED5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3E8E-F665-41AD-BE29-EDD7FC03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54963-20B0-43E0-94EE-1FF69E8B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865-DF3C-4A77-92AC-4E7E3D81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D3938-5CA8-45EF-A841-33AFA5FA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59765-E051-4FC3-A4CF-4FDB238D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67E96-FEE9-4376-BB01-0DB0C8B9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CFC80-973B-465A-8EB9-2A204EE9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62112-63F2-4953-A63E-D3C933E0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ECE14-5321-4E81-AA85-6EF36A4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F85D0-C68B-404D-8A5C-476F77AD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5A823-2A8F-4714-B514-5377F8C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E928E-9DC0-4A51-B365-96DF389E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90E3C-8476-4477-B252-0715177B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17F-2D04-4522-A622-03DDBAA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3790B-E79C-4828-A940-25B3D51F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2F1B4-9168-4770-8FE0-3744C227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FFD99-B901-4D27-ADC8-A6031C7E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385A5-1BC9-4EE1-898C-8612EED1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4F857-EB6B-423A-8020-12664055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363FE-8D0E-41EA-B34A-BBF94FDF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49458-4A9A-4B51-9822-6AB7769E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C45B8-719B-45C7-9BE1-A21FD7C6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D3A7E-4CE4-4544-B292-315C22B6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FAD22-BAFB-4816-96DE-A4C6D9FF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136-F38C-4E61-9BD9-DF1DC26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FE2FC-8922-49D2-8B64-52D9B2BF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A742B-4380-43B2-8A19-EFA79DC4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8C2F4-AB3A-452B-B7CB-AACF4CC1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F92A4-EBD5-4075-88B8-D3E11392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F45D3-A92C-4E4A-AA70-EE033EB7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42381-5955-451F-B255-A9FFB1DF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CB8D4-4348-4763-A3D0-3EEBAB9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E3F50-99EE-4D60-ABEF-5120E977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16540-43BC-4455-BB88-2C19B2DE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FA1F1-1C07-43F5-A8F6-7614B3B5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386-D1D3-4410-9E60-4BC7B44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C2D64-3786-49FC-B085-69711F0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F7413-2BD8-4A31-B872-490565D2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5C790-0420-4C6C-BD90-CAC25CB8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67E6C-420A-46E2-8163-154EC61B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F6E45-E53C-41DF-9B44-B43DD4E3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CC7-3C0F-4827-8FEA-A6764670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9B816-6F9E-49C4-86AC-8FC628D1E869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4C3A9-65BF-4E97-85F5-B30D6CFCF2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46F4C-79AA-44A8-9F6F-D52D6F8F9A8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A442-A48F-4BF6-A355-A5723DB97E5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5E02A-28C1-48FA-A49A-E892B4D1A61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6EF07-0CBB-4602-A91C-9F1475F1B77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D419C-4AE3-4F2A-A52D-4351C4F42EA1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C7547-0C00-4A2A-B79B-E4D168C449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4DE8C-84DB-4ECC-B65C-D71BF6BE688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53209-338E-46A6-B35B-3A58F496F3A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21A0F-AEE5-4EB8-8760-DE2DABFB342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3F672-6F4A-4D00-BA34-4E81DBE50D4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5418A-E4AC-4161-BA7B-9244601610E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B9436-2501-4505-9F1E-3E63C1F161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NDEAN REGION PRODUCTION PL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antiago Arambula, Helvecio Borges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ondon Davies and Diana Esp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ecision Variables and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rcRect l="4430" t="0" r="6961" b="0"/>
          <a:stretch/>
        </p:blipFill>
        <p:spPr>
          <a:xfrm>
            <a:off x="152280" y="1981080"/>
            <a:ext cx="8001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5" descr=""/>
          <p:cNvPicPr/>
          <p:nvPr/>
        </p:nvPicPr>
        <p:blipFill>
          <a:blip r:embed="rId1"/>
          <a:srcRect l="2791" t="0" r="0" b="0"/>
          <a:stretch/>
        </p:blipFill>
        <p:spPr>
          <a:xfrm>
            <a:off x="152280" y="1828800"/>
            <a:ext cx="7963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457200" y="3044880"/>
            <a:ext cx="6972480" cy="30481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457200" y="1600200"/>
            <a:ext cx="7772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sed on current demand, Kellogg’s should use the following production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Optimal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L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1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ogenization of taste in the Andean Reg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d demand for RK in Ecuad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dem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1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1" name="Content Placeholder 3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02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1: CORN FLAK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3" name="Content Placeholder 5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7956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1: UNIT COST VARI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2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ogenization of taste in the Andean Reg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reased demand for RK in Venezue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dem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2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0" name="Content Placeholder 5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2: CORN FLAK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Content Placeholder 4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4" descr=""/>
          <p:cNvPicPr/>
          <p:nvPr/>
        </p:nvPicPr>
        <p:blipFill>
          <a:blip r:embed="rId1"/>
          <a:stretch/>
        </p:blipFill>
        <p:spPr>
          <a:xfrm>
            <a:off x="76320" y="1422360"/>
            <a:ext cx="652320" cy="635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C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Content Placeholder 4" descr=""/>
          <p:cNvPicPr/>
          <p:nvPr/>
        </p:nvPicPr>
        <p:blipFill>
          <a:blip r:embed="rId2"/>
          <a:stretch/>
        </p:blipFill>
        <p:spPr>
          <a:xfrm>
            <a:off x="396720" y="907920"/>
            <a:ext cx="3778560" cy="4584960"/>
          </a:xfrm>
          <a:prstGeom prst="rect">
            <a:avLst/>
          </a:prstGeom>
          <a:ln w="0">
            <a:noFill/>
          </a:ln>
        </p:spPr>
      </p:pic>
      <p:pic>
        <p:nvPicPr>
          <p:cNvPr id="364" name="Content Placeholder 5" descr=""/>
          <p:cNvPicPr/>
          <p:nvPr/>
        </p:nvPicPr>
        <p:blipFill>
          <a:blip r:embed="rId3"/>
          <a:stretch/>
        </p:blipFill>
        <p:spPr>
          <a:xfrm>
            <a:off x="4896000" y="907920"/>
            <a:ext cx="3771720" cy="458496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6"/>
          <p:cNvGrpSpPr/>
          <p:nvPr/>
        </p:nvGrpSpPr>
        <p:grpSpPr>
          <a:xfrm>
            <a:off x="4554360" y="2971800"/>
            <a:ext cx="322560" cy="378000"/>
            <a:chOff x="4554360" y="2971800"/>
            <a:chExt cx="322560" cy="378000"/>
          </a:xfrm>
        </p:grpSpPr>
        <p:grpSp>
          <p:nvGrpSpPr>
            <p:cNvPr id="366" name="Right Arrow 7"/>
            <p:cNvGrpSpPr/>
            <p:nvPr/>
          </p:nvGrpSpPr>
          <p:grpSpPr>
            <a:xfrm>
              <a:off x="4554360" y="2971800"/>
              <a:ext cx="322560" cy="378000"/>
              <a:chOff x="4554360" y="2971800"/>
              <a:chExt cx="322560" cy="378000"/>
            </a:xfrm>
          </p:grpSpPr>
          <p:pic>
            <p:nvPicPr>
              <p:cNvPr id="367" name="Right Arrow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554360" y="2971800"/>
                <a:ext cx="32256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99000" y="3058920"/>
                <a:ext cx="1634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Right Arrow 4"/>
            <p:cNvSpPr/>
            <p:nvPr/>
          </p:nvSpPr>
          <p:spPr>
            <a:xfrm>
              <a:off x="4599000" y="3059280"/>
              <a:ext cx="163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9" descr=""/>
          <p:cNvPicPr/>
          <p:nvPr/>
        </p:nvPicPr>
        <p:blipFill>
          <a:blip r:embed="rId5"/>
          <a:stretch/>
        </p:blipFill>
        <p:spPr>
          <a:xfrm>
            <a:off x="1498680" y="3505320"/>
            <a:ext cx="635040" cy="520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"/>
          <p:cNvPicPr/>
          <p:nvPr/>
        </p:nvPicPr>
        <p:blipFill>
          <a:blip r:embed="rId6"/>
          <a:stretch/>
        </p:blipFill>
        <p:spPr>
          <a:xfrm>
            <a:off x="5943600" y="3429000"/>
            <a:ext cx="635040" cy="5205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"/>
          <p:cNvPicPr/>
          <p:nvPr/>
        </p:nvPicPr>
        <p:blipFill>
          <a:blip r:embed="rId7"/>
          <a:stretch/>
        </p:blipFill>
        <p:spPr>
          <a:xfrm>
            <a:off x="5292720" y="4762440"/>
            <a:ext cx="650880" cy="990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"/>
          <p:cNvPicPr/>
          <p:nvPr/>
        </p:nvPicPr>
        <p:blipFill>
          <a:blip r:embed="rId8"/>
          <a:stretch/>
        </p:blipFill>
        <p:spPr>
          <a:xfrm>
            <a:off x="5292720" y="838080"/>
            <a:ext cx="650880" cy="8780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cornIcon.gif"/>
          <p:cNvPicPr/>
          <p:nvPr/>
        </p:nvPicPr>
        <p:blipFill>
          <a:blip r:embed="rId9"/>
          <a:stretch/>
        </p:blipFill>
        <p:spPr>
          <a:xfrm>
            <a:off x="1219320" y="1523880"/>
            <a:ext cx="415800" cy="439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"/>
          <p:cNvPicPr/>
          <p:nvPr/>
        </p:nvPicPr>
        <p:blipFill>
          <a:blip r:embed="rId10"/>
          <a:stretch/>
        </p:blipFill>
        <p:spPr>
          <a:xfrm>
            <a:off x="228600" y="4724280"/>
            <a:ext cx="880920" cy="650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"/>
          <p:cNvPicPr/>
          <p:nvPr/>
        </p:nvPicPr>
        <p:blipFill>
          <a:blip r:embed="rId11"/>
          <a:stretch/>
        </p:blipFill>
        <p:spPr>
          <a:xfrm>
            <a:off x="1171440" y="47530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2: UNIT COST VARIATION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4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3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olitical issues in Venezuel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d productivity (to 30%) and unstab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mbia and Ecuador Supply to Meet Venezuela deman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capacity and dema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3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9" name="Content Placeholder 3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3: CORN FLAKES PRODU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1" name="Content Placeholder 5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3: UNIT COST VARIATION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3" name="Content Placeholder 5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ITIVITY ANALY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cenario 4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olitical issues in Venezuel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stable  productivity in Venezuela with stable dem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ombia and Ecuador Supply to Meet Venezuela deman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Text Placeholder 4"/>
          <p:cNvSpPr/>
          <p:nvPr/>
        </p:nvSpPr>
        <p:spPr>
          <a:xfrm>
            <a:off x="533520" y="162720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Adapting to changes in capac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4: RICE KRISPIES P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8" name="Content Placeholder 5" descr=""/>
          <p:cNvPicPr/>
          <p:nvPr/>
        </p:nvPicPr>
        <p:blipFill>
          <a:blip r:embed="rId1"/>
          <a:stretch/>
        </p:blipFill>
        <p:spPr>
          <a:xfrm>
            <a:off x="444600" y="82224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4: CORN FLAKES PRODU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0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CENARIO 4: UNIT COST VARIATION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2" name="Content Placeholder 4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79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QUESTIONS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4" name="Picture 7" descr="haan_cornelius.jpg"/>
          <p:cNvPicPr/>
          <p:nvPr/>
        </p:nvPicPr>
        <p:blipFill>
          <a:blip r:embed="rId1"/>
          <a:stretch/>
        </p:blipFill>
        <p:spPr>
          <a:xfrm>
            <a:off x="609480" y="2933640"/>
            <a:ext cx="1816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61"/>
          <p:cNvGrpSpPr/>
          <p:nvPr/>
        </p:nvGrpSpPr>
        <p:grpSpPr>
          <a:xfrm>
            <a:off x="270000" y="685800"/>
            <a:ext cx="5895720" cy="5334120"/>
            <a:chOff x="270000" y="685800"/>
            <a:chExt cx="5895720" cy="5334120"/>
          </a:xfrm>
        </p:grpSpPr>
        <p:grpSp>
          <p:nvGrpSpPr>
            <p:cNvPr id="378" name="Freeform 57"/>
            <p:cNvGrpSpPr/>
            <p:nvPr/>
          </p:nvGrpSpPr>
          <p:grpSpPr>
            <a:xfrm>
              <a:off x="794520" y="685800"/>
              <a:ext cx="3439800" cy="5149800"/>
              <a:chOff x="794520" y="685800"/>
              <a:chExt cx="3439800" cy="5149800"/>
            </a:xfrm>
          </p:grpSpPr>
          <p:pic>
            <p:nvPicPr>
              <p:cNvPr id="379" name="Freeform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794520" y="685800"/>
                <a:ext cx="3439800" cy="514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>
                <a:off x="862920" y="736200"/>
                <a:ext cx="3311280" cy="50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Freeform 64"/>
            <p:cNvGrpSpPr/>
            <p:nvPr/>
          </p:nvGrpSpPr>
          <p:grpSpPr>
            <a:xfrm>
              <a:off x="270000" y="4010040"/>
              <a:ext cx="1686960" cy="2009880"/>
              <a:chOff x="270000" y="4010040"/>
              <a:chExt cx="1686960" cy="2009880"/>
            </a:xfrm>
          </p:grpSpPr>
          <p:pic>
            <p:nvPicPr>
              <p:cNvPr id="382" name="Freeform 64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000" y="4010040"/>
                <a:ext cx="1686960" cy="20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336960" y="4056840"/>
                <a:ext cx="1557360" cy="18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buClr>
                    <a:srgbClr val="ffffff"/>
                  </a:buClr>
                  <a:buFont typeface="Wingdings 2" charset="2"/>
                  <a:buChar char="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Freeform 156"/>
            <p:cNvGrpSpPr/>
            <p:nvPr/>
          </p:nvGrpSpPr>
          <p:grpSpPr>
            <a:xfrm>
              <a:off x="5414760" y="1203120"/>
              <a:ext cx="399240" cy="326880"/>
              <a:chOff x="5414760" y="1203120"/>
              <a:chExt cx="399240" cy="326880"/>
            </a:xfrm>
          </p:grpSpPr>
          <p:pic>
            <p:nvPicPr>
              <p:cNvPr id="385" name="Freeform 156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4760" y="1203120"/>
                <a:ext cx="399240" cy="32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5483880" y="1253520"/>
                <a:ext cx="268200" cy="19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buClr>
                    <a:srgbClr val="ffffff"/>
                  </a:buClr>
                  <a:buFont typeface="Wingdings 2" charset="2"/>
                  <a:buChar char="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Freeform 175"/>
            <p:cNvGrpSpPr/>
            <p:nvPr/>
          </p:nvGrpSpPr>
          <p:grpSpPr>
            <a:xfrm>
              <a:off x="2350440" y="721440"/>
              <a:ext cx="3815280" cy="3615480"/>
              <a:chOff x="2350440" y="721440"/>
              <a:chExt cx="3815280" cy="3615480"/>
            </a:xfrm>
          </p:grpSpPr>
          <p:pic>
            <p:nvPicPr>
              <p:cNvPr id="388" name="Freeform 175" descr=""/>
              <p:cNvPicPr/>
              <p:nvPr/>
            </p:nvPicPr>
            <p:blipFill>
              <a:blip r:embed="rId4"/>
              <a:stretch/>
            </p:blipFill>
            <p:spPr>
              <a:xfrm>
                <a:off x="2350440" y="721440"/>
                <a:ext cx="3815280" cy="361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420280" y="767160"/>
                <a:ext cx="3682440" cy="348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 rot="5400000">
            <a:off x="335088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AREA MAP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765840" y="264960"/>
            <a:ext cx="15242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Factories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nsumers’ Country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99"/>
              </a:spcBef>
              <a:spcAft>
                <a:spcPts val="400"/>
              </a:spcAft>
              <a:buClr>
                <a:srgbClr val="fe8637"/>
              </a:buClr>
              <a:buSzPct val="70000"/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Supplies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Locally priced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roducts: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650880" cy="990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6"/>
          <a:stretch/>
        </p:blipFill>
        <p:spPr>
          <a:xfrm>
            <a:off x="6934320" y="5410080"/>
            <a:ext cx="650880" cy="878040"/>
          </a:xfrm>
          <a:prstGeom prst="rect">
            <a:avLst/>
          </a:prstGeom>
          <a:ln w="0">
            <a:noFill/>
          </a:ln>
        </p:spPr>
      </p:pic>
      <p:sp>
        <p:nvSpPr>
          <p:cNvPr id="394" name="Freeform 53"/>
          <p:cNvSpPr/>
          <p:nvPr/>
        </p:nvSpPr>
        <p:spPr>
          <a:xfrm>
            <a:off x="2760840" y="5862600"/>
            <a:ext cx="41040" cy="20520"/>
          </a:xfrm>
          <a:prstGeom prst="pie">
            <a:avLst/>
          </a:prstGeom>
          <a:solidFill>
            <a:srgbClr val="575f6d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lnSpc>
                <a:spcPct val="106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66"/>
          <p:cNvSpPr/>
          <p:nvPr/>
        </p:nvSpPr>
        <p:spPr>
          <a:xfrm>
            <a:off x="3059280" y="5645160"/>
            <a:ext cx="66600" cy="36360"/>
          </a:xfrm>
          <a:prstGeom prst="pie">
            <a:avLst/>
          </a:prstGeom>
          <a:solidFill>
            <a:srgbClr val="575f6d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lnSpc>
                <a:spcPct val="106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8"/>
          <p:cNvSpPr/>
          <p:nvPr/>
        </p:nvSpPr>
        <p:spPr>
          <a:xfrm>
            <a:off x="2521080" y="5770440"/>
            <a:ext cx="58680" cy="36720"/>
          </a:xfrm>
          <a:prstGeom prst="pie">
            <a:avLst/>
          </a:prstGeom>
          <a:solidFill>
            <a:srgbClr val="575f6d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lnSpc>
                <a:spcPct val="106000"/>
              </a:lnSpc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2"/>
          <p:cNvSpPr/>
          <p:nvPr/>
        </p:nvSpPr>
        <p:spPr>
          <a:xfrm>
            <a:off x="4136400" y="168120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ara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3"/>
          <p:cNvSpPr/>
          <p:nvPr/>
        </p:nvSpPr>
        <p:spPr>
          <a:xfrm>
            <a:off x="2420640" y="34290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4"/>
          <p:cNvSpPr/>
          <p:nvPr/>
        </p:nvSpPr>
        <p:spPr>
          <a:xfrm>
            <a:off x="246960" y="54864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uayaqu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66"/>
          <p:cNvSpPr/>
          <p:nvPr/>
        </p:nvSpPr>
        <p:spPr>
          <a:xfrm flipH="1" flipV="1">
            <a:off x="4191120" y="1295280"/>
            <a:ext cx="102960" cy="15264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67"/>
          <p:cNvSpPr/>
          <p:nvPr/>
        </p:nvSpPr>
        <p:spPr>
          <a:xfrm flipH="1" flipV="1">
            <a:off x="1294920" y="3123720"/>
            <a:ext cx="1613160" cy="18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4" descr="cornIcon.gif"/>
          <p:cNvPicPr/>
          <p:nvPr/>
        </p:nvPicPr>
        <p:blipFill>
          <a:blip r:embed="rId7"/>
          <a:stretch/>
        </p:blipFill>
        <p:spPr>
          <a:xfrm>
            <a:off x="1870200" y="2438280"/>
            <a:ext cx="415800" cy="439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6" descr="cornIcon.gif"/>
          <p:cNvPicPr/>
          <p:nvPr/>
        </p:nvPicPr>
        <p:blipFill>
          <a:blip r:embed="rId8"/>
          <a:stretch/>
        </p:blipFill>
        <p:spPr>
          <a:xfrm>
            <a:off x="3429000" y="1752480"/>
            <a:ext cx="415800" cy="439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8" descr="factory.jpg"/>
          <p:cNvPicPr/>
          <p:nvPr/>
        </p:nvPicPr>
        <p:blipFill>
          <a:blip r:embed="rId9"/>
          <a:stretch/>
        </p:blipFill>
        <p:spPr>
          <a:xfrm>
            <a:off x="4267080" y="1193760"/>
            <a:ext cx="451080" cy="406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7" descr="factory.jpg"/>
          <p:cNvPicPr/>
          <p:nvPr/>
        </p:nvPicPr>
        <p:blipFill>
          <a:blip r:embed="rId10"/>
          <a:stretch/>
        </p:blipFill>
        <p:spPr>
          <a:xfrm>
            <a:off x="2819520" y="2971800"/>
            <a:ext cx="450720" cy="406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7" descr="factory.jpg"/>
          <p:cNvPicPr/>
          <p:nvPr/>
        </p:nvPicPr>
        <p:blipFill>
          <a:blip r:embed="rId11"/>
          <a:stretch/>
        </p:blipFill>
        <p:spPr>
          <a:xfrm>
            <a:off x="533520" y="5156280"/>
            <a:ext cx="450720" cy="40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cornIcon.gif"/>
          <p:cNvPicPr/>
          <p:nvPr/>
        </p:nvPicPr>
        <p:blipFill>
          <a:blip r:embed="rId12"/>
          <a:stretch/>
        </p:blipFill>
        <p:spPr>
          <a:xfrm>
            <a:off x="727200" y="4589640"/>
            <a:ext cx="415800" cy="439560"/>
          </a:xfrm>
          <a:prstGeom prst="rect">
            <a:avLst/>
          </a:prstGeom>
          <a:ln w="0">
            <a:noFill/>
          </a:ln>
        </p:spPr>
      </p:pic>
      <p:sp>
        <p:nvSpPr>
          <p:cNvPr id="408" name="Straight Connector 37"/>
          <p:cNvSpPr/>
          <p:nvPr/>
        </p:nvSpPr>
        <p:spPr>
          <a:xfrm flipH="1">
            <a:off x="3844800" y="1600200"/>
            <a:ext cx="534960" cy="37152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40"/>
          <p:cNvSpPr/>
          <p:nvPr/>
        </p:nvSpPr>
        <p:spPr>
          <a:xfrm flipH="1" flipV="1">
            <a:off x="2286000" y="2742840"/>
            <a:ext cx="533520" cy="2970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43"/>
          <p:cNvSpPr/>
          <p:nvPr/>
        </p:nvSpPr>
        <p:spPr>
          <a:xfrm flipH="1">
            <a:off x="726840" y="4902120"/>
            <a:ext cx="81000" cy="25416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47"/>
          <p:cNvSpPr/>
          <p:nvPr/>
        </p:nvSpPr>
        <p:spPr>
          <a:xfrm>
            <a:off x="152280" y="2895480"/>
            <a:ext cx="1143000" cy="2336760"/>
          </a:xfrm>
          <a:prstGeom prst="pie">
            <a:avLst/>
          </a:prstGeom>
          <a:noFill/>
          <a:ln w="38160">
            <a:solidFill>
              <a:srgbClr val="0000ff"/>
            </a:solidFill>
            <a:prstDash val="dash"/>
            <a:miter/>
            <a:headEnd len="med" type="arrow" w="med"/>
            <a:tailEnd len="med" type="triangle" w="med"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Curved Connector 51"/>
          <p:cNvCxnSpPr/>
          <p:nvPr/>
        </p:nvCxnSpPr>
        <p:spPr>
          <a:xfrm rot="10800000">
            <a:off x="2194920" y="1193040"/>
            <a:ext cx="1996200" cy="224640"/>
          </a:xfrm>
          <a:prstGeom prst="curvedConnector5">
            <a:avLst>
              <a:gd name="adj1" fmla="val 50000"/>
              <a:gd name="adj2" fmla="val 49919"/>
              <a:gd name="adj3" fmla="val 50000"/>
            </a:avLst>
          </a:prstGeom>
          <a:ln w="25560">
            <a:solidFill>
              <a:srgbClr val="000000"/>
            </a:solidFill>
            <a:prstDash val="dashDot"/>
            <a:miter/>
          </a:ln>
        </p:spPr>
      </p:cxnSp>
      <p:cxnSp>
        <p:nvCxnSpPr>
          <p:cNvPr id="413" name="Curved Connector 60"/>
          <p:cNvCxnSpPr/>
          <p:nvPr/>
        </p:nvCxnSpPr>
        <p:spPr>
          <a:xfrm flipH="1" rot="16200000">
            <a:off x="1741320" y="1668960"/>
            <a:ext cx="1756440" cy="849960"/>
          </a:xfrm>
          <a:prstGeom prst="curvedConnector5">
            <a:avLst>
              <a:gd name="adj1" fmla="val 70172"/>
              <a:gd name="adj2" fmla="val 50000"/>
              <a:gd name="adj3" fmla="val 70172"/>
            </a:avLst>
          </a:prstGeom>
          <a:ln w="25560">
            <a:solidFill>
              <a:srgbClr val="000000"/>
            </a:solidFill>
            <a:prstDash val="dashDot"/>
            <a:miter/>
          </a:ln>
        </p:spPr>
      </p:cxnSp>
      <p:sp>
        <p:nvSpPr>
          <p:cNvPr id="414" name="TextBox 75"/>
          <p:cNvSpPr/>
          <p:nvPr/>
        </p:nvSpPr>
        <p:spPr>
          <a:xfrm>
            <a:off x="350280" y="42782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CU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6"/>
          <p:cNvSpPr/>
          <p:nvPr/>
        </p:nvSpPr>
        <p:spPr>
          <a:xfrm>
            <a:off x="1675440" y="379872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OLOMB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7"/>
          <p:cNvSpPr/>
          <p:nvPr/>
        </p:nvSpPr>
        <p:spPr>
          <a:xfrm>
            <a:off x="4073760" y="219240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VENEZ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NAGERIAL PROBLEM DEFINITION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14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should Kellogg’s allocate its production capacity to meet regional demand while minimizing cost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2437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op prices by cou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ded packaging prices by cou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sts for local and international transpor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ctory capacities and efficiency r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mand by count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 general factory costs (Labor and SG&amp;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8880" y="1602000"/>
            <a:ext cx="786060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Inputs (from Kellogg’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Content Placeholder 3"/>
          <p:cNvSpPr/>
          <p:nvPr/>
        </p:nvSpPr>
        <p:spPr>
          <a:xfrm>
            <a:off x="428760" y="2362320"/>
            <a:ext cx="757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Tons of product “i” to produce in factory “j”, for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untry “k”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Placeholder 5"/>
          <p:cNvSpPr/>
          <p:nvPr/>
        </p:nvSpPr>
        <p:spPr>
          <a:xfrm>
            <a:off x="457200" y="156996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209160" y="3276720"/>
            <a:ext cx="4923720" cy="28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i=  1 Corn Fl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2 Rice Kris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j=  1 Factory A (Colom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2 Factory B (Ecu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3 Factory C (Venezu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4130640" y="3276720"/>
            <a:ext cx="341784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k=  1 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2 Ecu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ＭＳ Ｐゴシック"/>
              </a:rPr>
              <a:t>3 Venez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7"/>
          <p:cNvSpPr/>
          <p:nvPr/>
        </p:nvSpPr>
        <p:spPr>
          <a:xfrm>
            <a:off x="457200" y="611676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8 Total 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tle 1"/>
          <p:cNvSpPr/>
          <p:nvPr/>
        </p:nvSpPr>
        <p:spPr>
          <a:xfrm>
            <a:off x="4572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Content Placeholder 2"/>
          <p:cNvSpPr/>
          <p:nvPr/>
        </p:nvSpPr>
        <p:spPr>
          <a:xfrm>
            <a:off x="457200" y="243828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ize total production cost for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tal Cost = Factory A Cost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 Factory B Costs + Factory C Cost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ctory cos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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w materials +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bor and SG&amp;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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port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Placeholder 4"/>
          <p:cNvSpPr/>
          <p:nvPr/>
        </p:nvSpPr>
        <p:spPr>
          <a:xfrm>
            <a:off x="457200" y="156996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Objectiv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85280" y="23619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uce and ship to meet each country’s dem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uction capacity by facto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llogg’s does not ship products between Venezuela and Ecuador for strategic reas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-negati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Text Placeholder 10"/>
          <p:cNvSpPr/>
          <p:nvPr/>
        </p:nvSpPr>
        <p:spPr>
          <a:xfrm>
            <a:off x="457200" y="156996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LUTION METHOD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152280" y="1682640"/>
            <a:ext cx="8001000" cy="5023080"/>
          </a:xfrm>
          <a:prstGeom prst="rect">
            <a:avLst/>
          </a:prstGeom>
          <a:ln w="0">
            <a:noFill/>
          </a:ln>
        </p:spPr>
      </p:pic>
      <p:sp>
        <p:nvSpPr>
          <p:cNvPr id="436" name="Text Placeholder 4"/>
          <p:cNvSpPr/>
          <p:nvPr/>
        </p:nvSpPr>
        <p:spPr>
          <a:xfrm>
            <a:off x="457200" y="990720"/>
            <a:ext cx="7543800" cy="658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36:01Z</dcterms:created>
  <dc:creator>Diana Espin</dc:creator>
  <dc:description/>
  <dc:language>en-US</dc:language>
  <cp:lastModifiedBy>Diana Espin</cp:lastModifiedBy>
  <dcterms:modified xsi:type="dcterms:W3CDTF">2008-11-24T19:39:07Z</dcterms:modified>
  <cp:revision>21</cp:revision>
  <dc:subject/>
  <dc:title>North East South America Production Plan</dc:title>
</cp:coreProperties>
</file>