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965F-CC09-444F-8D61-49A4F08E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A154-E857-4DC2-83D2-091DACCE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5122-B67F-4038-9BEB-9512416DF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932-2B60-48E6-AF6A-2AD445AE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4A6-C7B0-41CC-9A76-18BA0053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24BE-C367-465A-967A-64CD7361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ED3-7B5D-40DF-9679-888C35F6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710-1F65-41D7-AC4A-BE4590F0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E13-E3A3-4281-8AE6-46C16FA5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DB1-250B-4542-BAF9-21A719CF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D5F-CDF1-4545-A562-66DEDFB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4BD-0F01-45B3-AC87-367076FE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3E6-CCD8-41D8-99ED-B1299566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209-2814-4C28-B63D-1F894EE3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15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95A-41DD-4D6E-BEB0-2CC006FC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ACC-7063-49CB-8560-513C643E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DC3-CEBB-4EFA-8B1A-6493CDC9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D67-3107-4EC4-8D49-269D04C7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header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50A1-BFF2-4A2D-80E0-6E11657EF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cove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casting demand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priority for each cou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04920" y="1195560"/>
            <a:ext cx="7238880" cy="436716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d Simple Exponential Smoo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trend) and sought to minimize the RM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uilding the probability 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96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1242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1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up to 7 classes from the list of courses and sections available for next sem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18960" y="2666880"/>
            <a:ext cx="8596440" cy="3040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8600" y="12978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2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the level of importance of each course to you (what we call the Ut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52360" y="2286000"/>
            <a:ext cx="8739360" cy="3068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28600" y="5562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evel of Utility allocates reward points to the corresponding cou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228600" y="11451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up to 3 specializations that you are pursuing and the completed credits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31000" cy="377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" y="5867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s in completed specializations will be penalized and those in non-started ones will receive bo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1220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ep 4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the optimize button and wait for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2806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 simple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0000" y="1461960"/>
            <a:ext cx="8602560" cy="3934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7304040" cy="1881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52280" y="350532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ftware tells us to apply in the following 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1: DBI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: Restructuring Firms and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3: Competitive Strategy in the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4: Foundations of Entrepreneu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5: Profession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forget about Modeling Financial Statements and Advertisin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Stern Lottery Optimizer 1.0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xample’s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eatures in Upcoming Version 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database to include all courses offered at NYU S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for the Langone students’ demands by adding Evening courses vs. Day course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ing the forecasting techniques by taking into account for example: trends that we might witness or even sea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ther optionalities such as class scheduling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ourses and sections that would avoid scheduling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ourses and sections that would fit nicely into your desired class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406680" cy="3529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ubleshooting and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9880" y="1905120"/>
            <a:ext cx="51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Helpdesk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-800-LOTTE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p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p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4038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ursar balance  is $23,485.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ring 2009 tuition payment is due on December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you tired of applying fo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our favorite courses and section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447920"/>
          <a:ext cx="8915400" cy="330192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40.3331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moda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 10:30am-11:50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10.330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ing 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6:00pm-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70.2114.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of Sports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eberman/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07:35pm-0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86.3303.0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 Argent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65.2327.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ing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zzar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06:00pm-0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nd getting this resul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447920"/>
          <a:ext cx="8915400" cy="303192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4520"/>
                <a:gridCol w="1782720"/>
                <a:gridCol w="178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40.337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e Course #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 early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10.444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e Course #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 you seen the CF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6:00pm-9:0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60.235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01:30pm-04:2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86.3303.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 Now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152280" y="472428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, then you might want to try Stern Lottery Optimizer 1.0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28600" y="145224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me up with a model that maximizes the expected probability of getting desired courses by providing the optimum primary courses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Stock_000003496039XSmall.jpg"/>
          <p:cNvPicPr/>
          <p:nvPr/>
        </p:nvPicPr>
        <p:blipFill>
          <a:blip r:embed="rId1"/>
          <a:stretch/>
        </p:blipFill>
        <p:spPr>
          <a:xfrm>
            <a:off x="-152280" y="3649680"/>
            <a:ext cx="9448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71800" y="137808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 Rubin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ant Dean, Academic Affairs &amp; Enrollment Management was kind enough to provide us with capacity and historical demand for courses, from which we have pre-selected 12 courses for the purpose of our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_rubin"/>
          <p:cNvPicPr/>
          <p:nvPr/>
        </p:nvPicPr>
        <p:blipFill>
          <a:blip r:embed="rId1"/>
          <a:stretch/>
        </p:blipFill>
        <p:spPr>
          <a:xfrm>
            <a:off x="304920" y="1447920"/>
            <a:ext cx="2200320" cy="3724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971800" y="3213000"/>
            <a:ext cx="617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al Respon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Report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tegrated Approach to Financial State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Financia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Macroeconomic Policy: Theory and Evidence from Recent Financial C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ucturing Firms and Indus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ure Capital 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preneurial 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ations of Entrepreneu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ertising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ve Strategy in the Market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I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 Sample of the Raw Da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7932600" cy="3454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228600" y="512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course, we are given: maximum capacity,  total demand during that semester’s lottery, as well as demand per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8:37:50Z</dcterms:created>
  <dc:creator>Junghoon Kim</dc:creator>
  <dc:description/>
  <dc:language>en-US</dc:language>
  <cp:lastModifiedBy>Hadi Harati</cp:lastModifiedBy>
  <dcterms:modified xsi:type="dcterms:W3CDTF">2008-12-01T17:41:36Z</dcterms:modified>
  <cp:revision>129</cp:revision>
  <dc:subject/>
  <dc:title>Slide 1</dc:title>
</cp:coreProperties>
</file>