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10.wmf" ContentType="image/x-wmf"/>
  <Override PartName="/ppt/media/image4.jpeg" ContentType="image/jpeg"/>
  <Override PartName="/ppt/media/image16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913D-A7E1-4AF3-89DA-84413CD1D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947E-E72B-4C09-AE03-F8ED95A96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56C6-9F37-4E23-812A-CF0A4BFD3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F03B-4D50-4FCC-B04F-308F6D167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5D29-085A-4E4C-ADA3-8253361C4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428D-2119-4EEE-B43C-0C284F2EF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F5E3-2116-48A0-868F-E778BF641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8553-C35B-49A3-BFE2-ED700424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6191-71BA-4FD0-8E56-45D953A86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DE00-587B-4630-ABE5-936A67C0E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3E4E-1E76-4FFD-A640-161990D4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08AB-C221-4A10-8D47-F53E9F09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BA52-8F6F-4AD8-B3D3-EB1E8A5D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C399-A113-4B5C-8DC2-C39E585D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-15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16A2-A575-4FBA-AE99-2215873F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8D30-224F-4C69-94C2-8028997A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928C-D785-4E8B-98A6-0DBF2621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DEF8-AA8C-46C6-89A7-593AC149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header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2582-8109-4CD0-B7EA-1145E3248F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" descr="cover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ecasting demand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y priority for each cour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304920" y="1195560"/>
            <a:ext cx="7238880" cy="436716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228600" y="57150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ssumed Simple Exponential Smooth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no trend) and sought to minimize the RM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Building the probability 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496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228600" y="12427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tep 1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oose up to 7 classes from the list of courses and sections available for next sem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318960" y="2666880"/>
            <a:ext cx="8596440" cy="30402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Stern Lottery Optimizer 1.0: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 simple ste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228600" y="129780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tep 2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oose the level of importance of each course to you (what we call the Uti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52360" y="2286000"/>
            <a:ext cx="8739360" cy="306864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228600" y="55627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level of Utility allocates reward points to the corresponding cour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Stern Lottery Optimizer 1.0: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 simple ste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228600" y="11451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tep 3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y up to 3 specializations that you are pursuing and the completed credits in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31000" cy="3776760"/>
          </a:xfrm>
          <a:prstGeom prst="rect">
            <a:avLst/>
          </a:prstGeom>
          <a:ln w="0">
            <a:noFill/>
          </a:ln>
        </p:spPr>
      </p:pic>
      <p:sp>
        <p:nvSpPr>
          <p:cNvPr id="83" name="TextBox 6"/>
          <p:cNvSpPr/>
          <p:nvPr/>
        </p:nvSpPr>
        <p:spPr>
          <a:xfrm>
            <a:off x="228600" y="5867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rses in completed specializations will be penalized and those in non-started ones will receive bon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Stern Lottery Optimizer 1.0: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 simple ste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228600" y="12204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tep 4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sh the optimize button and wait for the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458200" cy="2806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Stern Lottery Optimizer 1.0: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 simple ste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70000" y="1461960"/>
            <a:ext cx="8602560" cy="39340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Stern Lottery Optimizer 1.0: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7304040" cy="188136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152280" y="3505320"/>
            <a:ext cx="883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oftware tells us to apply in the following wa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1: DBI 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2: Restructuring Firms and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3: Competitive Strategy in the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4: Foundations of Entrepreneu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5: Professional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o forget about Modeling Financial Statements and Advertisin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Stern Lottery Optimizer 1.0: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Example’s Outp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Features in Upcoming Version 1.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6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 the database to include all courses offered at NYU S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 for the Langone students’ demands by adding Evening courses vs. Day courses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ing the forecasting techniques by taking into account for example: trends that we might witness or even seas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other optionalities such as class scheduling pos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courses and sections that would avoid scheduling 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courses and sections that would fit nicely into your desired class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3406680" cy="35290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oubleshooting and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ther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9880" y="1905120"/>
            <a:ext cx="5181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contact 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 Helpdesk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-800-LOTTER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p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p3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p3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4560" y="40381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bursar balance  is $23,485.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pring 2009 tuition payment is due on December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re you tired of applying for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your favorite courses and section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28600" y="1447920"/>
          <a:ext cx="8915400" cy="3301920"/>
        </p:xfrm>
        <a:graphic>
          <a:graphicData uri="http://schemas.openxmlformats.org/drawingml/2006/table">
            <a:tbl>
              <a:tblPr/>
              <a:tblGrid>
                <a:gridCol w="1782720"/>
                <a:gridCol w="1782720"/>
                <a:gridCol w="1784520"/>
                <a:gridCol w="1782720"/>
                <a:gridCol w="1782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rse 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rse 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red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cul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hed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40.3331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u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moda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W 10:30am-11:50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10.3304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ling 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 6:00pm-9:0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70.2114.3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of Sports Mark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eberman/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07:35pm-09:0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86.3303.0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I Argentin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65.2327.2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ing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zzar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 06:00pm-09:0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nd getting this resul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28600" y="1447920"/>
          <a:ext cx="8915400" cy="3031920"/>
        </p:xfrm>
        <a:graphic>
          <a:graphicData uri="http://schemas.openxmlformats.org/drawingml/2006/table">
            <a:tbl>
              <a:tblPr/>
              <a:tblGrid>
                <a:gridCol w="1782720"/>
                <a:gridCol w="1782720"/>
                <a:gridCol w="1784520"/>
                <a:gridCol w="1782720"/>
                <a:gridCol w="1782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rse 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rse 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red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cul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hed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40.3377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ernate Course #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o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o early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10.4444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ernate Course #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ve you seen the CF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 6:00pm-9:0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60.235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ision Mod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 01:30pm-04:2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86.3303.0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I Nowhe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8" name="TextBox 4"/>
          <p:cNvSpPr/>
          <p:nvPr/>
        </p:nvSpPr>
        <p:spPr>
          <a:xfrm>
            <a:off x="152280" y="472428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 are, then you might want to try Stern Lottery Optimizer 1.0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roduct Descrip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228600" y="1452240"/>
            <a:ext cx="853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me up with a model that maximizes the expected probability of getting desired courses by providing the optimum primary courses se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iStock_000003496039XSmall.jpg"/>
          <p:cNvPicPr/>
          <p:nvPr/>
        </p:nvPicPr>
        <p:blipFill>
          <a:blip r:embed="rId1"/>
          <a:stretch/>
        </p:blipFill>
        <p:spPr>
          <a:xfrm>
            <a:off x="-152280" y="3649680"/>
            <a:ext cx="944856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2971800" y="1378080"/>
            <a:ext cx="586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h Rubin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ant Dean, Academic Affairs &amp; Enrollment Management was kind enough to provide us with capacity and historical demand for courses, from which we have pre-selected 12 courses for the purpose of our sim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H_rubin"/>
          <p:cNvPicPr/>
          <p:nvPr/>
        </p:nvPicPr>
        <p:blipFill>
          <a:blip r:embed="rId1"/>
          <a:stretch/>
        </p:blipFill>
        <p:spPr>
          <a:xfrm>
            <a:off x="304920" y="1447920"/>
            <a:ext cx="2200320" cy="37242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2971800" y="3213000"/>
            <a:ext cx="61722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essional Responsi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ncial Reporting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Integrated Approach to Financial Statement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ing Financial Stat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tional Macroeconomic Policy: Theory and Evidence from Recent Financial C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ucturing Firms and Indus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nture Capital Fina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repreneurial Fi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ndations of Entrepreneur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vertising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etitive Strategy in the Market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I Argent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 Sample of the Raw Da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7932600" cy="345456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228600" y="51246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ach course, we are given: maximum capacity,  total demand during that semester’s lottery, as well as demand per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8:37:50Z</dcterms:created>
  <dc:creator>Junghoon Kim</dc:creator>
  <dc:description/>
  <dc:language>en-US</dc:language>
  <cp:lastModifiedBy>Hadi Harati</cp:lastModifiedBy>
  <dcterms:modified xsi:type="dcterms:W3CDTF">2008-12-01T17:41:36Z</dcterms:modified>
  <cp:revision>129</cp:revision>
  <dc:subject/>
  <dc:title>Slide 1</dc:title>
</cp:coreProperties>
</file>