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DBD-1C13-40B0-8318-AA4A15CE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2F7-F7CA-4FD9-A654-20276C53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DB7-2398-435E-9857-A087244F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5E2-FA57-46FC-A7E3-D8AC0F69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DB9E-593B-47A7-A278-AE91CC5E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A661-2842-4C7B-95CF-8C06539E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4514-C69F-4A7F-841B-6B8B2894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63D1-C00C-425C-A472-4FF2B185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8F53-B4AD-4B5D-B6D4-97139828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4E8E-B853-45F1-AC00-70A6E9B6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539E-6298-4665-9383-F15611C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611-F2D3-4915-AC29-6C5CD50D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5714-391D-42E3-A1FF-12691DE3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3D40-D6CF-4E97-BD0D-A87D9FA5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F71F-6DD9-4633-BE22-03B63ABA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EF5B-2156-472E-B241-AEE89ACF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AE29-117B-419A-984E-3BF6B977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D81-2CF1-433A-87F6-4F445522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A8E-0367-402C-9CDC-E07225E5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544-0305-45DA-8D2A-CF91D066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E27-B7D9-46AF-B1D8-909A1664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604-2DA5-4D46-8CD7-CDA3E41F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2C8-FA65-4CE7-B0AD-2918FB3E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05C-20C9-4259-8637-92DD01DE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73960" y="4448160"/>
            <a:ext cx="4322520" cy="431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C414-52F5-497D-98D8-354B17021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8073-E13F-4C2F-B917-FCFE6C1BE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997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ntasy        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Ch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97960" y="0"/>
            <a:ext cx="22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Konami’s Double Drib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antasy Spor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tasy Sports is “a game where participants act as owners to build a team that competes against other fantasy owners based on the statistics generated by the real individual players or teams of a professional sport.” (Wikip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 (baseball, football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sketb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ing Types (Roto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2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ad-to-head, teams play one another each week over the course of the season. Each week real-life statistics of the players on each team are accumulated and sc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, Loss, or Tie for each statistical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30 million play in US and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3984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2120" y="5334120"/>
            <a:ext cx="10666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5029200"/>
            <a:ext cx="3045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0" y="-15840"/>
            <a:ext cx="34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online.wsj.com/article/SB12241982356444266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ing is essential to winning fantasy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player selections to maximize winning percentage in H2H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tool to use during th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s complex. Need simplifying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ast year’s numbers - works well for basketball (tight standard deviation Y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eams, 8 players – 64 total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schedule - teams play each other same number of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fault player to populate each team to start off the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tatistics of top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s as draft progresses (w/o re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s start out evenly (wpct = 0.5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position constraints (pg, sg, sf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ial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real-life player to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winning percentage for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MBA Team problem from sess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Sol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te Fo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o many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ad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-tune player statistic projection (based on injury history, coaching styl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drink and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20:19:51Z</dcterms:created>
  <dc:creator>jameschoe</dc:creator>
  <dc:description/>
  <dc:language>en-US</dc:language>
  <cp:lastModifiedBy>jameschoe</cp:lastModifiedBy>
  <dcterms:modified xsi:type="dcterms:W3CDTF">2009-12-07T04:27:28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