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49A-02CC-412B-900E-94B9345F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EAC-73AC-40B5-84EB-B0D041E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503-3130-4E94-BAD8-86577D07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C93-7093-4987-BA25-001D5444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AD17-F940-40A4-AB56-C888B2A7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0754-D665-4B84-AAC4-5B101DAF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C0A9-09F0-4ECF-A7CA-1F9CC714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39B6-3E40-4DF7-8080-751AF49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C77-729F-43D7-9EC9-88640A09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1A35-3CEE-4DDE-A9F6-1614D600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226C-B98B-4F25-B1D3-DF5DD3C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A48-3305-40B3-AA3C-6F205E64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96F-F3BE-4B8E-86A2-4D5E702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3A7E-ED95-49BF-92EB-9F98D937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EDD-CE95-4611-BE05-08374EF8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906C-9808-4C38-A398-4C4BB639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E600-4220-4FEA-9DDC-7B7D579D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7C5-845E-404A-8495-8415A47E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227-37F2-4F76-A80A-8C22ED6E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EC3-4EDF-485D-8CD6-37A157E5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7F3-8433-4991-8BCE-4BDDF2E7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231-ECC9-46E4-B970-09360E03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7DD-A611-48AF-A4C8-C850952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42C-4D29-4A1D-A0D0-31AF609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73960" y="4448160"/>
            <a:ext cx="4322520" cy="431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BAD-B24D-42D5-9E51-622DA4C05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CB5-8258-4EEF-8736-DE92B1397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997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ntasy        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Ch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97960" y="0"/>
            <a:ext cx="22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Konami’s Double Drib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ntasy S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tasy Sports is “a game where participants act as owners to build a team that competes against other fantasy owners based on the statistics generated by the real individual players or teams of a professional sport.” (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 (baseball, football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sket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ing Types (Roto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2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ad-to-head, teams play one another each week over the course of the season. Each week real-life statistics of the players on each team are accumulated and sc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, Loss, or Tie for each statistical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30 million play in US and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3984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5334120"/>
            <a:ext cx="10666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5029200"/>
            <a:ext cx="3045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0" y="-15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online.wsj.com/article/SB12241982356444266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ing is essential to winning fantas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layer selections to maximize winning percentage in H2H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tool to use during th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complex. Need simplifying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ast year’s numbers - works well for basketball (tight standard deviation Y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eams, 8 players – 64 total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schedule - teams play each other same number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player to populate each team to start off th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tatistics of top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s as draft progresses (w/o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s start out evenly (wpct = 0.5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position constraints (pg, sg, sf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real-life player to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winning percentage for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MBA Team problem from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Sol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te Fo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many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ad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player statistic projection (based on injury history, coaching styl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drink and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20:19:51Z</dcterms:created>
  <dc:creator>jameschoe</dc:creator>
  <dc:description/>
  <dc:language>en-US</dc:language>
  <cp:lastModifiedBy>jameschoe</cp:lastModifiedBy>
  <dcterms:modified xsi:type="dcterms:W3CDTF">2009-12-07T04:27:28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