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9FB4-68B4-4AE5-B4A2-7D1B0E74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2D27-2256-4147-8DD1-D00563C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1642-1E05-4D0D-856A-0E819CCF5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930F-B004-4806-ADDD-D94FD7F6C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7B87-A9C4-4CB2-9D8B-1132277B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87F15-835F-433A-89F9-036203915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4DD66-DB1B-4500-A424-0F1C1618A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77DA-4947-4905-953C-C14E42AEC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C0197-6CB7-4016-9BF7-4A00A7BD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61658-6E8E-4C99-94CF-9B572BFF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3E2F-2CE6-4F3F-91E1-3ED0DC19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146-45FB-4CD1-B16B-2A077119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CAC-8A7C-4B3C-B11D-8466E43D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3397-0E52-4403-865E-58B8719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723C2-565A-413A-B9E0-D75AEA7C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2470E-82AD-4729-B7C0-91D8F2D5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6A3D-B74E-400F-9E20-1F133FBA9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4AB1-EAA2-4BF0-97AC-E8C49767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EFB1-5CC3-476B-A968-3237B0F1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08AB-0143-4641-9A64-443288BA8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66DD-B0B8-4355-B8E9-DE178417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6D1A-D8EF-4C6D-B92E-C9F9FF6E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177C-910D-41BE-B55E-1A417A5F4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EEEE-F7EF-4057-B930-B9B33F34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6573960" y="4448160"/>
            <a:ext cx="4322520" cy="431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FDAB1-47EE-4A66-BE15-617698BB91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77A96-1C0F-4E87-936E-7C7275793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79977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ntasy         Basketba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mes Ch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97960" y="0"/>
            <a:ext cx="224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Konami’s Double Drib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antasy Sport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ntasy Sports is “a game where participants act as owners to build a team that competes against other fantasy owners based on the statistics generated by the real individual players or teams of a professional sport.” (Wikiped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varia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orts (baseball, football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asketb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ring Types (Roto,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2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Poi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head-to-head, teams play one another each week over the course of the season. Each week real-life statistics of the players on each team are accumulated and sco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, Loss, or Tie for each statistical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ximately 30 million play in US and Can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518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62120" y="5334120"/>
            <a:ext cx="10666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0120" y="5029200"/>
            <a:ext cx="30456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00" y="-15840"/>
            <a:ext cx="343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online.wsj.com/article/SB12241982356444266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ing is essential to winning fantasy basket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mize player selections to maximize winning percentage in H2H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active tool to use during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 is complex. Need simplifying assum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last year’s numbers - works well for basketball (tight standard deviation YO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eams, 8 players – 64 total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schedule - teams play each other same number of wee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default player to populate each team to start off the d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tatistics of top p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justs as draft progresses (w/o replace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ms start out evenly (wpct = 0.5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gnore position constraints (pg, sg, sf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erial For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cis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real-life player to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bj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ize winning percentage for the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stra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ilar to MBA Team problem from sessi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cel Sol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te For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too many play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sible addi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e-tune player statistic projection (based on injury history, coaching style, et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drink and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20:19:51Z</dcterms:created>
  <dc:creator>jameschoe</dc:creator>
  <dc:description/>
  <dc:language>en-US</dc:language>
  <cp:lastModifiedBy>jameschoe</cp:lastModifiedBy>
  <dcterms:modified xsi:type="dcterms:W3CDTF">2009-12-07T04:27:28Z</dcterms:modified>
  <cp:revision>3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