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015-C929-4E5C-83D3-228236E2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F40-637C-4212-A2A1-C7DC02D6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D94-BC84-425B-AE8A-F77E8DAE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3B6-67D8-4A55-A5B8-211FCE59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37576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3F6-DB3A-4AF3-9B25-E6E69D12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0915-AC97-4D94-84E1-D2B07F030D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666C-FF12-4DC5-B30F-68FA6CBEBE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4639-8BBB-4360-8916-131541D359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5366-95A4-4F1F-AE54-09D7567DA9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3659-810A-428B-BF61-99C2AC71B2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54F-8393-4C42-9E66-101E22C0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37576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36B7-58F5-420B-A065-F3E358B12D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8F28-1BA2-44F4-BFEB-DAEA7DA87D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26E0-999F-4C53-B8B2-B35AA12108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7791-1E6D-4326-939F-7819E66DE3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96BB-8587-4A62-AC16-AFCCAB61F0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CDD4-E213-4DC6-90F2-A82163CD40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B96A-1C19-43E7-8CBF-B1CF507D4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FC9-40C6-46E5-A67F-ACCA77F1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477-B2A5-49C3-8A13-159D48D1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37576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D80-2D93-48CF-9596-BB796FD9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2D4-C07A-4EE5-8A38-4A804793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30A-56D8-46CA-9BD1-4EBEDA42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844-1C86-46A0-BB60-8E1C491D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8A6F-908B-4D62-A178-FA08D70DD6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8864-0B31-4BAA-A6C6-1074D82BF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E5E8-7EC2-4EF2-8797-512D50263C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8352000" y="6369120"/>
            <a:ext cx="411120" cy="336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C01B-DF95-4649-8DBA-8E7BEC2F2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ptimal Basebal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Rakesh Dugg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aniel Min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Michael Pollac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Michael Senn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ptim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is te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1B84-D774-4103-A267-FAD4D08D0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0880" y="990720"/>
            <a:ext cx="2743200" cy="685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SPN power ranking is one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200400" y="990720"/>
            <a:ext cx="2743200" cy="685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del approach ha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80880" y="1752480"/>
            <a:ext cx="2743200" cy="2133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Large sample bias with high potential for skewed data due to statistics based on one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layer rankings are based on fantasy statistics, not metrics to identify MV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ielder rankings are based on offensive stats and do not include fielding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200400" y="1752480"/>
            <a:ext cx="2743200" cy="2133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tangibles (attitude, leadership, drug use) are unac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del favors younger super star players with high ranks and low sa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layer rank favors starters and closers, leaving out reli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mall subset of statistics were used to deriv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6019920" y="990720"/>
            <a:ext cx="2743200" cy="685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timal focuses on players, not team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6019920" y="1752480"/>
            <a:ext cx="2743200" cy="2133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eam composition does not take into account team dynamics and posi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eam style and divisional opponents style are not taken into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5"/>
          <p:cNvGrpSpPr/>
          <p:nvPr/>
        </p:nvGrpSpPr>
        <p:grpSpPr>
          <a:xfrm>
            <a:off x="1067040" y="3622680"/>
            <a:ext cx="3060000" cy="2133360"/>
            <a:chOff x="1067040" y="3622680"/>
            <a:chExt cx="3060000" cy="2133360"/>
          </a:xfrm>
        </p:grpSpPr>
        <p:sp>
          <p:nvSpPr>
            <p:cNvPr id="246" name="AutoShape 5"/>
            <p:cNvSpPr/>
            <p:nvPr/>
          </p:nvSpPr>
          <p:spPr>
            <a:xfrm rot="389400">
              <a:off x="1149120" y="3975480"/>
              <a:ext cx="2895480" cy="1622160"/>
            </a:xfrm>
            <a:prstGeom prst="foldedCorner">
              <a:avLst>
                <a:gd name="adj" fmla="val 33050"/>
              </a:avLst>
            </a:prstGeom>
            <a:solidFill>
              <a:srgbClr val="fde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73080" bIns="91440" anchor="t">
              <a:noAutofit/>
            </a:bodyPr>
            <a:p>
              <a:pPr marL="457200" indent="-111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alibri"/>
                </a:rPr>
                <a:t>Add  additional constrai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111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ge/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111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itching statistics/classif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111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atting statistics/classif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Picture 6" descr="j0398849"/>
            <p:cNvPicPr/>
            <p:nvPr/>
          </p:nvPicPr>
          <p:blipFill>
            <a:blip r:embed="rId1"/>
            <a:stretch/>
          </p:blipFill>
          <p:spPr>
            <a:xfrm>
              <a:off x="1219320" y="3622680"/>
              <a:ext cx="567000" cy="53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Group 16"/>
          <p:cNvGrpSpPr/>
          <p:nvPr/>
        </p:nvGrpSpPr>
        <p:grpSpPr>
          <a:xfrm>
            <a:off x="5105520" y="3699000"/>
            <a:ext cx="3060000" cy="2091960"/>
            <a:chOff x="5105520" y="3699000"/>
            <a:chExt cx="3060000" cy="2091960"/>
          </a:xfrm>
        </p:grpSpPr>
        <p:sp>
          <p:nvSpPr>
            <p:cNvPr id="249" name="AutoShape 5"/>
            <p:cNvSpPr/>
            <p:nvPr/>
          </p:nvSpPr>
          <p:spPr>
            <a:xfrm rot="389400">
              <a:off x="5187600" y="4010040"/>
              <a:ext cx="2895480" cy="1622520"/>
            </a:xfrm>
            <a:prstGeom prst="foldedCorner">
              <a:avLst>
                <a:gd name="adj" fmla="val 33050"/>
              </a:avLst>
            </a:prstGeom>
            <a:solidFill>
              <a:srgbClr val="fde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73080" bIns="91440" anchor="t">
              <a:noAutofit/>
            </a:bodyPr>
            <a:p>
              <a:pPr marL="457200" indent="-111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alibri"/>
                </a:rPr>
                <a:t>Improve Proje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111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orecast future rank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111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orecast future sala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111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orporate qualitative meas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6" descr="j0398849"/>
            <p:cNvPicPr/>
            <p:nvPr/>
          </p:nvPicPr>
          <p:blipFill>
            <a:blip r:embed="rId2"/>
            <a:stretch/>
          </p:blipFill>
          <p:spPr>
            <a:xfrm>
              <a:off x="5257800" y="3699000"/>
              <a:ext cx="567000" cy="53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Rectangle 14"/>
          <p:cNvSpPr/>
          <p:nvPr/>
        </p:nvSpPr>
        <p:spPr>
          <a:xfrm>
            <a:off x="380880" y="5791320"/>
            <a:ext cx="8382240" cy="6094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The point: significantly more metrics and factors need to be considered in devising the optimal te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2747880"/>
            <a:ext cx="7772400" cy="136224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Q&amp;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441C-769E-4471-8B96-51BE07F35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2362320"/>
          <a:ext cx="4419720" cy="213336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e probl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approa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 of 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u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 of model and solu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8C04-1D4B-487F-BA71-7FA6F0A9D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5864-2B7B-4706-8F78-43CEBF053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80880" y="1219320"/>
            <a:ext cx="8382240" cy="685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at is the best baseball roster we can have for the least total salary c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8"/>
          <p:cNvSpPr/>
          <p:nvPr/>
        </p:nvSpPr>
        <p:spPr>
          <a:xfrm>
            <a:off x="4533840" y="2255760"/>
            <a:ext cx="0" cy="3840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0"/>
          <p:cNvSpPr/>
          <p:nvPr/>
        </p:nvSpPr>
        <p:spPr>
          <a:xfrm>
            <a:off x="1981080" y="4076640"/>
            <a:ext cx="4953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7010280" y="38098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 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1143000" y="3809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 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4014720" y="1905120"/>
            <a:ext cx="109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 Sa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4014720" y="5943600"/>
            <a:ext cx="109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 Sa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9" descr="nyy.gif"/>
          <p:cNvPicPr/>
          <p:nvPr/>
        </p:nvPicPr>
        <p:blipFill>
          <a:blip r:embed="rId1"/>
          <a:stretch/>
        </p:blipFill>
        <p:spPr>
          <a:xfrm>
            <a:off x="6248520" y="21337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2" descr="nym.gif"/>
          <p:cNvPicPr/>
          <p:nvPr/>
        </p:nvPicPr>
        <p:blipFill>
          <a:blip r:embed="rId2"/>
          <a:stretch/>
        </p:blipFill>
        <p:spPr>
          <a:xfrm>
            <a:off x="3486240" y="25146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3" descr="was.gif"/>
          <p:cNvPicPr/>
          <p:nvPr/>
        </p:nvPicPr>
        <p:blipFill>
          <a:blip r:embed="rId3"/>
          <a:stretch/>
        </p:blipFill>
        <p:spPr>
          <a:xfrm>
            <a:off x="1981080" y="523872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4" descr="bal.gif"/>
          <p:cNvPicPr/>
          <p:nvPr/>
        </p:nvPicPr>
        <p:blipFill>
          <a:blip r:embed="rId4"/>
          <a:stretch/>
        </p:blipFill>
        <p:spPr>
          <a:xfrm>
            <a:off x="2514600" y="4724280"/>
            <a:ext cx="704880" cy="704880"/>
          </a:xfrm>
          <a:prstGeom prst="rect">
            <a:avLst/>
          </a:prstGeom>
          <a:ln w="0">
            <a:noFill/>
          </a:ln>
        </p:spPr>
      </p:pic>
      <p:sp>
        <p:nvSpPr>
          <p:cNvPr id="139" name="Oval 26"/>
          <p:cNvSpPr/>
          <p:nvPr/>
        </p:nvSpPr>
        <p:spPr>
          <a:xfrm>
            <a:off x="6400800" y="5486400"/>
            <a:ext cx="762120" cy="6858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Callout 1 28"/>
          <p:cNvSpPr/>
          <p:nvPr/>
        </p:nvSpPr>
        <p:spPr>
          <a:xfrm>
            <a:off x="7620120" y="4572000"/>
            <a:ext cx="1143000" cy="838080"/>
          </a:xfrm>
          <a:prstGeom prst="borderCallout1">
            <a:avLst>
              <a:gd name="adj1" fmla="val 18750"/>
              <a:gd name="adj2" fmla="val -8333"/>
              <a:gd name="adj3" fmla="val 136949"/>
              <a:gd name="adj4" fmla="val -65921"/>
            </a:avLst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ferred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9" descr="BOS.gif"/>
          <p:cNvPicPr/>
          <p:nvPr/>
        </p:nvPicPr>
        <p:blipFill>
          <a:blip r:embed="rId5"/>
          <a:stretch/>
        </p:blipFill>
        <p:spPr>
          <a:xfrm>
            <a:off x="5705640" y="2886120"/>
            <a:ext cx="695160" cy="695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CHC.gif"/>
          <p:cNvPicPr/>
          <p:nvPr/>
        </p:nvPicPr>
        <p:blipFill>
          <a:blip r:embed="rId6"/>
          <a:stretch/>
        </p:blipFill>
        <p:spPr>
          <a:xfrm>
            <a:off x="5257800" y="3543480"/>
            <a:ext cx="1523880" cy="952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1" descr="col.gif"/>
          <p:cNvPicPr/>
          <p:nvPr/>
        </p:nvPicPr>
        <p:blipFill>
          <a:blip r:embed="rId7"/>
          <a:stretch/>
        </p:blipFill>
        <p:spPr>
          <a:xfrm>
            <a:off x="4562640" y="4105440"/>
            <a:ext cx="695160" cy="695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2" descr="DET.gif"/>
          <p:cNvPicPr/>
          <p:nvPr/>
        </p:nvPicPr>
        <p:blipFill>
          <a:blip r:embed="rId8"/>
          <a:stretch/>
        </p:blipFill>
        <p:spPr>
          <a:xfrm>
            <a:off x="4038480" y="3162240"/>
            <a:ext cx="1524240" cy="952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3" descr="laa.gif"/>
          <p:cNvPicPr/>
          <p:nvPr/>
        </p:nvPicPr>
        <p:blipFill>
          <a:blip r:embed="rId9"/>
          <a:stretch/>
        </p:blipFill>
        <p:spPr>
          <a:xfrm>
            <a:off x="6095880" y="312408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5" descr="stl.gif"/>
          <p:cNvPicPr/>
          <p:nvPr/>
        </p:nvPicPr>
        <p:blipFill>
          <a:blip r:embed="rId10"/>
          <a:stretch/>
        </p:blipFill>
        <p:spPr>
          <a:xfrm>
            <a:off x="5257800" y="434340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6" descr="tex.gif"/>
          <p:cNvPicPr/>
          <p:nvPr/>
        </p:nvPicPr>
        <p:blipFill>
          <a:blip r:embed="rId11"/>
          <a:stretch/>
        </p:blipFill>
        <p:spPr>
          <a:xfrm>
            <a:off x="4952880" y="508644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approach is a five step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B21D-C860-4100-8D85-9052D69DE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90600" y="1066680"/>
            <a:ext cx="1852560" cy="91440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termine rating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322200" y="1004760"/>
            <a:ext cx="260280" cy="247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90600" y="4290840"/>
            <a:ext cx="1852560" cy="91440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deci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355680" y="4219560"/>
            <a:ext cx="261720" cy="246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90600" y="3232080"/>
            <a:ext cx="1852560" cy="91440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eans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355680" y="3165480"/>
            <a:ext cx="261720" cy="247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390600" y="2165400"/>
            <a:ext cx="1852560" cy="91440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tract appropriat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"/>
          <p:cNvSpPr/>
          <p:nvPr/>
        </p:nvSpPr>
        <p:spPr>
          <a:xfrm>
            <a:off x="355680" y="2111400"/>
            <a:ext cx="261720" cy="247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390600" y="5345280"/>
            <a:ext cx="1852560" cy="91440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rive and rationalize the optimal r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8"/>
          <p:cNvSpPr/>
          <p:nvPr/>
        </p:nvSpPr>
        <p:spPr>
          <a:xfrm>
            <a:off x="355680" y="5272200"/>
            <a:ext cx="261720" cy="247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2514600" y="1066680"/>
            <a:ext cx="3200400" cy="914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stablish a set of criteria to base decision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0"/>
          <p:cNvSpPr/>
          <p:nvPr/>
        </p:nvSpPr>
        <p:spPr>
          <a:xfrm>
            <a:off x="2514600" y="2136600"/>
            <a:ext cx="3200400" cy="914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btain data on each player that will assist in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1"/>
          <p:cNvSpPr/>
          <p:nvPr/>
        </p:nvSpPr>
        <p:spPr>
          <a:xfrm>
            <a:off x="2514600" y="3205080"/>
            <a:ext cx="3200400" cy="914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nsure data is uniform and consistent for each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2"/>
          <p:cNvSpPr/>
          <p:nvPr/>
        </p:nvSpPr>
        <p:spPr>
          <a:xfrm>
            <a:off x="2514600" y="4275000"/>
            <a:ext cx="3200400" cy="914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velop an Excel model that considers our objective an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2514600" y="5345280"/>
            <a:ext cx="3200400" cy="914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se the model to derive an optimal roster and assess its fea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 rot="389400">
            <a:off x="5833800" y="1206360"/>
            <a:ext cx="2895480" cy="914400"/>
          </a:xfrm>
          <a:prstGeom prst="foldedCorner">
            <a:avLst>
              <a:gd name="adj" fmla="val 33050"/>
            </a:avLst>
          </a:prstGeom>
          <a:solidFill>
            <a:srgbClr val="fde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73080" bIns="91440" anchor="t">
            <a:noAutofit/>
          </a:bodyPr>
          <a:p>
            <a:pPr marL="45720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iteria to consi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111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09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111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layer ra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111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layer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j0398849"/>
          <p:cNvPicPr/>
          <p:nvPr/>
        </p:nvPicPr>
        <p:blipFill>
          <a:blip r:embed="rId1"/>
          <a:stretch/>
        </p:blipFill>
        <p:spPr>
          <a:xfrm>
            <a:off x="5834160" y="871560"/>
            <a:ext cx="433440" cy="4111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5"/>
          <p:cNvSpPr/>
          <p:nvPr/>
        </p:nvSpPr>
        <p:spPr>
          <a:xfrm rot="373200">
            <a:off x="5833800" y="2276640"/>
            <a:ext cx="2895480" cy="914400"/>
          </a:xfrm>
          <a:prstGeom prst="foldedCorner">
            <a:avLst>
              <a:gd name="adj" fmla="val 33050"/>
            </a:avLst>
          </a:prstGeom>
          <a:solidFill>
            <a:srgbClr val="fde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73080" bIns="91440" anchor="t">
            <a:noAutofit/>
          </a:bodyPr>
          <a:p>
            <a:pPr marL="345960" indent="-11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ata Sourc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5960" indent="-110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SPN Player 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5960" indent="-110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09 Opening Day Sa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5960" indent="-110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orts Illustrated Top C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 rot="373200">
            <a:off x="5833800" y="3344760"/>
            <a:ext cx="2895480" cy="914400"/>
          </a:xfrm>
          <a:prstGeom prst="foldedCorner">
            <a:avLst>
              <a:gd name="adj" fmla="val 33050"/>
            </a:avLst>
          </a:prstGeom>
          <a:solidFill>
            <a:srgbClr val="fde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73080" bIns="91440" anchor="t">
            <a:noAutofit/>
          </a:bodyPr>
          <a:p>
            <a:pPr marL="345960" indent="-110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 $400,000 for missing sa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5960" indent="-110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sign infield classification to players that are initially assigned multiple infield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 rot="373200">
            <a:off x="5833800" y="4414680"/>
            <a:ext cx="2895480" cy="914400"/>
          </a:xfrm>
          <a:prstGeom prst="foldedCorner">
            <a:avLst>
              <a:gd name="adj" fmla="val 33050"/>
            </a:avLst>
          </a:prstGeom>
          <a:solidFill>
            <a:srgbClr val="fde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73080" bIns="91440" anchor="t">
            <a:noAutofit/>
          </a:bodyPr>
          <a:p>
            <a:pPr marL="236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 Solver and Excel logic to consider constraints and determine if objective is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 rot="373200">
            <a:off x="5833800" y="5484960"/>
            <a:ext cx="2895480" cy="914400"/>
          </a:xfrm>
          <a:prstGeom prst="foldedCorner">
            <a:avLst>
              <a:gd name="adj" fmla="val 33050"/>
            </a:avLst>
          </a:prstGeom>
          <a:solidFill>
            <a:srgbClr val="fde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73080" bIns="91440" anchor="t">
            <a:noAutofit/>
          </a:bodyPr>
          <a:p>
            <a:pPr marL="236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sess the solution to determine if it is logical.  Rationalize flaws and determine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j0398849"/>
          <p:cNvPicPr/>
          <p:nvPr/>
        </p:nvPicPr>
        <p:blipFill>
          <a:blip r:embed="rId2"/>
          <a:stretch/>
        </p:blipFill>
        <p:spPr>
          <a:xfrm>
            <a:off x="5834160" y="1968480"/>
            <a:ext cx="433440" cy="411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j0398849"/>
          <p:cNvPicPr/>
          <p:nvPr/>
        </p:nvPicPr>
        <p:blipFill>
          <a:blip r:embed="rId3"/>
          <a:stretch/>
        </p:blipFill>
        <p:spPr>
          <a:xfrm>
            <a:off x="5834160" y="3035160"/>
            <a:ext cx="433440" cy="41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j0398849"/>
          <p:cNvPicPr/>
          <p:nvPr/>
        </p:nvPicPr>
        <p:blipFill>
          <a:blip r:embed="rId4"/>
          <a:stretch/>
        </p:blipFill>
        <p:spPr>
          <a:xfrm>
            <a:off x="5834160" y="4148280"/>
            <a:ext cx="433440" cy="411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j0398849"/>
          <p:cNvPicPr/>
          <p:nvPr/>
        </p:nvPicPr>
        <p:blipFill>
          <a:blip r:embed="rId5"/>
          <a:stretch/>
        </p:blipFill>
        <p:spPr>
          <a:xfrm>
            <a:off x="5834160" y="5214960"/>
            <a:ext cx="433440" cy="41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models were developed for pitchers and fiel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A77A-BD11-4592-86A7-B3EABF8AC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6"/>
          <p:cNvSpPr/>
          <p:nvPr/>
        </p:nvSpPr>
        <p:spPr>
          <a:xfrm>
            <a:off x="2317680" y="1190520"/>
            <a:ext cx="6445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2286000" y="91440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t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5562720" y="9144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e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355680" y="1295280"/>
            <a:ext cx="1854000" cy="91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380880" y="2362320"/>
            <a:ext cx="1854360" cy="91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cisio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380880" y="3429000"/>
            <a:ext cx="1854360" cy="2971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al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2362320" y="1295280"/>
            <a:ext cx="64008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inimize total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tal Cost = Salaries of Selected Players + Penalties for violating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2362320" y="2362320"/>
            <a:ext cx="31543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itchers on r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5608800" y="2362320"/>
            <a:ext cx="31543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ielders/batters on r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2362320" y="3429000"/>
            <a:ext cx="3154320" cy="29750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dd $10b for each violated constrai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 least 3 lef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 least 5 righ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 least 1 clo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tal inning pitcher exceeds 1,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 least 1 pitcher with over 15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x 4 pitchers with $1m sa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verage rank below sample mean (23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 least 1 pitcher in top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 player can fill more than one spot on ro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5608800" y="3429000"/>
            <a:ext cx="3154320" cy="29750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dd $10b for each violated constrai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 least one player at each 8 fielding po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verage rank below sample 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 least 1 player with more than 30 stolen bases, 30 home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am total must exceed league average for stolen bases and home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 player can fill more than one spot on roster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ptimal team would cost $87,465,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D7F1-E337-4628-836E-34A1B3849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rcRect l="12071" t="15617" r="6898" b="4439"/>
          <a:stretch/>
        </p:blipFill>
        <p:spPr>
          <a:xfrm>
            <a:off x="2808360" y="843120"/>
            <a:ext cx="3973320" cy="30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3480" y="3733920"/>
          <a:ext cx="4538520" cy="2496960"/>
        </p:xfrm>
        <a:graphic>
          <a:graphicData uri="http://schemas.openxmlformats.org/drawingml/2006/table">
            <a:tbl>
              <a:tblPr/>
              <a:tblGrid>
                <a:gridCol w="885600"/>
                <a:gridCol w="870120"/>
                <a:gridCol w="723960"/>
                <a:gridCol w="522000"/>
                <a:gridCol w="812880"/>
                <a:gridCol w="371520"/>
                <a:gridCol w="35244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y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ps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,0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tit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rem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feld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inwr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87,5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nd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rigue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95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nath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xt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25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/Clos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s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s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cec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s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gh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/Clos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mm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s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648320" y="3733920"/>
          <a:ext cx="4483080" cy="2673360"/>
        </p:xfrm>
        <a:graphic>
          <a:graphicData uri="http://schemas.openxmlformats.org/drawingml/2006/table">
            <a:tbl>
              <a:tblPr/>
              <a:tblGrid>
                <a:gridCol w="885600"/>
                <a:gridCol w="870120"/>
                <a:gridCol w="723960"/>
                <a:gridCol w="522000"/>
                <a:gridCol w="716040"/>
                <a:gridCol w="370080"/>
                <a:gridCol w="39528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ggi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,775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n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r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5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a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i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9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bb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e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y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ig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4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br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 / IN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6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k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ire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6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s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 / O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e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ire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f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r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Straight Connector 15"/>
          <p:cNvSpPr/>
          <p:nvPr/>
        </p:nvSpPr>
        <p:spPr>
          <a:xfrm>
            <a:off x="412920" y="1066680"/>
            <a:ext cx="400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380880" y="83808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t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8"/>
          <p:cNvSpPr/>
          <p:nvPr/>
        </p:nvSpPr>
        <p:spPr>
          <a:xfrm>
            <a:off x="4740120" y="1066680"/>
            <a:ext cx="40071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7696080" y="83808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e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80880" y="12952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alary: $30,575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380880" y="19810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Innings Pitched: 1,8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380880" y="26668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Wins: 1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4"/>
          <p:cNvSpPr/>
          <p:nvPr/>
        </p:nvSpPr>
        <p:spPr>
          <a:xfrm>
            <a:off x="6781680" y="12952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alary: $56,89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6781680" y="19810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tolen Bases: 1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7"/>
          <p:cNvSpPr/>
          <p:nvPr/>
        </p:nvSpPr>
        <p:spPr>
          <a:xfrm>
            <a:off x="6781680" y="26668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Home Run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 analysis yields several different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539E-9E33-4C5B-8C9B-4ACA6E75E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80880" y="990720"/>
            <a:ext cx="83822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Payroll Model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hange objective to minimize rank instead of payr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tal Payroll: $158,133,8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3480" y="3848040"/>
          <a:ext cx="4538520" cy="2314800"/>
        </p:xfrm>
        <a:graphic>
          <a:graphicData uri="http://schemas.openxmlformats.org/drawingml/2006/table">
            <a:tbl>
              <a:tblPr/>
              <a:tblGrid>
                <a:gridCol w="885600"/>
                <a:gridCol w="870120"/>
                <a:gridCol w="723960"/>
                <a:gridCol w="522000"/>
                <a:gridCol w="812880"/>
                <a:gridCol w="371520"/>
                <a:gridCol w="3524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l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nand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y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rsha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4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t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876,13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chhol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ke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nzal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5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/Clo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75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l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49,74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n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ri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75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5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648320" y="3848040"/>
          <a:ext cx="4483080" cy="2476440"/>
        </p:xfrm>
        <a:graphic>
          <a:graphicData uri="http://schemas.openxmlformats.org/drawingml/2006/table">
            <a:tbl>
              <a:tblPr/>
              <a:tblGrid>
                <a:gridCol w="885600"/>
                <a:gridCol w="870120"/>
                <a:gridCol w="723960"/>
                <a:gridCol w="522000"/>
                <a:gridCol w="716040"/>
                <a:gridCol w="370080"/>
                <a:gridCol w="39528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i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 / D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st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dro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5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zu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su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gg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75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bb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be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j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27,32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in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l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 /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b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an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66,6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ut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t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Straight Connector 10"/>
          <p:cNvSpPr/>
          <p:nvPr/>
        </p:nvSpPr>
        <p:spPr>
          <a:xfrm>
            <a:off x="412920" y="2028960"/>
            <a:ext cx="400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380880" y="175248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t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4724280" y="2028960"/>
            <a:ext cx="400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4692600" y="175248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e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380880" y="22096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alary: $70,154,8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2438280" y="22096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Innings Pitched: 1,6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1403280" y="274320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Wins: 1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8"/>
          <p:cNvSpPr/>
          <p:nvPr/>
        </p:nvSpPr>
        <p:spPr>
          <a:xfrm>
            <a:off x="4724280" y="22096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alary: $87,978,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6750000" y="2209680"/>
            <a:ext cx="198108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tolen Bases: 1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5742000" y="2743200"/>
            <a:ext cx="198108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Home Run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 analysis yields several different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570A-D5B4-4B4F-97C3-22BAA0AF7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80880" y="990720"/>
            <a:ext cx="83822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Payroll Model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creased penalty for violating all constraints except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tal Payroll: $52,199,2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3480" y="3848040"/>
          <a:ext cx="4538520" cy="2314800"/>
        </p:xfrm>
        <a:graphic>
          <a:graphicData uri="http://schemas.openxmlformats.org/drawingml/2006/table">
            <a:tbl>
              <a:tblPr/>
              <a:tblGrid>
                <a:gridCol w="885600"/>
                <a:gridCol w="870120"/>
                <a:gridCol w="723960"/>
                <a:gridCol w="522000"/>
                <a:gridCol w="812880"/>
                <a:gridCol w="371520"/>
                <a:gridCol w="3524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l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nand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y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rsha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4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t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876,13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chhol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ke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nzal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5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/Clo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75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l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49,74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n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ri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75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5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648320" y="3848040"/>
          <a:ext cx="4483080" cy="2476440"/>
        </p:xfrm>
        <a:graphic>
          <a:graphicData uri="http://schemas.openxmlformats.org/drawingml/2006/table">
            <a:tbl>
              <a:tblPr/>
              <a:tblGrid>
                <a:gridCol w="885600"/>
                <a:gridCol w="870120"/>
                <a:gridCol w="723960"/>
                <a:gridCol w="522000"/>
                <a:gridCol w="716040"/>
                <a:gridCol w="370080"/>
                <a:gridCol w="39528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i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 / D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st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dro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5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zu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su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gg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75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bb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be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j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27,32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in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l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 /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b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an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66,6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ut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t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Straight Connector 10"/>
          <p:cNvSpPr/>
          <p:nvPr/>
        </p:nvSpPr>
        <p:spPr>
          <a:xfrm>
            <a:off x="412920" y="2028960"/>
            <a:ext cx="400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380880" y="175248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t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2"/>
          <p:cNvSpPr/>
          <p:nvPr/>
        </p:nvSpPr>
        <p:spPr>
          <a:xfrm>
            <a:off x="4724280" y="2028960"/>
            <a:ext cx="400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4692600" y="175248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e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380880" y="22096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alary: $17,599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2438280" y="22096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Innings Pitched: 1,5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1403280" y="274320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Winning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4724280" y="22096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alary: $34,599,7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6750000" y="2209680"/>
            <a:ext cx="198108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tolen Bas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5715000" y="2743200"/>
            <a:ext cx="198108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Home Run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l comparison shows improved statistics with higher payro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AA15-598A-4162-8830-99E16C070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2" descr=""/>
          <p:cNvPicPr/>
          <p:nvPr/>
        </p:nvPicPr>
        <p:blipFill>
          <a:blip r:embed="rId1"/>
          <a:srcRect l="10783" t="2815" r="20196" b="8706"/>
          <a:stretch/>
        </p:blipFill>
        <p:spPr>
          <a:xfrm>
            <a:off x="1600200" y="765000"/>
            <a:ext cx="6896160" cy="5026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3" descr=""/>
          <p:cNvPicPr/>
          <p:nvPr/>
        </p:nvPicPr>
        <p:blipFill>
          <a:blip r:embed="rId2"/>
          <a:srcRect l="19788" t="90330" r="28859" b="3232"/>
          <a:stretch/>
        </p:blipFill>
        <p:spPr>
          <a:xfrm>
            <a:off x="2438280" y="6095880"/>
            <a:ext cx="426744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23:27:24Z</dcterms:created>
  <dc:creator>Marni</dc:creator>
  <dc:description/>
  <dc:language>en-US</dc:language>
  <cp:lastModifiedBy>Rakesh Duggal</cp:lastModifiedBy>
  <dcterms:modified xsi:type="dcterms:W3CDTF">2009-12-09T17:44:11Z</dcterms:modified>
  <cp:revision>106</cp:revision>
  <dc:subject/>
  <dc:title>Slide 1</dc:title>
</cp:coreProperties>
</file>