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A99-C04C-4BD2-AE64-FF916760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970-AF9C-4635-B3D1-30BB9E7D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95C-431D-4F0B-808F-523E4813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79C-4BCD-439A-9796-E1F55D36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EFD-40A3-4446-AFB4-9CE3D2B9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71B-75C2-41FD-8773-030AD592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9C2-F30A-421E-8A61-DC76671D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FE3-F33D-4F0B-AF87-110B88A2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1C3-1E13-4FF4-9756-1C21330A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808-CA97-457B-BAA2-E132F0E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A73-0369-44A7-B3FC-F371EC99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57C-1117-4B9D-9D09-76C4ACA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4589-6166-42BD-8386-DED88CE3F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715000" y="52578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tichi Go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 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is N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6902"/>
          <a:stretch/>
        </p:blipFill>
        <p:spPr>
          <a:xfrm>
            <a:off x="304920" y="1219320"/>
            <a:ext cx="298296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952880"/>
            <a:ext cx="335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E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03880" y="1712880"/>
            <a:ext cx="397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ports Bet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re complicated m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should I bet on each out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 to maximize the worse case scenario (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38280" y="2971800"/>
                <a:ext cx="4038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Θ</m:t>
                                </m:r>
                              </m:e>
                            </m:nary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8006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fined as odds for outcom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d as the wager placed on outcom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6264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704960"/>
            <a:ext cx="82296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c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od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30520" y="1600200"/>
            <a:ext cx="568152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62520" y="1523880"/>
            <a:ext cx="1523880" cy="4724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62120" y="1447920"/>
            <a:ext cx="7619760" cy="5028840"/>
            <a:chOff x="762120" y="1447920"/>
            <a:chExt cx="7619760" cy="5028840"/>
          </a:xfrm>
        </p:grpSpPr>
        <p:grpSp>
          <p:nvGrpSpPr>
            <p:cNvPr id="82" name=""/>
            <p:cNvGrpSpPr/>
            <p:nvPr/>
          </p:nvGrpSpPr>
          <p:grpSpPr>
            <a:xfrm>
              <a:off x="762120" y="1447920"/>
              <a:ext cx="7619760" cy="5028840"/>
              <a:chOff x="762120" y="1447920"/>
              <a:chExt cx="7619760" cy="50288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762120" y="1447920"/>
                <a:ext cx="7619760" cy="4148640"/>
                <a:chOff x="762120" y="1447920"/>
                <a:chExt cx="7619760" cy="4148640"/>
              </a:xfrm>
            </p:grpSpPr>
            <p:pic>
              <p:nvPicPr>
                <p:cNvPr id="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2120" y="1447920"/>
                  <a:ext cx="7619760" cy="414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 txBox="1"/>
                <p:nvPr/>
              </p:nvSpPr>
              <p:spPr>
                <a:xfrm>
                  <a:off x="762120" y="1447920"/>
                  <a:ext cx="7619760" cy="41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rm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0000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6" name="" descr=""/>
              <p:cNvPicPr/>
              <p:nvPr/>
            </p:nvPicPr>
            <p:blipFill>
              <a:blip r:embed="rId2"/>
              <a:srcRect l="0" t="67853" r="0" b="0"/>
              <a:stretch/>
            </p:blipFill>
            <p:spPr>
              <a:xfrm>
                <a:off x="762120" y="5119200"/>
                <a:ext cx="7619760" cy="135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3"/>
              <a:srcRect l="59816" t="53559" r="34994" b="42003"/>
              <a:stretch/>
            </p:blipFill>
            <p:spPr>
              <a:xfrm>
                <a:off x="6970680" y="4032360"/>
                <a:ext cx="1269720" cy="125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" name="" descr=""/>
            <p:cNvPicPr/>
            <p:nvPr/>
          </p:nvPicPr>
          <p:blipFill>
            <a:blip r:embed="rId4"/>
            <a:srcRect l="59816" t="53559" r="34994" b="42003"/>
            <a:stretch/>
          </p:blipFill>
          <p:spPr>
            <a:xfrm>
              <a:off x="5418360" y="5149800"/>
              <a:ext cx="1411200" cy="111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pport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1219320"/>
            <a:ext cx="8076960" cy="5343480"/>
            <a:chOff x="533520" y="1219320"/>
            <a:chExt cx="8076960" cy="5343480"/>
          </a:xfrm>
        </p:grpSpPr>
        <p:pic>
          <p:nvPicPr>
            <p:cNvPr id="91" name="" descr=""/>
            <p:cNvPicPr/>
            <p:nvPr/>
          </p:nvPicPr>
          <p:blipFill>
            <a:blip r:embed="rId1"/>
            <a:srcRect l="3704" t="0" r="36112" b="27604"/>
            <a:stretch/>
          </p:blipFill>
          <p:spPr>
            <a:xfrm>
              <a:off x="533520" y="1219320"/>
              <a:ext cx="8076960" cy="53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 txBox="1"/>
            <p:nvPr/>
          </p:nvSpPr>
          <p:spPr>
            <a:xfrm>
              <a:off x="533520" y="1219320"/>
              <a:ext cx="8076960" cy="534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ing i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r chose the best odds for each possible 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r placed the optimal bet on each possible outcome while being constrained by the individual account bal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r maximized the risk free prof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gots 25 guys doing this al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bye student loans, job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goo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9408" t="20668" r="16522" b="10002"/>
          <a:stretch/>
        </p:blipFill>
        <p:spPr>
          <a:xfrm>
            <a:off x="2133720" y="1981080"/>
            <a:ext cx="64008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317760" cy="4190760"/>
          </a:xfrm>
          <a:prstGeom prst="rect">
            <a:avLst/>
          </a:prstGeom>
          <a:ln w="0">
            <a:noFill/>
          </a:ln>
        </p:spPr>
      </p:pic>
      <p:sp>
        <p:nvSpPr>
          <p:cNvPr id="46" name="PubOvalCallout"/>
          <p:cNvSpPr/>
          <p:nvPr/>
        </p:nvSpPr>
        <p:spPr>
          <a:xfrm>
            <a:off x="3429000" y="1371600"/>
            <a:ext cx="5105520" cy="2133720"/>
          </a:xfrm>
          <a:custGeom>
            <a:avLst/>
            <a:gdLst>
              <a:gd name="textAreaLeft" fmla="*/ 747360 w 5105520"/>
              <a:gd name="textAreaRight" fmla="*/ 4358160 w 5105520"/>
              <a:gd name="textAreaTop" fmla="*/ 234360 h 2133720"/>
              <a:gd name="textAreaBottom" fmla="*/ 13669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BIT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mbl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gam –m- BLING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 1880-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English: The surest way of getting nothing from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ntence use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I pissed all my cash away gambling o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cer [sock-her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igin 1880-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English: called futbol in any and all countries using the metric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ntence use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Dude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That's not football, you idiot. It's soc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b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gh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ian handi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/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phisticated two-way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mplied volatility is qu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5" t="16889" r="33838" b="16221"/>
          <a:stretch/>
        </p:blipFill>
        <p:spPr>
          <a:xfrm>
            <a:off x="3809880" y="1447920"/>
            <a:ext cx="51530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generate Gambler B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d/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player to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co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co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off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 b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32684" t="19777" r="22296" b="7336"/>
          <a:stretch/>
        </p:blipFill>
        <p:spPr>
          <a:xfrm>
            <a:off x="4562640" y="1676520"/>
            <a:ext cx="4276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d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0782" t="26664" r="21475" b="15574"/>
          <a:stretch/>
        </p:blipFill>
        <p:spPr>
          <a:xfrm>
            <a:off x="304920" y="1295280"/>
            <a:ext cx="84549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ight-up Arbit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 on highest odds for each possibl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will pay the v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9221" t="42003" r="28645" b="38446"/>
          <a:stretch/>
        </p:blipFill>
        <p:spPr>
          <a:xfrm>
            <a:off x="380880" y="419112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3400" y="52578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52578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outcome arbitrage possibl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14600" y="2514600"/>
                <a:ext cx="34653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33520" y="44197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d as odds for outcom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0:42:24Z</dcterms:created>
  <dc:creator>Eftichi</dc:creator>
  <dc:description/>
  <dc:language>en-US</dc:language>
  <cp:lastModifiedBy>Eftichi</cp:lastModifiedBy>
  <dcterms:modified xsi:type="dcterms:W3CDTF">2009-12-14T18:43:22Z</dcterms:modified>
  <cp:revision>8</cp:revision>
  <dc:subject/>
  <dc:title>Slide 1</dc:title>
</cp:coreProperties>
</file>