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B4C2B-781C-43FE-A3B0-6FFCA3D30D3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1F651-C2D4-4694-85B8-645123010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9CFDA-0CE4-4EBA-95B7-A3E4A383C3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22CDF-9F2B-413F-8DB2-0E58000E17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7711E-C159-4EF8-B1E0-61F9C07FF4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28569-3889-422E-A36E-B3ECC75CCA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8ABDE2-C07A-42C6-9C9C-0544A3CBA2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id the traveling salesman problem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minimizing distances traveled, we took demand for each pair and maximiz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ooked to find the pair that would fill the stadium to capacity, and then assign the other 2 spots according to popularity of time slot. The headliner for each had a demand greater than 10k for each s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nues were calculated by a flat ticket sale rate, and other good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s: wrestler is 15% of ticket s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73A76-DCD7-4845-83AA-E0553B1796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75978-4E3D-4D08-B254-A350ECA26C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FC026-F9DC-4A69-84B2-EF6DDD2458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7B3AF-4B25-4C25-9A39-70F95BA73F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8141F-79F0-4ADA-AB75-AEBE9E7479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A1A-C880-4BE4-AD96-E7BE88CC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E6BB-0E42-49AF-814A-71F64A62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9D1-1FF7-4C1A-A5E8-5597C9AF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B7A-8B2C-4B52-9E62-9633C431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91E-9B40-4B67-A10D-CFAAB662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839-966B-40AB-9195-232E284D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DC03-F708-45D2-8346-7A684DD1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70D-BC79-4664-B5F4-874EA97C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386A-C42C-497B-A30F-C30B558D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731-EE7C-48F6-9A6C-7A56EF6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8F3-B8E9-4C63-BAAA-15CA3312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F6B-4A54-41AA-AD81-361F197C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2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4BF886-13C9-41BE-A72F-6FC00077954A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EC3AB-B5B1-4F36-A1B5-714013931B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png"/><Relationship Id="rId29" Type="http://schemas.openxmlformats.org/officeDocument/2006/relationships/hyperlink" Target="http://www.youtube.com/watch?v=pCkqVHfQ2uw&amp;feature=related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png"/><Relationship Id="rId29" Type="http://schemas.openxmlformats.org/officeDocument/2006/relationships/hyperlink" Target="http://www.youtube.com/watch?v=xwZDAwv9lcc&amp;feature=related" TargetMode="External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0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jpeg"/><Relationship Id="rId3" Type="http://schemas.openxmlformats.org/officeDocument/2006/relationships/image" Target="../media/image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6.jpeg"/><Relationship Id="rId3" Type="http://schemas.openxmlformats.org/officeDocument/2006/relationships/image" Target="../media/image16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image" Target="../media/image27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image" Target="../media/image23.jpeg"/><Relationship Id="rId24" Type="http://schemas.openxmlformats.org/officeDocument/2006/relationships/image" Target="../media/image24.jpeg"/><Relationship Id="rId25" Type="http://schemas.openxmlformats.org/officeDocument/2006/relationships/image" Target="../media/image25.jpeg"/><Relationship Id="rId26" Type="http://schemas.openxmlformats.org/officeDocument/2006/relationships/image" Target="../media/image26.jpeg"/><Relationship Id="rId27" Type="http://schemas.openxmlformats.org/officeDocument/2006/relationships/image" Target="../media/image27.jpeg"/><Relationship Id="rId28" Type="http://schemas.openxmlformats.org/officeDocument/2006/relationships/image" Target="../media/image28.png"/><Relationship Id="rId29" Type="http://schemas.openxmlformats.org/officeDocument/2006/relationships/image" Target="../media/image31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3"/>
          <p:cNvGrpSpPr/>
          <p:nvPr/>
        </p:nvGrpSpPr>
        <p:grpSpPr>
          <a:xfrm>
            <a:off x="534960" y="781200"/>
            <a:ext cx="8077320" cy="5257800"/>
            <a:chOff x="534960" y="781200"/>
            <a:chExt cx="8077320" cy="5257800"/>
          </a:xfrm>
        </p:grpSpPr>
        <p:pic>
          <p:nvPicPr>
            <p:cNvPr id="49" name="Picture 3" descr="Abismo Negro-lucha libre.jpg"/>
            <p:cNvPicPr/>
            <p:nvPr/>
          </p:nvPicPr>
          <p:blipFill>
            <a:blip r:embed="rId1"/>
            <a:srcRect l="0" t="0" r="0" b="15204"/>
            <a:stretch/>
          </p:blipFill>
          <p:spPr>
            <a:xfrm>
              <a:off x="553320" y="781200"/>
              <a:ext cx="11422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" descr="bluedemonjr.jpg"/>
            <p:cNvPicPr/>
            <p:nvPr/>
          </p:nvPicPr>
          <p:blipFill>
            <a:blip r:embed="rId2"/>
            <a:srcRect l="28877" t="0" r="6076" b="0"/>
            <a:stretch/>
          </p:blipFill>
          <p:spPr>
            <a:xfrm>
              <a:off x="1689840" y="785160"/>
              <a:ext cx="1142280" cy="131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chessman5copialf3.jpg"/>
            <p:cNvPicPr/>
            <p:nvPr/>
          </p:nvPicPr>
          <p:blipFill>
            <a:blip r:embed="rId3"/>
            <a:srcRect l="17470" t="4980" r="8484" b="41411"/>
            <a:stretch/>
          </p:blipFill>
          <p:spPr>
            <a:xfrm>
              <a:off x="2832120" y="785160"/>
              <a:ext cx="1165680" cy="131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6" descr="aerostar02.JPG"/>
            <p:cNvPicPr/>
            <p:nvPr/>
          </p:nvPicPr>
          <p:blipFill>
            <a:blip r:embed="rId4"/>
            <a:srcRect l="8726" t="0" r="31789" b="60638"/>
            <a:stretch/>
          </p:blipFill>
          <p:spPr>
            <a:xfrm>
              <a:off x="3998160" y="788760"/>
              <a:ext cx="11656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7" descr="atlantis.jpg"/>
            <p:cNvPicPr/>
            <p:nvPr/>
          </p:nvPicPr>
          <p:blipFill>
            <a:blip r:embed="rId5"/>
            <a:srcRect l="34967" t="0" r="21227" b="62120"/>
            <a:stretch/>
          </p:blipFill>
          <p:spPr>
            <a:xfrm>
              <a:off x="5164200" y="781200"/>
              <a:ext cx="116568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8" descr="blackwarrior.jpg"/>
            <p:cNvPicPr/>
            <p:nvPr/>
          </p:nvPicPr>
          <p:blipFill>
            <a:blip r:embed="rId6"/>
            <a:srcRect l="0" t="0" r="0" b="17921"/>
            <a:stretch/>
          </p:blipFill>
          <p:spPr>
            <a:xfrm>
              <a:off x="6330240" y="781200"/>
              <a:ext cx="1126800" cy="132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9" descr="bluepanther.jpg"/>
            <p:cNvPicPr/>
            <p:nvPr/>
          </p:nvPicPr>
          <p:blipFill>
            <a:blip r:embed="rId7"/>
            <a:srcRect l="0" t="0" r="0" b="35601"/>
            <a:stretch/>
          </p:blipFill>
          <p:spPr>
            <a:xfrm>
              <a:off x="7457400" y="788760"/>
              <a:ext cx="114516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0" descr="crazyboy.jpg"/>
            <p:cNvPicPr/>
            <p:nvPr/>
          </p:nvPicPr>
          <p:blipFill>
            <a:blip r:embed="rId8"/>
            <a:srcRect l="0" t="0" r="0" b="20686"/>
            <a:stretch/>
          </p:blipFill>
          <p:spPr>
            <a:xfrm>
              <a:off x="547560" y="2098800"/>
              <a:ext cx="11383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1" descr="doctorx.jpg"/>
            <p:cNvPicPr/>
            <p:nvPr/>
          </p:nvPicPr>
          <p:blipFill>
            <a:blip r:embed="rId9"/>
            <a:srcRect l="9999" t="0" r="11339" b="49381"/>
            <a:stretch/>
          </p:blipFill>
          <p:spPr>
            <a:xfrm>
              <a:off x="1689840" y="2102400"/>
              <a:ext cx="114228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2" descr="elangel.jpg"/>
            <p:cNvPicPr/>
            <p:nvPr/>
          </p:nvPicPr>
          <p:blipFill>
            <a:blip r:embed="rId10"/>
            <a:srcRect l="0" t="0" r="0" b="28593"/>
            <a:stretch/>
          </p:blipFill>
          <p:spPr>
            <a:xfrm>
              <a:off x="2832120" y="2102400"/>
              <a:ext cx="119232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3" descr="elligero1.jpg"/>
            <p:cNvPicPr/>
            <p:nvPr/>
          </p:nvPicPr>
          <p:blipFill>
            <a:blip r:embed="rId11"/>
            <a:srcRect l="0" t="18661" r="0" b="6012"/>
            <a:stretch/>
          </p:blipFill>
          <p:spPr>
            <a:xfrm>
              <a:off x="3998160" y="2098800"/>
              <a:ext cx="11656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5" descr="elsupremo.jpg"/>
            <p:cNvPicPr/>
            <p:nvPr/>
          </p:nvPicPr>
          <p:blipFill>
            <a:blip r:embed="rId12"/>
            <a:srcRect l="10701" t="8510" r="14944" b="28883"/>
            <a:stretch/>
          </p:blipFill>
          <p:spPr>
            <a:xfrm>
              <a:off x="5164200" y="2102400"/>
              <a:ext cx="116568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6" descr="elterrible.jpg"/>
            <p:cNvPicPr/>
            <p:nvPr/>
          </p:nvPicPr>
          <p:blipFill>
            <a:blip r:embed="rId13"/>
            <a:srcRect l="0" t="0" r="0" b="17561"/>
            <a:stretch/>
          </p:blipFill>
          <p:spPr>
            <a:xfrm>
              <a:off x="6330240" y="2102400"/>
              <a:ext cx="11268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7" descr="eltexanojr.jpg"/>
            <p:cNvPicPr/>
            <p:nvPr/>
          </p:nvPicPr>
          <p:blipFill>
            <a:blip r:embed="rId14"/>
            <a:srcRect l="0" t="0" r="0" b="23874"/>
            <a:stretch/>
          </p:blipFill>
          <p:spPr>
            <a:xfrm>
              <a:off x="7457400" y="2102400"/>
              <a:ext cx="114516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8" descr="incognito.jpg"/>
            <p:cNvPicPr/>
            <p:nvPr/>
          </p:nvPicPr>
          <p:blipFill>
            <a:blip r:embed="rId15"/>
            <a:srcRect l="276" t="0" r="12756" b="0"/>
            <a:stretch/>
          </p:blipFill>
          <p:spPr>
            <a:xfrm>
              <a:off x="547560" y="3412080"/>
              <a:ext cx="11422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9" descr="latinlover.jpg"/>
            <p:cNvPicPr/>
            <p:nvPr/>
          </p:nvPicPr>
          <p:blipFill>
            <a:blip r:embed="rId16"/>
            <a:srcRect l="0" t="0" r="17135" b="25919"/>
            <a:stretch/>
          </p:blipFill>
          <p:spPr>
            <a:xfrm>
              <a:off x="1689840" y="3412080"/>
              <a:ext cx="11422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0" descr="mistico.jpg"/>
            <p:cNvPicPr/>
            <p:nvPr/>
          </p:nvPicPr>
          <p:blipFill>
            <a:blip r:embed="rId17"/>
            <a:srcRect l="20635" t="0" r="38549" b="38398"/>
            <a:stretch/>
          </p:blipFill>
          <p:spPr>
            <a:xfrm>
              <a:off x="2837880" y="3412080"/>
              <a:ext cx="11599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1" descr="mystico.jpg"/>
            <p:cNvPicPr/>
            <p:nvPr/>
          </p:nvPicPr>
          <p:blipFill>
            <a:blip r:embed="rId18"/>
            <a:srcRect l="15621" t="0" r="26133" b="0"/>
            <a:stretch/>
          </p:blipFill>
          <p:spPr>
            <a:xfrm>
              <a:off x="3998160" y="3412080"/>
              <a:ext cx="11476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2" descr="Octagon.jpg"/>
            <p:cNvPicPr/>
            <p:nvPr/>
          </p:nvPicPr>
          <p:blipFill>
            <a:blip r:embed="rId19"/>
            <a:srcRect l="0" t="0" r="0" b="37891"/>
            <a:stretch/>
          </p:blipFill>
          <p:spPr>
            <a:xfrm>
              <a:off x="5145840" y="3412080"/>
              <a:ext cx="118404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3" descr="oro.jpg"/>
            <p:cNvPicPr/>
            <p:nvPr/>
          </p:nvPicPr>
          <p:blipFill>
            <a:blip r:embed="rId20"/>
            <a:srcRect l="19760" t="4005" r="13709" b="20014"/>
            <a:stretch/>
          </p:blipFill>
          <p:spPr>
            <a:xfrm>
              <a:off x="6330240" y="3412080"/>
              <a:ext cx="112680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4" descr="piratamorgan.jpg"/>
            <p:cNvPicPr/>
            <p:nvPr/>
          </p:nvPicPr>
          <p:blipFill>
            <a:blip r:embed="rId21"/>
            <a:srcRect l="15802" t="0" r="20497" b="0"/>
            <a:stretch/>
          </p:blipFill>
          <p:spPr>
            <a:xfrm>
              <a:off x="7457400" y="3412080"/>
              <a:ext cx="114480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5" descr="scorpiojr.jpg"/>
            <p:cNvPicPr/>
            <p:nvPr/>
          </p:nvPicPr>
          <p:blipFill>
            <a:blip r:embed="rId22"/>
            <a:srcRect l="0" t="0" r="0" b="23929"/>
            <a:stretch/>
          </p:blipFill>
          <p:spPr>
            <a:xfrm>
              <a:off x="534960" y="4725720"/>
              <a:ext cx="11509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6" descr="Super Muneco.jpg"/>
            <p:cNvPicPr/>
            <p:nvPr/>
          </p:nvPicPr>
          <p:blipFill>
            <a:blip r:embed="rId23"/>
            <a:srcRect l="641" t="0" r="35993" b="46953"/>
            <a:stretch/>
          </p:blipFill>
          <p:spPr>
            <a:xfrm>
              <a:off x="1698480" y="4725720"/>
              <a:ext cx="113364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7" descr="supercrazy.jpg"/>
            <p:cNvPicPr/>
            <p:nvPr/>
          </p:nvPicPr>
          <p:blipFill>
            <a:blip r:embed="rId24"/>
            <a:srcRect l="0" t="0" r="11662" b="0"/>
            <a:stretch/>
          </p:blipFill>
          <p:spPr>
            <a:xfrm>
              <a:off x="2837880" y="4725720"/>
              <a:ext cx="11599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8" descr="superfly.jpg"/>
            <p:cNvPicPr/>
            <p:nvPr/>
          </p:nvPicPr>
          <p:blipFill>
            <a:blip r:embed="rId25"/>
            <a:srcRect l="14568" t="6803" r="9635" b="35693"/>
            <a:stretch/>
          </p:blipFill>
          <p:spPr>
            <a:xfrm>
              <a:off x="3998160" y="4725720"/>
              <a:ext cx="115236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9" descr="tinieblas.jpg"/>
            <p:cNvPicPr/>
            <p:nvPr/>
          </p:nvPicPr>
          <p:blipFill>
            <a:blip r:embed="rId26"/>
            <a:srcRect l="0" t="0" r="25228" b="44378"/>
            <a:stretch/>
          </p:blipFill>
          <p:spPr>
            <a:xfrm>
              <a:off x="5151240" y="4725720"/>
              <a:ext cx="11656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0" descr="Xtreme Tiger.jpg"/>
            <p:cNvPicPr/>
            <p:nvPr/>
          </p:nvPicPr>
          <p:blipFill>
            <a:blip r:embed="rId27"/>
            <a:srcRect l="0" t="0" r="0" b="8495"/>
            <a:stretch/>
          </p:blipFill>
          <p:spPr>
            <a:xfrm>
              <a:off x="6330240" y="4725720"/>
              <a:ext cx="114300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1" descr=""/>
            <p:cNvPicPr/>
            <p:nvPr/>
          </p:nvPicPr>
          <p:blipFill>
            <a:blip r:embed="rId28"/>
            <a:srcRect l="0" t="0" r="13276" b="33436"/>
            <a:stretch/>
          </p:blipFill>
          <p:spPr>
            <a:xfrm>
              <a:off x="7473240" y="4725720"/>
              <a:ext cx="1139040" cy="131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Box 36"/>
          <p:cNvSpPr/>
          <p:nvPr/>
        </p:nvSpPr>
        <p:spPr>
          <a:xfrm>
            <a:off x="0" y="6194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Vaquero Insano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Chimichanga del Futoro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El Monkey Miste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Geetika Agrawal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Ignacio Alvarez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lisa Baker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534960" y="781200"/>
            <a:ext cx="8067600" cy="525780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649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6fb7d7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  <a:ea typeface="Hiragino Sans GB W3"/>
              </a:rPr>
              <a:t>Lucha Libr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  <a:ea typeface="Hiragino Sans GB W3"/>
              </a:rPr>
              <a:t>Optimizing the Entertain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ubtitle 2"/>
          <p:cNvSpPr/>
          <p:nvPr/>
        </p:nvSpPr>
        <p:spPr>
          <a:xfrm>
            <a:off x="547560" y="5673600"/>
            <a:ext cx="80679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7030a0"/>
                </a:solidFill>
                <a:uFillTx/>
                <a:latin typeface="Rockwell"/>
                <a:ea typeface="Hiragino Sans GB W3"/>
                <a:hlinkClick r:id="rId29"/>
              </a:rPr>
              <a:t>http://www.youtube.com/watch?v=pCkqVHfQ2uw&amp;feature=related</a:t>
            </a:r>
            <a:r>
              <a:rPr b="0" lang="en-US" sz="1800" spc="-1" strike="noStrike">
                <a:solidFill>
                  <a:srgbClr val="ffffff"/>
                </a:solidFill>
                <a:latin typeface="Rockwell"/>
                <a:ea typeface="Hiragino Sans GB W3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32"/>
          <p:cNvGrpSpPr/>
          <p:nvPr/>
        </p:nvGrpSpPr>
        <p:grpSpPr>
          <a:xfrm>
            <a:off x="482760" y="1273320"/>
            <a:ext cx="8076960" cy="5259240"/>
            <a:chOff x="482760" y="1273320"/>
            <a:chExt cx="8076960" cy="5259240"/>
          </a:xfrm>
        </p:grpSpPr>
        <p:pic>
          <p:nvPicPr>
            <p:cNvPr id="232" name="Picture 3" descr="Abismo Negro-lucha libre.jpg"/>
            <p:cNvPicPr/>
            <p:nvPr/>
          </p:nvPicPr>
          <p:blipFill>
            <a:blip r:embed="rId1"/>
            <a:srcRect l="0" t="0" r="0" b="15204"/>
            <a:stretch/>
          </p:blipFill>
          <p:spPr>
            <a:xfrm>
              <a:off x="501120" y="12733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" descr="bluedemonjr.jpg"/>
            <p:cNvPicPr/>
            <p:nvPr/>
          </p:nvPicPr>
          <p:blipFill>
            <a:blip r:embed="rId2"/>
            <a:srcRect l="28877" t="0" r="6076" b="0"/>
            <a:stretch/>
          </p:blipFill>
          <p:spPr>
            <a:xfrm>
              <a:off x="1637640" y="1277280"/>
              <a:ext cx="11422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6" descr="chessman5copialf3.jpg"/>
            <p:cNvPicPr/>
            <p:nvPr/>
          </p:nvPicPr>
          <p:blipFill>
            <a:blip r:embed="rId3"/>
            <a:srcRect l="17470" t="4980" r="8484" b="41411"/>
            <a:stretch/>
          </p:blipFill>
          <p:spPr>
            <a:xfrm>
              <a:off x="2779920" y="1277280"/>
              <a:ext cx="11656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8" descr="aerostar02.JPG"/>
            <p:cNvPicPr/>
            <p:nvPr/>
          </p:nvPicPr>
          <p:blipFill>
            <a:blip r:embed="rId4"/>
            <a:srcRect l="8726" t="0" r="31789" b="60638"/>
            <a:stretch/>
          </p:blipFill>
          <p:spPr>
            <a:xfrm>
              <a:off x="3945960" y="12808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9" descr="atlantis.jpg"/>
            <p:cNvPicPr/>
            <p:nvPr/>
          </p:nvPicPr>
          <p:blipFill>
            <a:blip r:embed="rId5"/>
            <a:srcRect l="34967" t="0" r="21227" b="62120"/>
            <a:stretch/>
          </p:blipFill>
          <p:spPr>
            <a:xfrm>
              <a:off x="5112000" y="1273320"/>
              <a:ext cx="1165680" cy="13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10" descr="blackwarrior.jpg"/>
            <p:cNvPicPr/>
            <p:nvPr/>
          </p:nvPicPr>
          <p:blipFill>
            <a:blip r:embed="rId6"/>
            <a:srcRect l="0" t="0" r="0" b="17921"/>
            <a:stretch/>
          </p:blipFill>
          <p:spPr>
            <a:xfrm>
              <a:off x="6277680" y="1273320"/>
              <a:ext cx="1126800" cy="13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1" descr="bluepanther.jpg"/>
            <p:cNvPicPr/>
            <p:nvPr/>
          </p:nvPicPr>
          <p:blipFill>
            <a:blip r:embed="rId7"/>
            <a:srcRect l="0" t="0" r="0" b="35601"/>
            <a:stretch/>
          </p:blipFill>
          <p:spPr>
            <a:xfrm>
              <a:off x="7404840" y="1280880"/>
              <a:ext cx="11451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crazyboy.jpg"/>
            <p:cNvPicPr/>
            <p:nvPr/>
          </p:nvPicPr>
          <p:blipFill>
            <a:blip r:embed="rId8"/>
            <a:srcRect l="0" t="0" r="0" b="20686"/>
            <a:stretch/>
          </p:blipFill>
          <p:spPr>
            <a:xfrm>
              <a:off x="495360" y="2591280"/>
              <a:ext cx="11383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4" descr="doctorx.jpg"/>
            <p:cNvPicPr/>
            <p:nvPr/>
          </p:nvPicPr>
          <p:blipFill>
            <a:blip r:embed="rId9"/>
            <a:srcRect l="9999" t="0" r="11339" b="49381"/>
            <a:stretch/>
          </p:blipFill>
          <p:spPr>
            <a:xfrm>
              <a:off x="1637640" y="2594880"/>
              <a:ext cx="11422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5" descr="elangel.jpg"/>
            <p:cNvPicPr/>
            <p:nvPr/>
          </p:nvPicPr>
          <p:blipFill>
            <a:blip r:embed="rId10"/>
            <a:srcRect l="0" t="0" r="0" b="28593"/>
            <a:stretch/>
          </p:blipFill>
          <p:spPr>
            <a:xfrm>
              <a:off x="2779920" y="2594880"/>
              <a:ext cx="119232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6" descr="elligero1.jpg"/>
            <p:cNvPicPr/>
            <p:nvPr/>
          </p:nvPicPr>
          <p:blipFill>
            <a:blip r:embed="rId11"/>
            <a:srcRect l="0" t="18661" r="0" b="6012"/>
            <a:stretch/>
          </p:blipFill>
          <p:spPr>
            <a:xfrm>
              <a:off x="3945960" y="25912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8" descr="elsupremo.jpg"/>
            <p:cNvPicPr/>
            <p:nvPr/>
          </p:nvPicPr>
          <p:blipFill>
            <a:blip r:embed="rId12"/>
            <a:srcRect l="10701" t="8510" r="14944" b="28883"/>
            <a:stretch/>
          </p:blipFill>
          <p:spPr>
            <a:xfrm>
              <a:off x="5112000" y="2594880"/>
              <a:ext cx="11656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9" descr="elterrible.jpg"/>
            <p:cNvPicPr/>
            <p:nvPr/>
          </p:nvPicPr>
          <p:blipFill>
            <a:blip r:embed="rId13"/>
            <a:srcRect l="0" t="0" r="0" b="17561"/>
            <a:stretch/>
          </p:blipFill>
          <p:spPr>
            <a:xfrm>
              <a:off x="6277680" y="2594880"/>
              <a:ext cx="112680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0" descr="eltexanojr.jpg"/>
            <p:cNvPicPr/>
            <p:nvPr/>
          </p:nvPicPr>
          <p:blipFill>
            <a:blip r:embed="rId14"/>
            <a:srcRect l="0" t="0" r="0" b="23874"/>
            <a:stretch/>
          </p:blipFill>
          <p:spPr>
            <a:xfrm>
              <a:off x="7404840" y="2594880"/>
              <a:ext cx="11451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1" descr="incognito.jpg"/>
            <p:cNvPicPr/>
            <p:nvPr/>
          </p:nvPicPr>
          <p:blipFill>
            <a:blip r:embed="rId15"/>
            <a:srcRect l="276" t="0" r="12756" b="0"/>
            <a:stretch/>
          </p:blipFill>
          <p:spPr>
            <a:xfrm>
              <a:off x="49536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2" descr="latinlover.jpg"/>
            <p:cNvPicPr/>
            <p:nvPr/>
          </p:nvPicPr>
          <p:blipFill>
            <a:blip r:embed="rId16"/>
            <a:srcRect l="0" t="0" r="17135" b="25919"/>
            <a:stretch/>
          </p:blipFill>
          <p:spPr>
            <a:xfrm>
              <a:off x="163764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23" descr="mistico.jpg"/>
            <p:cNvPicPr/>
            <p:nvPr/>
          </p:nvPicPr>
          <p:blipFill>
            <a:blip r:embed="rId17"/>
            <a:srcRect l="20635" t="0" r="38549" b="38398"/>
            <a:stretch/>
          </p:blipFill>
          <p:spPr>
            <a:xfrm>
              <a:off x="2785680" y="3904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24" descr="mystico.jpg"/>
            <p:cNvPicPr/>
            <p:nvPr/>
          </p:nvPicPr>
          <p:blipFill>
            <a:blip r:embed="rId18"/>
            <a:srcRect l="15621" t="0" r="26133" b="0"/>
            <a:stretch/>
          </p:blipFill>
          <p:spPr>
            <a:xfrm>
              <a:off x="3945960" y="3904920"/>
              <a:ext cx="1147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25" descr="Octagon.jpg"/>
            <p:cNvPicPr/>
            <p:nvPr/>
          </p:nvPicPr>
          <p:blipFill>
            <a:blip r:embed="rId19"/>
            <a:srcRect l="0" t="0" r="0" b="37891"/>
            <a:stretch/>
          </p:blipFill>
          <p:spPr>
            <a:xfrm>
              <a:off x="5093640" y="3904920"/>
              <a:ext cx="11840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6" descr="oro.jpg"/>
            <p:cNvPicPr/>
            <p:nvPr/>
          </p:nvPicPr>
          <p:blipFill>
            <a:blip r:embed="rId20"/>
            <a:srcRect l="19760" t="4005" r="13709" b="20014"/>
            <a:stretch/>
          </p:blipFill>
          <p:spPr>
            <a:xfrm>
              <a:off x="6277680" y="3904920"/>
              <a:ext cx="1126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27" descr="piratamorgan.jpg"/>
            <p:cNvPicPr/>
            <p:nvPr/>
          </p:nvPicPr>
          <p:blipFill>
            <a:blip r:embed="rId21"/>
            <a:srcRect l="15802" t="0" r="20497" b="0"/>
            <a:stretch/>
          </p:blipFill>
          <p:spPr>
            <a:xfrm>
              <a:off x="7404840" y="3904920"/>
              <a:ext cx="1144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8" descr="scorpiojr.jpg"/>
            <p:cNvPicPr/>
            <p:nvPr/>
          </p:nvPicPr>
          <p:blipFill>
            <a:blip r:embed="rId22"/>
            <a:srcRect l="0" t="0" r="0" b="23929"/>
            <a:stretch/>
          </p:blipFill>
          <p:spPr>
            <a:xfrm>
              <a:off x="482760" y="5218920"/>
              <a:ext cx="1150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9" descr="Super Muneco.jpg"/>
            <p:cNvPicPr/>
            <p:nvPr/>
          </p:nvPicPr>
          <p:blipFill>
            <a:blip r:embed="rId23"/>
            <a:srcRect l="641" t="0" r="35993" b="46953"/>
            <a:stretch/>
          </p:blipFill>
          <p:spPr>
            <a:xfrm>
              <a:off x="1645920" y="5218920"/>
              <a:ext cx="11336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31" descr="supercrazy.jpg"/>
            <p:cNvPicPr/>
            <p:nvPr/>
          </p:nvPicPr>
          <p:blipFill>
            <a:blip r:embed="rId24"/>
            <a:srcRect l="0" t="0" r="11662" b="0"/>
            <a:stretch/>
          </p:blipFill>
          <p:spPr>
            <a:xfrm>
              <a:off x="2785680" y="5218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32" descr="superfly.jpg"/>
            <p:cNvPicPr/>
            <p:nvPr/>
          </p:nvPicPr>
          <p:blipFill>
            <a:blip r:embed="rId25"/>
            <a:srcRect l="14568" t="6803" r="9635" b="35693"/>
            <a:stretch/>
          </p:blipFill>
          <p:spPr>
            <a:xfrm>
              <a:off x="3945960" y="5218920"/>
              <a:ext cx="11523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3" descr="tinieblas.jpg"/>
            <p:cNvPicPr/>
            <p:nvPr/>
          </p:nvPicPr>
          <p:blipFill>
            <a:blip r:embed="rId26"/>
            <a:srcRect l="0" t="0" r="25228" b="44378"/>
            <a:stretch/>
          </p:blipFill>
          <p:spPr>
            <a:xfrm>
              <a:off x="5099040" y="521892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4" descr="Xtreme Tiger.jpg"/>
            <p:cNvPicPr/>
            <p:nvPr/>
          </p:nvPicPr>
          <p:blipFill>
            <a:blip r:embed="rId27"/>
            <a:srcRect l="0" t="0" r="0" b="8495"/>
            <a:stretch/>
          </p:blipFill>
          <p:spPr>
            <a:xfrm>
              <a:off x="6277680" y="5218920"/>
              <a:ext cx="11430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5" descr=""/>
            <p:cNvPicPr/>
            <p:nvPr/>
          </p:nvPicPr>
          <p:blipFill>
            <a:blip r:embed="rId28"/>
            <a:srcRect l="0" t="0" r="13276" b="33436"/>
            <a:stretch/>
          </p:blipFill>
          <p:spPr>
            <a:xfrm>
              <a:off x="7420680" y="5218920"/>
              <a:ext cx="1139040" cy="13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Pregunta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Rectangle 33"/>
          <p:cNvSpPr/>
          <p:nvPr/>
        </p:nvSpPr>
        <p:spPr>
          <a:xfrm>
            <a:off x="485640" y="1281240"/>
            <a:ext cx="8067960" cy="525780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itle 1"/>
          <p:cNvSpPr/>
          <p:nvPr/>
        </p:nvSpPr>
        <p:spPr>
          <a:xfrm>
            <a:off x="330120" y="3560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7030a0"/>
                </a:solidFill>
                <a:uFillTx/>
                <a:latin typeface="Rockwell"/>
                <a:ea typeface="ＭＳ Ｐゴシック"/>
                <a:hlinkClick r:id="rId29"/>
              </a:rPr>
              <a:t>http://www.youtube.com/watch?v=xwZDAwv9lcc&amp;feature=related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The Probl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83" name="Group 16"/>
          <p:cNvGrpSpPr/>
          <p:nvPr/>
        </p:nvGrpSpPr>
        <p:grpSpPr>
          <a:xfrm>
            <a:off x="1530360" y="1327320"/>
            <a:ext cx="6245280" cy="5252760"/>
            <a:chOff x="1530360" y="1327320"/>
            <a:chExt cx="6245280" cy="5252760"/>
          </a:xfrm>
        </p:grpSpPr>
        <p:sp>
          <p:nvSpPr>
            <p:cNvPr id="84" name="Rectangle 4"/>
            <p:cNvSpPr/>
            <p:nvPr/>
          </p:nvSpPr>
          <p:spPr>
            <a:xfrm>
              <a:off x="2682720" y="1442880"/>
              <a:ext cx="5092920" cy="1083960"/>
            </a:xfrm>
            <a:prstGeom prst="rect">
              <a:avLst/>
            </a:prstGeom>
            <a:gradFill rotWithShape="0">
              <a:gsLst>
                <a:gs pos="0">
                  <a:srgbClr val="9fd0f5"/>
                </a:gs>
                <a:gs pos="100000">
                  <a:srgbClr val="1b83b0"/>
                </a:gs>
              </a:gsLst>
              <a:lin ang="5400000"/>
            </a:gradFill>
            <a:ln w="9360">
              <a:solidFill>
                <a:srgbClr val="287a9e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Rockwell"/>
                </a:rPr>
                <a:t>Two Day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2682720" y="2754360"/>
              <a:ext cx="5092920" cy="1082520"/>
            </a:xfrm>
            <a:prstGeom prst="rect">
              <a:avLst/>
            </a:prstGeom>
            <a:gradFill rotWithShape="0">
              <a:gsLst>
                <a:gs pos="0">
                  <a:srgbClr val="9fd0f5"/>
                </a:gs>
                <a:gs pos="100000">
                  <a:srgbClr val="1b83b0"/>
                </a:gs>
              </a:gsLst>
              <a:lin ang="5400000"/>
            </a:gradFill>
            <a:ln w="9360">
              <a:solidFill>
                <a:srgbClr val="287a9e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Rockwell"/>
                </a:rPr>
                <a:t>Four Show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2682720" y="4037040"/>
              <a:ext cx="5092920" cy="1082520"/>
            </a:xfrm>
            <a:prstGeom prst="rect">
              <a:avLst/>
            </a:prstGeom>
            <a:gradFill rotWithShape="0">
              <a:gsLst>
                <a:gs pos="0">
                  <a:srgbClr val="9fd0f5"/>
                </a:gs>
                <a:gs pos="100000">
                  <a:srgbClr val="1b83b0"/>
                </a:gs>
              </a:gsLst>
              <a:lin ang="5400000"/>
            </a:gradFill>
            <a:ln w="9360">
              <a:solidFill>
                <a:srgbClr val="287a9e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Rockwell"/>
                </a:rPr>
                <a:t>Twenty-four  Wrestler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2682720" y="5370480"/>
              <a:ext cx="5092920" cy="1083960"/>
            </a:xfrm>
            <a:prstGeom prst="rect">
              <a:avLst/>
            </a:prstGeom>
            <a:gradFill rotWithShape="0">
              <a:gsLst>
                <a:gs pos="0">
                  <a:srgbClr val="9fd0f5"/>
                </a:gs>
                <a:gs pos="100000">
                  <a:srgbClr val="1b83b0"/>
                </a:gs>
              </a:gsLst>
              <a:lin ang="5400000"/>
            </a:gradFill>
            <a:ln w="9360">
              <a:solidFill>
                <a:srgbClr val="287a9e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Rockwell"/>
                </a:rPr>
                <a:t>Mucho Diner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" name="Picture 8" descr="Abismo Negro-lucha libre.jpg"/>
            <p:cNvPicPr/>
            <p:nvPr/>
          </p:nvPicPr>
          <p:blipFill>
            <a:blip r:embed="rId1"/>
            <a:srcRect l="0" t="0" r="0" b="15204"/>
            <a:stretch/>
          </p:blipFill>
          <p:spPr>
            <a:xfrm>
              <a:off x="1540080" y="1327320"/>
              <a:ext cx="114228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9" descr="superfly.jpg"/>
            <p:cNvPicPr/>
            <p:nvPr/>
          </p:nvPicPr>
          <p:blipFill>
            <a:blip r:embed="rId2"/>
            <a:srcRect l="14568" t="6803" r="9635" b="35693"/>
            <a:stretch/>
          </p:blipFill>
          <p:spPr>
            <a:xfrm>
              <a:off x="1530360" y="2640600"/>
              <a:ext cx="1152360" cy="131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0" descr="oro.jpg"/>
            <p:cNvPicPr/>
            <p:nvPr/>
          </p:nvPicPr>
          <p:blipFill>
            <a:blip r:embed="rId3"/>
            <a:srcRect l="19760" t="4005" r="13709" b="20014"/>
            <a:stretch/>
          </p:blipFill>
          <p:spPr>
            <a:xfrm>
              <a:off x="1530360" y="3953520"/>
              <a:ext cx="1165320" cy="13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1" descr="bluepanther.jpg"/>
            <p:cNvPicPr/>
            <p:nvPr/>
          </p:nvPicPr>
          <p:blipFill>
            <a:blip r:embed="rId4"/>
            <a:srcRect l="0" t="0" r="0" b="35601"/>
            <a:stretch/>
          </p:blipFill>
          <p:spPr>
            <a:xfrm>
              <a:off x="1550160" y="5266800"/>
              <a:ext cx="1145160" cy="13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Plus 12"/>
            <p:cNvSpPr/>
            <p:nvPr/>
          </p:nvSpPr>
          <p:spPr>
            <a:xfrm>
              <a:off x="6375600" y="1619280"/>
              <a:ext cx="712800" cy="739440"/>
            </a:xfrm>
            <a:custGeom>
              <a:avLst/>
              <a:gdLst>
                <a:gd name="textAreaLeft" fmla="*/ 94320 w 712800"/>
                <a:gd name="textAreaRight" fmla="*/ 618480 w 712800"/>
                <a:gd name="textAreaTop" fmla="*/ 285840 h 739440"/>
                <a:gd name="textAreaBottom" fmla="*/ 453600 h 739440"/>
              </a:gdLst>
              <a:ahLst/>
              <a:rect l="textAreaLeft" t="textAreaTop" r="textAreaRight" b="textAreaBottom"/>
              <a:pathLst>
                <a:path w="712776" h="739882">
                  <a:moveTo>
                    <a:pt x="94478" y="286119"/>
                  </a:moveTo>
                  <a:lnTo>
                    <a:pt x="272566" y="286119"/>
                  </a:lnTo>
                  <a:lnTo>
                    <a:pt x="272566" y="98071"/>
                  </a:lnTo>
                  <a:lnTo>
                    <a:pt x="440210" y="98071"/>
                  </a:lnTo>
                  <a:lnTo>
                    <a:pt x="440210" y="286119"/>
                  </a:lnTo>
                  <a:lnTo>
                    <a:pt x="618298" y="286119"/>
                  </a:lnTo>
                  <a:lnTo>
                    <a:pt x="618298" y="453763"/>
                  </a:lnTo>
                  <a:lnTo>
                    <a:pt x="440210" y="453763"/>
                  </a:lnTo>
                  <a:lnTo>
                    <a:pt x="440210" y="641811"/>
                  </a:lnTo>
                  <a:lnTo>
                    <a:pt x="272566" y="641811"/>
                  </a:lnTo>
                  <a:lnTo>
                    <a:pt x="272566" y="453763"/>
                  </a:lnTo>
                  <a:lnTo>
                    <a:pt x="94478" y="4537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Plus 13"/>
            <p:cNvSpPr/>
            <p:nvPr/>
          </p:nvSpPr>
          <p:spPr>
            <a:xfrm>
              <a:off x="6372360" y="2913120"/>
              <a:ext cx="712800" cy="738000"/>
            </a:xfrm>
            <a:custGeom>
              <a:avLst/>
              <a:gdLst>
                <a:gd name="textAreaLeft" fmla="*/ 94320 w 712800"/>
                <a:gd name="textAreaRight" fmla="*/ 618480 w 712800"/>
                <a:gd name="textAreaTop" fmla="*/ 285120 h 738000"/>
                <a:gd name="textAreaBottom" fmla="*/ 452880 h 738000"/>
              </a:gdLst>
              <a:ahLst/>
              <a:rect l="textAreaLeft" t="textAreaTop" r="textAreaRight" b="textAreaBottom"/>
              <a:pathLst>
                <a:path w="712776" h="738294">
                  <a:moveTo>
                    <a:pt x="94478" y="285325"/>
                  </a:moveTo>
                  <a:lnTo>
                    <a:pt x="272566" y="285325"/>
                  </a:lnTo>
                  <a:lnTo>
                    <a:pt x="272566" y="97861"/>
                  </a:lnTo>
                  <a:lnTo>
                    <a:pt x="440210" y="97861"/>
                  </a:lnTo>
                  <a:lnTo>
                    <a:pt x="440210" y="285325"/>
                  </a:lnTo>
                  <a:lnTo>
                    <a:pt x="618298" y="285325"/>
                  </a:lnTo>
                  <a:lnTo>
                    <a:pt x="618298" y="452969"/>
                  </a:lnTo>
                  <a:lnTo>
                    <a:pt x="440210" y="452969"/>
                  </a:lnTo>
                  <a:lnTo>
                    <a:pt x="440210" y="640433"/>
                  </a:lnTo>
                  <a:lnTo>
                    <a:pt x="272566" y="640433"/>
                  </a:lnTo>
                  <a:lnTo>
                    <a:pt x="272566" y="452969"/>
                  </a:lnTo>
                  <a:lnTo>
                    <a:pt x="94478" y="45296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Plus 14"/>
            <p:cNvSpPr/>
            <p:nvPr/>
          </p:nvSpPr>
          <p:spPr>
            <a:xfrm>
              <a:off x="6369120" y="4165560"/>
              <a:ext cx="712800" cy="739440"/>
            </a:xfrm>
            <a:custGeom>
              <a:avLst/>
              <a:gdLst>
                <a:gd name="textAreaLeft" fmla="*/ 94320 w 712800"/>
                <a:gd name="textAreaRight" fmla="*/ 618480 w 712800"/>
                <a:gd name="textAreaTop" fmla="*/ 285840 h 739440"/>
                <a:gd name="textAreaBottom" fmla="*/ 453600 h 739440"/>
              </a:gdLst>
              <a:ahLst/>
              <a:rect l="textAreaLeft" t="textAreaTop" r="textAreaRight" b="textAreaBottom"/>
              <a:pathLst>
                <a:path w="712776" h="739882">
                  <a:moveTo>
                    <a:pt x="94478" y="286119"/>
                  </a:moveTo>
                  <a:lnTo>
                    <a:pt x="272566" y="286119"/>
                  </a:lnTo>
                  <a:lnTo>
                    <a:pt x="272566" y="98071"/>
                  </a:lnTo>
                  <a:lnTo>
                    <a:pt x="440210" y="98071"/>
                  </a:lnTo>
                  <a:lnTo>
                    <a:pt x="440210" y="286119"/>
                  </a:lnTo>
                  <a:lnTo>
                    <a:pt x="618298" y="286119"/>
                  </a:lnTo>
                  <a:lnTo>
                    <a:pt x="618298" y="453763"/>
                  </a:lnTo>
                  <a:lnTo>
                    <a:pt x="440210" y="453763"/>
                  </a:lnTo>
                  <a:lnTo>
                    <a:pt x="440210" y="641811"/>
                  </a:lnTo>
                  <a:lnTo>
                    <a:pt x="272566" y="641811"/>
                  </a:lnTo>
                  <a:lnTo>
                    <a:pt x="272566" y="453763"/>
                  </a:lnTo>
                  <a:lnTo>
                    <a:pt x="94478" y="45376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Equal 15"/>
            <p:cNvSpPr/>
            <p:nvPr/>
          </p:nvSpPr>
          <p:spPr>
            <a:xfrm>
              <a:off x="6342120" y="5585040"/>
              <a:ext cx="804600" cy="726840"/>
            </a:xfrm>
            <a:custGeom>
              <a:avLst/>
              <a:gdLst>
                <a:gd name="textAreaLeft" fmla="*/ 106560 w 804600"/>
                <a:gd name="textAreaRight" fmla="*/ 698040 w 804600"/>
                <a:gd name="textAreaTop" fmla="*/ 149760 h 726840"/>
                <a:gd name="textAreaBottom" fmla="*/ 577080 h 726840"/>
              </a:gdLst>
              <a:ahLst/>
              <a:rect l="textAreaLeft" t="textAreaTop" r="textAreaRight" b="textAreaBottom"/>
              <a:pathLst>
                <a:path w="804848" h="727180">
                  <a:moveTo>
                    <a:pt x="106683" y="149799"/>
                  </a:moveTo>
                  <a:lnTo>
                    <a:pt x="698165" y="149799"/>
                  </a:lnTo>
                  <a:lnTo>
                    <a:pt x="698165" y="320832"/>
                  </a:lnTo>
                  <a:lnTo>
                    <a:pt x="106683" y="320832"/>
                  </a:lnTo>
                  <a:close/>
                  <a:moveTo>
                    <a:pt x="106683" y="406348"/>
                  </a:moveTo>
                  <a:lnTo>
                    <a:pt x="698165" y="406348"/>
                  </a:lnTo>
                  <a:lnTo>
                    <a:pt x="698165" y="577381"/>
                  </a:lnTo>
                  <a:lnTo>
                    <a:pt x="106683" y="57738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8"/>
          <p:cNvSpPr/>
          <p:nvPr/>
        </p:nvSpPr>
        <p:spPr>
          <a:xfrm>
            <a:off x="2682720" y="141768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eadl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2682720" y="272736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eadl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2682720" y="401004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eadl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2692440" y="5316480"/>
            <a:ext cx="509256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Headl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tten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The Resul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Box 24"/>
          <p:cNvSpPr/>
          <p:nvPr/>
        </p:nvSpPr>
        <p:spPr>
          <a:xfrm>
            <a:off x="5742000" y="1505160"/>
            <a:ext cx="13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v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30"/>
          <p:cNvSpPr/>
          <p:nvPr/>
        </p:nvSpPr>
        <p:spPr>
          <a:xfrm>
            <a:off x="6016680" y="208116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9.9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7" descr="doctorx.jpg"/>
          <p:cNvPicPr/>
          <p:nvPr/>
        </p:nvPicPr>
        <p:blipFill>
          <a:blip r:embed="rId1"/>
          <a:srcRect l="9999" t="0" r="12236" b="49381"/>
          <a:stretch/>
        </p:blipFill>
        <p:spPr>
          <a:xfrm>
            <a:off x="1552680" y="1287360"/>
            <a:ext cx="1130040" cy="1309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" descr="Super Muneco.jpg"/>
          <p:cNvPicPr/>
          <p:nvPr/>
        </p:nvPicPr>
        <p:blipFill>
          <a:blip r:embed="rId2"/>
          <a:srcRect l="641" t="0" r="35993" b="46953"/>
          <a:stretch/>
        </p:blipFill>
        <p:spPr>
          <a:xfrm>
            <a:off x="1552680" y="3905280"/>
            <a:ext cx="1133280" cy="1312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aerostar02.JPG"/>
          <p:cNvPicPr/>
          <p:nvPr/>
        </p:nvPicPr>
        <p:blipFill>
          <a:blip r:embed="rId3"/>
          <a:srcRect l="8726" t="0" r="33653" b="60638"/>
          <a:stretch/>
        </p:blipFill>
        <p:spPr>
          <a:xfrm>
            <a:off x="1552680" y="2587680"/>
            <a:ext cx="1130040" cy="131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eltexanojr.jpg"/>
          <p:cNvPicPr/>
          <p:nvPr/>
        </p:nvPicPr>
        <p:blipFill>
          <a:blip r:embed="rId4"/>
          <a:srcRect l="0" t="0" r="0" b="23874"/>
          <a:stretch/>
        </p:blipFill>
        <p:spPr>
          <a:xfrm>
            <a:off x="1552680" y="5218200"/>
            <a:ext cx="1146240" cy="1309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4"/>
          <p:cNvSpPr/>
          <p:nvPr/>
        </p:nvSpPr>
        <p:spPr>
          <a:xfrm>
            <a:off x="5738760" y="2822760"/>
            <a:ext cx="13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v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6013440" y="340056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0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4"/>
          <p:cNvSpPr/>
          <p:nvPr/>
        </p:nvSpPr>
        <p:spPr>
          <a:xfrm>
            <a:off x="5735520" y="4102200"/>
            <a:ext cx="13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v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6010200" y="468000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0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24"/>
          <p:cNvSpPr/>
          <p:nvPr/>
        </p:nvSpPr>
        <p:spPr>
          <a:xfrm>
            <a:off x="5732640" y="5421600"/>
            <a:ext cx="13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v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6006960" y="599904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0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5124600" y="1565280"/>
            <a:ext cx="80784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Latin Lo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6900840" y="1571760"/>
            <a:ext cx="98892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Scorpio J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4925880" y="2924280"/>
            <a:ext cx="101304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El Terri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6907320" y="2930400"/>
            <a:ext cx="988920" cy="5986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Crazy Bo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4943520" y="4149720"/>
            <a:ext cx="101448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Pirata Mor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924600" y="4156200"/>
            <a:ext cx="98892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Super Muñe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4962600" y="5497560"/>
            <a:ext cx="1012680" cy="5983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Extreme Ti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943680" y="5502240"/>
            <a:ext cx="988920" cy="59868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Tarzan Lope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itle 1"/>
          <p:cNvSpPr/>
          <p:nvPr/>
        </p:nvSpPr>
        <p:spPr>
          <a:xfrm rot="16200000">
            <a:off x="-694440" y="2012040"/>
            <a:ext cx="253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Satur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 rot="16200000">
            <a:off x="-688680" y="4614480"/>
            <a:ext cx="253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Sun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 rot="16200000">
            <a:off x="376200" y="5254560"/>
            <a:ext cx="1806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Eve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 rot="16200000">
            <a:off x="372240" y="2616840"/>
            <a:ext cx="180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Eve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itle 1"/>
          <p:cNvSpPr/>
          <p:nvPr/>
        </p:nvSpPr>
        <p:spPr>
          <a:xfrm rot="16200000">
            <a:off x="376920" y="3935880"/>
            <a:ext cx="180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Aftern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 rot="16200000">
            <a:off x="372600" y="1297440"/>
            <a:ext cx="180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  <a:ea typeface="ＭＳ Ｐゴシック"/>
              </a:rPr>
              <a:t>Aftern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Mucho Dine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682720" y="141768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otal Tickets S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682720" y="272736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otal Reven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682720" y="401004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otal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4" descr="supercrazy.jpg"/>
          <p:cNvPicPr/>
          <p:nvPr/>
        </p:nvPicPr>
        <p:blipFill>
          <a:blip r:embed="rId1"/>
          <a:srcRect l="0" t="0" r="11662" b="0"/>
          <a:stretch/>
        </p:blipFill>
        <p:spPr>
          <a:xfrm>
            <a:off x="1522440" y="1271520"/>
            <a:ext cx="1160280" cy="1312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atlantis.jpg"/>
          <p:cNvPicPr/>
          <p:nvPr/>
        </p:nvPicPr>
        <p:blipFill>
          <a:blip r:embed="rId2"/>
          <a:srcRect l="34967" t="0" r="21227" b="62120"/>
          <a:stretch/>
        </p:blipFill>
        <p:spPr>
          <a:xfrm>
            <a:off x="1515960" y="3902040"/>
            <a:ext cx="1166760" cy="1317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chessman5copialf3.jpg"/>
          <p:cNvPicPr/>
          <p:nvPr/>
        </p:nvPicPr>
        <p:blipFill>
          <a:blip r:embed="rId3"/>
          <a:srcRect l="17470" t="4980" r="8484" b="41411"/>
          <a:stretch/>
        </p:blipFill>
        <p:spPr>
          <a:xfrm>
            <a:off x="1515960" y="2584440"/>
            <a:ext cx="1166760" cy="1317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2692440" y="5316480"/>
            <a:ext cx="509256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otal Pro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5999040" y="1593720"/>
            <a:ext cx="177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39.9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5997600" y="2898720"/>
            <a:ext cx="177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3,099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5994360" y="4140360"/>
            <a:ext cx="177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,599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6004080" y="5459400"/>
            <a:ext cx="177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,499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5" descr="Octagon.jpg"/>
          <p:cNvPicPr/>
          <p:nvPr/>
        </p:nvPicPr>
        <p:blipFill>
          <a:blip r:embed="rId4"/>
          <a:srcRect l="0" t="0" r="0" b="37891"/>
          <a:stretch/>
        </p:blipFill>
        <p:spPr>
          <a:xfrm>
            <a:off x="1522440" y="5219640"/>
            <a:ext cx="118440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6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682720" y="5084640"/>
            <a:ext cx="5092920" cy="108288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Maximize demand between Wrestler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3" descr="mistico.jpg"/>
          <p:cNvPicPr/>
          <p:nvPr/>
        </p:nvPicPr>
        <p:blipFill>
          <a:blip r:embed="rId1"/>
          <a:srcRect l="20635" t="0" r="38549" b="38398"/>
          <a:stretch/>
        </p:blipFill>
        <p:spPr>
          <a:xfrm>
            <a:off x="1522440" y="4932360"/>
            <a:ext cx="1160280" cy="1312920"/>
          </a:xfrm>
          <a:prstGeom prst="rect">
            <a:avLst/>
          </a:prstGeom>
          <a:ln w="0">
            <a:noFill/>
          </a:ln>
        </p:spPr>
      </p:pic>
      <p:sp>
        <p:nvSpPr>
          <p:cNvPr id="14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Decision Vari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2682720" y="171612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restler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3" descr="tinieblas.jpg"/>
          <p:cNvPicPr/>
          <p:nvPr/>
        </p:nvPicPr>
        <p:blipFill>
          <a:blip r:embed="rId2"/>
          <a:srcRect l="0" t="0" r="25228" b="44378"/>
          <a:stretch/>
        </p:blipFill>
        <p:spPr>
          <a:xfrm>
            <a:off x="1522440" y="1562040"/>
            <a:ext cx="11667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onstrai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682720" y="136512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 Wrestlers                1 M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682720" y="267660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 Match per Wrest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2682720" y="395928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adium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5"/>
          <p:cNvSpPr/>
          <p:nvPr/>
        </p:nvSpPr>
        <p:spPr>
          <a:xfrm>
            <a:off x="5345280" y="3868560"/>
            <a:ext cx="114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30"/>
          <p:cNvSpPr/>
          <p:nvPr/>
        </p:nvSpPr>
        <p:spPr>
          <a:xfrm>
            <a:off x="6440400" y="42750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25"/>
          <p:cNvSpPr/>
          <p:nvPr/>
        </p:nvSpPr>
        <p:spPr>
          <a:xfrm>
            <a:off x="4435560" y="1279440"/>
            <a:ext cx="114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8" descr="scorpiojr.jpg"/>
          <p:cNvPicPr/>
          <p:nvPr/>
        </p:nvPicPr>
        <p:blipFill>
          <a:blip r:embed="rId1"/>
          <a:srcRect l="0" t="0" r="0" b="23929"/>
          <a:stretch/>
        </p:blipFill>
        <p:spPr>
          <a:xfrm>
            <a:off x="1531800" y="2544840"/>
            <a:ext cx="1150920" cy="1312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blackwarrior.jpg"/>
          <p:cNvPicPr/>
          <p:nvPr/>
        </p:nvPicPr>
        <p:blipFill>
          <a:blip r:embed="rId2"/>
          <a:srcRect l="0" t="0" r="0" b="17921"/>
          <a:stretch/>
        </p:blipFill>
        <p:spPr>
          <a:xfrm>
            <a:off x="1555920" y="3857760"/>
            <a:ext cx="1126800" cy="132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latinlover.jpg"/>
          <p:cNvPicPr/>
          <p:nvPr/>
        </p:nvPicPr>
        <p:blipFill>
          <a:blip r:embed="rId3"/>
          <a:srcRect l="0" t="0" r="17135" b="25919"/>
          <a:stretch/>
        </p:blipFill>
        <p:spPr>
          <a:xfrm>
            <a:off x="1531800" y="1230480"/>
            <a:ext cx="1141560" cy="1314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8"/>
          <p:cNvSpPr/>
          <p:nvPr/>
        </p:nvSpPr>
        <p:spPr>
          <a:xfrm>
            <a:off x="2679840" y="5276880"/>
            <a:ext cx="509256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Four Sh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6" descr="elligero1.jpg"/>
          <p:cNvPicPr/>
          <p:nvPr/>
        </p:nvPicPr>
        <p:blipFill>
          <a:blip r:embed="rId4"/>
          <a:srcRect l="0" t="18661" r="2985" b="6012"/>
          <a:stretch/>
        </p:blipFill>
        <p:spPr>
          <a:xfrm>
            <a:off x="1542960" y="5168880"/>
            <a:ext cx="11304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Additional Consider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2670120" y="1365120"/>
            <a:ext cx="5092920" cy="10843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ticket group determined by top demand headliners and time slot popul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670120" y="2676600"/>
            <a:ext cx="509292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evenues calculated by ticket sales, stadium concessions and souvenir s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673360" y="3959280"/>
            <a:ext cx="509256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Fixed Costs:  Stadium r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2679840" y="5276880"/>
            <a:ext cx="5092560" cy="1082520"/>
          </a:xfrm>
          <a:prstGeom prst="rect">
            <a:avLst/>
          </a:prstGeom>
          <a:gradFill rotWithShape="0">
            <a:gsLst>
              <a:gs pos="0">
                <a:srgbClr val="9fd0f5"/>
              </a:gs>
              <a:gs pos="100000">
                <a:srgbClr val="1b83b0"/>
              </a:gs>
            </a:gsLst>
            <a:lin ang="5400000"/>
          </a:gra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Variable Costs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oncessions and souvenir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restlers receive 15% of ticket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4" descr="mystico.jpg"/>
          <p:cNvPicPr/>
          <p:nvPr/>
        </p:nvPicPr>
        <p:blipFill>
          <a:blip r:embed="rId1"/>
          <a:srcRect l="15621" t="0" r="26133" b="0"/>
          <a:stretch/>
        </p:blipFill>
        <p:spPr>
          <a:xfrm>
            <a:off x="1535040" y="3878280"/>
            <a:ext cx="1147680" cy="131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1" descr="incognito.jpg"/>
          <p:cNvPicPr/>
          <p:nvPr/>
        </p:nvPicPr>
        <p:blipFill>
          <a:blip r:embed="rId2"/>
          <a:srcRect l="276" t="0" r="12756" b="0"/>
          <a:stretch/>
        </p:blipFill>
        <p:spPr>
          <a:xfrm>
            <a:off x="1533600" y="1251000"/>
            <a:ext cx="1141200" cy="131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4" descr="Xtreme Tiger.jpg"/>
          <p:cNvPicPr/>
          <p:nvPr/>
        </p:nvPicPr>
        <p:blipFill>
          <a:blip r:embed="rId3"/>
          <a:srcRect l="0" t="0" r="0" b="8495"/>
          <a:stretch/>
        </p:blipFill>
        <p:spPr>
          <a:xfrm>
            <a:off x="1530360" y="2565360"/>
            <a:ext cx="1143000" cy="131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piratamorgan.jpg"/>
          <p:cNvPicPr/>
          <p:nvPr/>
        </p:nvPicPr>
        <p:blipFill>
          <a:blip r:embed="rId4"/>
          <a:srcRect l="15802" t="0" r="20497" b="0"/>
          <a:stretch/>
        </p:blipFill>
        <p:spPr>
          <a:xfrm>
            <a:off x="1542960" y="5167440"/>
            <a:ext cx="1144800" cy="13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32"/>
          <p:cNvGrpSpPr/>
          <p:nvPr/>
        </p:nvGrpSpPr>
        <p:grpSpPr>
          <a:xfrm>
            <a:off x="482760" y="1273320"/>
            <a:ext cx="8076960" cy="5259240"/>
            <a:chOff x="482760" y="1273320"/>
            <a:chExt cx="8076960" cy="5259240"/>
          </a:xfrm>
        </p:grpSpPr>
        <p:pic>
          <p:nvPicPr>
            <p:cNvPr id="168" name="Picture 3" descr="Abismo Negro-lucha libre.jpg"/>
            <p:cNvPicPr/>
            <p:nvPr/>
          </p:nvPicPr>
          <p:blipFill>
            <a:blip r:embed="rId1"/>
            <a:srcRect l="0" t="0" r="0" b="15204"/>
            <a:stretch/>
          </p:blipFill>
          <p:spPr>
            <a:xfrm>
              <a:off x="501120" y="12733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5" descr="bluedemonjr.jpg"/>
            <p:cNvPicPr/>
            <p:nvPr/>
          </p:nvPicPr>
          <p:blipFill>
            <a:blip r:embed="rId2"/>
            <a:srcRect l="28877" t="0" r="6076" b="0"/>
            <a:stretch/>
          </p:blipFill>
          <p:spPr>
            <a:xfrm>
              <a:off x="1637640" y="1277280"/>
              <a:ext cx="11422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6" descr="chessman5copialf3.jpg"/>
            <p:cNvPicPr/>
            <p:nvPr/>
          </p:nvPicPr>
          <p:blipFill>
            <a:blip r:embed="rId3"/>
            <a:srcRect l="17470" t="4980" r="8484" b="41411"/>
            <a:stretch/>
          </p:blipFill>
          <p:spPr>
            <a:xfrm>
              <a:off x="2779920" y="1277280"/>
              <a:ext cx="11656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8" descr="aerostar02.JPG"/>
            <p:cNvPicPr/>
            <p:nvPr/>
          </p:nvPicPr>
          <p:blipFill>
            <a:blip r:embed="rId4"/>
            <a:srcRect l="8726" t="0" r="31789" b="60638"/>
            <a:stretch/>
          </p:blipFill>
          <p:spPr>
            <a:xfrm>
              <a:off x="3945960" y="12808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9" descr="atlantis.jpg"/>
            <p:cNvPicPr/>
            <p:nvPr/>
          </p:nvPicPr>
          <p:blipFill>
            <a:blip r:embed="rId5"/>
            <a:srcRect l="34967" t="0" r="21227" b="62120"/>
            <a:stretch/>
          </p:blipFill>
          <p:spPr>
            <a:xfrm>
              <a:off x="5112000" y="1273320"/>
              <a:ext cx="1165680" cy="13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0" descr="blackwarrior.jpg"/>
            <p:cNvPicPr/>
            <p:nvPr/>
          </p:nvPicPr>
          <p:blipFill>
            <a:blip r:embed="rId6"/>
            <a:srcRect l="0" t="0" r="0" b="17921"/>
            <a:stretch/>
          </p:blipFill>
          <p:spPr>
            <a:xfrm>
              <a:off x="6277680" y="1273320"/>
              <a:ext cx="1126800" cy="13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" descr="bluepanther.jpg"/>
            <p:cNvPicPr/>
            <p:nvPr/>
          </p:nvPicPr>
          <p:blipFill>
            <a:blip r:embed="rId7"/>
            <a:srcRect l="0" t="0" r="0" b="35601"/>
            <a:stretch/>
          </p:blipFill>
          <p:spPr>
            <a:xfrm>
              <a:off x="7404840" y="1280880"/>
              <a:ext cx="11451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3" descr="crazyboy.jpg"/>
            <p:cNvPicPr/>
            <p:nvPr/>
          </p:nvPicPr>
          <p:blipFill>
            <a:blip r:embed="rId8"/>
            <a:srcRect l="0" t="0" r="0" b="20686"/>
            <a:stretch/>
          </p:blipFill>
          <p:spPr>
            <a:xfrm>
              <a:off x="495360" y="2591280"/>
              <a:ext cx="11383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4" descr="doctorx.jpg"/>
            <p:cNvPicPr/>
            <p:nvPr/>
          </p:nvPicPr>
          <p:blipFill>
            <a:blip r:embed="rId9"/>
            <a:srcRect l="9999" t="0" r="11339" b="49381"/>
            <a:stretch/>
          </p:blipFill>
          <p:spPr>
            <a:xfrm>
              <a:off x="1637640" y="2594880"/>
              <a:ext cx="11422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5" descr="elangel.jpg"/>
            <p:cNvPicPr/>
            <p:nvPr/>
          </p:nvPicPr>
          <p:blipFill>
            <a:blip r:embed="rId10"/>
            <a:srcRect l="0" t="0" r="0" b="28593"/>
            <a:stretch/>
          </p:blipFill>
          <p:spPr>
            <a:xfrm>
              <a:off x="2779920" y="2594880"/>
              <a:ext cx="119232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6" descr="elligero1.jpg"/>
            <p:cNvPicPr/>
            <p:nvPr/>
          </p:nvPicPr>
          <p:blipFill>
            <a:blip r:embed="rId11"/>
            <a:srcRect l="0" t="18661" r="0" b="6012"/>
            <a:stretch/>
          </p:blipFill>
          <p:spPr>
            <a:xfrm>
              <a:off x="3945960" y="25912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8" descr="elsupremo.jpg"/>
            <p:cNvPicPr/>
            <p:nvPr/>
          </p:nvPicPr>
          <p:blipFill>
            <a:blip r:embed="rId12"/>
            <a:srcRect l="10701" t="8510" r="14944" b="28883"/>
            <a:stretch/>
          </p:blipFill>
          <p:spPr>
            <a:xfrm>
              <a:off x="5112000" y="2594880"/>
              <a:ext cx="11656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9" descr="elterrible.jpg"/>
            <p:cNvPicPr/>
            <p:nvPr/>
          </p:nvPicPr>
          <p:blipFill>
            <a:blip r:embed="rId13"/>
            <a:srcRect l="0" t="0" r="0" b="17561"/>
            <a:stretch/>
          </p:blipFill>
          <p:spPr>
            <a:xfrm>
              <a:off x="6277680" y="2594880"/>
              <a:ext cx="112680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0" descr="eltexanojr.jpg"/>
            <p:cNvPicPr/>
            <p:nvPr/>
          </p:nvPicPr>
          <p:blipFill>
            <a:blip r:embed="rId14"/>
            <a:srcRect l="0" t="0" r="0" b="23874"/>
            <a:stretch/>
          </p:blipFill>
          <p:spPr>
            <a:xfrm>
              <a:off x="7404840" y="2594880"/>
              <a:ext cx="11451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1" descr="incognito.jpg"/>
            <p:cNvPicPr/>
            <p:nvPr/>
          </p:nvPicPr>
          <p:blipFill>
            <a:blip r:embed="rId15"/>
            <a:srcRect l="276" t="0" r="12756" b="0"/>
            <a:stretch/>
          </p:blipFill>
          <p:spPr>
            <a:xfrm>
              <a:off x="49536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2" descr="latinlover.jpg"/>
            <p:cNvPicPr/>
            <p:nvPr/>
          </p:nvPicPr>
          <p:blipFill>
            <a:blip r:embed="rId16"/>
            <a:srcRect l="0" t="0" r="17135" b="25919"/>
            <a:stretch/>
          </p:blipFill>
          <p:spPr>
            <a:xfrm>
              <a:off x="163764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3" descr="mistico.jpg"/>
            <p:cNvPicPr/>
            <p:nvPr/>
          </p:nvPicPr>
          <p:blipFill>
            <a:blip r:embed="rId17"/>
            <a:srcRect l="20635" t="0" r="38549" b="38398"/>
            <a:stretch/>
          </p:blipFill>
          <p:spPr>
            <a:xfrm>
              <a:off x="2785680" y="3904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4" descr="mystico.jpg"/>
            <p:cNvPicPr/>
            <p:nvPr/>
          </p:nvPicPr>
          <p:blipFill>
            <a:blip r:embed="rId18"/>
            <a:srcRect l="15621" t="0" r="26133" b="0"/>
            <a:stretch/>
          </p:blipFill>
          <p:spPr>
            <a:xfrm>
              <a:off x="3945960" y="3904920"/>
              <a:ext cx="1147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5" descr="Octagon.jpg"/>
            <p:cNvPicPr/>
            <p:nvPr/>
          </p:nvPicPr>
          <p:blipFill>
            <a:blip r:embed="rId19"/>
            <a:srcRect l="0" t="0" r="0" b="37891"/>
            <a:stretch/>
          </p:blipFill>
          <p:spPr>
            <a:xfrm>
              <a:off x="5093640" y="3904920"/>
              <a:ext cx="11840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6" descr="oro.jpg"/>
            <p:cNvPicPr/>
            <p:nvPr/>
          </p:nvPicPr>
          <p:blipFill>
            <a:blip r:embed="rId20"/>
            <a:srcRect l="19760" t="4005" r="13709" b="20014"/>
            <a:stretch/>
          </p:blipFill>
          <p:spPr>
            <a:xfrm>
              <a:off x="6277680" y="3904920"/>
              <a:ext cx="1126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7" descr="piratamorgan.jpg"/>
            <p:cNvPicPr/>
            <p:nvPr/>
          </p:nvPicPr>
          <p:blipFill>
            <a:blip r:embed="rId21"/>
            <a:srcRect l="15802" t="0" r="20497" b="0"/>
            <a:stretch/>
          </p:blipFill>
          <p:spPr>
            <a:xfrm>
              <a:off x="7404840" y="3904920"/>
              <a:ext cx="1144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8" descr="scorpiojr.jpg"/>
            <p:cNvPicPr/>
            <p:nvPr/>
          </p:nvPicPr>
          <p:blipFill>
            <a:blip r:embed="rId22"/>
            <a:srcRect l="0" t="0" r="0" b="23929"/>
            <a:stretch/>
          </p:blipFill>
          <p:spPr>
            <a:xfrm>
              <a:off x="482760" y="5218920"/>
              <a:ext cx="1150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9" descr="Super Muneco.jpg"/>
            <p:cNvPicPr/>
            <p:nvPr/>
          </p:nvPicPr>
          <p:blipFill>
            <a:blip r:embed="rId23"/>
            <a:srcRect l="641" t="0" r="35993" b="46953"/>
            <a:stretch/>
          </p:blipFill>
          <p:spPr>
            <a:xfrm>
              <a:off x="1645920" y="5218920"/>
              <a:ext cx="11336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31" descr="supercrazy.jpg"/>
            <p:cNvPicPr/>
            <p:nvPr/>
          </p:nvPicPr>
          <p:blipFill>
            <a:blip r:embed="rId24"/>
            <a:srcRect l="0" t="0" r="11662" b="0"/>
            <a:stretch/>
          </p:blipFill>
          <p:spPr>
            <a:xfrm>
              <a:off x="2785680" y="5218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32" descr="superfly.jpg"/>
            <p:cNvPicPr/>
            <p:nvPr/>
          </p:nvPicPr>
          <p:blipFill>
            <a:blip r:embed="rId25"/>
            <a:srcRect l="14568" t="6803" r="9635" b="35693"/>
            <a:stretch/>
          </p:blipFill>
          <p:spPr>
            <a:xfrm>
              <a:off x="3945960" y="5218920"/>
              <a:ext cx="11523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33" descr="tinieblas.jpg"/>
            <p:cNvPicPr/>
            <p:nvPr/>
          </p:nvPicPr>
          <p:blipFill>
            <a:blip r:embed="rId26"/>
            <a:srcRect l="0" t="0" r="25228" b="44378"/>
            <a:stretch/>
          </p:blipFill>
          <p:spPr>
            <a:xfrm>
              <a:off x="5099040" y="521892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4" descr="Xtreme Tiger.jpg"/>
            <p:cNvPicPr/>
            <p:nvPr/>
          </p:nvPicPr>
          <p:blipFill>
            <a:blip r:embed="rId27"/>
            <a:srcRect l="0" t="0" r="0" b="8495"/>
            <a:stretch/>
          </p:blipFill>
          <p:spPr>
            <a:xfrm>
              <a:off x="6277680" y="5218920"/>
              <a:ext cx="11430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5" descr=""/>
            <p:cNvPicPr/>
            <p:nvPr/>
          </p:nvPicPr>
          <p:blipFill>
            <a:blip r:embed="rId28"/>
            <a:srcRect l="0" t="0" r="13276" b="33436"/>
            <a:stretch/>
          </p:blipFill>
          <p:spPr>
            <a:xfrm>
              <a:off x="7420680" y="5218920"/>
              <a:ext cx="1139040" cy="13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The Solution Method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Picture 34" descr=""/>
          <p:cNvPicPr/>
          <p:nvPr/>
        </p:nvPicPr>
        <p:blipFill>
          <a:blip r:embed="rId29"/>
          <a:stretch/>
        </p:blipFill>
        <p:spPr>
          <a:xfrm>
            <a:off x="981000" y="1273320"/>
            <a:ext cx="4295880" cy="3267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5" descr=""/>
          <p:cNvPicPr/>
          <p:nvPr/>
        </p:nvPicPr>
        <p:blipFill>
          <a:blip r:embed="rId30"/>
          <a:stretch/>
        </p:blipFill>
        <p:spPr>
          <a:xfrm>
            <a:off x="0" y="4699080"/>
            <a:ext cx="91137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32"/>
          <p:cNvGrpSpPr/>
          <p:nvPr/>
        </p:nvGrpSpPr>
        <p:grpSpPr>
          <a:xfrm>
            <a:off x="482760" y="1273320"/>
            <a:ext cx="8076960" cy="5259240"/>
            <a:chOff x="482760" y="1273320"/>
            <a:chExt cx="8076960" cy="5259240"/>
          </a:xfrm>
        </p:grpSpPr>
        <p:pic>
          <p:nvPicPr>
            <p:cNvPr id="200" name="Picture 3" descr="Abismo Negro-lucha libre.jpg"/>
            <p:cNvPicPr/>
            <p:nvPr/>
          </p:nvPicPr>
          <p:blipFill>
            <a:blip r:embed="rId1"/>
            <a:srcRect l="0" t="0" r="0" b="15204"/>
            <a:stretch/>
          </p:blipFill>
          <p:spPr>
            <a:xfrm>
              <a:off x="501120" y="12733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5" descr="bluedemonjr.jpg"/>
            <p:cNvPicPr/>
            <p:nvPr/>
          </p:nvPicPr>
          <p:blipFill>
            <a:blip r:embed="rId2"/>
            <a:srcRect l="28877" t="0" r="6076" b="0"/>
            <a:stretch/>
          </p:blipFill>
          <p:spPr>
            <a:xfrm>
              <a:off x="1637640" y="1277280"/>
              <a:ext cx="11422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chessman5copialf3.jpg"/>
            <p:cNvPicPr/>
            <p:nvPr/>
          </p:nvPicPr>
          <p:blipFill>
            <a:blip r:embed="rId3"/>
            <a:srcRect l="17470" t="4980" r="8484" b="41411"/>
            <a:stretch/>
          </p:blipFill>
          <p:spPr>
            <a:xfrm>
              <a:off x="2779920" y="1277280"/>
              <a:ext cx="1165680" cy="131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8" descr="aerostar02.JPG"/>
            <p:cNvPicPr/>
            <p:nvPr/>
          </p:nvPicPr>
          <p:blipFill>
            <a:blip r:embed="rId4"/>
            <a:srcRect l="8726" t="0" r="31789" b="60638"/>
            <a:stretch/>
          </p:blipFill>
          <p:spPr>
            <a:xfrm>
              <a:off x="3945960" y="12808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9" descr="atlantis.jpg"/>
            <p:cNvPicPr/>
            <p:nvPr/>
          </p:nvPicPr>
          <p:blipFill>
            <a:blip r:embed="rId5"/>
            <a:srcRect l="34967" t="0" r="21227" b="62120"/>
            <a:stretch/>
          </p:blipFill>
          <p:spPr>
            <a:xfrm>
              <a:off x="5112000" y="1273320"/>
              <a:ext cx="1165680" cy="13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0" descr="blackwarrior.jpg"/>
            <p:cNvPicPr/>
            <p:nvPr/>
          </p:nvPicPr>
          <p:blipFill>
            <a:blip r:embed="rId6"/>
            <a:srcRect l="0" t="0" r="0" b="17921"/>
            <a:stretch/>
          </p:blipFill>
          <p:spPr>
            <a:xfrm>
              <a:off x="6277680" y="1273320"/>
              <a:ext cx="1126800" cy="13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1" descr="bluepanther.jpg"/>
            <p:cNvPicPr/>
            <p:nvPr/>
          </p:nvPicPr>
          <p:blipFill>
            <a:blip r:embed="rId7"/>
            <a:srcRect l="0" t="0" r="0" b="35601"/>
            <a:stretch/>
          </p:blipFill>
          <p:spPr>
            <a:xfrm>
              <a:off x="7404840" y="1280880"/>
              <a:ext cx="11451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3" descr="crazyboy.jpg"/>
            <p:cNvPicPr/>
            <p:nvPr/>
          </p:nvPicPr>
          <p:blipFill>
            <a:blip r:embed="rId8"/>
            <a:srcRect l="0" t="0" r="0" b="20686"/>
            <a:stretch/>
          </p:blipFill>
          <p:spPr>
            <a:xfrm>
              <a:off x="495360" y="2591280"/>
              <a:ext cx="11383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4" descr="doctorx.jpg"/>
            <p:cNvPicPr/>
            <p:nvPr/>
          </p:nvPicPr>
          <p:blipFill>
            <a:blip r:embed="rId9"/>
            <a:srcRect l="9999" t="0" r="11339" b="49381"/>
            <a:stretch/>
          </p:blipFill>
          <p:spPr>
            <a:xfrm>
              <a:off x="1637640" y="2594880"/>
              <a:ext cx="11422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5" descr="elangel.jpg"/>
            <p:cNvPicPr/>
            <p:nvPr/>
          </p:nvPicPr>
          <p:blipFill>
            <a:blip r:embed="rId10"/>
            <a:srcRect l="0" t="0" r="0" b="28593"/>
            <a:stretch/>
          </p:blipFill>
          <p:spPr>
            <a:xfrm>
              <a:off x="2779920" y="2594880"/>
              <a:ext cx="119232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6" descr="elligero1.jpg"/>
            <p:cNvPicPr/>
            <p:nvPr/>
          </p:nvPicPr>
          <p:blipFill>
            <a:blip r:embed="rId11"/>
            <a:srcRect l="0" t="18661" r="0" b="6012"/>
            <a:stretch/>
          </p:blipFill>
          <p:spPr>
            <a:xfrm>
              <a:off x="3945960" y="259128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8" descr="elsupremo.jpg"/>
            <p:cNvPicPr/>
            <p:nvPr/>
          </p:nvPicPr>
          <p:blipFill>
            <a:blip r:embed="rId12"/>
            <a:srcRect l="10701" t="8510" r="14944" b="28883"/>
            <a:stretch/>
          </p:blipFill>
          <p:spPr>
            <a:xfrm>
              <a:off x="5112000" y="2594880"/>
              <a:ext cx="116568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9" descr="elterrible.jpg"/>
            <p:cNvPicPr/>
            <p:nvPr/>
          </p:nvPicPr>
          <p:blipFill>
            <a:blip r:embed="rId13"/>
            <a:srcRect l="0" t="0" r="0" b="17561"/>
            <a:stretch/>
          </p:blipFill>
          <p:spPr>
            <a:xfrm>
              <a:off x="6277680" y="2594880"/>
              <a:ext cx="112680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0" descr="eltexanojr.jpg"/>
            <p:cNvPicPr/>
            <p:nvPr/>
          </p:nvPicPr>
          <p:blipFill>
            <a:blip r:embed="rId14"/>
            <a:srcRect l="0" t="0" r="0" b="23874"/>
            <a:stretch/>
          </p:blipFill>
          <p:spPr>
            <a:xfrm>
              <a:off x="7404840" y="2594880"/>
              <a:ext cx="1145160" cy="13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1" descr="incognito.jpg"/>
            <p:cNvPicPr/>
            <p:nvPr/>
          </p:nvPicPr>
          <p:blipFill>
            <a:blip r:embed="rId15"/>
            <a:srcRect l="276" t="0" r="12756" b="0"/>
            <a:stretch/>
          </p:blipFill>
          <p:spPr>
            <a:xfrm>
              <a:off x="49536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2" descr="latinlover.jpg"/>
            <p:cNvPicPr/>
            <p:nvPr/>
          </p:nvPicPr>
          <p:blipFill>
            <a:blip r:embed="rId16"/>
            <a:srcRect l="0" t="0" r="17135" b="25919"/>
            <a:stretch/>
          </p:blipFill>
          <p:spPr>
            <a:xfrm>
              <a:off x="1637640" y="3904920"/>
              <a:ext cx="11422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3" descr="mistico.jpg"/>
            <p:cNvPicPr/>
            <p:nvPr/>
          </p:nvPicPr>
          <p:blipFill>
            <a:blip r:embed="rId17"/>
            <a:srcRect l="20635" t="0" r="38549" b="38398"/>
            <a:stretch/>
          </p:blipFill>
          <p:spPr>
            <a:xfrm>
              <a:off x="2785680" y="3904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4" descr="mystico.jpg"/>
            <p:cNvPicPr/>
            <p:nvPr/>
          </p:nvPicPr>
          <p:blipFill>
            <a:blip r:embed="rId18"/>
            <a:srcRect l="15621" t="0" r="26133" b="0"/>
            <a:stretch/>
          </p:blipFill>
          <p:spPr>
            <a:xfrm>
              <a:off x="3945960" y="3904920"/>
              <a:ext cx="1147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5" descr="Octagon.jpg"/>
            <p:cNvPicPr/>
            <p:nvPr/>
          </p:nvPicPr>
          <p:blipFill>
            <a:blip r:embed="rId19"/>
            <a:srcRect l="0" t="0" r="0" b="37891"/>
            <a:stretch/>
          </p:blipFill>
          <p:spPr>
            <a:xfrm>
              <a:off x="5093640" y="3904920"/>
              <a:ext cx="11840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26" descr="oro.jpg"/>
            <p:cNvPicPr/>
            <p:nvPr/>
          </p:nvPicPr>
          <p:blipFill>
            <a:blip r:embed="rId20"/>
            <a:srcRect l="19760" t="4005" r="13709" b="20014"/>
            <a:stretch/>
          </p:blipFill>
          <p:spPr>
            <a:xfrm>
              <a:off x="6277680" y="3904920"/>
              <a:ext cx="1126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7" descr="piratamorgan.jpg"/>
            <p:cNvPicPr/>
            <p:nvPr/>
          </p:nvPicPr>
          <p:blipFill>
            <a:blip r:embed="rId21"/>
            <a:srcRect l="15802" t="0" r="20497" b="0"/>
            <a:stretch/>
          </p:blipFill>
          <p:spPr>
            <a:xfrm>
              <a:off x="7404840" y="3904920"/>
              <a:ext cx="11448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28" descr="scorpiojr.jpg"/>
            <p:cNvPicPr/>
            <p:nvPr/>
          </p:nvPicPr>
          <p:blipFill>
            <a:blip r:embed="rId22"/>
            <a:srcRect l="0" t="0" r="0" b="23929"/>
            <a:stretch/>
          </p:blipFill>
          <p:spPr>
            <a:xfrm>
              <a:off x="482760" y="5218920"/>
              <a:ext cx="1150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29" descr="Super Muneco.jpg"/>
            <p:cNvPicPr/>
            <p:nvPr/>
          </p:nvPicPr>
          <p:blipFill>
            <a:blip r:embed="rId23"/>
            <a:srcRect l="641" t="0" r="35993" b="46953"/>
            <a:stretch/>
          </p:blipFill>
          <p:spPr>
            <a:xfrm>
              <a:off x="1645920" y="5218920"/>
              <a:ext cx="113364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1" descr="supercrazy.jpg"/>
            <p:cNvPicPr/>
            <p:nvPr/>
          </p:nvPicPr>
          <p:blipFill>
            <a:blip r:embed="rId24"/>
            <a:srcRect l="0" t="0" r="11662" b="0"/>
            <a:stretch/>
          </p:blipFill>
          <p:spPr>
            <a:xfrm>
              <a:off x="2785680" y="5218920"/>
              <a:ext cx="115992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32" descr="superfly.jpg"/>
            <p:cNvPicPr/>
            <p:nvPr/>
          </p:nvPicPr>
          <p:blipFill>
            <a:blip r:embed="rId25"/>
            <a:srcRect l="14568" t="6803" r="9635" b="35693"/>
            <a:stretch/>
          </p:blipFill>
          <p:spPr>
            <a:xfrm>
              <a:off x="3945960" y="5218920"/>
              <a:ext cx="115236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33" descr="tinieblas.jpg"/>
            <p:cNvPicPr/>
            <p:nvPr/>
          </p:nvPicPr>
          <p:blipFill>
            <a:blip r:embed="rId26"/>
            <a:srcRect l="0" t="0" r="25228" b="44378"/>
            <a:stretch/>
          </p:blipFill>
          <p:spPr>
            <a:xfrm>
              <a:off x="5099040" y="5218920"/>
              <a:ext cx="116568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4" descr="Xtreme Tiger.jpg"/>
            <p:cNvPicPr/>
            <p:nvPr/>
          </p:nvPicPr>
          <p:blipFill>
            <a:blip r:embed="rId27"/>
            <a:srcRect l="0" t="0" r="0" b="8495"/>
            <a:stretch/>
          </p:blipFill>
          <p:spPr>
            <a:xfrm>
              <a:off x="6277680" y="5218920"/>
              <a:ext cx="1143000" cy="131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35" descr=""/>
            <p:cNvPicPr/>
            <p:nvPr/>
          </p:nvPicPr>
          <p:blipFill>
            <a:blip r:embed="rId28"/>
            <a:srcRect l="0" t="0" r="13276" b="33436"/>
            <a:stretch/>
          </p:blipFill>
          <p:spPr>
            <a:xfrm>
              <a:off x="7420680" y="5218920"/>
              <a:ext cx="1139040" cy="13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The Solution Method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485640" y="1268280"/>
            <a:ext cx="8067960" cy="525780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287a9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9"/>
          <a:stretch/>
        </p:blipFill>
        <p:spPr>
          <a:xfrm>
            <a:off x="2451240" y="2587680"/>
            <a:ext cx="44100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2:03:55Z</dcterms:created>
  <dc:creator>Geetika Agrawal</dc:creator>
  <dc:description/>
  <dc:language>en-US</dc:language>
  <cp:lastModifiedBy>Nacho</cp:lastModifiedBy>
  <dcterms:modified xsi:type="dcterms:W3CDTF">2009-12-14T18:02:57Z</dcterms:modified>
  <cp:revision>15</cp:revision>
  <dc:subject/>
  <dc:title>Mexican Wrestling!</dc:title>
</cp:coreProperties>
</file>