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BAAAA-F414-4E2E-808A-4FC812A4B7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3A54B-DD51-4650-BEEA-CBFD58B0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DABEA-2C84-4BC1-BD97-0A9DC01394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FFFBC-B29F-4CAD-82ED-EEFFF2AEA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01744-7FF4-412F-94C1-1AA1222F8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3EFA2-EE76-4228-98DD-BCA92884A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0F24A-BCFD-4FC3-8250-7DC0DC6C4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id the traveling salesman proble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minimizing distances traveled, we took demand for each pair and maximiz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ooked to find the pair that would fill the stadium to capacity, and then assign the other 2 spots according to popularity of time slot. The headliner for each had a demand greater than 10k for each 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nues were calculated by a flat ticket sale rate, and other go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wrestler is 15% of ticket s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8FEB6-AFA1-4AD1-B6AE-7C71C5FEBB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C8C3E-3D66-4391-9E41-0696FE921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4D5A1-2824-4050-ACC7-F688094906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36084-92BF-4524-9055-8EF503AF3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AE5A7-9A70-4E08-8A7C-A23064476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AFE-6EFD-4C85-BE2C-34D735B1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93E-FFA7-40C8-9848-D516FB7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3E5-9AD6-4939-AF94-2E6F27C4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AE3-7C2B-4335-B659-D07E3D19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9DC-2897-4F53-8616-125B8E5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265-07F6-4A7F-A9A5-257697C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F39-8F81-43A8-ADD7-CCA98DC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EFD-CCC5-43A8-AC7E-A2AF0A2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07C-01FC-4097-8520-D8059DB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7A5-5953-4159-8801-0C2A0E38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A73-B362-4B54-9D1D-A6241F01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736-F0F1-4137-BA90-65E3A10E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81521-E699-45A4-888C-BED3231E6C9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7250D-80EE-4F72-80EB-4244A4558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hyperlink" Target="http://www.youtube.com/watch?v=pCkqVHfQ2uw&amp;feature=related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hyperlink" Target="http://www.youtube.com/watch?v=xwZDAwv9lcc&amp;feature=related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jpeg"/><Relationship Id="rId3" Type="http://schemas.openxmlformats.org/officeDocument/2006/relationships/image" Target="../media/image1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image" Target="../media/image2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3"/>
          <p:cNvGrpSpPr/>
          <p:nvPr/>
        </p:nvGrpSpPr>
        <p:grpSpPr>
          <a:xfrm>
            <a:off x="534960" y="781200"/>
            <a:ext cx="8077320" cy="5257800"/>
            <a:chOff x="534960" y="781200"/>
            <a:chExt cx="8077320" cy="5257800"/>
          </a:xfrm>
        </p:grpSpPr>
        <p:pic>
          <p:nvPicPr>
            <p:cNvPr id="49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53320" y="78120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89840" y="785160"/>
              <a:ext cx="1142280" cy="13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832120" y="785160"/>
              <a:ext cx="1165680" cy="13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98160" y="78876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64200" y="781200"/>
              <a:ext cx="116568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330240" y="781200"/>
              <a:ext cx="1126800" cy="13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57400" y="788760"/>
              <a:ext cx="114516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547560" y="2098800"/>
              <a:ext cx="1138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1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89840" y="2102400"/>
              <a:ext cx="114228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2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832120" y="2102400"/>
              <a:ext cx="119232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3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98160" y="209880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5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64200" y="2102400"/>
              <a:ext cx="116568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6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330240" y="2102400"/>
              <a:ext cx="11268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7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57400" y="2102400"/>
              <a:ext cx="11451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8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547560" y="341208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9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89840" y="341208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837880" y="3412080"/>
              <a:ext cx="1159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98160" y="3412080"/>
              <a:ext cx="1147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145840" y="3412080"/>
              <a:ext cx="118404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330240" y="3412080"/>
              <a:ext cx="11268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57400" y="3412080"/>
              <a:ext cx="11448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5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534960" y="4725720"/>
              <a:ext cx="1150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98480" y="4725720"/>
              <a:ext cx="113364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7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837880" y="4725720"/>
              <a:ext cx="1159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8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98160" y="4725720"/>
              <a:ext cx="115236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9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151240" y="472572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0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330240" y="4725720"/>
              <a:ext cx="11430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1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73240" y="4725720"/>
              <a:ext cx="1139040" cy="131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Box 36"/>
          <p:cNvSpPr/>
          <p:nvPr/>
        </p:nvSpPr>
        <p:spPr>
          <a:xfrm>
            <a:off x="0" y="6194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Vaquero Insano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himichanga del Futoro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l Monkey M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Geetika Agrawal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Ignacio Alvarez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isa Baker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534960" y="781200"/>
            <a:ext cx="806760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64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6fb7d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Lucha Libr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Optimizing the Entertain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ubtitle 2"/>
          <p:cNvSpPr/>
          <p:nvPr/>
        </p:nvSpPr>
        <p:spPr>
          <a:xfrm>
            <a:off x="547560" y="5673600"/>
            <a:ext cx="8067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Rockwell"/>
                <a:ea typeface="Hiragino Sans GB W3"/>
                <a:hlinkClick r:id="rId29"/>
              </a:rPr>
              <a:t>http://www.youtube.com/watch?v=pCkqVHfQ2uw&amp;feature=related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232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regunta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485640" y="1281240"/>
            <a:ext cx="806796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30120" y="356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Rockwell"/>
                <a:ea typeface="ＭＳ Ｐゴシック"/>
                <a:hlinkClick r:id="rId29"/>
              </a:rPr>
              <a:t>http://www.youtube.com/watch?v=xwZDAwv9lcc&amp;feature=related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1530360" y="1327320"/>
            <a:ext cx="6245280" cy="5252760"/>
            <a:chOff x="1530360" y="1327320"/>
            <a:chExt cx="6245280" cy="5252760"/>
          </a:xfrm>
        </p:grpSpPr>
        <p:sp>
          <p:nvSpPr>
            <p:cNvPr id="84" name="Rectangle 4"/>
            <p:cNvSpPr/>
            <p:nvPr/>
          </p:nvSpPr>
          <p:spPr>
            <a:xfrm>
              <a:off x="2682720" y="1442880"/>
              <a:ext cx="5092920" cy="108396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Two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682720" y="2754360"/>
              <a:ext cx="5092920" cy="108252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Four Show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2682720" y="4037040"/>
              <a:ext cx="5092920" cy="108252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Twenty-four  Wrestl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682720" y="5370480"/>
              <a:ext cx="5092920" cy="108396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Mucho Diner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" name="Picture 8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1540080" y="132732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superfly.jpg"/>
            <p:cNvPicPr/>
            <p:nvPr/>
          </p:nvPicPr>
          <p:blipFill>
            <a:blip r:embed="rId2"/>
            <a:srcRect l="14568" t="6803" r="9635" b="35693"/>
            <a:stretch/>
          </p:blipFill>
          <p:spPr>
            <a:xfrm>
              <a:off x="1530360" y="2640600"/>
              <a:ext cx="11523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oro.jpg"/>
            <p:cNvPicPr/>
            <p:nvPr/>
          </p:nvPicPr>
          <p:blipFill>
            <a:blip r:embed="rId3"/>
            <a:srcRect l="19760" t="4005" r="13709" b="20014"/>
            <a:stretch/>
          </p:blipFill>
          <p:spPr>
            <a:xfrm>
              <a:off x="1530360" y="3953520"/>
              <a:ext cx="1165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" descr="bluepanther.jpg"/>
            <p:cNvPicPr/>
            <p:nvPr/>
          </p:nvPicPr>
          <p:blipFill>
            <a:blip r:embed="rId4"/>
            <a:srcRect l="0" t="0" r="0" b="35601"/>
            <a:stretch/>
          </p:blipFill>
          <p:spPr>
            <a:xfrm>
              <a:off x="1550160" y="5266800"/>
              <a:ext cx="1145160" cy="13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lus 12"/>
            <p:cNvSpPr/>
            <p:nvPr/>
          </p:nvSpPr>
          <p:spPr>
            <a:xfrm>
              <a:off x="6375600" y="1619280"/>
              <a:ext cx="712800" cy="73944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840 h 739440"/>
                <a:gd name="textAreaBottom" fmla="*/ 453600 h 739440"/>
              </a:gdLst>
              <a:ahLst/>
              <a:rect l="textAreaLeft" t="textAreaTop" r="textAreaRight" b="textAreaBottom"/>
              <a:pathLst>
                <a:path w="712776" h="739882">
                  <a:moveTo>
                    <a:pt x="94478" y="286119"/>
                  </a:moveTo>
                  <a:lnTo>
                    <a:pt x="272566" y="286119"/>
                  </a:lnTo>
                  <a:lnTo>
                    <a:pt x="272566" y="98071"/>
                  </a:lnTo>
                  <a:lnTo>
                    <a:pt x="440210" y="98071"/>
                  </a:lnTo>
                  <a:lnTo>
                    <a:pt x="440210" y="286119"/>
                  </a:lnTo>
                  <a:lnTo>
                    <a:pt x="618298" y="286119"/>
                  </a:lnTo>
                  <a:lnTo>
                    <a:pt x="618298" y="453763"/>
                  </a:lnTo>
                  <a:lnTo>
                    <a:pt x="440210" y="453763"/>
                  </a:lnTo>
                  <a:lnTo>
                    <a:pt x="440210" y="641811"/>
                  </a:lnTo>
                  <a:lnTo>
                    <a:pt x="272566" y="641811"/>
                  </a:lnTo>
                  <a:lnTo>
                    <a:pt x="272566" y="453763"/>
                  </a:lnTo>
                  <a:lnTo>
                    <a:pt x="94478" y="4537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lus 13"/>
            <p:cNvSpPr/>
            <p:nvPr/>
          </p:nvSpPr>
          <p:spPr>
            <a:xfrm>
              <a:off x="6372360" y="2913120"/>
              <a:ext cx="712800" cy="73800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120 h 738000"/>
                <a:gd name="textAreaBottom" fmla="*/ 452880 h 738000"/>
              </a:gdLst>
              <a:ahLst/>
              <a:rect l="textAreaLeft" t="textAreaTop" r="textAreaRight" b="textAreaBottom"/>
              <a:pathLst>
                <a:path w="712776" h="738294">
                  <a:moveTo>
                    <a:pt x="94478" y="285325"/>
                  </a:moveTo>
                  <a:lnTo>
                    <a:pt x="272566" y="285325"/>
                  </a:lnTo>
                  <a:lnTo>
                    <a:pt x="272566" y="97861"/>
                  </a:lnTo>
                  <a:lnTo>
                    <a:pt x="440210" y="97861"/>
                  </a:lnTo>
                  <a:lnTo>
                    <a:pt x="440210" y="285325"/>
                  </a:lnTo>
                  <a:lnTo>
                    <a:pt x="618298" y="285325"/>
                  </a:lnTo>
                  <a:lnTo>
                    <a:pt x="618298" y="452969"/>
                  </a:lnTo>
                  <a:lnTo>
                    <a:pt x="440210" y="452969"/>
                  </a:lnTo>
                  <a:lnTo>
                    <a:pt x="440210" y="640433"/>
                  </a:lnTo>
                  <a:lnTo>
                    <a:pt x="272566" y="640433"/>
                  </a:lnTo>
                  <a:lnTo>
                    <a:pt x="272566" y="452969"/>
                  </a:lnTo>
                  <a:lnTo>
                    <a:pt x="94478" y="4529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lus 14"/>
            <p:cNvSpPr/>
            <p:nvPr/>
          </p:nvSpPr>
          <p:spPr>
            <a:xfrm>
              <a:off x="6369120" y="4165560"/>
              <a:ext cx="712800" cy="73944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840 h 739440"/>
                <a:gd name="textAreaBottom" fmla="*/ 453600 h 739440"/>
              </a:gdLst>
              <a:ahLst/>
              <a:rect l="textAreaLeft" t="textAreaTop" r="textAreaRight" b="textAreaBottom"/>
              <a:pathLst>
                <a:path w="712776" h="739882">
                  <a:moveTo>
                    <a:pt x="94478" y="286119"/>
                  </a:moveTo>
                  <a:lnTo>
                    <a:pt x="272566" y="286119"/>
                  </a:lnTo>
                  <a:lnTo>
                    <a:pt x="272566" y="98071"/>
                  </a:lnTo>
                  <a:lnTo>
                    <a:pt x="440210" y="98071"/>
                  </a:lnTo>
                  <a:lnTo>
                    <a:pt x="440210" y="286119"/>
                  </a:lnTo>
                  <a:lnTo>
                    <a:pt x="618298" y="286119"/>
                  </a:lnTo>
                  <a:lnTo>
                    <a:pt x="618298" y="453763"/>
                  </a:lnTo>
                  <a:lnTo>
                    <a:pt x="440210" y="453763"/>
                  </a:lnTo>
                  <a:lnTo>
                    <a:pt x="440210" y="641811"/>
                  </a:lnTo>
                  <a:lnTo>
                    <a:pt x="272566" y="641811"/>
                  </a:lnTo>
                  <a:lnTo>
                    <a:pt x="272566" y="453763"/>
                  </a:lnTo>
                  <a:lnTo>
                    <a:pt x="94478" y="4537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Equal 15"/>
            <p:cNvSpPr/>
            <p:nvPr/>
          </p:nvSpPr>
          <p:spPr>
            <a:xfrm>
              <a:off x="6342120" y="5585040"/>
              <a:ext cx="804600" cy="726840"/>
            </a:xfrm>
            <a:custGeom>
              <a:avLst/>
              <a:gdLst>
                <a:gd name="textAreaLeft" fmla="*/ 106560 w 804600"/>
                <a:gd name="textAreaRight" fmla="*/ 698040 w 804600"/>
                <a:gd name="textAreaTop" fmla="*/ 149760 h 726840"/>
                <a:gd name="textAreaBottom" fmla="*/ 577080 h 726840"/>
              </a:gdLst>
              <a:ahLst/>
              <a:rect l="textAreaLeft" t="textAreaTop" r="textAreaRight" b="textAreaBottom"/>
              <a:pathLst>
                <a:path w="804848" h="727180">
                  <a:moveTo>
                    <a:pt x="106683" y="149799"/>
                  </a:moveTo>
                  <a:lnTo>
                    <a:pt x="698165" y="149799"/>
                  </a:lnTo>
                  <a:lnTo>
                    <a:pt x="698165" y="320832"/>
                  </a:lnTo>
                  <a:lnTo>
                    <a:pt x="106683" y="320832"/>
                  </a:lnTo>
                  <a:close/>
                  <a:moveTo>
                    <a:pt x="106683" y="406348"/>
                  </a:moveTo>
                  <a:lnTo>
                    <a:pt x="698165" y="406348"/>
                  </a:lnTo>
                  <a:lnTo>
                    <a:pt x="698165" y="577381"/>
                  </a:lnTo>
                  <a:lnTo>
                    <a:pt x="106683" y="5773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8"/>
          <p:cNvSpPr/>
          <p:nvPr/>
        </p:nvSpPr>
        <p:spPr>
          <a:xfrm>
            <a:off x="2682720" y="14176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2682720" y="272736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2682720" y="401004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2692440" y="5316480"/>
            <a:ext cx="509256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Resul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5742000" y="1505160"/>
            <a:ext cx="13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30"/>
          <p:cNvSpPr/>
          <p:nvPr/>
        </p:nvSpPr>
        <p:spPr>
          <a:xfrm>
            <a:off x="6016680" y="20811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9.9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7" descr="doctorx.jpg"/>
          <p:cNvPicPr/>
          <p:nvPr/>
        </p:nvPicPr>
        <p:blipFill>
          <a:blip r:embed="rId1"/>
          <a:srcRect l="9999" t="0" r="12236" b="49381"/>
          <a:stretch/>
        </p:blipFill>
        <p:spPr>
          <a:xfrm>
            <a:off x="1552680" y="1287360"/>
            <a:ext cx="1130040" cy="13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Super Muneco.jpg"/>
          <p:cNvPicPr/>
          <p:nvPr/>
        </p:nvPicPr>
        <p:blipFill>
          <a:blip r:embed="rId2"/>
          <a:srcRect l="641" t="0" r="35993" b="46953"/>
          <a:stretch/>
        </p:blipFill>
        <p:spPr>
          <a:xfrm>
            <a:off x="1552680" y="3905280"/>
            <a:ext cx="1133280" cy="131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aerostar02.JPG"/>
          <p:cNvPicPr/>
          <p:nvPr/>
        </p:nvPicPr>
        <p:blipFill>
          <a:blip r:embed="rId3"/>
          <a:srcRect l="8726" t="0" r="33653" b="60638"/>
          <a:stretch/>
        </p:blipFill>
        <p:spPr>
          <a:xfrm>
            <a:off x="1552680" y="2587680"/>
            <a:ext cx="1130040" cy="13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eltexanojr.jpg"/>
          <p:cNvPicPr/>
          <p:nvPr/>
        </p:nvPicPr>
        <p:blipFill>
          <a:blip r:embed="rId4"/>
          <a:srcRect l="0" t="0" r="0" b="23874"/>
          <a:stretch/>
        </p:blipFill>
        <p:spPr>
          <a:xfrm>
            <a:off x="1552680" y="5218200"/>
            <a:ext cx="1146240" cy="130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4"/>
          <p:cNvSpPr/>
          <p:nvPr/>
        </p:nvSpPr>
        <p:spPr>
          <a:xfrm>
            <a:off x="5738760" y="2822760"/>
            <a:ext cx="13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6013440" y="34005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5735520" y="4102200"/>
            <a:ext cx="13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6010200" y="468000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732640" y="5421600"/>
            <a:ext cx="13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6006960" y="599904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5124600" y="1565280"/>
            <a:ext cx="80784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Latin Lo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6900840" y="1571760"/>
            <a:ext cx="98892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Scorpio J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4925880" y="2924280"/>
            <a:ext cx="101304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l Terr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6907320" y="2930400"/>
            <a:ext cx="988920" cy="5986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razy B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4943520" y="4149720"/>
            <a:ext cx="101448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Pirata Mor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924600" y="4156200"/>
            <a:ext cx="98892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Super Muñe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4962600" y="5497560"/>
            <a:ext cx="101268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xtreme Ti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943680" y="5502240"/>
            <a:ext cx="988920" cy="5986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Tarzan Lop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 rot="16200000">
            <a:off x="-694440" y="2012040"/>
            <a:ext cx="253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Satur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 rot="16200000">
            <a:off x="-688680" y="4614480"/>
            <a:ext cx="253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Sun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 rot="16200000">
            <a:off x="376200" y="5254560"/>
            <a:ext cx="180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Ev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 rot="16200000">
            <a:off x="372240" y="2616840"/>
            <a:ext cx="180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Ev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 rot="16200000">
            <a:off x="376920" y="3935880"/>
            <a:ext cx="180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Aftern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 rot="16200000">
            <a:off x="372600" y="1297440"/>
            <a:ext cx="180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Aftern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Mucho Dine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682720" y="14176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Tickets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682720" y="272736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Reven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682720" y="401004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4" descr="supercrazy.jpg"/>
          <p:cNvPicPr/>
          <p:nvPr/>
        </p:nvPicPr>
        <p:blipFill>
          <a:blip r:embed="rId1"/>
          <a:srcRect l="0" t="0" r="11662" b="0"/>
          <a:stretch/>
        </p:blipFill>
        <p:spPr>
          <a:xfrm>
            <a:off x="1522440" y="1271520"/>
            <a:ext cx="1160280" cy="131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atlantis.jpg"/>
          <p:cNvPicPr/>
          <p:nvPr/>
        </p:nvPicPr>
        <p:blipFill>
          <a:blip r:embed="rId2"/>
          <a:srcRect l="34967" t="0" r="21227" b="62120"/>
          <a:stretch/>
        </p:blipFill>
        <p:spPr>
          <a:xfrm>
            <a:off x="1515960" y="3902040"/>
            <a:ext cx="1166760" cy="131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chessman5copialf3.jpg"/>
          <p:cNvPicPr/>
          <p:nvPr/>
        </p:nvPicPr>
        <p:blipFill>
          <a:blip r:embed="rId3"/>
          <a:srcRect l="17470" t="4980" r="8484" b="41411"/>
          <a:stretch/>
        </p:blipFill>
        <p:spPr>
          <a:xfrm>
            <a:off x="1515960" y="2584440"/>
            <a:ext cx="1166760" cy="131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2692440" y="5316480"/>
            <a:ext cx="509256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999040" y="1593720"/>
            <a:ext cx="17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9.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5997600" y="289872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,0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5994360" y="414036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,5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6004080" y="545940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,4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5" descr="Octagon.jpg"/>
          <p:cNvPicPr/>
          <p:nvPr/>
        </p:nvPicPr>
        <p:blipFill>
          <a:blip r:embed="rId4"/>
          <a:srcRect l="0" t="0" r="0" b="37891"/>
          <a:stretch/>
        </p:blipFill>
        <p:spPr>
          <a:xfrm>
            <a:off x="1522440" y="5219640"/>
            <a:ext cx="1184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682720" y="5084640"/>
            <a:ext cx="5092920" cy="108288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aximize demand between Wrestler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3" descr="mistico.jpg"/>
          <p:cNvPicPr/>
          <p:nvPr/>
        </p:nvPicPr>
        <p:blipFill>
          <a:blip r:embed="rId1"/>
          <a:srcRect l="20635" t="0" r="38549" b="38398"/>
          <a:stretch/>
        </p:blipFill>
        <p:spPr>
          <a:xfrm>
            <a:off x="1522440" y="4932360"/>
            <a:ext cx="1160280" cy="131292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Decision Vari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682720" y="171612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restler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3" descr="tinieblas.jpg"/>
          <p:cNvPicPr/>
          <p:nvPr/>
        </p:nvPicPr>
        <p:blipFill>
          <a:blip r:embed="rId2"/>
          <a:srcRect l="0" t="0" r="25228" b="44378"/>
          <a:stretch/>
        </p:blipFill>
        <p:spPr>
          <a:xfrm>
            <a:off x="1522440" y="1562040"/>
            <a:ext cx="11667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682720" y="136512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 Wrestlers                1 M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82720" y="267660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 Match per Wrest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682720" y="39592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dium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345280" y="3868560"/>
            <a:ext cx="114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6440400" y="42750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4435560" y="1279440"/>
            <a:ext cx="11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8" descr="scorpiojr.jpg"/>
          <p:cNvPicPr/>
          <p:nvPr/>
        </p:nvPicPr>
        <p:blipFill>
          <a:blip r:embed="rId1"/>
          <a:srcRect l="0" t="0" r="0" b="23929"/>
          <a:stretch/>
        </p:blipFill>
        <p:spPr>
          <a:xfrm>
            <a:off x="1531800" y="2544840"/>
            <a:ext cx="1150920" cy="131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blackwarrior.jpg"/>
          <p:cNvPicPr/>
          <p:nvPr/>
        </p:nvPicPr>
        <p:blipFill>
          <a:blip r:embed="rId2"/>
          <a:srcRect l="0" t="0" r="0" b="17921"/>
          <a:stretch/>
        </p:blipFill>
        <p:spPr>
          <a:xfrm>
            <a:off x="1555920" y="3857760"/>
            <a:ext cx="1126800" cy="132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latinlover.jpg"/>
          <p:cNvPicPr/>
          <p:nvPr/>
        </p:nvPicPr>
        <p:blipFill>
          <a:blip r:embed="rId3"/>
          <a:srcRect l="0" t="0" r="17135" b="25919"/>
          <a:stretch/>
        </p:blipFill>
        <p:spPr>
          <a:xfrm>
            <a:off x="1531800" y="1230480"/>
            <a:ext cx="1141560" cy="131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8"/>
          <p:cNvSpPr/>
          <p:nvPr/>
        </p:nvSpPr>
        <p:spPr>
          <a:xfrm>
            <a:off x="2679840" y="52768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ur Sh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6" descr="elligero1.jpg"/>
          <p:cNvPicPr/>
          <p:nvPr/>
        </p:nvPicPr>
        <p:blipFill>
          <a:blip r:embed="rId4"/>
          <a:srcRect l="0" t="18661" r="2985" b="6012"/>
          <a:stretch/>
        </p:blipFill>
        <p:spPr>
          <a:xfrm>
            <a:off x="1542960" y="5168880"/>
            <a:ext cx="11304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dditional Consid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670120" y="136512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ticket group determined by top demand headliners and time slot pop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70120" y="267660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venues calculated by ticket sales, stadium concessions and souvenir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673360" y="39592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ixed Costs:  Stadium r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2679840" y="52768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Variable Cost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oncessions and souvenir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restlers receive 15% of ticket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4" descr="mystico.jpg"/>
          <p:cNvPicPr/>
          <p:nvPr/>
        </p:nvPicPr>
        <p:blipFill>
          <a:blip r:embed="rId1"/>
          <a:srcRect l="15621" t="0" r="26133" b="0"/>
          <a:stretch/>
        </p:blipFill>
        <p:spPr>
          <a:xfrm>
            <a:off x="1535040" y="3878280"/>
            <a:ext cx="11476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incognito.jpg"/>
          <p:cNvPicPr/>
          <p:nvPr/>
        </p:nvPicPr>
        <p:blipFill>
          <a:blip r:embed="rId2"/>
          <a:srcRect l="276" t="0" r="12756" b="0"/>
          <a:stretch/>
        </p:blipFill>
        <p:spPr>
          <a:xfrm>
            <a:off x="1533600" y="1251000"/>
            <a:ext cx="114120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Xtreme Tiger.jpg"/>
          <p:cNvPicPr/>
          <p:nvPr/>
        </p:nvPicPr>
        <p:blipFill>
          <a:blip r:embed="rId3"/>
          <a:srcRect l="0" t="0" r="0" b="8495"/>
          <a:stretch/>
        </p:blipFill>
        <p:spPr>
          <a:xfrm>
            <a:off x="1530360" y="2565360"/>
            <a:ext cx="1143000" cy="131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piratamorgan.jpg"/>
          <p:cNvPicPr/>
          <p:nvPr/>
        </p:nvPicPr>
        <p:blipFill>
          <a:blip r:embed="rId4"/>
          <a:srcRect l="15802" t="0" r="20497" b="0"/>
          <a:stretch/>
        </p:blipFill>
        <p:spPr>
          <a:xfrm>
            <a:off x="1542960" y="5167440"/>
            <a:ext cx="114480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168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Solution Method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34" descr=""/>
          <p:cNvPicPr/>
          <p:nvPr/>
        </p:nvPicPr>
        <p:blipFill>
          <a:blip r:embed="rId29"/>
          <a:stretch/>
        </p:blipFill>
        <p:spPr>
          <a:xfrm>
            <a:off x="981000" y="1273320"/>
            <a:ext cx="4295880" cy="326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5" descr=""/>
          <p:cNvPicPr/>
          <p:nvPr/>
        </p:nvPicPr>
        <p:blipFill>
          <a:blip r:embed="rId30"/>
          <a:stretch/>
        </p:blipFill>
        <p:spPr>
          <a:xfrm>
            <a:off x="0" y="4699080"/>
            <a:ext cx="91137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200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Solution Method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485640" y="1268280"/>
            <a:ext cx="806796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9"/>
          <a:stretch/>
        </p:blipFill>
        <p:spPr>
          <a:xfrm>
            <a:off x="2451240" y="2587680"/>
            <a:ext cx="4410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2:03:55Z</dcterms:created>
  <dc:creator>Geetika Agrawal</dc:creator>
  <dc:description/>
  <dc:language>en-US</dc:language>
  <cp:lastModifiedBy>Nacho</cp:lastModifiedBy>
  <dcterms:modified xsi:type="dcterms:W3CDTF">2009-12-14T18:02:57Z</dcterms:modified>
  <cp:revision>15</cp:revision>
  <dc:subject/>
  <dc:title>Mexican Wrestling!</dc:title>
</cp:coreProperties>
</file>