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FE0-74AB-4A6D-8FE8-D980BD995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DCB7-ABA5-4C83-BB38-532713BFF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CC96-8B7B-4BEE-A98B-F06D23C41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606-6BF9-4230-92FE-CB18E32F2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D11-177B-4D01-8CEB-BA53A66B2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692-9C7F-4751-BF65-BB10F4B36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DF48-D594-487E-8462-3F094022C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190-9616-42A1-9302-36923A4C3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6DD2-3981-483C-B409-5BEC3E2A8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r 1 had the highest number of successes, playing the optimal strate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r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A49C-A044-4160-81E0-A50495C84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098-5C4D-4E99-A844-802101A6D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chi-squared stat show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5E14-387A-465C-863E-617730A4B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FA23-1D87-4369-A95C-26C78D4B7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C551-C2CE-4CC3-B32C-B6195BDEA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option: create cards and do a mock, or show a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9A6C-218B-424E-A71E-72D232042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8EB-BE94-4FF5-AE79-CB79F0875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3A8-397F-4594-BA44-307EAD714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C589-1CC6-474D-BD44-428D595A3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F2D8-AC14-4B58-BFB9-CE0AC5B0C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7C6F-05C3-4B8D-A957-FFC7AB589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3845-815F-4164-81BC-5D9BB683E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0AE-2368-42AD-9E5F-0C212EE9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EC3-3F9D-4354-85E7-5B36339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FF2-5C28-4B57-ACAC-6E86A604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173-DD97-4507-A05E-89801B53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9E5-6420-4E49-A414-CCEA3E59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A1BD-8704-4DE0-8103-4C7A1E7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DE0-4B09-47F3-9E7D-8E6CC0B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4FC4-7BB2-4627-B57D-8345037D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2E0B-4C06-458B-BF34-0371E39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E1CE-FC31-4513-9640-2D43E649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5E15-9B11-450C-823B-B91E54E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535-0D96-4B79-92DB-538E351B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E300-A397-426D-9A30-E57CB5E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3B3A-7791-4A74-B410-E46ED31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93B9-225C-42F3-B965-6F05895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31A8-8873-4CE4-83E1-25323D65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92C0-9D8A-4196-87FD-487CB38C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CE30-6179-45E0-ABBB-E7A8779D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42A5-3458-4C21-A2CF-7F82F9E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9EBA-A7E6-4150-A4A8-26DB2CD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E30B-3DDD-4624-AA89-03DEE6C3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D725-F91F-4B94-8079-93FE533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953-8FBA-4C2B-8687-65ED05D1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146E-B981-4398-A3B5-8B96596A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5FC4-8593-4FF7-B89D-ABD0A51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E623-FE66-473A-91D3-DF78E78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D86F-2566-4E94-84B1-9AB11FD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A5FC-3058-4F1C-9EA0-DD0AD7A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4117-0F8B-4EA3-B6A8-AED642F9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41F1-B009-4080-B358-6C84C50E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F9C0-5BBA-4F7A-8D29-448808BB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53FA-29A4-495C-9FEC-EDA852A8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7174-B454-42FB-94A2-79F34624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D75-325F-4FAB-93EB-3036EF45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9B166-15F5-43DF-A8F0-B9182BD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E626-B92A-476C-9C41-22B678CE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A2AB-FB89-40F0-9644-7F13BD3A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AA3C7-B683-4492-882F-AB98B7A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C299-0063-4555-B613-FD3AB7AB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40F2-030C-40AC-A4FC-CF7E062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356C0-DA2A-4714-BDB3-65D3613D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3AD6-8488-41D2-82D6-277835DD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650F-E594-4E40-B2E3-A9DA90D1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0D013-603D-4A7D-854D-03DF90B5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1DD-B33F-4121-994C-E634374A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4A2C-6D22-4B2D-A491-827E33AE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AF3D-7831-4639-B064-4CFD5D7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B5EF-91F5-4115-A5E8-705EDFC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F247-2FB3-4027-AD94-7599CD1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1825-7F37-47F2-AE5D-A61009A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4660-EF5B-418A-B257-764E9FA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35B1-6683-47C9-908C-02BEC1A9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AA05-A9C8-4829-9A1A-A6FC2E1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0FCC-C729-4595-B70A-180DFF73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4225-8834-434D-972C-A6E03D23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34D-D087-4E3D-97BA-3A73BD7E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0408-FD81-4DD4-97BE-B679A1FE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4FDE-F54C-4EAE-9D96-C0AAAC1F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6F0A-417D-4FD9-AAD3-E4686E63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E691-88E0-487B-8B3E-4B3F9FF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0BC5-D230-4DAA-A64D-C6567D5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B54B1-60E4-4173-A4E5-39D252A6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DC00B-2E40-4997-8797-19BF076B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51EF8-A0D6-4877-BB15-19FC4AA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D03C8-8C3F-4E0D-9CFB-7395593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1B49-669C-401F-9834-B969CD05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7CA-734F-4850-8690-43C6A41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CFFC-E248-4ECA-834D-289D9195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5D1B-5E18-49C2-A074-48450AB6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D92D-4D1F-4385-A7A9-E785FAC8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8F49-4127-47F3-AC01-E14D5074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7B38B-FE17-4490-8911-F900380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6C727-A792-4A15-AF54-62B5C09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D48E9-0FBB-4BE3-8365-E978BCE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42C3-5386-47C4-ACD6-1361CDDC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8579-485F-45C5-99B5-A1BFC684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1421-850C-4EEA-9803-8D5635E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04F-E31B-43CD-9037-7859088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266C-4798-44F6-9B31-6DE9462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93905-B4FC-4CD9-9B76-BACC194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E8439-1E82-4E0B-9C35-1F76B005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4695F-FA2D-4192-85D3-D4DF947F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897DD-AD71-4E8B-87AB-D5E00DDE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CFB-070A-4F8C-B238-ED48232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8A4-BE41-4A7D-966C-0ED890A45DE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7AC-CD8D-4FB8-B926-8128E4F163D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playing-cards2.jpg"/>
          <p:cNvPicPr/>
          <p:nvPr/>
        </p:nvPicPr>
        <p:blipFill>
          <a:blip r:embed="rId2"/>
          <a:stretch/>
        </p:blipFill>
        <p:spPr>
          <a:xfrm>
            <a:off x="7147080" y="76320"/>
            <a:ext cx="20732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CE2-CC88-4844-93FC-4412A3E912A1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91D-7900-4DC8-A92C-8103E048509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playing-cards2.jpg"/>
          <p:cNvPicPr/>
          <p:nvPr/>
        </p:nvPicPr>
        <p:blipFill>
          <a:blip r:embed="rId3"/>
          <a:stretch/>
        </p:blipFill>
        <p:spPr>
          <a:xfrm>
            <a:off x="5257800" y="0"/>
            <a:ext cx="414504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0CF-3F35-40F8-929A-94B83983257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133-C2E5-46A1-B282-6D607F029D8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12F3-3E29-43D0-988B-B5EA7FF3506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F90E-BFD9-4AEF-B868-BAEE85193C9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playing-cards2.jpg"/>
          <p:cNvPicPr/>
          <p:nvPr/>
        </p:nvPicPr>
        <p:blipFill>
          <a:blip r:embed="rId2"/>
          <a:stretch/>
        </p:blipFill>
        <p:spPr>
          <a:xfrm>
            <a:off x="7147080" y="76320"/>
            <a:ext cx="2073240" cy="1295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DE5-CA47-44F5-BC6F-929AD4D8B24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CD5B-4027-46F0-89AA-3B597220BA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playing-cards2.jpg"/>
          <p:cNvPicPr/>
          <p:nvPr/>
        </p:nvPicPr>
        <p:blipFill>
          <a:blip r:embed="rId2"/>
          <a:stretch/>
        </p:blipFill>
        <p:spPr>
          <a:xfrm>
            <a:off x="7147080" y="76320"/>
            <a:ext cx="2073240" cy="1295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8044-0F26-4986-A742-491764E5890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6B6-E135-42E1-A8C0-25D2A81E668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B5EA-15D7-4F4D-8108-8E1D22368DD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9CD1-8EF0-4079-8803-F18E46AC9C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BE8-9525-41A6-ACF2-0DCED734F20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playing-cards2.jp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3810240"/>
          </a:xfrm>
          <a:prstGeom prst="rect">
            <a:avLst/>
          </a:prstGeom>
          <a:ln w="0">
            <a:noFill/>
          </a:ln>
        </p:spPr>
      </p:pic>
      <p:pic>
        <p:nvPicPr>
          <p:cNvPr id="316" name="Title 1" descr=""/>
          <p:cNvPicPr/>
          <p:nvPr/>
        </p:nvPicPr>
        <p:blipFill>
          <a:blip r:embed="rId2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943600" y="3452400"/>
            <a:ext cx="28195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lex Ch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enry Ch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t Dori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aina Khumu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lia Lam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442-1BD2-4217-890D-5E498E80572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A76-EC26-4A19-94F5-4405F3F9C21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AF30-3D80-416E-9CB0-8F9C6D9E4C2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5458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irst, we randomly assigned an order to the cards -- “digitally shuffling” the dec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rcRect l="0" t="26003" r="53751" b="30000"/>
          <a:stretch/>
        </p:blipFill>
        <p:spPr>
          <a:xfrm>
            <a:off x="1523880" y="2895480"/>
            <a:ext cx="5639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B2B-F29D-4D57-9BA8-813A733FF1E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38000"/>
          </a:bodyPr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 then, in a similar fashion, assigned a random order to the players for each gam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166320" indent="-120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nd a strategy to each player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2"/>
          <a:srcRect l="0" t="26225" r="64653" b="50300"/>
          <a:stretch/>
        </p:blipFill>
        <p:spPr>
          <a:xfrm>
            <a:off x="1905120" y="2362320"/>
            <a:ext cx="495612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7" descr=""/>
          <p:cNvPicPr/>
          <p:nvPr/>
        </p:nvPicPr>
        <p:blipFill>
          <a:blip r:embed="rId3"/>
          <a:srcRect l="0" t="35339" r="49001" b="40668"/>
          <a:stretch/>
        </p:blipFill>
        <p:spPr>
          <a:xfrm>
            <a:off x="2184480" y="5029200"/>
            <a:ext cx="4749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5EF-CCDB-4AFC-9435-EF5BF624C9F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546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 then simulate the game starting with the assigned dealer and guesser, the guesses themselves, the strategy each player incorporates, and whether they are right or wro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2"/>
          <a:srcRect l="0" t="26003" r="39378" b="30000"/>
          <a:stretch/>
        </p:blipFill>
        <p:spPr>
          <a:xfrm>
            <a:off x="685800" y="2819520"/>
            <a:ext cx="789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D7BC-7247-446C-A982-01F5CF1B00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viewing the results of F*#$ the Dealer after all 52 cards are played yields the following results for all players for one gam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1" descr=""/>
          <p:cNvPicPr/>
          <p:nvPr/>
        </p:nvPicPr>
        <p:blipFill>
          <a:blip r:embed="rId2"/>
          <a:srcRect l="3614" t="27000" r="51250" b="37001"/>
          <a:stretch/>
        </p:blipFill>
        <p:spPr>
          <a:xfrm>
            <a:off x="990720" y="2895480"/>
            <a:ext cx="7030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1E19-6C0B-41F3-9449-5500D389E2D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llows you to see the results of a large number of possible outcomes which allows you to estimate the probability of occurr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ing these estimates, we are able to identify the best strategy, and quantify the impact of using i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16F-3CDC-4F8F-AE1B-9C786C7F06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 ran the Monte Carlo simulation 100,000 times and aggregated the following result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1" descr=""/>
          <p:cNvPicPr/>
          <p:nvPr/>
        </p:nvPicPr>
        <p:blipFill>
          <a:blip r:embed="rId2"/>
          <a:srcRect l="3647" t="26834" r="51250" b="41503"/>
          <a:stretch/>
        </p:blipFill>
        <p:spPr>
          <a:xfrm>
            <a:off x="1295280" y="3048120"/>
            <a:ext cx="6599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3D96-B7FD-4112-AE61-A51BAD2D377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6" name="Object 4" descr=""/>
          <p:cNvPicPr/>
          <p:nvPr/>
        </p:nvPicPr>
        <p:blipFill>
          <a:blip r:embed="rId2"/>
          <a:stretch/>
        </p:blipFill>
        <p:spPr>
          <a:xfrm>
            <a:off x="1346040" y="1698480"/>
            <a:ext cx="5994720" cy="3965760"/>
          </a:xfrm>
          <a:prstGeom prst="rect">
            <a:avLst/>
          </a:prstGeom>
          <a:ln w="0">
            <a:noFill/>
          </a:ln>
        </p:spPr>
      </p:pic>
      <p:sp>
        <p:nvSpPr>
          <p:cNvPr id="407" name="Line 5"/>
          <p:cNvSpPr/>
          <p:nvPr/>
        </p:nvSpPr>
        <p:spPr>
          <a:xfrm>
            <a:off x="2666880" y="46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 flipV="1">
            <a:off x="2514600" y="27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368960" y="445464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ime Spent as Dea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2209680" y="21970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 Su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tent Placeholder 2"/>
          <p:cNvSpPr/>
          <p:nvPr/>
        </p:nvSpPr>
        <p:spPr>
          <a:xfrm>
            <a:off x="457200" y="5638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player using the ‘optimization’ strategy performs best on both metrics, but only narrowly better than the ‘most likely’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AD50-13C2-4FD8-822E-AAE14F4A9AF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f the chi-square statistic exceeds a critical value, we can be sure (given a certain confidence level), that Player X and Player Y success rates are significantly different (i.e., not different just due to happenstance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4954680"/>
          <a:ext cx="5867640" cy="1598400"/>
        </p:xfrm>
        <a:graphic>
          <a:graphicData uri="http://schemas.openxmlformats.org/drawingml/2006/table">
            <a:tbl>
              <a:tblPr/>
              <a:tblGrid>
                <a:gridCol w="1055880"/>
                <a:gridCol w="1487520"/>
                <a:gridCol w="1539720"/>
                <a:gridCol w="1784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c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ail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=A+B+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6" name="Object 39" descr=""/>
          <p:cNvPicPr/>
          <p:nvPr/>
        </p:nvPicPr>
        <p:blipFill>
          <a:blip r:embed="rId2"/>
          <a:stretch/>
        </p:blipFill>
        <p:spPr>
          <a:xfrm>
            <a:off x="1905120" y="3784680"/>
            <a:ext cx="53337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AF0-8EE1-4F9D-BC5B-E76F70952CD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20" name="Content Placeholder 5"/>
          <p:cNvSpPr/>
          <p:nvPr/>
        </p:nvSpPr>
        <p:spPr>
          <a:xfrm>
            <a:off x="457200" y="29718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to play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*#$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the Deale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lle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timal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CA40-87E7-4D64-9F30-68FBABE6589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469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1’s strategy is superior to players’ 2, 3, and 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2’s strategy is superior to players’ 3 and 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3’s strategy is superior to players’ 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40" descr=""/>
          <p:cNvPicPr/>
          <p:nvPr/>
        </p:nvPicPr>
        <p:blipFill>
          <a:blip r:embed="rId2"/>
          <a:srcRect l="3750" t="27000" r="57501" b="26003"/>
          <a:stretch/>
        </p:blipFill>
        <p:spPr>
          <a:xfrm>
            <a:off x="1828800" y="297180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8E33-B2B9-426B-83D8-6E925012C1B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best strategy is #1 – ‘Optimization’ strateg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ven though playing this strategy is the best, it is only marginally better than the ‘most likely’ strateg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s is an example of applying this process to a trivial situation, but a similar approach can be applied to real business scenario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Quantifying the impact of different product/pricing strategies in a complex environment with various competitors and strategi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477-1530-48E1-AF02-59F74C26058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1 tries to guess what the first card of a shuffled deck i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Dealer confirms whether the guess is correct, higher, or lower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f wrong, Player 1 guesses agai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f right on th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guess, the dealer takes a drin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f wrong on th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guess, Player 1 takes a drin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card is laid face-up on the tabl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layer 2 repeats the abo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Dealer passes the deck to the left after three players in a row guess incorrect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B34-6E49-4DA6-A1A3-8A1FEB298E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sign a model of the gam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dentify the best strategy for a player to use in order to avoid taking drinks and becoming/remaining the dealer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Quantify the effect of using different strategi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59E-3306-44BA-B449-E041E3E151D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C4E-5116-49DE-A37B-C1BF1BB5009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obability of correct guess =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Object 4" descr=""/>
          <p:cNvPicPr/>
          <p:nvPr/>
        </p:nvPicPr>
        <p:blipFill>
          <a:blip r:embed="rId2"/>
          <a:stretch/>
        </p:blipFill>
        <p:spPr>
          <a:xfrm>
            <a:off x="61920" y="2230560"/>
            <a:ext cx="9067680" cy="6588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5"/>
          <p:cNvSpPr/>
          <p:nvPr/>
        </p:nvSpPr>
        <p:spPr>
          <a:xfrm rot="5400000">
            <a:off x="68544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68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90440" y="338148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8bba"/>
                </a:solidFill>
                <a:latin typeface="Corbel"/>
              </a:rPr>
              <a:t>Probability of Correct First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 rot="5400000">
            <a:off x="247608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1981080" y="33814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Probability First Guess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 rot="5400000">
            <a:off x="621000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5715000" y="33814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rbel"/>
              </a:rPr>
              <a:t>Probability First Guess is too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 rot="5400000">
            <a:off x="4228920" y="249228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733920" y="3381480"/>
            <a:ext cx="129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Probability of Correct Given First Guess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 rot="5400000">
            <a:off x="7962480" y="2492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7467480" y="338148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rbel"/>
              </a:rPr>
              <a:t>Probability of Correct Given First Guess is too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353880" y="5167440"/>
                <a:ext cx="80409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1st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ard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ax Cards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st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ax Cards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st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rds Remainin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C004-D328-4780-8B3E-16E6A27E7EB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546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ose a card to maximize the sum of the following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number of cards remaining of the first gue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x number of cards remaining of the card lower than the first gue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x number of cards remaining of the card higher than the first gue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4238640"/>
          <a:ext cx="8153280" cy="1189080"/>
        </p:xfrm>
        <a:graphic>
          <a:graphicData uri="http://schemas.openxmlformats.org/drawingml/2006/table">
            <a:tbl>
              <a:tblPr/>
              <a:tblGrid>
                <a:gridCol w="1458720"/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  <a:gridCol w="598320"/>
              </a:tblGrid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on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in d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Line 160"/>
          <p:cNvSpPr/>
          <p:nvPr/>
        </p:nvSpPr>
        <p:spPr>
          <a:xfrm flipV="1">
            <a:off x="3581280" y="387144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1"/>
          <p:cNvSpPr/>
          <p:nvPr/>
        </p:nvSpPr>
        <p:spPr>
          <a:xfrm>
            <a:off x="2724120" y="35053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Best 1</a:t>
            </a:r>
            <a:r>
              <a:rPr b="1" lang="en-US" sz="1800" spc="-1" strike="noStrike" baseline="30000">
                <a:solidFill>
                  <a:srgbClr val="008000"/>
                </a:solidFill>
                <a:latin typeface="Corbel"/>
              </a:rPr>
              <a:t>st</a:t>
            </a: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2"/>
          <p:cNvSpPr/>
          <p:nvPr/>
        </p:nvSpPr>
        <p:spPr>
          <a:xfrm>
            <a:off x="190512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(Correct Guess)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+ 3 + 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74"/>
          <p:cNvSpPr/>
          <p:nvPr/>
        </p:nvSpPr>
        <p:spPr>
          <a:xfrm>
            <a:off x="3733920" y="5516640"/>
            <a:ext cx="16002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5"/>
          <p:cNvSpPr/>
          <p:nvPr/>
        </p:nvSpPr>
        <p:spPr>
          <a:xfrm>
            <a:off x="3200400" y="5516640"/>
            <a:ext cx="16765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6"/>
          <p:cNvSpPr/>
          <p:nvPr/>
        </p:nvSpPr>
        <p:spPr>
          <a:xfrm>
            <a:off x="5075280" y="5524560"/>
            <a:ext cx="639720" cy="40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7"/>
          <p:cNvSpPr/>
          <p:nvPr/>
        </p:nvSpPr>
        <p:spPr>
          <a:xfrm flipV="1">
            <a:off x="5715000" y="5541840"/>
            <a:ext cx="2666880" cy="84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318B-413C-42CA-A21B-214C14B7A8E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We considered four different strategies and assigned each to a  player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66680" y="2971800"/>
          <a:ext cx="6858000" cy="353376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133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ck middlemost card with highest probability of being pu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st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yer guesses card least shown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 avoiding end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, but avoiding endpoints on first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oose a card randomly from those rem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B8DF-8883-4DA7-B598-4442490CC33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8088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ose the card that is least shown on the tab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ies broken by random selec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33520" y="3233880"/>
          <a:ext cx="8153280" cy="1190520"/>
        </p:xfrm>
        <a:graphic>
          <a:graphicData uri="http://schemas.openxmlformats.org/drawingml/2006/table">
            <a:tbl>
              <a:tblPr/>
              <a:tblGrid>
                <a:gridCol w="1458720"/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  <a:gridCol w="598320"/>
              </a:tblGrid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on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in d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Line 160"/>
          <p:cNvSpPr/>
          <p:nvPr/>
        </p:nvSpPr>
        <p:spPr>
          <a:xfrm flipV="1">
            <a:off x="3171960" y="295704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1"/>
          <p:cNvSpPr/>
          <p:nvPr/>
        </p:nvSpPr>
        <p:spPr>
          <a:xfrm>
            <a:off x="228600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Best 1</a:t>
            </a:r>
            <a:r>
              <a:rPr b="1" lang="en-US" sz="1800" spc="-1" strike="noStrike" baseline="30000">
                <a:solidFill>
                  <a:srgbClr val="008000"/>
                </a:solidFill>
                <a:latin typeface="Corbel"/>
              </a:rPr>
              <a:t>st</a:t>
            </a: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33520" y="5121360"/>
          <a:ext cx="8153280" cy="1190520"/>
        </p:xfrm>
        <a:graphic>
          <a:graphicData uri="http://schemas.openxmlformats.org/drawingml/2006/table">
            <a:tbl>
              <a:tblPr/>
              <a:tblGrid>
                <a:gridCol w="1458720"/>
                <a:gridCol w="468360"/>
                <a:gridCol w="469800"/>
                <a:gridCol w="468360"/>
                <a:gridCol w="469800"/>
                <a:gridCol w="468360"/>
                <a:gridCol w="468360"/>
                <a:gridCol w="470160"/>
                <a:gridCol w="468000"/>
                <a:gridCol w="468360"/>
                <a:gridCol w="470160"/>
                <a:gridCol w="468000"/>
                <a:gridCol w="470160"/>
                <a:gridCol w="468360"/>
                <a:gridCol w="598320"/>
              </a:tblGrid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on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0" rIns="0" tIns="46800" bIns="468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# in d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marL="119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Line 160"/>
          <p:cNvSpPr/>
          <p:nvPr/>
        </p:nvSpPr>
        <p:spPr>
          <a:xfrm flipV="1">
            <a:off x="7439040" y="486216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1"/>
          <p:cNvSpPr/>
          <p:nvPr/>
        </p:nvSpPr>
        <p:spPr>
          <a:xfrm>
            <a:off x="65530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rbel"/>
              </a:rPr>
              <a:t>Best 1st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612000" y="28926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536040" y="4797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1:04:43Z</dcterms:created>
  <dc:creator>Julia Lamm</dc:creator>
  <dc:description/>
  <dc:language>en-US</dc:language>
  <cp:lastModifiedBy>Julia Lamm</cp:lastModifiedBy>
  <dcterms:modified xsi:type="dcterms:W3CDTF">2010-12-13T18:16:19Z</dcterms:modified>
  <cp:revision>84</cp:revision>
  <dc:subject/>
  <dc:title>Slide 1</dc:title>
</cp:coreProperties>
</file>