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move the slide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7DEA-855E-4628-BD72-607C17B5B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ine - MTA data = between stops and divided by number of lines at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ine - Our underst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nathan: $334 per day is equivalent to approximately $334 X 52 X 6 = ~$104,000 per year (assuming no holiday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nathan: Selecting Holiday shifts the concentration of workers to tourists on the t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nath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nath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 - MTA data 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16E-D337-4DA9-837E-13C98740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8DF-F4A8-45E7-8411-71698983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78D-8A05-4266-8A59-B854028F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3B7-43DF-44C1-AADC-6CF1E4B2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64C8-CEE9-4F23-9248-D779D6DB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BAC8-E236-4005-A305-B656ABF7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5FFB-3981-41AB-AA97-08CDB145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E4B2-8FE2-4FB5-8E5B-0A22381C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722-A2B3-4C9F-BD14-FC511D4B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F116-FB29-46B7-BA13-796EEEB5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BFFB-E49A-4B89-98B3-BCB36D2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CE7-DE8F-48D1-9117-E3CED384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A66C-4753-4E21-877C-45B7A9FF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4122-6EA5-4991-8AB6-DCA0B72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48CC-A37B-4241-B3B5-1F685B6C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3626-A673-45DC-AD88-0C7BA0FF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4F25-66D6-423D-A08E-2940E3F4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C9C2-E99C-41DA-851E-CC570A45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7B31-4FA9-40BF-AC16-8C85CD2E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C27DC-140E-44BB-9A79-1E6EB1CA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CC46-F4FA-4FBC-ADFF-9BEB41C5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3FB6-B25C-49D9-8959-6F6A4CD8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011-C3E5-4680-935C-B20A634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463E-989F-4EEA-9993-58FBD8CE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EB7A-804D-41C9-8C61-05141A88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58DE-3DB7-40A4-97E9-9273964C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7151-CCAD-48C6-92EF-C41750AA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AF17-9173-4CE4-9E5D-16ED345E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DD46-9A3D-4CC4-B3B1-721F424D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B078-7A73-4C40-9D40-3D31D313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195F-1674-42A7-AA17-B8B5720F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CF5F-4AE9-481F-B41A-11D8BFCB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FCED-DD02-4019-ADA4-387E8406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CE3-62A5-43AE-A6A3-DEE1A78D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8198-C922-4AD5-8692-7132BB96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5410D-674C-44CC-84B8-AC012AE0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CE1E-7D5B-49F0-8FE8-41495E9E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B9A77-71D7-417C-BD05-09A38CB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A050-E0F7-4CEF-BA28-42528C13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F279-D7A2-4142-802D-7CFDC1A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0104-D672-40AC-B59E-81F40B1A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4799-C213-4A35-B00E-6B057352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3126-1753-47D0-A5BA-CE35CA14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E4B6-6593-4524-95C2-E1E992BB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77C-B017-410A-B23E-E896582E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7509C-65D5-499C-983F-CCE66FB5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3049-352F-4FF1-ADA5-5481B71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3274-29D2-4A82-856E-4933A843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9A83-0517-4D95-B8BE-B68D748F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EF00F-BCB4-4B8E-B482-425013E1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A5AD9-D6E2-4111-B15B-A5B1DCAE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752AD-3D62-460E-A1E8-30CE3CE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6A9D9-231F-4103-978C-AB511F6B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B8650-2B6E-4373-B743-C52B4992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13A5D-DAF4-4CE9-B0E6-FD85095F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F47-2CBB-4DE5-8EFD-CFC6C180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052A-D65E-4E02-B503-5B5E64A7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7F3A1-2E7C-4C98-AA6A-19322CC0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EE821-FA37-4A2D-BA5E-FFFE9ACA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94936-5EA3-4D21-A479-11197364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B7561-2B31-4C73-A543-50D5DB5C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A8904-7015-465A-85D6-B771DAFE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0171-1EDE-466B-88D2-9143887E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A1DD3-CF41-4431-85D9-88453B6E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2DFE-A9EE-4255-9346-1D5424FB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62854-B1D9-4E2A-9CE7-F123AE01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5F9-0833-4029-BEFE-2CCB28E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19EB4-C66A-44F1-BE6E-CF5F6CFA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C574-8258-445B-B320-F51D71F3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DFD84-AD93-4FF3-9F84-FAE13C6F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33F1D-CD2A-49AE-8BA6-17DFF582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0BFCC-34A3-41F6-BDE4-2CECBE51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41977-914C-4CC2-884C-2F014C65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EEA78-264D-4187-B25D-0B52B77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44C84-E1E8-4A9A-843F-BE2C5DF7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CB819-2208-42C6-AAFD-9C79E1BB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63566-6815-42C2-8502-B17DD760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3A6-DE5C-4B29-B44D-669F8C2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694A4-A1BB-45E5-8331-CB21E38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14951-B0E3-44A5-9D0C-3831194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1C896-39A7-46C6-9370-664059CE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42C6-1F8B-4D01-A8BB-17485803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F0523-0A20-481D-A3D5-45A2ABE6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859E-AD30-4A74-9198-B627954E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ED30F-75F5-4032-8CC1-A2E98FA0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B600D-1C37-4D93-9689-C4320D87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5B8B3-7043-4FD8-BE83-A16B9CF5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89ECE-8973-455D-99B8-53CDFEC9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AB4-A82C-42EB-B9D3-4BC1332B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7B1A8-F0D9-451D-9742-7D65BA6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CBFF9-C3BC-4930-B600-0490300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BD76A-9126-4322-92DE-19B7605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1FA21-37BA-47AC-97CB-6365BFA0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40449-9668-4BFF-9F61-CEA0CDDD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D8C16-A878-4F3A-92F6-999405CD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C1FFE-5F48-44AD-84DE-4C9AE7ED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67E7-6EFC-40B2-9704-9AD2442B08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2" descr="zoom-midtown-963.gif"/>
          <p:cNvPicPr/>
          <p:nvPr/>
        </p:nvPicPr>
        <p:blipFill>
          <a:blip r:embed="rId4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zoom-midtown-963.gif"/>
          <p:cNvPicPr/>
          <p:nvPr/>
        </p:nvPicPr>
        <p:blipFill>
          <a:blip r:embed="rId4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8" name="Oval 12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ADBE-BA7E-461F-9CBF-76C86773A3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zoom-midtown-963.gif"/>
          <p:cNvPicPr/>
          <p:nvPr/>
        </p:nvPicPr>
        <p:blipFill>
          <a:blip r:embed="rId4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zoom-midtown-963.gif"/>
          <p:cNvPicPr/>
          <p:nvPr/>
        </p:nvPicPr>
        <p:blipFill>
          <a:blip r:embed="rId5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E672-27DB-4DC9-A3C2-37A3A01843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5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8" descr="zoom-midtown-963.gif"/>
          <p:cNvPicPr/>
          <p:nvPr/>
        </p:nvPicPr>
        <p:blipFill>
          <a:blip r:embed="rId4"/>
          <a:srcRect l="39362" t="38429" r="41458" b="2950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C11B-D3FC-46B7-8018-DC81638408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B6A-B62E-4042-BC7A-228CA930A9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6" descr="zoom-midtown-963.gif"/>
          <p:cNvPicPr/>
          <p:nvPr/>
        </p:nvPicPr>
        <p:blipFill>
          <a:blip r:embed="rId3"/>
          <a:srcRect l="39362" t="851" r="46784" b="1447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BDE4-85FA-4A43-A6AF-27B6F06686B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871C-2903-46BA-888A-A769FF208E8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7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E10-0EC5-4418-BD9B-C1F0C90A58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" descr="zoom-midtown-963.gif"/>
          <p:cNvPicPr/>
          <p:nvPr/>
        </p:nvPicPr>
        <p:blipFill>
          <a:blip r:embed="rId4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zoom-midtown-963.gif"/>
          <p:cNvPicPr/>
          <p:nvPr/>
        </p:nvPicPr>
        <p:blipFill>
          <a:blip r:embed="rId5"/>
          <a:srcRect l="31979" t="0" r="37274" b="0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Title 1"/>
          <p:cNvGrpSpPr/>
          <p:nvPr/>
        </p:nvGrpSpPr>
        <p:grpSpPr>
          <a:xfrm>
            <a:off x="2048040" y="139680"/>
            <a:ext cx="6883200" cy="939960"/>
            <a:chOff x="2048040" y="139680"/>
            <a:chExt cx="6883200" cy="939960"/>
          </a:xfrm>
        </p:grpSpPr>
        <p:pic>
          <p:nvPicPr>
            <p:cNvPr id="427" name="Title 1" descr=""/>
            <p:cNvPicPr/>
            <p:nvPr/>
          </p:nvPicPr>
          <p:blipFill>
            <a:blip r:embed="rId2"/>
            <a:stretch/>
          </p:blipFill>
          <p:spPr>
            <a:xfrm>
              <a:off x="2048040" y="139680"/>
              <a:ext cx="688320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57400" y="152280"/>
              <a:ext cx="6858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Subway Performer Optimizer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3"/>
          <p:cNvSpPr/>
          <p:nvPr/>
        </p:nvSpPr>
        <p:spPr>
          <a:xfrm>
            <a:off x="6400800" y="522756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na Bourdonn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n Le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nathan Ol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uline Ou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x Shellh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2438280" y="522756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cision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fessor Ju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ll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al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7" descr="sounderground-nyc-busker-feature-image.jpg"/>
          <p:cNvPicPr/>
          <p:nvPr/>
        </p:nvPicPr>
        <p:blipFill>
          <a:blip r:embed="rId3"/>
          <a:stretch/>
        </p:blipFill>
        <p:spPr>
          <a:xfrm>
            <a:off x="2633760" y="1262160"/>
            <a:ext cx="56451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9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Estimated Route Traffic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9" name=""/>
          <p:cNvGraphicFramePr/>
          <p:nvPr/>
        </p:nvGraphicFramePr>
        <p:xfrm>
          <a:off x="1219320" y="1828800"/>
          <a:ext cx="7772400" cy="404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828800"/>
                    <a:ext cx="777240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0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Route Value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 txBox="1"/>
          <p:nvPr/>
        </p:nvSpPr>
        <p:spPr>
          <a:xfrm>
            <a:off x="1434960" y="1447560"/>
            <a:ext cx="7499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oute has a different potential value based 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ength (time = mon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How crowded it is (can’t get thr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verage wealth of riders (think 6 line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0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Generosity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 txBox="1"/>
          <p:nvPr/>
        </p:nvSpPr>
        <p:spPr>
          <a:xfrm>
            <a:off x="1434960" y="159984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Yorkers and tourists will on average give varying amounts, and tourists are more likely to be generous (hit up less often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1981080" y="3505320"/>
            <a:ext cx="60962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1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Evolutionary Solver Model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Picture 3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9246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16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21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Results by Hour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3" name=""/>
          <p:cNvGraphicFramePr/>
          <p:nvPr/>
        </p:nvGraphicFramePr>
        <p:xfrm>
          <a:off x="1295280" y="2209680"/>
          <a:ext cx="7620120" cy="3733920"/>
        </p:xfrm>
        <a:graphic>
          <a:graphicData uri="http://schemas.openxmlformats.org/drawingml/2006/table">
            <a:tbl>
              <a:tblPr/>
              <a:tblGrid>
                <a:gridCol w="851040"/>
                <a:gridCol w="1012680"/>
                <a:gridCol w="1013040"/>
                <a:gridCol w="1012680"/>
                <a:gridCol w="1013040"/>
                <a:gridCol w="1011240"/>
                <a:gridCol w="1012680"/>
                <a:gridCol w="693720"/>
              </a:tblGrid>
              <a:tr h="519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st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nd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rd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Reven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16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 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3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00 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2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2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2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2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Rectangle 3"/>
          <p:cNvSpPr/>
          <p:nvPr/>
        </p:nvSpPr>
        <p:spPr>
          <a:xfrm>
            <a:off x="1143000" y="3048120"/>
            <a:ext cx="7848720" cy="6094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58600" y="1523880"/>
            <a:ext cx="67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6-hour block from 9am-3pm brings in the maximum reve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2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Improving the Model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 txBox="1"/>
          <p:nvPr/>
        </p:nvSpPr>
        <p:spPr>
          <a:xfrm>
            <a:off x="1434960" y="152352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ng selection for holidays impacts work/tourist rat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3"/>
          <a:stretch/>
        </p:blipFill>
        <p:spPr>
          <a:xfrm>
            <a:off x="2743200" y="2438280"/>
            <a:ext cx="3733920" cy="117972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  <p:graphicFrame>
        <p:nvGraphicFramePr>
          <p:cNvPr id="531" name=""/>
          <p:cNvGraphicFramePr/>
          <p:nvPr/>
        </p:nvGraphicFramePr>
        <p:xfrm>
          <a:off x="1295280" y="4267080"/>
          <a:ext cx="7543800" cy="838440"/>
        </p:xfrm>
        <a:graphic>
          <a:graphicData uri="http://schemas.openxmlformats.org/drawingml/2006/table">
            <a:tbl>
              <a:tblPr/>
              <a:tblGrid>
                <a:gridCol w="843120"/>
                <a:gridCol w="1001520"/>
                <a:gridCol w="1003320"/>
                <a:gridCol w="1001880"/>
                <a:gridCol w="1003320"/>
                <a:gridCol w="1001520"/>
                <a:gridCol w="1003320"/>
                <a:gridCol w="685800"/>
              </a:tblGrid>
              <a:tr h="4096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st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nd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rd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Reven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42876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 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l St-   59th 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l St-   59th 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l St-   59th 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l St-   59th 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44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33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Future Improvement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 txBox="1"/>
          <p:nvPr/>
        </p:nvSpPr>
        <p:spPr>
          <a:xfrm>
            <a:off x="1434960" y="1599840"/>
            <a:ext cx="7499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tor in probability of competition from other performers, based on expected route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cat fight 2.jpg"/>
          <p:cNvPicPr/>
          <p:nvPr/>
        </p:nvPicPr>
        <p:blipFill>
          <a:blip r:embed="rId3"/>
          <a:stretch/>
        </p:blipFill>
        <p:spPr>
          <a:xfrm>
            <a:off x="3151080" y="2840040"/>
            <a:ext cx="3041640" cy="4535640"/>
          </a:xfrm>
          <a:prstGeom prst="rect">
            <a:avLst/>
          </a:prstGeom>
          <a:ln w="0">
            <a:noFill/>
          </a:ln>
        </p:spPr>
      </p:pic>
      <p:sp>
        <p:nvSpPr>
          <p:cNvPr id="537" name="Content Placeholder 2"/>
          <p:cNvSpPr/>
          <p:nvPr/>
        </p:nvSpPr>
        <p:spPr>
          <a:xfrm>
            <a:off x="1447920" y="6095880"/>
            <a:ext cx="7499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a selection to change the model for week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39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Anything is possible!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Box 3"/>
          <p:cNvSpPr/>
          <p:nvPr/>
        </p:nvSpPr>
        <p:spPr>
          <a:xfrm>
            <a:off x="3048120" y="5943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 good role model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Juran.jpg"/>
          <p:cNvPicPr/>
          <p:nvPr/>
        </p:nvPicPr>
        <p:blipFill>
          <a:blip r:embed="rId3"/>
          <a:stretch/>
        </p:blipFill>
        <p:spPr>
          <a:xfrm>
            <a:off x="3114720" y="1487520"/>
            <a:ext cx="3341520" cy="84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33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The Real World Problem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1219320" y="1600200"/>
            <a:ext cx="7619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I maximize the amount of money I can make in a day as a train-jumping subway perform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3" descr="holding moeny.jpg"/>
          <p:cNvPicPr/>
          <p:nvPr/>
        </p:nvPicPr>
        <p:blipFill>
          <a:blip r:embed="rId3"/>
          <a:stretch/>
        </p:blipFill>
        <p:spPr>
          <a:xfrm>
            <a:off x="3581280" y="3505320"/>
            <a:ext cx="25909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38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Assumption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 txBox="1"/>
          <p:nvPr/>
        </p:nvSpPr>
        <p:spPr>
          <a:xfrm>
            <a:off x="1434960" y="167652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in 6 hour shifts on week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ing 90/10 split of work/tourist traffic during normal work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ing tourists are 3X as generous as working New Y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4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Route Selectio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1447920" y="14176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the subway map to most popular express rou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llowing performers enough time to complete a performa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Group 5"/>
          <p:cNvGrpSpPr/>
          <p:nvPr/>
        </p:nvGrpSpPr>
        <p:grpSpPr>
          <a:xfrm>
            <a:off x="3010320" y="2514600"/>
            <a:ext cx="3588120" cy="3998520"/>
            <a:chOff x="3010320" y="2514600"/>
            <a:chExt cx="3588120" cy="3998520"/>
          </a:xfrm>
        </p:grpSpPr>
        <p:sp>
          <p:nvSpPr>
            <p:cNvPr id="446" name="TextBox 2"/>
            <p:cNvSpPr/>
            <p:nvPr/>
          </p:nvSpPr>
          <p:spPr>
            <a:xfrm>
              <a:off x="3010320" y="2514600"/>
              <a:ext cx="109656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olumbus Circ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3"/>
            <p:cNvSpPr/>
            <p:nvPr/>
          </p:nvSpPr>
          <p:spPr>
            <a:xfrm>
              <a:off x="5449320" y="5759640"/>
              <a:ext cx="8740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anal Stre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4"/>
            <p:cNvSpPr/>
            <p:nvPr/>
          </p:nvSpPr>
          <p:spPr>
            <a:xfrm>
              <a:off x="4543200" y="6251760"/>
              <a:ext cx="68832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ulton 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5"/>
            <p:cNvSpPr/>
            <p:nvPr/>
          </p:nvSpPr>
          <p:spPr>
            <a:xfrm>
              <a:off x="5285520" y="5166000"/>
              <a:ext cx="131292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roadway Lafayet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6"/>
            <p:cNvSpPr/>
            <p:nvPr/>
          </p:nvSpPr>
          <p:spPr>
            <a:xfrm>
              <a:off x="5005800" y="4610160"/>
              <a:ext cx="98856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4th Union S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7"/>
            <p:cNvSpPr/>
            <p:nvPr/>
          </p:nvSpPr>
          <p:spPr>
            <a:xfrm>
              <a:off x="4192560" y="4054320"/>
              <a:ext cx="10234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34th Herald S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8"/>
            <p:cNvSpPr/>
            <p:nvPr/>
          </p:nvSpPr>
          <p:spPr>
            <a:xfrm>
              <a:off x="3205800" y="3306600"/>
              <a:ext cx="126720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42nd Times Squa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Box 9"/>
            <p:cNvSpPr/>
            <p:nvPr/>
          </p:nvSpPr>
          <p:spPr>
            <a:xfrm>
              <a:off x="3953520" y="5058000"/>
              <a:ext cx="70200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West 4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0"/>
            <p:cNvSpPr/>
            <p:nvPr/>
          </p:nvSpPr>
          <p:spPr>
            <a:xfrm>
              <a:off x="5498280" y="3306600"/>
              <a:ext cx="97632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Grand Cent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Curved Connector 15"/>
            <p:cNvCxnSpPr>
              <a:stCxn id="453" idx="0"/>
              <a:endCxn id="451" idx="2"/>
            </p:cNvCxnSpPr>
            <p:nvPr/>
          </p:nvCxnSpPr>
          <p:spPr>
            <a:xfrm flipH="1" flipV="1" rot="5400000">
              <a:off x="4105080" y="4506480"/>
              <a:ext cx="749880" cy="352800"/>
            </a:xfrm>
            <a:prstGeom prst="curvedConnector5">
              <a:avLst>
                <a:gd name="adj1" fmla="val 50000"/>
                <a:gd name="adj2" fmla="val 49948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56" name="Curved Connector 16"/>
            <p:cNvCxnSpPr>
              <a:stCxn id="453" idx="2"/>
              <a:endCxn id="448" idx="0"/>
            </p:cNvCxnSpPr>
            <p:nvPr/>
          </p:nvCxnSpPr>
          <p:spPr>
            <a:xfrm flipH="1" rot="16200000">
              <a:off x="4124160" y="5489280"/>
              <a:ext cx="942120" cy="583200"/>
            </a:xfrm>
            <a:prstGeom prst="curvedConnector5">
              <a:avLst>
                <a:gd name="adj1" fmla="val 50000"/>
                <a:gd name="adj2" fmla="val 49969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57" name="Curved Connector 13"/>
            <p:cNvCxnSpPr>
              <a:stCxn id="451" idx="0"/>
              <a:endCxn id="452" idx="3"/>
            </p:cNvCxnSpPr>
            <p:nvPr/>
          </p:nvCxnSpPr>
          <p:spPr>
            <a:xfrm flipV="1" rot="16200000">
              <a:off x="4277880" y="3675960"/>
              <a:ext cx="529200" cy="22752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58" name="Curved Connector 18"/>
            <p:cNvCxnSpPr>
              <a:stCxn id="452" idx="0"/>
              <a:endCxn id="446" idx="2"/>
            </p:cNvCxnSpPr>
            <p:nvPr/>
          </p:nvCxnSpPr>
          <p:spPr>
            <a:xfrm flipV="1" rot="16200000">
              <a:off x="3428280" y="2896200"/>
              <a:ext cx="540360" cy="280080"/>
            </a:xfrm>
            <a:prstGeom prst="curvedConnector5">
              <a:avLst>
                <a:gd name="adj1" fmla="val 50000"/>
                <a:gd name="adj2" fmla="val 49935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59" name="Curved Connector 19"/>
            <p:cNvCxnSpPr>
              <a:stCxn id="452" idx="3"/>
              <a:endCxn id="454" idx="1"/>
            </p:cNvCxnSpPr>
            <p:nvPr/>
          </p:nvCxnSpPr>
          <p:spPr>
            <a:xfrm>
              <a:off x="4429080" y="3525840"/>
              <a:ext cx="1103400" cy="11520"/>
            </a:xfrm>
            <a:prstGeom prst="curvedConnector5">
              <a:avLst>
                <a:gd name="adj1" fmla="val 50000"/>
                <a:gd name="adj2" fmla="val 48387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0" name="Curved Connector 20"/>
            <p:cNvCxnSpPr>
              <a:stCxn id="454" idx="2"/>
              <a:endCxn id="450" idx="0"/>
            </p:cNvCxnSpPr>
            <p:nvPr/>
          </p:nvCxnSpPr>
          <p:spPr>
            <a:xfrm rot="5400000">
              <a:off x="5218200" y="3842280"/>
              <a:ext cx="1050120" cy="486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1" name="Curved Connector 17"/>
            <p:cNvCxnSpPr>
              <a:stCxn id="451" idx="2"/>
              <a:endCxn id="450" idx="1"/>
            </p:cNvCxnSpPr>
            <p:nvPr/>
          </p:nvCxnSpPr>
          <p:spPr>
            <a:xfrm flipH="1" rot="16200000">
              <a:off x="4633200" y="4330440"/>
              <a:ext cx="429120" cy="38484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2" name="Curved Connector 18"/>
            <p:cNvCxnSpPr>
              <a:stCxn id="451" idx="2"/>
              <a:endCxn id="447" idx="1"/>
            </p:cNvCxnSpPr>
            <p:nvPr/>
          </p:nvCxnSpPr>
          <p:spPr>
            <a:xfrm flipH="1" rot="16200000">
              <a:off x="4279680" y="4684320"/>
              <a:ext cx="1577160" cy="82440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3" name="Curved Connector 23"/>
            <p:cNvCxnSpPr>
              <a:stCxn id="453" idx="3"/>
              <a:endCxn id="449" idx="1"/>
            </p:cNvCxnSpPr>
            <p:nvPr/>
          </p:nvCxnSpPr>
          <p:spPr>
            <a:xfrm>
              <a:off x="4630680" y="5183280"/>
              <a:ext cx="700200" cy="110160"/>
            </a:xfrm>
            <a:prstGeom prst="curvedConnector5">
              <a:avLst>
                <a:gd name="adj1" fmla="val 50000"/>
                <a:gd name="adj2" fmla="val 49836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4" name="Curved Connector 24"/>
            <p:cNvCxnSpPr>
              <a:stCxn id="450" idx="2"/>
              <a:endCxn id="449" idx="0"/>
            </p:cNvCxnSpPr>
            <p:nvPr/>
          </p:nvCxnSpPr>
          <p:spPr>
            <a:xfrm flipH="1" rot="16200000">
              <a:off x="5569560" y="4794120"/>
              <a:ext cx="302040" cy="4417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5" name="Curved Connector 21"/>
            <p:cNvCxnSpPr>
              <a:stCxn id="448" idx="3"/>
              <a:endCxn id="447" idx="2"/>
            </p:cNvCxnSpPr>
            <p:nvPr/>
          </p:nvCxnSpPr>
          <p:spPr>
            <a:xfrm flipV="1">
              <a:off x="5206680" y="6011640"/>
              <a:ext cx="680040" cy="36576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6" name="Curved Connector 26"/>
            <p:cNvCxnSpPr>
              <a:stCxn id="447" idx="0"/>
              <a:endCxn id="449" idx="2"/>
            </p:cNvCxnSpPr>
            <p:nvPr/>
          </p:nvCxnSpPr>
          <p:spPr>
            <a:xfrm flipH="1" flipV="1" rot="5400000">
              <a:off x="5744160" y="5561280"/>
              <a:ext cx="340200" cy="56160"/>
            </a:xfrm>
            <a:prstGeom prst="curvedConnector5">
              <a:avLst>
                <a:gd name="adj1" fmla="val 50000"/>
                <a:gd name="adj2" fmla="val 49677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7" name="Curved Connector 23"/>
            <p:cNvCxnSpPr>
              <a:stCxn id="446" idx="3"/>
              <a:endCxn id="451" idx="0"/>
            </p:cNvCxnSpPr>
            <p:nvPr/>
          </p:nvCxnSpPr>
          <p:spPr>
            <a:xfrm>
              <a:off x="4068360" y="2640960"/>
              <a:ext cx="587880" cy="141372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sp>
          <p:nvSpPr>
            <p:cNvPr id="468" name="TextBox 24"/>
            <p:cNvSpPr/>
            <p:nvPr/>
          </p:nvSpPr>
          <p:spPr>
            <a:xfrm>
              <a:off x="5493600" y="2523960"/>
              <a:ext cx="8236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59th Stre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Curved Connector 29"/>
            <p:cNvCxnSpPr>
              <a:stCxn id="468" idx="2"/>
              <a:endCxn id="454" idx="0"/>
            </p:cNvCxnSpPr>
            <p:nvPr/>
          </p:nvCxnSpPr>
          <p:spPr>
            <a:xfrm flipH="1" rot="16200000">
              <a:off x="5680440" y="3000600"/>
              <a:ext cx="531000" cy="81360"/>
            </a:xfrm>
            <a:prstGeom prst="curvedConnector5">
              <a:avLst>
                <a:gd name="adj1" fmla="val 50000"/>
                <a:gd name="adj2" fmla="val 49777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70" name="Curved Connector 26"/>
            <p:cNvCxnSpPr>
              <a:stCxn id="468" idx="1"/>
              <a:endCxn id="451" idx="0"/>
            </p:cNvCxnSpPr>
            <p:nvPr/>
          </p:nvCxnSpPr>
          <p:spPr>
            <a:xfrm flipV="1" rot="10800000">
              <a:off x="4655520" y="2647800"/>
              <a:ext cx="867240" cy="140544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7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Route Time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 txBox="1"/>
          <p:nvPr/>
        </p:nvSpPr>
        <p:spPr>
          <a:xfrm>
            <a:off x="1434960" y="1523880"/>
            <a:ext cx="7499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MTA data for average time of each r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Table 3" descr=""/>
          <p:cNvPicPr/>
          <p:nvPr/>
        </p:nvPicPr>
        <p:blipFill>
          <a:blip r:embed="rId3"/>
          <a:stretch/>
        </p:blipFill>
        <p:spPr>
          <a:xfrm>
            <a:off x="2365200" y="2036880"/>
            <a:ext cx="50230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7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Wait Time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1447560" y="1523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MTA data of average wait times by h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3"/>
          <a:stretch/>
        </p:blipFill>
        <p:spPr>
          <a:xfrm>
            <a:off x="1905120" y="2438280"/>
            <a:ext cx="6276960" cy="3676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8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Traffic Pattern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 txBox="1"/>
          <p:nvPr/>
        </p:nvSpPr>
        <p:spPr>
          <a:xfrm>
            <a:off x="1447560" y="160020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ffic varies over the course of a day for the average New Yor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3"/>
          <a:srcRect l="0" t="0" r="8174" b="0"/>
          <a:stretch/>
        </p:blipFill>
        <p:spPr>
          <a:xfrm>
            <a:off x="1295280" y="2514600"/>
            <a:ext cx="7620120" cy="3886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8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Tourist Pattern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 txBox="1"/>
          <p:nvPr/>
        </p:nvSpPr>
        <p:spPr>
          <a:xfrm>
            <a:off x="1828440" y="1676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for tourist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7696080" cy="4038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9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MTA Station Traffic Data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1371240" y="1447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e average hourly ridership per route to calculate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3"/>
          <a:stretch/>
        </p:blipFill>
        <p:spPr>
          <a:xfrm>
            <a:off x="1752480" y="2438280"/>
            <a:ext cx="697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09:45Z</dcterms:created>
  <dc:creator>Jonathan Olsen</dc:creator>
  <dc:description/>
  <dc:language>en-US</dc:language>
  <cp:lastModifiedBy>User</cp:lastModifiedBy>
  <dcterms:modified xsi:type="dcterms:W3CDTF">2010-12-05T22:33:40Z</dcterms:modified>
  <cp:revision>175</cp:revision>
  <dc:subject/>
  <dc:title>Subway Performer Millionaire</dc:title>
</cp:coreProperties>
</file>