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19.png" ContentType="image/png"/>
  <Override PartName="/ppt/media/image18.wmf" ContentType="image/x-wmf"/>
  <Override PartName="/ppt/media/image3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E96-5417-4392-9F98-43281F8EE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7FD-199D-4937-B3AE-2137E21E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very useful for when we graduate and you can’t depend on events like pre-term, beer blast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547-D4C5-4A99-8BF3-519F5FBC0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1594-CA46-4492-8353-AAC3037F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79B-AD92-4F0B-ABC5-3D4E2AEA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CC4-1467-47FE-9E36-E69CF2868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328-CC85-4599-B67A-E06B2C9A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E9A6-BAF3-44C2-82AA-866012B3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05D-B4B9-4309-BF4D-643D2D388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291-2021-4610-A6FD-F964375E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6D3-FBCF-4B04-BC28-09A970EC0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doesn’t work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60C-F98E-40D6-AD3E-1C4565670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o add more but wanted to try and make this visual and then apply to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9BC-BCD7-4462-9B95-84917C36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BE3-5A67-4E78-BA32-BEA8F2D03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4D9-F5E7-469F-A7A4-C41E8A65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263-9AAD-44F3-A16C-4E88CE3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477-EDB9-44CF-B3A7-9465D0D7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7B2-67AF-484C-8835-63AC4090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327-ADCA-4812-991E-2E11856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1D7-B026-4CD6-B8F4-86B79CBA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483-6783-467D-88B1-25A884A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131-A19D-4314-A6D8-24EF1F7E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82F-F18E-4A81-A4EB-9316A94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757-2F94-437B-8238-76F6A63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454-D59E-4506-928C-8253326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0BB-E83C-4DF7-B03A-99B6B9F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CE3-30B5-4318-8C56-4971D969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luidnetwork.co.uk/gfx/topten/londons_best_bars_singles_nights_top_10_guide.jpg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4067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2120" y="189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 Your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maximizing your attractiveness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295280" y="518148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tchmak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ke Lea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rah Sh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nni Tsav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13716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tay within time and money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durations must be integers (e.g., whole hou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ur professional judgment, predetermined limits were added to limit ensure realistic allocation (e.g., Cannot spend 15hrs/week spray tann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snooki"/>
          <p:cNvPicPr/>
          <p:nvPr/>
        </p:nvPicPr>
        <p:blipFill>
          <a:blip r:embed="rId1"/>
          <a:stretch/>
        </p:blipFill>
        <p:spPr>
          <a:xfrm>
            <a:off x="6477120" y="3429000"/>
            <a:ext cx="1790640" cy="25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37160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ity given that time canno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allocate their time and money as the model advises before they are able to achieve success at the venues sugg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list of activities are the most effective in improving attract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743200" y="236376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Dec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tart by collecting user input (Gender, Spending Money, T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jor components of the model that drive attractivenes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u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the right combination of these variables given time and money constraints is the driving question behind thi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will provide users with the optimal allocation of time and money to achieve maximum attractive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will also point users to a menu of venues where they can find people like th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80880" y="179064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Gender, Time,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952880" y="179064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Optimal Attractiveness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590920" y="1600200"/>
            <a:ext cx="1904760" cy="144792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7162920" y="179064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Venue from Me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9"/>
          <p:cNvCxnSpPr>
            <a:stCxn id="113" idx="3"/>
            <a:endCxn id="115" idx="1"/>
          </p:cNvCxnSpPr>
          <p:nvPr/>
        </p:nvCxnSpPr>
        <p:spPr>
          <a:xfrm>
            <a:off x="213372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0"/>
          <p:cNvCxnSpPr>
            <a:stCxn id="115" idx="3"/>
            <a:endCxn id="114" idx="1"/>
          </p:cNvCxnSpPr>
          <p:nvPr/>
        </p:nvCxnSpPr>
        <p:spPr>
          <a:xfrm>
            <a:off x="449568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1"/>
          <p:cNvCxnSpPr>
            <a:stCxn id="114" idx="3"/>
            <a:endCxn id="116" idx="1"/>
          </p:cNvCxnSpPr>
          <p:nvPr/>
        </p:nvCxnSpPr>
        <p:spPr>
          <a:xfrm>
            <a:off x="670572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724280" y="16002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home screen for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enter their time and money in the gender-appropriate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5994360" cy="103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14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2590920" y="165240"/>
            <a:ext cx="5994360" cy="105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0037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2540160" y="185760"/>
            <a:ext cx="599436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76320" y="1422360"/>
          <a:ext cx="2819160" cy="685800"/>
        </p:xfrm>
        <a:graphic>
          <a:graphicData uri="http://schemas.openxmlformats.org/drawingml/2006/table">
            <a:tbl>
              <a:tblPr/>
              <a:tblGrid>
                <a:gridCol w="2114280"/>
                <a:gridCol w="704880"/>
              </a:tblGrid>
              <a:tr h="22536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vailable Per W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to Spend Per W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601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9480" y="3733920"/>
            <a:ext cx="2438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to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m Boom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l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609480" y="3429000"/>
            <a:ext cx="24386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3390840" y="3733920"/>
            <a:ext cx="2438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u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fie and N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B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 Cami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lage Tav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fe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ying 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390840" y="3429000"/>
            <a:ext cx="24386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6172200" y="3733920"/>
            <a:ext cx="24382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nder Jack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 the W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ny Utah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cked Will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ther Jimm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yote U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6172200" y="3429000"/>
            <a:ext cx="24382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s are based on the optimized allocation and resulting points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6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601344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219320" y="2286000"/>
          <a:ext cx="6095880" cy="10065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1-1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1-1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2743200" y="25909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5360" y="6094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09480" y="1197000"/>
            <a:ext cx="45720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 / Decisio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ts /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Consi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lver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 What Users Will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: What the user will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-152280" y="1219320"/>
            <a:ext cx="4343400" cy="4343400"/>
            <a:chOff x="-152280" y="1219320"/>
            <a:chExt cx="4343400" cy="4343400"/>
          </a:xfrm>
        </p:grpSpPr>
        <p:pic>
          <p:nvPicPr>
            <p:cNvPr id="156" name="Picture 8" descr="http://t0.gstatic.com/images?q=tbn:ANd9GcTEfZlnF_frubkBZI7cIGRYXHPW3iR1zmOLIy5n7SVKJE3zWOfxZQ"/>
            <p:cNvPicPr/>
            <p:nvPr/>
          </p:nvPicPr>
          <p:blipFill>
            <a:blip r:embed="rId1"/>
            <a:stretch/>
          </p:blipFill>
          <p:spPr>
            <a:xfrm>
              <a:off x="-152280" y="121932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4"/>
            <p:cNvSpPr/>
            <p:nvPr/>
          </p:nvSpPr>
          <p:spPr>
            <a:xfrm>
              <a:off x="812880" y="2149560"/>
              <a:ext cx="2378160" cy="174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" name="Object 6"/>
            <p:cNvGraphicFramePr/>
            <p:nvPr/>
          </p:nvGraphicFramePr>
          <p:xfrm>
            <a:off x="1542960" y="2563560"/>
            <a:ext cx="855360" cy="93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42960" y="2563560"/>
                      <a:ext cx="855360" cy="9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" name="Picture 4" descr=""/>
            <p:cNvPicPr/>
            <p:nvPr/>
          </p:nvPicPr>
          <p:blipFill>
            <a:blip r:embed="rId4"/>
            <a:stretch/>
          </p:blipFill>
          <p:spPr>
            <a:xfrm flipH="1">
              <a:off x="2360880" y="3090240"/>
              <a:ext cx="817920" cy="8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8" descr="male_and_female_image"/>
            <p:cNvPicPr/>
            <p:nvPr/>
          </p:nvPicPr>
          <p:blipFill>
            <a:blip r:embed="rId5"/>
            <a:stretch/>
          </p:blipFill>
          <p:spPr>
            <a:xfrm flipH="1">
              <a:off x="864360" y="2253240"/>
              <a:ext cx="70488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ight Arrow 15"/>
          <p:cNvSpPr/>
          <p:nvPr/>
        </p:nvSpPr>
        <p:spPr>
          <a:xfrm>
            <a:off x="3733920" y="30481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eba8"/>
              </a:gs>
              <a:gs pos="100000">
                <a:srgbClr val="85ffd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6"/>
          <a:stretch/>
        </p:blipFill>
        <p:spPr>
          <a:xfrm>
            <a:off x="4672080" y="1828800"/>
            <a:ext cx="40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rt 2"/>
          <p:cNvSpPr/>
          <p:nvPr/>
        </p:nvSpPr>
        <p:spPr>
          <a:xfrm>
            <a:off x="369576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505320" y="380880"/>
            <a:ext cx="2133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Poor Richard"/>
              </a:rPr>
              <a:t>I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124080" y="4114800"/>
            <a:ext cx="2895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Poor Richard"/>
              </a:rPr>
              <a:t>DM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191120" y="2676600"/>
            <a:ext cx="722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743200" y="236376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80880" y="4572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City offers a variety of places to meet people but one must be realistic and visit venues appropriate for them in order to find a suitable 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venue at which to prowl depends not only on one’s budget but also on his/her attractive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vidual can maximize his/her attractiveness by finding the optimal combination of health/beauty activities they can fit into their schedule, but that they can also aff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6868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1676520" y="304920"/>
            <a:ext cx="5715000" cy="5486400"/>
            <a:chOff x="1676520" y="304920"/>
            <a:chExt cx="5715000" cy="5486400"/>
          </a:xfrm>
        </p:grpSpPr>
        <p:sp>
          <p:nvSpPr>
            <p:cNvPr id="64" name="Folded Corner 4"/>
            <p:cNvSpPr/>
            <p:nvPr/>
          </p:nvSpPr>
          <p:spPr>
            <a:xfrm rot="1990200">
              <a:off x="4114440" y="495000"/>
              <a:ext cx="914400" cy="5257800"/>
            </a:xfrm>
            <a:prstGeom prst="foldedCorner">
              <a:avLst>
                <a:gd name="adj" fmla="val 16666"/>
              </a:avLst>
            </a:prstGeom>
            <a:solidFill>
              <a:srgbClr val="a70000"/>
            </a:solidFill>
            <a:ln w="9360">
              <a:solidFill>
                <a:srgbClr val="a7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2"/>
            <p:cNvSpPr/>
            <p:nvPr/>
          </p:nvSpPr>
          <p:spPr>
            <a:xfrm>
              <a:off x="1676520" y="304920"/>
              <a:ext cx="5715000" cy="5486400"/>
            </a:xfrm>
            <a:prstGeom prst="ellipse">
              <a:avLst/>
            </a:prstGeom>
            <a:noFill/>
            <a:ln w="587520">
              <a:solidFill>
                <a:srgbClr val="a7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Heart 7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http://t2.gstatic.com/images?q=tbn:ANd9GcT2_LtTz85sT-_-vKIG0s14JIZM3pVnN9vFjztqnb8MLOc4GM5NzA"/>
          <p:cNvPicPr/>
          <p:nvPr/>
        </p:nvPicPr>
        <p:blipFill>
          <a:blip r:embed="rId1"/>
          <a:srcRect l="20245" t="0" r="0" b="0"/>
          <a:stretch/>
        </p:blipFill>
        <p:spPr>
          <a:xfrm>
            <a:off x="1112760" y="1905120"/>
            <a:ext cx="3002040" cy="2504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990720" y="136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This G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6094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Our Simpl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http://www.glamour.com/sex-love-life/blogs/smitten/0510_couple%20in%20bar.jpg"/>
          <p:cNvPicPr/>
          <p:nvPr/>
        </p:nvPicPr>
        <p:blipFill>
          <a:blip r:embed="rId2"/>
          <a:srcRect l="2504" t="12532" r="0" b="7265"/>
          <a:stretch/>
        </p:blipFill>
        <p:spPr>
          <a:xfrm>
            <a:off x="4859280" y="1905120"/>
            <a:ext cx="3065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48006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is G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2133720"/>
            <a:ext cx="762012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the optimal combination of predetermined health and beauty related activities to maximize attractive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3378240" y="1981080"/>
          <a:ext cx="2311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1981080"/>
                    <a:ext cx="2311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6629400" y="3733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male_and_female_image"/>
          <p:cNvPicPr/>
          <p:nvPr/>
        </p:nvPicPr>
        <p:blipFill>
          <a:blip r:embed="rId4"/>
          <a:stretch/>
        </p:blipFill>
        <p:spPr>
          <a:xfrm>
            <a:off x="533520" y="1066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Male” analysis, eight decision variables were crea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Tr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o g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sc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i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y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ay T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Female” analysis, eight decision variables were crea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Tr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o g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and Make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 P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y T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hest wax.jpg"/>
          <p:cNvPicPr/>
          <p:nvPr/>
        </p:nvPicPr>
        <p:blipFill>
          <a:blip r:embed="rId1"/>
          <a:srcRect l="0" t="0" r="18896" b="0"/>
          <a:stretch/>
        </p:blipFill>
        <p:spPr>
          <a:xfrm>
            <a:off x="3486240" y="2286000"/>
            <a:ext cx="1390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2904840" y="3096720"/>
            <a:ext cx="533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0:15:22Z</dcterms:created>
  <dc:creator>Penni</dc:creator>
  <dc:description/>
  <dc:language>en-US</dc:language>
  <cp:lastModifiedBy>Stern School of Business</cp:lastModifiedBy>
  <dcterms:modified xsi:type="dcterms:W3CDTF">2010-12-13T13:30:22Z</dcterms:modified>
  <cp:revision>57</cp:revision>
  <dc:subject/>
  <dc:title>PowerPoint Presentation</dc:title>
</cp:coreProperties>
</file>