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9120" y="691920"/>
            <a:ext cx="4724280" cy="356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885760" y="870120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6059-8B51-4EB4-BE31-510261218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talking about types of stat arb – momentum &amp; mean re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2314-D5D3-4D6B-91FC-B8EDEA618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207F-9893-4235-B4BB-9EAFFD155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E588-B85D-4B6F-98FE-2FA62B7D0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BB38-BC86-4CAA-9046-35DFB5671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7124B-FE0C-4483-914D-806402AA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6ECBE-CD9D-459A-ADC7-43AD000C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23B3C-CEB9-4507-9995-227A5916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20501-E328-4A13-8036-FB960A4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DA827-FC5A-49E9-BC2C-A249BEAF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12505-F71D-4BB0-8625-2935C459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F0968-7F1E-406C-BD0B-A4756C57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2BB9-7BB8-49EA-B135-D9B4EDBC6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B9135-21E5-4F77-8E2D-8ED8DE0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A9C8F-0747-4919-8E08-1EAD454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B8E9F-755D-470E-8D5D-F5B78FC6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B188C-D8E3-4A0F-A80D-E7BBE3F3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BEC94-77C9-4409-B11B-1AC11383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E51B-5BAD-4B5A-93AD-604E14927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7FBD-8D35-4154-9411-B483028C9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FA3C-031E-44EE-9BEE-AEC41BE87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4AA8-587F-4C2C-AB96-5E957FCD7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0939-EFB6-46AF-98D9-41B7464FA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6AA8-04FA-49A0-A523-0D7865447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2F7F-A810-4352-A99C-C4E8F9D08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6"/>
          <p:cNvSpPr/>
          <p:nvPr/>
        </p:nvSpPr>
        <p:spPr>
          <a:xfrm>
            <a:off x="457200" y="144792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BE85-96BC-4A00-9503-91CED9FFDDFE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2" descr="TORCH"/>
          <p:cNvPicPr/>
          <p:nvPr/>
        </p:nvPicPr>
        <p:blipFill>
          <a:blip r:embed="rId2"/>
          <a:stretch/>
        </p:blipFill>
        <p:spPr>
          <a:xfrm>
            <a:off x="457200" y="457200"/>
            <a:ext cx="50328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457200" y="259092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4CF-D268-4D1E-814D-31077CD5D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1FAC-DB5C-44A7-9C36-DCC9D6C2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Arial"/>
              </a:rPr>
              <a:t>How to Make Mone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Arbitrage on Vola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438280" y="525780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James Hervold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1" name="Picture 5" descr="Stern logo"/>
          <p:cNvPicPr/>
          <p:nvPr/>
        </p:nvPicPr>
        <p:blipFill>
          <a:blip r:embed="rId1"/>
          <a:stretch/>
        </p:blipFill>
        <p:spPr>
          <a:xfrm>
            <a:off x="990720" y="228600"/>
            <a:ext cx="70088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FAFD-C92F-419D-9E21-3524D5FD93BB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est the Model, Fitted Data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818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A242-24DB-46BF-8D90-BBBDE2D05294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ow to Inves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914400" y="2057400"/>
            <a:ext cx="7238880" cy="1828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Lower Risk: XVIX – Sells 50% T+1~2, Buys T+4~7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oderate Risk: XXV – Sells T+1, Buys T+2 (lower leverage)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High Risk: VXX (short) – Buys T+1, Sells T+2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838080" y="4343400"/>
            <a:ext cx="7239240" cy="762120"/>
          </a:xfrm>
          <a:prstGeom prst="roundRect">
            <a:avLst>
              <a:gd name="adj" fmla="val 16667"/>
            </a:avLst>
          </a:prstGeom>
          <a:solidFill>
            <a:srgbClr val="ffc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ther Products: VXZ, VZZ, CVOL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Rounded Rectangle 6"/>
          <p:cNvSpPr/>
          <p:nvPr/>
        </p:nvSpPr>
        <p:spPr>
          <a:xfrm>
            <a:off x="838080" y="5486400"/>
            <a:ext cx="7239240" cy="762120"/>
          </a:xfrm>
          <a:prstGeom prst="roundRect">
            <a:avLst>
              <a:gd name="adj" fmla="val 16667"/>
            </a:avLst>
          </a:prstGeom>
          <a:solidFill>
            <a:srgbClr val="b8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rading: Calendar Spreads, on futures or options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9303-A0DE-4360-B5C3-93288F9EBD04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omentum vs Mean Revers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0112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mentum – break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reversion – go back to the t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bandtrade"/>
          <p:cNvPicPr/>
          <p:nvPr/>
        </p:nvPicPr>
        <p:blipFill>
          <a:blip r:embed="rId1"/>
          <a:stretch/>
        </p:blipFill>
        <p:spPr>
          <a:xfrm>
            <a:off x="1295280" y="2438280"/>
            <a:ext cx="7077240" cy="4286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7467480" y="26668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543800" y="42670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5F9C-46B2-4A67-8A6C-E6C4389E4D47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ean Reversion: The VIX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6353280" cy="2934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X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sure of the price of insurance, the price will revert to a premium over real volat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sellers stand to gain little, but loose a lot, historically there is a premium to actual realized vola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X usually reverts to ~20, event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E37B-E9B4-44D7-9706-365950FC27FA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erm Structure Steep, Very Steep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ward sloping over 84% of the time, VIX sellers mak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ly steep, steepness can be translated into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4876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4E42-FE49-4071-B1D8-013340C8BAFD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oll Yield: T+2  &amp;  T+1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n index from 77 historical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, T+2 trades at a 5.4% premium over T+1, 64.8% annu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6A67-CC87-4C95-A4A6-706C0947EC8A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762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nagerial Formulation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allocate 100% of the theoretical funds to the three stocks and create investing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efficiency fro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ideal portfo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than 100% in any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money must be inv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DF15-4D10-48FE-A8CA-F7F6D0432D74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thematical Formulation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196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  <a:ea typeface="MS Mincho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Book Antiqua"/>
                <a:ea typeface="MS Mincho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the proportion of the portfolio allocated to st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   , Maxim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 &gt;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  <a:ea typeface="MS Mincho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Book Antiqua"/>
                <a:ea typeface="MS Mincho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-1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2997360" y="2743200"/>
                <a:ext cx="14223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3630600" y="3471840"/>
                <a:ext cx="3429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2151000" y="4699080"/>
                <a:ext cx="2872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3657600" y="4711680"/>
                <a:ext cx="293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4DD3-6814-4EC0-8521-C7FF4F6617E4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fficient Frontier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8B26-E94F-481E-890D-C5E3754C4A4F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erformanc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867280" y="205740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Vol when VIX is below 25~27 has been shown to be very profi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ized scenario, past 4 years would have yielded 48%/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risky, hedge &amp; divers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5486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51055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2T12:18:40Z</dcterms:created>
  <dc:creator>Geeta Menon</dc:creator>
  <dc:description/>
  <cp:keywords/>
  <dc:language>en-US</dc:language>
  <cp:lastModifiedBy>Stern User</cp:lastModifiedBy>
  <cp:lastPrinted>2000-06-05T20:04:18Z</cp:lastPrinted>
  <dcterms:modified xsi:type="dcterms:W3CDTF">2010-12-06T17:32:34Z</dcterms:modified>
  <cp:revision>218</cp:revision>
  <dc:subject>Marketing Concepts &amp; Strategies</dc:subject>
  <dc:title>Course Review</dc:title>
</cp:coreProperties>
</file>