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ldImg"/>
          </p:nvPr>
        </p:nvSpPr>
        <p:spPr>
          <a:xfrm>
            <a:off x="1149120" y="691920"/>
            <a:ext cx="4724280" cy="3568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2885760" y="8701200"/>
            <a:ext cx="8168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F316B-96BF-413F-97FA-696EAE4E19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t with talking about types of stat arb – momentum &amp; mean rever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78120-9DE2-4535-911C-E957082D6A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123F3-CF48-41E2-A006-56013EB495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7E72C-7826-4D85-806F-09E3722B98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99754-288E-4F58-832B-473601B22E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C5FB33-149F-4A21-A776-717F91D87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C146C8-60AB-4875-9A79-9BBDF9C0E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D7EC5E-D2EB-445D-A17A-7050C2E18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7D9678-59C9-4A7C-A7EC-23D240F1F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287FC5-4A97-4EA4-8FC6-743670092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E59639-136B-4A99-AEAA-FFC224D69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33F06A-8E40-4A90-8A96-92D2C02E9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BD023-EAF7-4390-8949-75143E2555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885903-1911-4BDF-94B7-A11F55462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996CA6-3041-420D-9182-DC312DB4D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804012-3FFA-4465-AF05-36F4590FA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95A6F7-223E-4B8F-A8CE-765B41277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2FF312-726F-435F-95F9-063A28720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D47CD-483E-4C08-9274-0C7A4943AB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6F6A7-8346-46E1-B402-B9A48CD73B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B9397-C9B5-44AC-BD2C-CC985A56A7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03EB7-131B-4370-8ED3-BB9CDBE076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D180F-F436-462D-AAE1-0F55BA9573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E4864-63AC-4033-A6DC-712AA9EB9B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B380E-3F5B-4EF9-BDC9-1BFB56E25C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6"/>
          <p:cNvSpPr/>
          <p:nvPr/>
        </p:nvSpPr>
        <p:spPr>
          <a:xfrm>
            <a:off x="457200" y="1447920"/>
            <a:ext cx="7918560" cy="16488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00000"/>
              </a:gs>
              <a:gs pos="100000">
                <a:srgbClr val="8c3d9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99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48CB7-1225-4EFB-A6BD-8C1CF2863DC6}" type="slidenum">
              <a:rPr b="0" lang="en-US" sz="14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12" descr="TORCH"/>
          <p:cNvPicPr/>
          <p:nvPr/>
        </p:nvPicPr>
        <p:blipFill>
          <a:blip r:embed="rId2"/>
          <a:stretch/>
        </p:blipFill>
        <p:spPr>
          <a:xfrm>
            <a:off x="457200" y="457200"/>
            <a:ext cx="503280" cy="80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6"/>
          <p:cNvSpPr/>
          <p:nvPr/>
        </p:nvSpPr>
        <p:spPr>
          <a:xfrm>
            <a:off x="457200" y="2590920"/>
            <a:ext cx="7918560" cy="16488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00000"/>
              </a:gs>
              <a:gs pos="100000">
                <a:srgbClr val="8c3d9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99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2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3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4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593B1-C3BA-4D36-A52D-A489D8FFA2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11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5806C-9B10-467E-967C-BCC2A84625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99"/>
                </a:solidFill>
                <a:latin typeface="Arial"/>
              </a:rPr>
              <a:t>How to Make Money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istical Arbitrage on Volat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2438280" y="5257800"/>
            <a:ext cx="63248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y James Hervold</a:t>
            </a:r>
            <a:endParaRPr b="1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91" name="Picture 5" descr="Stern logo"/>
          <p:cNvPicPr/>
          <p:nvPr/>
        </p:nvPicPr>
        <p:blipFill>
          <a:blip r:embed="rId1"/>
          <a:stretch/>
        </p:blipFill>
        <p:spPr>
          <a:xfrm>
            <a:off x="990720" y="228600"/>
            <a:ext cx="7008840" cy="12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7AABA-C185-450C-8CE6-A7CE67C20E81}" type="slidenum">
              <a:rPr b="0" lang="en-US" sz="14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Test the Model, Fitted Data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304920" y="2133720"/>
            <a:ext cx="8381880" cy="39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7C0CC-679C-43E6-AD56-B0A487898B87}" type="slidenum">
              <a:rPr b="0" lang="en-US" sz="14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How to Invest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ounded Rectangle 4"/>
          <p:cNvSpPr/>
          <p:nvPr/>
        </p:nvSpPr>
        <p:spPr>
          <a:xfrm>
            <a:off x="914400" y="2057400"/>
            <a:ext cx="7238880" cy="182880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Lower Risk: XVIX – Sells 50% T+1~2, Buys T+4~7</a:t>
            </a:r>
            <a:endParaRPr b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Moderate Risk: XXV – Sells T+1, Buys T+2 (lower leverage)</a:t>
            </a:r>
            <a:endParaRPr b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High Risk: VXX (short) – Buys T+1, Sells T+2</a:t>
            </a:r>
            <a:endParaRPr b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8" name="Rounded Rectangle 5"/>
          <p:cNvSpPr/>
          <p:nvPr/>
        </p:nvSpPr>
        <p:spPr>
          <a:xfrm>
            <a:off x="838080" y="4343400"/>
            <a:ext cx="7239240" cy="762120"/>
          </a:xfrm>
          <a:prstGeom prst="roundRect">
            <a:avLst>
              <a:gd name="adj" fmla="val 16667"/>
            </a:avLst>
          </a:prstGeom>
          <a:solidFill>
            <a:srgbClr val="ffc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Other Products: VXZ, VZZ, CVOL</a:t>
            </a:r>
            <a:endParaRPr b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9" name="Rounded Rectangle 6"/>
          <p:cNvSpPr/>
          <p:nvPr/>
        </p:nvSpPr>
        <p:spPr>
          <a:xfrm>
            <a:off x="838080" y="5486400"/>
            <a:ext cx="7239240" cy="762120"/>
          </a:xfrm>
          <a:prstGeom prst="roundRect">
            <a:avLst>
              <a:gd name="adj" fmla="val 16667"/>
            </a:avLst>
          </a:prstGeom>
          <a:solidFill>
            <a:srgbClr val="b8b8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Trading: Calendar Spreads, on futures or options</a:t>
            </a:r>
            <a:endParaRPr b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E649F-2C53-4CF7-9ECA-461942C04A55}" type="slidenum">
              <a:rPr b="0" lang="en-US" sz="14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Momentum vs Mean Revers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01120" cy="83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33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mentum – breakou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an reversion – go back to the tr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bandtrade"/>
          <p:cNvPicPr/>
          <p:nvPr/>
        </p:nvPicPr>
        <p:blipFill>
          <a:blip r:embed="rId1"/>
          <a:stretch/>
        </p:blipFill>
        <p:spPr>
          <a:xfrm>
            <a:off x="1295280" y="2438280"/>
            <a:ext cx="7077240" cy="428652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5"/>
          <p:cNvSpPr/>
          <p:nvPr/>
        </p:nvSpPr>
        <p:spPr>
          <a:xfrm>
            <a:off x="7467480" y="2666880"/>
            <a:ext cx="3812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1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7543800" y="42670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1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5EDD6-DB00-4D11-B001-50165E8305D5}" type="slidenum">
              <a:rPr b="0" lang="en-US" sz="14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Mean Reversion: The VIX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0" name="Picture 3" descr=""/>
          <p:cNvPicPr/>
          <p:nvPr/>
        </p:nvPicPr>
        <p:blipFill>
          <a:blip r:embed="rId1"/>
          <a:stretch/>
        </p:blipFill>
        <p:spPr>
          <a:xfrm>
            <a:off x="1066680" y="3581280"/>
            <a:ext cx="6353280" cy="293400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X –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measure of the price of insurance, the price will revert to a premium over real volatil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urance sellers stand to gain little, but loose a lot, historically there is a premium to actual realized volat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X usually reverts to ~20, eventu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C7074-43E7-4857-BE36-8AAC88DA0F4E}" type="slidenum">
              <a:rPr b="0" lang="en-US" sz="14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Term Structure Steep, Very Steep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ward sloping over 84% of the time, VIX sellers make mon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sistently steep, steepness can be translated into prof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"/>
          <p:cNvPicPr/>
          <p:nvPr/>
        </p:nvPicPr>
        <p:blipFill>
          <a:blip r:embed="rId1"/>
          <a:stretch/>
        </p:blipFill>
        <p:spPr>
          <a:xfrm>
            <a:off x="2286000" y="3200400"/>
            <a:ext cx="487692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D19E7-C0ED-4F92-827E-093FB2C4C21A}" type="slidenum">
              <a:rPr b="0" lang="en-US" sz="14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Roll Yield: T+2  &amp;  T+1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truct an index from 77 historical contra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average, T+2 trades at a 5.4% premium over T+1, 64.8% annualiz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"/>
          <p:cNvPicPr/>
          <p:nvPr/>
        </p:nvPicPr>
        <p:blipFill>
          <a:blip r:embed="rId1"/>
          <a:stretch/>
        </p:blipFill>
        <p:spPr>
          <a:xfrm>
            <a:off x="990720" y="3352680"/>
            <a:ext cx="70866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743E2-3C11-41F1-96A3-B53B3E78819F}" type="slidenum">
              <a:rPr b="0" lang="en-US" sz="14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76212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Managerial Formulation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ecision Vari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need to allocate 100% of the theoretical funds to the three stocks and create investing r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Objec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p efficiency fronti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mize ideal portfol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nstra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more than 100% in any strateg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of the money must be inves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ED5FA-4629-41E4-B7D3-81D18C05F93A}" type="slidenum">
              <a:rPr b="0" lang="en-US" sz="14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Mathematical Formulation 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7196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ecision Vari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 </a:t>
            </a:r>
            <a:r>
              <a:rPr b="0" i="1" lang="en-US" sz="2000" spc="-1" strike="noStrike">
                <a:solidFill>
                  <a:srgbClr val="000000"/>
                </a:solidFill>
                <a:latin typeface="Book Antiqua"/>
                <a:ea typeface="MS Mincho"/>
              </a:rPr>
              <a:t>x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Book Antiqua"/>
                <a:ea typeface="MS Mincho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be the proportion of the portfolio allocated to stock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ected valu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ard deviation 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Objectiv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imize    , Maximiz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nstra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all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1 &gt; </a:t>
            </a:r>
            <a:r>
              <a:rPr b="0" i="1" lang="en-US" sz="2000" spc="-1" strike="noStrike">
                <a:solidFill>
                  <a:srgbClr val="000000"/>
                </a:solidFill>
                <a:latin typeface="Book Antiqua"/>
                <a:ea typeface="MS Mincho"/>
              </a:rPr>
              <a:t>x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Book Antiqua"/>
                <a:ea typeface="MS Mincho"/>
              </a:rPr>
              <a:t>i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-1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Book Antiqua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Object 6"/>
              <p:cNvSpPr txBox="1"/>
              <p:nvPr/>
            </p:nvSpPr>
            <p:spPr>
              <a:xfrm>
                <a:off x="2997360" y="2743200"/>
                <a:ext cx="142236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sup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8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Object 8"/>
              <p:cNvSpPr txBox="1"/>
              <p:nvPr/>
            </p:nvSpPr>
            <p:spPr>
              <a:xfrm>
                <a:off x="3630600" y="3471840"/>
                <a:ext cx="342900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sup>
                          <m:e>
                            <m:r>
                              <m:t xml:space="preserve">(</m:t>
                            </m:r>
                          </m:e>
                        </m:nary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V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Object 9"/>
              <p:cNvSpPr txBox="1"/>
              <p:nvPr/>
            </p:nvSpPr>
            <p:spPr>
              <a:xfrm>
                <a:off x="2151000" y="4699080"/>
                <a:ext cx="287280" cy="25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Object 10"/>
              <p:cNvSpPr txBox="1"/>
              <p:nvPr/>
            </p:nvSpPr>
            <p:spPr>
              <a:xfrm>
                <a:off x="3657600" y="4711680"/>
                <a:ext cx="29376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93167-3B2A-4A62-9058-10D97E1650B1}" type="slidenum">
              <a:rPr b="0" lang="en-US" sz="14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Efficient Frontier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4" name="Picture 3" descr=""/>
          <p:cNvPicPr/>
          <p:nvPr/>
        </p:nvPicPr>
        <p:blipFill>
          <a:blip r:embed="rId1"/>
          <a:stretch/>
        </p:blipFill>
        <p:spPr>
          <a:xfrm>
            <a:off x="685800" y="205740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D810B-611C-4557-A3D8-75F2FDB97708}" type="slidenum">
              <a:rPr b="0" lang="en-US" sz="14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Performance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867280" y="2057400"/>
            <a:ext cx="2895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rt Vol when VIX is below 25~27 has been shown to be very profi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alized scenario, past 4 years would have yielded 48%/y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ly risky, hedge &amp; diversif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7" descr=""/>
          <p:cNvPicPr/>
          <p:nvPr/>
        </p:nvPicPr>
        <p:blipFill>
          <a:blip r:embed="rId1"/>
          <a:stretch/>
        </p:blipFill>
        <p:spPr>
          <a:xfrm>
            <a:off x="457200" y="1752480"/>
            <a:ext cx="5486400" cy="1764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8" descr=""/>
          <p:cNvPicPr/>
          <p:nvPr/>
        </p:nvPicPr>
        <p:blipFill>
          <a:blip r:embed="rId2"/>
          <a:stretch/>
        </p:blipFill>
        <p:spPr>
          <a:xfrm>
            <a:off x="609480" y="3886200"/>
            <a:ext cx="5105520" cy="26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02T12:18:40Z</dcterms:created>
  <dc:creator>Geeta Menon</dc:creator>
  <dc:description/>
  <cp:keywords/>
  <dc:language>en-US</dc:language>
  <cp:lastModifiedBy>Stern User</cp:lastModifiedBy>
  <cp:lastPrinted>2000-06-05T20:04:18Z</cp:lastPrinted>
  <dcterms:modified xsi:type="dcterms:W3CDTF">2010-12-06T17:32:34Z</dcterms:modified>
  <cp:revision>218</cp:revision>
  <dc:subject>Marketing Concepts &amp; Strategies</dc:subject>
  <dc:title>Course Review</dc:title>
</cp:coreProperties>
</file>