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6120" y="694800"/>
            <a:ext cx="4640040" cy="348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62C522-FE8D-4100-9767-CE6FDA947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– COGS = G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P – SG&amp;A = EBI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ructure of income statemen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pattern vary substantially due to different traffic flows during the day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levant cost include labor, material, overhead, rent, other SG&amp;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abor varies depending on customer flow, so we use extend to determine number of servers required during different parts of the day for all 3 locat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aterial costs are 30% of revenue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verhead costs are 80% of labor cost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Basic SG&amp;A costs are assumed $20 per hour, rent is incorporated in this numb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fine objective &amp; approach used to resolve this proble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preadsheet models built to achieve the objecti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commendation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 group of entrepreneurs looking to obtain franchise from a fast food restaurant cha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Different traffic flows, different costs =&gt; revenue differenc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– COGS = G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P – SG&amp;A = EBI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ructure of income statemen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pattern vary substantially due to different traffic flows during the day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levant cost include labor, material, overhead, rent, other SG&amp;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abor varies depending on customer flow, so we use extend to determine number of servers required during different parts of the day for all 3 locat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aterial costs are 30% of revenue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verhead costs are 80% of labor cost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Basic SG&amp;A costs are assumed $20 per hour, rent is incorporated in this numb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– COGS = G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P – SG&amp;A = EBI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ructure of income statemen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pattern vary substantially due to different traffic flows during the day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0C7-788B-41AA-BCEF-DC68E91C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8D4-8621-415D-B49E-DA85B397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079-B9CD-4B39-8918-F2E75FE3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EB6-8807-4AAC-A67E-2B3EAC17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423E-EA9A-418C-8E87-8F31910D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9979-A80D-4E75-B23D-381E543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78F8-95BF-40D6-ADF9-F80A990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3E26-8994-4487-92BF-1AB57185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279B-CD2C-4DD3-AF16-89451063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E7D5-887E-4D06-A979-4AA10824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5337-5926-4446-8B65-DE5347FE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10B-4E1F-448B-9113-A24F74BF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C198-A5D3-4405-93F2-F16DB310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0BD6-EB44-4C70-ABB5-0AE7988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7B1B-33A1-465A-B5AF-194B5690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8D73-CAFD-41C8-B5BB-ADF4F3A1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5E85-44D9-49D9-9711-FAB463B0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920-858A-481E-A6D3-2805DF18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B1B-A551-48ED-AC17-7701EFAC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B69-4E53-43EA-847F-FBBFC05C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B9A-FDB7-4410-B16E-28215C33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C29-AEEC-491D-8A27-4D061A1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278-6C18-44BD-B22B-FD2DD3F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ECC-EDFD-4BE0-9939-7B1D2E8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9E63-14FB-42E6-B76F-15FB46986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70EC-26AA-49A2-9E23-344386902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854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optimize our dating pla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4724280"/>
            <a:ext cx="281916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hanasios Fass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ivier Gouedar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im Sez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dul Shroff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9480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cision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ary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or 0 depending on if a restaurant is selected or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dates: Exactly 3 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constrain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≤ $100 per person for all 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uisine more than o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cation more than o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86360" y="2152800"/>
            <a:ext cx="7902360" cy="1644480"/>
            <a:chOff x="486360" y="2152800"/>
            <a:chExt cx="7902360" cy="1644480"/>
          </a:xfrm>
        </p:grpSpPr>
        <p:sp>
          <p:nvSpPr>
            <p:cNvPr id="201" name=""/>
            <p:cNvSpPr/>
            <p:nvPr/>
          </p:nvSpPr>
          <p:spPr>
            <a:xfrm>
              <a:off x="488880" y="21528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taurant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880" y="2289240"/>
              <a:ext cx="6858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5880" y="215280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uisin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46240" y="2289240"/>
              <a:ext cx="4730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92160" y="215280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92520" y="2289240"/>
              <a:ext cx="547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19360" y="215280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st$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9360" y="2289240"/>
              <a:ext cx="363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43080" y="215280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 Ran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43440" y="2289240"/>
              <a:ext cx="509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56160" y="2152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56160" y="2289240"/>
              <a:ext cx="871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4000" y="221940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Success</a:t>
              </a:r>
              <a:endParaRPr b="0" lang="en-US" sz="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43280" y="2289240"/>
              <a:ext cx="3556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05160" y="215280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05520" y="2289240"/>
              <a:ext cx="3222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10160" y="21528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écor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10160" y="2289240"/>
              <a:ext cx="3700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5200" y="2152800"/>
              <a:ext cx="44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65920" y="2289240"/>
              <a:ext cx="466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23000" y="215280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Binary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23000" y="2289240"/>
              <a:ext cx="4050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19800" y="21528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st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19800" y="2289240"/>
              <a:ext cx="2923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72240" y="215280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otal Scor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72240" y="2289240"/>
              <a:ext cx="714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46240" y="2320920"/>
              <a:ext cx="61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Grouped)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46240" y="2457360"/>
              <a:ext cx="6350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160" y="2320920"/>
              <a:ext cx="61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Grouped)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2520" y="2457360"/>
              <a:ext cx="6364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6360" y="2502000"/>
              <a:ext cx="103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J's Luncheonett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46600" y="250200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meric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93600" y="250200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10440" y="250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43520" y="25066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99880" y="2502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03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12880" y="25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70080" y="25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9960" y="25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95600" y="250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30680" y="25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45160" y="2502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15440" y="250200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1920" y="2502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80" y="2664000"/>
              <a:ext cx="123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a Lanterna di Vittorio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46600" y="266400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93600" y="266400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10440" y="2668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43520" y="26686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2960" y="2664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2880" y="266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70080" y="266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39960" y="266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5600" y="2664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30680" y="266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45160" y="2664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15440" y="266400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41920" y="2664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8520" y="282744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apor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6600" y="282744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93600" y="282744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10440" y="28321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43520" y="28321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2960" y="2827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12880" y="282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70080" y="282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39960" y="282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600" y="2827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30680" y="282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45160" y="2827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15440" y="282744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41920" y="2827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9240" y="298944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isotteri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46600" y="298944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93600" y="298944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0440" y="29941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3520" y="29941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72960" y="298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12880" y="29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70080" y="29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39960" y="29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95600" y="298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30680" y="29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45160" y="2989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15440" y="298944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41920" y="2989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8160" y="315288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&amp;T Restaurant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46600" y="315288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93240" y="315288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arlem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440" y="31575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43520" y="31575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2960" y="3152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12880" y="3152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43160" y="31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9960" y="3152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5600" y="31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30680" y="3152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45160" y="3152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5440" y="31528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41920" y="31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8160" y="3314880"/>
              <a:ext cx="84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ohn's Pizzeri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6600" y="331488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3600" y="331488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10440" y="33195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43520" y="33195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2960" y="331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12880" y="331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70080" y="331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9960" y="331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5600" y="33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30680" y="331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45160" y="3314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15440" y="33148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41920" y="3314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9240" y="3478320"/>
              <a:ext cx="121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izzeria Uno Chicago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46600" y="347832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93600" y="347832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10440" y="3483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3520" y="34830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2960" y="347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2880" y="3478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70080" y="3478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39960" y="3478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95600" y="347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30680" y="3478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45160" y="3478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15440" y="347832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41920" y="3478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8160" y="364176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&amp;T Restaurant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46600" y="364176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93240" y="364176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arlem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10440" y="3645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43520" y="36450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72960" y="3641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12880" y="364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43160" y="364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9960" y="364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95600" y="364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30680" y="364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45160" y="36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15440" y="364176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41920" y="3641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84840" y="2481120"/>
              <a:ext cx="25560" cy="1316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82000" y="2506680"/>
              <a:ext cx="25200" cy="1290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10400" y="2481120"/>
              <a:ext cx="496800" cy="25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88520" y="4433760"/>
            <a:ext cx="8128440" cy="1654560"/>
            <a:chOff x="488520" y="4433760"/>
            <a:chExt cx="8128440" cy="1654560"/>
          </a:xfrm>
        </p:grpSpPr>
        <p:sp>
          <p:nvSpPr>
            <p:cNvPr id="347" name=""/>
            <p:cNvSpPr/>
            <p:nvPr/>
          </p:nvSpPr>
          <p:spPr>
            <a:xfrm>
              <a:off x="488880" y="444168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nster Sushi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46240" y="4441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s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92160" y="444168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else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10440" y="4446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43520" y="44467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2960" y="4441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2880" y="444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70080" y="444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39960" y="444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95600" y="444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30680" y="444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5160" y="44416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15440" y="44416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41920" y="444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8880" y="460548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nster Sushi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6240" y="4605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s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93600" y="460548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0440" y="46083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43520" y="46083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72960" y="4605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2880" y="4605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0080" y="4605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39960" y="4605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5600" y="460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30680" y="4605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45160" y="4605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15440" y="46054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41920" y="4605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8520" y="476712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ae Dong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46240" y="4767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s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92160" y="476712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else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10440" y="47721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43520" y="47721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2960" y="4767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12880" y="476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70080" y="476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39960" y="476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95600" y="4767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59040" y="4767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2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16360" y="4767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3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15440" y="476712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05560" y="4767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9600" y="4930920"/>
              <a:ext cx="92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exicana Mam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46240" y="493092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exic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93600" y="493092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10440" y="4935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43520" y="4935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72960" y="4930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12880" y="493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70080" y="493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39960" y="493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95600" y="493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30680" y="493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45160" y="49309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15440" y="493092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41920" y="493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9600" y="5092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io Mar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45880" y="50925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panish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93600" y="509256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10440" y="5097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520" y="5097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99880" y="5092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7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12880" y="509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70080" y="509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39960" y="509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95600" y="5092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30680" y="509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45160" y="509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15440" y="509256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41920" y="5092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9600" y="525312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io Mar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45880" y="52531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panish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93600" y="525312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10440" y="5245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4352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99880" y="5253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7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12880" y="525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70080" y="525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39960" y="525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95600" y="525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30680" y="525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45160" y="5253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15440" y="525312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41920" y="5253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95600" y="559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75320" y="5597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16360" y="559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6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5440" y="559764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05560" y="5597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23360" y="577224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45880" y="577224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&lt;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5600" y="593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3320" y="5935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84840" y="4433760"/>
              <a:ext cx="25560" cy="998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2000" y="4433760"/>
              <a:ext cx="25200" cy="998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34440" y="5580000"/>
              <a:ext cx="25200" cy="196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91400" y="5605560"/>
              <a:ext cx="2556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10400" y="5407200"/>
              <a:ext cx="496800" cy="25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9640" y="5580000"/>
              <a:ext cx="105732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59640" y="5751360"/>
              <a:ext cx="105732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664240" y="5487840"/>
              <a:ext cx="1073160" cy="238320"/>
              <a:chOff x="5664240" y="5487840"/>
              <a:chExt cx="1073160" cy="238320"/>
            </a:xfrm>
          </p:grpSpPr>
          <p:sp>
            <p:nvSpPr>
              <p:cNvPr id="448" name=""/>
              <p:cNvSpPr/>
              <p:nvPr/>
            </p:nvSpPr>
            <p:spPr>
              <a:xfrm>
                <a:off x="5689440" y="5514840"/>
                <a:ext cx="1047960" cy="211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64240" y="5487840"/>
                <a:ext cx="1046160" cy="2127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64240" y="5487840"/>
                <a:ext cx="1046160" cy="2127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718600" y="5494320"/>
              <a:ext cx="753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=SUM(M2:M97)</a:t>
              </a: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601040" y="5843520"/>
              <a:ext cx="969840" cy="208080"/>
              <a:chOff x="7601040" y="5843520"/>
              <a:chExt cx="969840" cy="208080"/>
            </a:xfrm>
          </p:grpSpPr>
          <p:sp>
            <p:nvSpPr>
              <p:cNvPr id="453" name=""/>
              <p:cNvSpPr/>
              <p:nvPr/>
            </p:nvSpPr>
            <p:spPr>
              <a:xfrm>
                <a:off x="7628040" y="5870520"/>
                <a:ext cx="942840" cy="18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601040" y="5843520"/>
                <a:ext cx="944640" cy="1825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01040" y="5843520"/>
                <a:ext cx="944640" cy="1825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7656120" y="5850000"/>
              <a:ext cx="72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=SUM(N2:N97)</a:t>
              </a: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7559640" y="5356080"/>
              <a:ext cx="1003320" cy="179640"/>
              <a:chOff x="7559640" y="5356080"/>
              <a:chExt cx="1003320" cy="179640"/>
            </a:xfrm>
          </p:grpSpPr>
          <p:sp>
            <p:nvSpPr>
              <p:cNvPr id="458" name=""/>
              <p:cNvSpPr/>
              <p:nvPr/>
            </p:nvSpPr>
            <p:spPr>
              <a:xfrm>
                <a:off x="7586640" y="5381640"/>
                <a:ext cx="976320" cy="154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559640" y="5356080"/>
                <a:ext cx="976320" cy="1526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59640" y="5356080"/>
                <a:ext cx="976320" cy="1526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7617960" y="5361120"/>
              <a:ext cx="72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=SUM(O2:O97)</a:t>
              </a: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4481640" y="4541760"/>
              <a:ext cx="3448080" cy="189000"/>
              <a:chOff x="4481640" y="4541760"/>
              <a:chExt cx="3448080" cy="189000"/>
            </a:xfrm>
          </p:grpSpPr>
          <p:sp>
            <p:nvSpPr>
              <p:cNvPr id="463" name=""/>
              <p:cNvSpPr/>
              <p:nvPr/>
            </p:nvSpPr>
            <p:spPr>
              <a:xfrm>
                <a:off x="4506840" y="4568760"/>
                <a:ext cx="342288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81640" y="4541760"/>
                <a:ext cx="3421080" cy="1634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481640" y="4541760"/>
                <a:ext cx="3421080" cy="163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488840" y="4548240"/>
              <a:ext cx="2987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=+M95*(SUMPRODUCT(I95:K95,inputs!$H$11:$J$11)+H95*100)</a:t>
              </a: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6705360" y="548604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457200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"/>
          <p:cNvSpPr/>
          <p:nvPr/>
        </p:nvSpPr>
        <p:spPr>
          <a:xfrm>
            <a:off x="7543800" y="57913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2194920" y="224964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isin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"/>
          <p:cNvSpPr/>
          <p:nvPr/>
        </p:nvSpPr>
        <p:spPr>
          <a:xfrm>
            <a:off x="2195640" y="2406600"/>
            <a:ext cx="5508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"/>
          <p:cNvSpPr/>
          <p:nvPr/>
        </p:nvSpPr>
        <p:spPr>
          <a:xfrm>
            <a:off x="3061440" y="224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4" name=""/>
          <p:cNvSpPr/>
          <p:nvPr/>
        </p:nvSpPr>
        <p:spPr>
          <a:xfrm>
            <a:off x="3062160" y="2406600"/>
            <a:ext cx="8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"/>
          <p:cNvSpPr/>
          <p:nvPr/>
        </p:nvSpPr>
        <p:spPr>
          <a:xfrm>
            <a:off x="6426360" y="22496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"/>
          <p:cNvSpPr/>
          <p:nvPr/>
        </p:nvSpPr>
        <p:spPr>
          <a:xfrm>
            <a:off x="6426360" y="2406600"/>
            <a:ext cx="636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7" name=""/>
          <p:cNvSpPr/>
          <p:nvPr/>
        </p:nvSpPr>
        <p:spPr>
          <a:xfrm>
            <a:off x="7365240" y="224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365960" y="2406600"/>
            <a:ext cx="8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9" name=""/>
          <p:cNvSpPr/>
          <p:nvPr/>
        </p:nvSpPr>
        <p:spPr>
          <a:xfrm>
            <a:off x="2192760" y="2654280"/>
            <a:ext cx="4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gh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0" name=""/>
          <p:cNvSpPr/>
          <p:nvPr/>
        </p:nvSpPr>
        <p:spPr>
          <a:xfrm>
            <a:off x="3328200" y="265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1" name=""/>
          <p:cNvSpPr/>
          <p:nvPr/>
        </p:nvSpPr>
        <p:spPr>
          <a:xfrm>
            <a:off x="3471840" y="26542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2" name=""/>
          <p:cNvSpPr/>
          <p:nvPr/>
        </p:nvSpPr>
        <p:spPr>
          <a:xfrm>
            <a:off x="4145760" y="265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"/>
          <p:cNvSpPr/>
          <p:nvPr/>
        </p:nvSpPr>
        <p:spPr>
          <a:xfrm>
            <a:off x="6424920" y="26542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4" name=""/>
          <p:cNvSpPr/>
          <p:nvPr/>
        </p:nvSpPr>
        <p:spPr>
          <a:xfrm>
            <a:off x="7644600" y="265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5" name=""/>
          <p:cNvSpPr/>
          <p:nvPr/>
        </p:nvSpPr>
        <p:spPr>
          <a:xfrm>
            <a:off x="7788240" y="26542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6" name=""/>
          <p:cNvSpPr/>
          <p:nvPr/>
        </p:nvSpPr>
        <p:spPr>
          <a:xfrm>
            <a:off x="8489160" y="265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2194200" y="284472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8" name=""/>
          <p:cNvSpPr/>
          <p:nvPr/>
        </p:nvSpPr>
        <p:spPr>
          <a:xfrm>
            <a:off x="3328200" y="2844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9" name=""/>
          <p:cNvSpPr/>
          <p:nvPr/>
        </p:nvSpPr>
        <p:spPr>
          <a:xfrm>
            <a:off x="3471840" y="2844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0" name=""/>
          <p:cNvSpPr/>
          <p:nvPr/>
        </p:nvSpPr>
        <p:spPr>
          <a:xfrm>
            <a:off x="4145760" y="2844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1" name=""/>
          <p:cNvSpPr/>
          <p:nvPr/>
        </p:nvSpPr>
        <p:spPr>
          <a:xfrm>
            <a:off x="6424200" y="284472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okly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7644600" y="2844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3" name=""/>
          <p:cNvSpPr/>
          <p:nvPr/>
        </p:nvSpPr>
        <p:spPr>
          <a:xfrm>
            <a:off x="7788240" y="2844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4" name=""/>
          <p:cNvSpPr/>
          <p:nvPr/>
        </p:nvSpPr>
        <p:spPr>
          <a:xfrm>
            <a:off x="8489160" y="2844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5" name=""/>
          <p:cNvSpPr/>
          <p:nvPr/>
        </p:nvSpPr>
        <p:spPr>
          <a:xfrm>
            <a:off x="2193480" y="303372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"/>
          <p:cNvSpPr/>
          <p:nvPr/>
        </p:nvSpPr>
        <p:spPr>
          <a:xfrm>
            <a:off x="3328200" y="3033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7" name=""/>
          <p:cNvSpPr/>
          <p:nvPr/>
        </p:nvSpPr>
        <p:spPr>
          <a:xfrm>
            <a:off x="3471840" y="3033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8" name=""/>
          <p:cNvSpPr/>
          <p:nvPr/>
        </p:nvSpPr>
        <p:spPr>
          <a:xfrm>
            <a:off x="4145760" y="3033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9" name=""/>
          <p:cNvSpPr/>
          <p:nvPr/>
        </p:nvSpPr>
        <p:spPr>
          <a:xfrm>
            <a:off x="6423480" y="3033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lsea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7644600" y="3033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"/>
          <p:cNvSpPr/>
          <p:nvPr/>
        </p:nvSpPr>
        <p:spPr>
          <a:xfrm>
            <a:off x="7788240" y="3033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2" name=""/>
          <p:cNvSpPr/>
          <p:nvPr/>
        </p:nvSpPr>
        <p:spPr>
          <a:xfrm>
            <a:off x="8489160" y="3033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3" name=""/>
          <p:cNvSpPr/>
          <p:nvPr/>
        </p:nvSpPr>
        <p:spPr>
          <a:xfrm>
            <a:off x="2193840" y="322272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"/>
          <p:cNvSpPr/>
          <p:nvPr/>
        </p:nvSpPr>
        <p:spPr>
          <a:xfrm>
            <a:off x="3328200" y="322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5" name=""/>
          <p:cNvSpPr/>
          <p:nvPr/>
        </p:nvSpPr>
        <p:spPr>
          <a:xfrm>
            <a:off x="3471840" y="3222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6" name=""/>
          <p:cNvSpPr/>
          <p:nvPr/>
        </p:nvSpPr>
        <p:spPr>
          <a:xfrm>
            <a:off x="4145760" y="322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7" name=""/>
          <p:cNvSpPr/>
          <p:nvPr/>
        </p:nvSpPr>
        <p:spPr>
          <a:xfrm>
            <a:off x="6422760" y="322272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natow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"/>
          <p:cNvSpPr/>
          <p:nvPr/>
        </p:nvSpPr>
        <p:spPr>
          <a:xfrm>
            <a:off x="7644600" y="322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"/>
          <p:cNvSpPr/>
          <p:nvPr/>
        </p:nvSpPr>
        <p:spPr>
          <a:xfrm>
            <a:off x="7788240" y="3222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"/>
          <p:cNvSpPr/>
          <p:nvPr/>
        </p:nvSpPr>
        <p:spPr>
          <a:xfrm>
            <a:off x="8489160" y="322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1" name=""/>
          <p:cNvSpPr/>
          <p:nvPr/>
        </p:nvSpPr>
        <p:spPr>
          <a:xfrm>
            <a:off x="2192760" y="341136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"/>
          <p:cNvSpPr/>
          <p:nvPr/>
        </p:nvSpPr>
        <p:spPr>
          <a:xfrm>
            <a:off x="3328200" y="341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3471840" y="3411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4" name=""/>
          <p:cNvSpPr/>
          <p:nvPr/>
        </p:nvSpPr>
        <p:spPr>
          <a:xfrm>
            <a:off x="4145760" y="341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6423480" y="341136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wntow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6" name=""/>
          <p:cNvSpPr/>
          <p:nvPr/>
        </p:nvSpPr>
        <p:spPr>
          <a:xfrm>
            <a:off x="7644600" y="341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7" name=""/>
          <p:cNvSpPr/>
          <p:nvPr/>
        </p:nvSpPr>
        <p:spPr>
          <a:xfrm>
            <a:off x="7788240" y="3411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8" name=""/>
          <p:cNvSpPr/>
          <p:nvPr/>
        </p:nvSpPr>
        <p:spPr>
          <a:xfrm>
            <a:off x="8489160" y="341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9" name=""/>
          <p:cNvSpPr/>
          <p:nvPr/>
        </p:nvSpPr>
        <p:spPr>
          <a:xfrm>
            <a:off x="2193480" y="360036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0" name=""/>
          <p:cNvSpPr/>
          <p:nvPr/>
        </p:nvSpPr>
        <p:spPr>
          <a:xfrm>
            <a:off x="3328200" y="3600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" name=""/>
          <p:cNvSpPr/>
          <p:nvPr/>
        </p:nvSpPr>
        <p:spPr>
          <a:xfrm>
            <a:off x="3471840" y="3600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" name=""/>
          <p:cNvSpPr/>
          <p:nvPr/>
        </p:nvSpPr>
        <p:spPr>
          <a:xfrm>
            <a:off x="4145760" y="3600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" name=""/>
          <p:cNvSpPr/>
          <p:nvPr/>
        </p:nvSpPr>
        <p:spPr>
          <a:xfrm>
            <a:off x="6422760" y="3600360"/>
            <a:ext cx="80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st Villag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"/>
          <p:cNvSpPr/>
          <p:nvPr/>
        </p:nvSpPr>
        <p:spPr>
          <a:xfrm>
            <a:off x="7644600" y="3600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" name=""/>
          <p:cNvSpPr/>
          <p:nvPr/>
        </p:nvSpPr>
        <p:spPr>
          <a:xfrm>
            <a:off x="7788240" y="3600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" name=""/>
          <p:cNvSpPr/>
          <p:nvPr/>
        </p:nvSpPr>
        <p:spPr>
          <a:xfrm>
            <a:off x="8489160" y="3600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"/>
          <p:cNvSpPr/>
          <p:nvPr/>
        </p:nvSpPr>
        <p:spPr>
          <a:xfrm>
            <a:off x="2192400" y="3789360"/>
            <a:ext cx="51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g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" name=""/>
          <p:cNvSpPr/>
          <p:nvPr/>
        </p:nvSpPr>
        <p:spPr>
          <a:xfrm>
            <a:off x="3328200" y="378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" name=""/>
          <p:cNvSpPr/>
          <p:nvPr/>
        </p:nvSpPr>
        <p:spPr>
          <a:xfrm>
            <a:off x="3471840" y="3789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" name=""/>
          <p:cNvSpPr/>
          <p:nvPr/>
        </p:nvSpPr>
        <p:spPr>
          <a:xfrm>
            <a:off x="4145760" y="378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" name=""/>
          <p:cNvSpPr/>
          <p:nvPr/>
        </p:nvSpPr>
        <p:spPr>
          <a:xfrm>
            <a:off x="6425640" y="378936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ercy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" name=""/>
          <p:cNvSpPr/>
          <p:nvPr/>
        </p:nvSpPr>
        <p:spPr>
          <a:xfrm>
            <a:off x="7644600" y="378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" name=""/>
          <p:cNvSpPr/>
          <p:nvPr/>
        </p:nvSpPr>
        <p:spPr>
          <a:xfrm>
            <a:off x="7788240" y="3789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8489160" y="378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" name=""/>
          <p:cNvSpPr/>
          <p:nvPr/>
        </p:nvSpPr>
        <p:spPr>
          <a:xfrm>
            <a:off x="2191680" y="3978360"/>
            <a:ext cx="70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bbe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" name=""/>
          <p:cNvSpPr/>
          <p:nvPr/>
        </p:nvSpPr>
        <p:spPr>
          <a:xfrm>
            <a:off x="3328200" y="397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" name=""/>
          <p:cNvSpPr/>
          <p:nvPr/>
        </p:nvSpPr>
        <p:spPr>
          <a:xfrm>
            <a:off x="3471840" y="3978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8" name=""/>
          <p:cNvSpPr/>
          <p:nvPr/>
        </p:nvSpPr>
        <p:spPr>
          <a:xfrm>
            <a:off x="4145760" y="397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9" name=""/>
          <p:cNvSpPr/>
          <p:nvPr/>
        </p:nvSpPr>
        <p:spPr>
          <a:xfrm>
            <a:off x="6425280" y="3978360"/>
            <a:ext cx="4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lem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0" name=""/>
          <p:cNvSpPr/>
          <p:nvPr/>
        </p:nvSpPr>
        <p:spPr>
          <a:xfrm>
            <a:off x="7644600" y="397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1" name=""/>
          <p:cNvSpPr/>
          <p:nvPr/>
        </p:nvSpPr>
        <p:spPr>
          <a:xfrm>
            <a:off x="7788240" y="3978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2" name=""/>
          <p:cNvSpPr/>
          <p:nvPr/>
        </p:nvSpPr>
        <p:spPr>
          <a:xfrm>
            <a:off x="8489160" y="397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3" name=""/>
          <p:cNvSpPr/>
          <p:nvPr/>
        </p:nvSpPr>
        <p:spPr>
          <a:xfrm>
            <a:off x="2194200" y="416736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4" name=""/>
          <p:cNvSpPr/>
          <p:nvPr/>
        </p:nvSpPr>
        <p:spPr>
          <a:xfrm>
            <a:off x="3328200" y="4167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5" name=""/>
          <p:cNvSpPr/>
          <p:nvPr/>
        </p:nvSpPr>
        <p:spPr>
          <a:xfrm>
            <a:off x="3471840" y="4167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6" name=""/>
          <p:cNvSpPr/>
          <p:nvPr/>
        </p:nvSpPr>
        <p:spPr>
          <a:xfrm>
            <a:off x="4145760" y="4167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7" name=""/>
          <p:cNvSpPr/>
          <p:nvPr/>
        </p:nvSpPr>
        <p:spPr>
          <a:xfrm>
            <a:off x="6424200" y="416736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Italy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"/>
          <p:cNvSpPr/>
          <p:nvPr/>
        </p:nvSpPr>
        <p:spPr>
          <a:xfrm>
            <a:off x="7644600" y="4167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9" name=""/>
          <p:cNvSpPr/>
          <p:nvPr/>
        </p:nvSpPr>
        <p:spPr>
          <a:xfrm>
            <a:off x="7788240" y="4167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0" name=""/>
          <p:cNvSpPr/>
          <p:nvPr/>
        </p:nvSpPr>
        <p:spPr>
          <a:xfrm>
            <a:off x="8489160" y="4167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1" name=""/>
          <p:cNvSpPr/>
          <p:nvPr/>
        </p:nvSpPr>
        <p:spPr>
          <a:xfrm>
            <a:off x="2190240" y="435600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stern Europe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2" name=""/>
          <p:cNvSpPr/>
          <p:nvPr/>
        </p:nvSpPr>
        <p:spPr>
          <a:xfrm>
            <a:off x="3328200" y="435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3471840" y="4356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4" name=""/>
          <p:cNvSpPr/>
          <p:nvPr/>
        </p:nvSpPr>
        <p:spPr>
          <a:xfrm>
            <a:off x="4145760" y="435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5" name=""/>
          <p:cNvSpPr/>
          <p:nvPr/>
        </p:nvSpPr>
        <p:spPr>
          <a:xfrm>
            <a:off x="6424200" y="435600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dtow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6" name=""/>
          <p:cNvSpPr/>
          <p:nvPr/>
        </p:nvSpPr>
        <p:spPr>
          <a:xfrm>
            <a:off x="7644600" y="435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7" name=""/>
          <p:cNvSpPr/>
          <p:nvPr/>
        </p:nvSpPr>
        <p:spPr>
          <a:xfrm>
            <a:off x="7788240" y="4356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8" name=""/>
          <p:cNvSpPr/>
          <p:nvPr/>
        </p:nvSpPr>
        <p:spPr>
          <a:xfrm>
            <a:off x="8489160" y="435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2192760" y="4545000"/>
            <a:ext cx="59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0" name=""/>
          <p:cNvSpPr/>
          <p:nvPr/>
        </p:nvSpPr>
        <p:spPr>
          <a:xfrm>
            <a:off x="3328200" y="454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1" name=""/>
          <p:cNvSpPr/>
          <p:nvPr/>
        </p:nvSpPr>
        <p:spPr>
          <a:xfrm>
            <a:off x="3471840" y="4545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2" name=""/>
          <p:cNvSpPr/>
          <p:nvPr/>
        </p:nvSpPr>
        <p:spPr>
          <a:xfrm>
            <a:off x="4145760" y="454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3" name=""/>
          <p:cNvSpPr/>
          <p:nvPr/>
        </p:nvSpPr>
        <p:spPr>
          <a:xfrm>
            <a:off x="6423840" y="45450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4" name=""/>
          <p:cNvSpPr/>
          <p:nvPr/>
        </p:nvSpPr>
        <p:spPr>
          <a:xfrm>
            <a:off x="7644600" y="454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5" name=""/>
          <p:cNvSpPr/>
          <p:nvPr/>
        </p:nvSpPr>
        <p:spPr>
          <a:xfrm>
            <a:off x="7788240" y="4545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6" name=""/>
          <p:cNvSpPr/>
          <p:nvPr/>
        </p:nvSpPr>
        <p:spPr>
          <a:xfrm>
            <a:off x="8489160" y="454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7" name=""/>
          <p:cNvSpPr/>
          <p:nvPr/>
        </p:nvSpPr>
        <p:spPr>
          <a:xfrm>
            <a:off x="2193120" y="4735440"/>
            <a:ext cx="50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8" name=""/>
          <p:cNvSpPr/>
          <p:nvPr/>
        </p:nvSpPr>
        <p:spPr>
          <a:xfrm>
            <a:off x="3328200" y="473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9" name=""/>
          <p:cNvSpPr/>
          <p:nvPr/>
        </p:nvSpPr>
        <p:spPr>
          <a:xfrm>
            <a:off x="3471840" y="4735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0" name=""/>
          <p:cNvSpPr/>
          <p:nvPr/>
        </p:nvSpPr>
        <p:spPr>
          <a:xfrm>
            <a:off x="4145760" y="473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1" name=""/>
          <p:cNvSpPr/>
          <p:nvPr/>
        </p:nvSpPr>
        <p:spPr>
          <a:xfrm>
            <a:off x="6424200" y="473544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2" name=""/>
          <p:cNvSpPr/>
          <p:nvPr/>
        </p:nvSpPr>
        <p:spPr>
          <a:xfrm>
            <a:off x="7644600" y="473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3" name=""/>
          <p:cNvSpPr/>
          <p:nvPr/>
        </p:nvSpPr>
        <p:spPr>
          <a:xfrm>
            <a:off x="7788240" y="4735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4" name=""/>
          <p:cNvSpPr/>
          <p:nvPr/>
        </p:nvSpPr>
        <p:spPr>
          <a:xfrm>
            <a:off x="8489160" y="473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5" name=""/>
          <p:cNvSpPr/>
          <p:nvPr/>
        </p:nvSpPr>
        <p:spPr>
          <a:xfrm>
            <a:off x="2194200" y="492444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6" name=""/>
          <p:cNvSpPr/>
          <p:nvPr/>
        </p:nvSpPr>
        <p:spPr>
          <a:xfrm>
            <a:off x="3328200" y="492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7" name=""/>
          <p:cNvSpPr/>
          <p:nvPr/>
        </p:nvSpPr>
        <p:spPr>
          <a:xfrm>
            <a:off x="3471840" y="4924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8" name=""/>
          <p:cNvSpPr/>
          <p:nvPr/>
        </p:nvSpPr>
        <p:spPr>
          <a:xfrm>
            <a:off x="4145760" y="492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9" name=""/>
          <p:cNvSpPr/>
          <p:nvPr/>
        </p:nvSpPr>
        <p:spPr>
          <a:xfrm>
            <a:off x="6422400" y="4924440"/>
            <a:ext cx="89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n Island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0" name=""/>
          <p:cNvSpPr/>
          <p:nvPr/>
        </p:nvSpPr>
        <p:spPr>
          <a:xfrm>
            <a:off x="7644600" y="492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1" name=""/>
          <p:cNvSpPr/>
          <p:nvPr/>
        </p:nvSpPr>
        <p:spPr>
          <a:xfrm>
            <a:off x="7788240" y="4924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8489160" y="492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3" name=""/>
          <p:cNvSpPr/>
          <p:nvPr/>
        </p:nvSpPr>
        <p:spPr>
          <a:xfrm>
            <a:off x="2194200" y="511344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4" name=""/>
          <p:cNvSpPr/>
          <p:nvPr/>
        </p:nvSpPr>
        <p:spPr>
          <a:xfrm>
            <a:off x="33282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5" name=""/>
          <p:cNvSpPr/>
          <p:nvPr/>
        </p:nvSpPr>
        <p:spPr>
          <a:xfrm>
            <a:off x="3471840" y="5113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6" name=""/>
          <p:cNvSpPr/>
          <p:nvPr/>
        </p:nvSpPr>
        <p:spPr>
          <a:xfrm>
            <a:off x="414576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7" name=""/>
          <p:cNvSpPr/>
          <p:nvPr/>
        </p:nvSpPr>
        <p:spPr>
          <a:xfrm>
            <a:off x="6424920" y="51134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Ca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8" name=""/>
          <p:cNvSpPr/>
          <p:nvPr/>
        </p:nvSpPr>
        <p:spPr>
          <a:xfrm>
            <a:off x="76446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9" name=""/>
          <p:cNvSpPr/>
          <p:nvPr/>
        </p:nvSpPr>
        <p:spPr>
          <a:xfrm>
            <a:off x="7788240" y="5113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0" name=""/>
          <p:cNvSpPr/>
          <p:nvPr/>
        </p:nvSpPr>
        <p:spPr>
          <a:xfrm>
            <a:off x="848916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1" name=""/>
          <p:cNvSpPr/>
          <p:nvPr/>
        </p:nvSpPr>
        <p:spPr>
          <a:xfrm>
            <a:off x="2194560" y="530208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2" name=""/>
          <p:cNvSpPr/>
          <p:nvPr/>
        </p:nvSpPr>
        <p:spPr>
          <a:xfrm>
            <a:off x="3328200" y="53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3" name=""/>
          <p:cNvSpPr/>
          <p:nvPr/>
        </p:nvSpPr>
        <p:spPr>
          <a:xfrm>
            <a:off x="3471840" y="5302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4" name=""/>
          <p:cNvSpPr/>
          <p:nvPr/>
        </p:nvSpPr>
        <p:spPr>
          <a:xfrm>
            <a:off x="4145760" y="53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5" name=""/>
          <p:cNvSpPr/>
          <p:nvPr/>
        </p:nvSpPr>
        <p:spPr>
          <a:xfrm>
            <a:off x="6423840" y="53020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per East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6" name=""/>
          <p:cNvSpPr/>
          <p:nvPr/>
        </p:nvSpPr>
        <p:spPr>
          <a:xfrm>
            <a:off x="7644600" y="53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7" name=""/>
          <p:cNvSpPr/>
          <p:nvPr/>
        </p:nvSpPr>
        <p:spPr>
          <a:xfrm>
            <a:off x="7788240" y="5302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8" name=""/>
          <p:cNvSpPr/>
          <p:nvPr/>
        </p:nvSpPr>
        <p:spPr>
          <a:xfrm>
            <a:off x="8489160" y="53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9" name=""/>
          <p:cNvSpPr/>
          <p:nvPr/>
        </p:nvSpPr>
        <p:spPr>
          <a:xfrm>
            <a:off x="2192760" y="549108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0" name=""/>
          <p:cNvSpPr/>
          <p:nvPr/>
        </p:nvSpPr>
        <p:spPr>
          <a:xfrm>
            <a:off x="3328200" y="54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3471840" y="5491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2" name=""/>
          <p:cNvSpPr/>
          <p:nvPr/>
        </p:nvSpPr>
        <p:spPr>
          <a:xfrm>
            <a:off x="4145760" y="54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3" name=""/>
          <p:cNvSpPr/>
          <p:nvPr/>
        </p:nvSpPr>
        <p:spPr>
          <a:xfrm>
            <a:off x="6424560" y="5491080"/>
            <a:ext cx="8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per West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4" name=""/>
          <p:cNvSpPr/>
          <p:nvPr/>
        </p:nvSpPr>
        <p:spPr>
          <a:xfrm>
            <a:off x="7644600" y="54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5" name=""/>
          <p:cNvSpPr/>
          <p:nvPr/>
        </p:nvSpPr>
        <p:spPr>
          <a:xfrm>
            <a:off x="7788240" y="5491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6" name=""/>
          <p:cNvSpPr/>
          <p:nvPr/>
        </p:nvSpPr>
        <p:spPr>
          <a:xfrm>
            <a:off x="8489160" y="54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7" name=""/>
          <p:cNvSpPr/>
          <p:nvPr/>
        </p:nvSpPr>
        <p:spPr>
          <a:xfrm>
            <a:off x="2194920" y="56800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ish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8" name=""/>
          <p:cNvSpPr/>
          <p:nvPr/>
        </p:nvSpPr>
        <p:spPr>
          <a:xfrm>
            <a:off x="3328200" y="5680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9" name=""/>
          <p:cNvSpPr/>
          <p:nvPr/>
        </p:nvSpPr>
        <p:spPr>
          <a:xfrm>
            <a:off x="3471840" y="5680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0" name=""/>
          <p:cNvSpPr/>
          <p:nvPr/>
        </p:nvSpPr>
        <p:spPr>
          <a:xfrm>
            <a:off x="4145760" y="5680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1" name=""/>
          <p:cNvSpPr/>
          <p:nvPr/>
        </p:nvSpPr>
        <p:spPr>
          <a:xfrm>
            <a:off x="6423840" y="5683320"/>
            <a:ext cx="45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lag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7644600" y="5680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3" name=""/>
          <p:cNvSpPr/>
          <p:nvPr/>
        </p:nvSpPr>
        <p:spPr>
          <a:xfrm>
            <a:off x="7788240" y="5680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4" name=""/>
          <p:cNvSpPr/>
          <p:nvPr/>
        </p:nvSpPr>
        <p:spPr>
          <a:xfrm>
            <a:off x="8489160" y="5680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89080" y="2459160"/>
            <a:ext cx="2755800" cy="186840"/>
            <a:chOff x="289080" y="2459160"/>
            <a:chExt cx="2755800" cy="186840"/>
          </a:xfrm>
        </p:grpSpPr>
        <p:sp>
          <p:nvSpPr>
            <p:cNvPr id="616" name=""/>
            <p:cNvSpPr/>
            <p:nvPr/>
          </p:nvSpPr>
          <p:spPr>
            <a:xfrm>
              <a:off x="318960" y="2490840"/>
              <a:ext cx="2725920" cy="155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9080" y="2459160"/>
              <a:ext cx="2725560" cy="15696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9080" y="2459160"/>
              <a:ext cx="2725560" cy="15696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82240" y="2465280"/>
            <a:ext cx="251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VLOOKUP(D2,grouped!$H$2:$I$32,2)*M2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133800" y="2448000"/>
            <a:ext cx="2270160" cy="198000"/>
            <a:chOff x="3133800" y="2448000"/>
            <a:chExt cx="2270160" cy="198000"/>
          </a:xfrm>
        </p:grpSpPr>
        <p:sp>
          <p:nvSpPr>
            <p:cNvPr id="621" name=""/>
            <p:cNvSpPr/>
            <p:nvPr/>
          </p:nvSpPr>
          <p:spPr>
            <a:xfrm>
              <a:off x="3164040" y="2479680"/>
              <a:ext cx="2239920" cy="16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33800" y="2448000"/>
              <a:ext cx="2239920" cy="16812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33800" y="2448000"/>
              <a:ext cx="2239920" cy="1681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3143520" y="2454120"/>
            <a:ext cx="211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COUNTIF($Q$2:$Q$97,grouped!I2)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421160" y="3270240"/>
            <a:ext cx="2925720" cy="231840"/>
            <a:chOff x="4421160" y="3270240"/>
            <a:chExt cx="2925720" cy="231840"/>
          </a:xfrm>
        </p:grpSpPr>
        <p:sp>
          <p:nvSpPr>
            <p:cNvPr id="626" name=""/>
            <p:cNvSpPr/>
            <p:nvPr/>
          </p:nvSpPr>
          <p:spPr>
            <a:xfrm>
              <a:off x="4452840" y="3301920"/>
              <a:ext cx="2894040" cy="20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21160" y="3270240"/>
              <a:ext cx="2895480" cy="19980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21160" y="3270240"/>
              <a:ext cx="2895480" cy="19980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419720" y="3276720"/>
            <a:ext cx="24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VLOOKUP(E3,grouped!$K$2:$L$18,2)*M3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314840" y="2666880"/>
            <a:ext cx="3049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4267080" y="2666880"/>
            <a:ext cx="6098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2819160" y="2666880"/>
            <a:ext cx="5331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16765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isine &amp; location constrai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219320" y="2263680"/>
            <a:ext cx="7238880" cy="38322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taurant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Monde, Supreme Macaroni, Rio Ma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1625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1290600" y="2303640"/>
            <a:ext cx="2600280" cy="34686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789200" cy="19810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5486400" y="1600200"/>
            <a:ext cx="2895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ME    R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43" name=""/>
          <p:cNvSpPr/>
          <p:nvPr/>
        </p:nvSpPr>
        <p:spPr>
          <a:xfrm>
            <a:off x="4191120" y="365760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sentation 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rial Problem Defin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 (Data collection, downsizing by grouping, filtering, attaching weigh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Methodology: 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nagerial 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ving in New York City and being singles, we enjoy the dating sc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ly, our first dates include an invitation to a nice restaurant and then a few drinks at a nice lou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as poor students at Stern, we quickly realized that we needed to strategize our dating pla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’t afford the fancy restaurants we were used to when we were working but we still want to be able to go on a date on a regular bas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current situation is as follow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have three dates scheduled in the upcoming mon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can’t afford  to spend too much mone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still want to enjoy it and have successful d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optimize our dating plans? i.e. how to find the perfect restaurant for the perfect d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nagerial 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w preliminary inputs to our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we are poor and somehow cheap, we decided to have dinner in the neighborhood of our date (we don’t need to pay for the taxi r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limit expenses ($ 100/person/3 dates) (wine exclud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don’t want to have dinner in the same neighborhood twice or eat the same type of cuisine twice. It’s not good for our balanced di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2286000"/>
            <a:ext cx="1809720" cy="1363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315200" y="2590920"/>
            <a:ext cx="13716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6668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1598760" cy="1095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15256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sizing the data set (no more than 2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ing th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by location and price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ata Collec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 raw data from Zagat’s web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ubbed and formatted data into useful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grouped data for location and cuis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4496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ering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09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inputs use Excel Advanced Filter to reduce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505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25146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jective Fun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 “Utilit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(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+ Décor (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+ Service (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+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uc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s attached to Food, Décor,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1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2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ess rate 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ucce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ttached to each cuis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: 3%, French, Turkish, Greek, Indian: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ccess R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45760" y="1598760"/>
            <a:ext cx="5940720" cy="4723920"/>
            <a:chOff x="1445760" y="1598760"/>
            <a:chExt cx="5940720" cy="4723920"/>
          </a:xfrm>
        </p:grpSpPr>
        <p:sp>
          <p:nvSpPr>
            <p:cNvPr id="122" name=""/>
            <p:cNvSpPr/>
            <p:nvPr/>
          </p:nvSpPr>
          <p:spPr>
            <a:xfrm>
              <a:off x="1448640" y="159876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uisin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7920" y="1843920"/>
              <a:ext cx="85680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48520" y="1598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49240" y="1843920"/>
              <a:ext cx="1569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06200" y="1682640"/>
              <a:ext cx="55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uccess</a:t>
              </a:r>
              <a:endParaRPr b="0" lang="en-US" sz="11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06200" y="1843920"/>
              <a:ext cx="6285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8720" y="159876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uisin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8000" y="1843920"/>
              <a:ext cx="85500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68920" y="1598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69640" y="1843920"/>
              <a:ext cx="1569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26960" y="1699560"/>
              <a:ext cx="55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uccess</a:t>
              </a:r>
              <a:endParaRPr b="0" lang="en-US" sz="11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26960" y="1843920"/>
              <a:ext cx="6285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200" y="192096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fgh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91400" y="19209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7280" y="19209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r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80400" y="19209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560" y="221580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fric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59280" y="22158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6920" y="22158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80400" y="22158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7200" y="2512440"/>
              <a:ext cx="85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eric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1040" y="251244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86200" y="2512440"/>
              <a:ext cx="62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ew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0400" y="25124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6480" y="280908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s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9280" y="28090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87280" y="28090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ti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80400" y="28090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6480" y="310572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ustral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9280" y="3105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6200" y="31057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lays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80400" y="3105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5760" y="3402360"/>
              <a:ext cx="67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elg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9280" y="34023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88720" y="3402360"/>
              <a:ext cx="130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diterrane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0400" y="34023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200" y="369900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ribbe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59280" y="36990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6560" y="3699000"/>
              <a:ext cx="75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xic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80400" y="36990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7920" y="399744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utc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9280" y="39974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87280" y="3997440"/>
              <a:ext cx="13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ddle Easter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80400" y="39974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7920" y="4292280"/>
              <a:ext cx="163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astern Europe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9280" y="42922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87640" y="4292280"/>
              <a:ext cx="103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rtugues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0400" y="42922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6840" y="458892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gypt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9280" y="45889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86200" y="458892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uss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0400" y="45889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6120" y="4885560"/>
              <a:ext cx="66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l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9280" y="4885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84760" y="4885560"/>
              <a:ext cx="1221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candinav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80400" y="4885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47920" y="51822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renc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9280" y="518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7280" y="5182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afood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0400" y="518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9360" y="547884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rm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59280" y="5478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86200" y="547884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pan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80400" y="5478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9000" y="577368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eek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59280" y="57736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86920" y="577368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urk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80400" y="57736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200" y="6070320"/>
              <a:ext cx="55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d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59280" y="60703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87280" y="6078960"/>
              <a:ext cx="98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egetar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80400" y="60703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0:12:20Z</dcterms:created>
  <dc:creator>Linda Q. Fu</dc:creator>
  <dc:description/>
  <dc:language>en-US</dc:language>
  <cp:lastModifiedBy>Stern School</cp:lastModifiedBy>
  <dcterms:modified xsi:type="dcterms:W3CDTF">2003-04-30T21:28:12Z</dcterms:modified>
  <cp:revision>51</cp:revision>
  <dc:subject/>
  <dc:title>B60.2350 Decision Models</dc:title>
</cp:coreProperties>
</file>