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76120" y="694800"/>
            <a:ext cx="4640040" cy="348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E293F32-F1AE-4662-A7A7-7DF4FB59C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– COGS = G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P – SG&amp;A = EBI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ructure of income statemen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pattern vary substantially due to different traffic flows during the day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levant cost include labor, material, overhead, rent, other SG&amp;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abor varies depending on customer flow, so we use extend to determine number of servers required during different parts of the day for all 3 locat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aterial costs are 30% of revenue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verhead costs are 80% of labor cost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Basic SG&amp;A costs are assumed $20 per hour, rent is incorporated in this numb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Define objective &amp; approach used to resolve this problem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preadsheet models built to achieve the objectiv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commendation 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A group of entrepreneurs looking to obtain franchise from a fast food restaurant chai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alisto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sto MT"/>
              </a:rPr>
              <a:t>Different traffic flows, different costs =&gt; revenue difference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– COGS = G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P – SG&amp;A = EBI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ructure of income statemen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pattern vary substantially due to different traffic flows during the day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levant cost include labor, material, overhead, rent, other SG&amp;A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Labor varies depending on customer flow, so we use extend to determine number of servers required during different parts of the day for all 3 locations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Material costs are 30% of revenue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Overhead costs are 80% of labor costs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Basic SG&amp;A costs are assumed $20 per hour, rent is incorporated in this number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– COGS = GP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GP – SG&amp;A = EBI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Structure of income statemen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Revenue pattern vary substantially due to different traffic flows during the day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1DC-D95E-4AAF-B23B-B121F3E2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0654-EF69-475E-A59F-F045E777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91F0-7209-47D3-BBFC-7DE4F098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6EA-AB9A-49B6-9D24-89EDC2F7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4D06-2AB2-4671-96A5-75604B48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680E-BFA3-4ABA-B908-554750E9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2B7D-0FDE-46C8-A788-760EC7E1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D565-2F93-445C-8B5F-85D86E7C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FED2-39F8-4524-8F33-E36B1C26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103E-8D1B-4D6E-9303-7078775C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529D-32A1-4F70-B632-5E1AD37A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C9BC-4215-447A-9680-AE0DD7D4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A395-2817-4FD0-BE1C-EA3F6193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0769-C464-4802-B429-3785821D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2713-7EA3-40C5-BB41-A44F23C2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B034-D43D-49DE-8F35-98F36251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9AD1-9E52-4412-8E79-F96453D6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A4E-683A-49FB-8BC7-37B77CEA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791-34DB-40DD-B06D-8797186F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303-5740-42DD-AFC2-003F019B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C2B-F69B-4C40-80CE-4802EFF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779-2237-47E5-AB6B-3EBBF772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1AC-18C2-4327-927D-70C7D915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63AB-B918-4D1A-A757-4211F82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AC73-5D56-4427-B3A4-6B753E58F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05AD-6CB1-4AC6-BC96-93C9AB4AD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2854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optimize our dating plan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4724280"/>
            <a:ext cx="281916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hanasios Fassa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livier Gouedard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im Sezer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dul Shroff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9480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cision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nary vari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 or 0 depending on if a restaurant is selected or n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dates: Exactly 3 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dget constraint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≤ $100 per person for all 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uisine more than o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location more than o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86360" y="2152800"/>
            <a:ext cx="7902360" cy="1644480"/>
            <a:chOff x="486360" y="2152800"/>
            <a:chExt cx="7902360" cy="1644480"/>
          </a:xfrm>
        </p:grpSpPr>
        <p:sp>
          <p:nvSpPr>
            <p:cNvPr id="201" name=""/>
            <p:cNvSpPr/>
            <p:nvPr/>
          </p:nvSpPr>
          <p:spPr>
            <a:xfrm>
              <a:off x="488880" y="215280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staurant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880" y="2289240"/>
              <a:ext cx="6858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45880" y="215280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uisin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46240" y="2289240"/>
              <a:ext cx="4730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92160" y="215280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92520" y="2289240"/>
              <a:ext cx="547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19360" y="215280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st$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19360" y="2289240"/>
              <a:ext cx="363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43080" y="215280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$ Ran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43440" y="2289240"/>
              <a:ext cx="5094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56160" y="2152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56160" y="2289240"/>
              <a:ext cx="871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4000" y="221940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Arial"/>
                </a:rPr>
                <a:t>Success</a:t>
              </a:r>
              <a:endParaRPr b="0" lang="en-US" sz="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43280" y="2289240"/>
              <a:ext cx="3556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05160" y="215280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Food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05520" y="2289240"/>
              <a:ext cx="3222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10160" y="21528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écor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10160" y="2289240"/>
              <a:ext cx="3700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5200" y="2152800"/>
              <a:ext cx="44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65920" y="2289240"/>
              <a:ext cx="4665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23000" y="215280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Binary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723000" y="2289240"/>
              <a:ext cx="4050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19800" y="2152800"/>
              <a:ext cx="28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ost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19800" y="2289240"/>
              <a:ext cx="29232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72240" y="215280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otal Scor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72240" y="2289240"/>
              <a:ext cx="71460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46240" y="2320920"/>
              <a:ext cx="61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Grouped)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46240" y="2457360"/>
              <a:ext cx="6350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92160" y="2320920"/>
              <a:ext cx="61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(Grouped)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2520" y="2457360"/>
              <a:ext cx="63648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6360" y="2502000"/>
              <a:ext cx="103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J's Luncheonett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46600" y="250200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meric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93600" y="250200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10440" y="2506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43520" y="25066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99880" y="2502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03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12880" y="25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70080" y="25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39960" y="25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95600" y="2502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30680" y="2502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45160" y="2502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15440" y="250200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41920" y="2502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8880" y="2664000"/>
              <a:ext cx="123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La Lanterna di Vittorio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46600" y="266400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93600" y="266400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10440" y="26686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43520" y="26686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2960" y="26640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2880" y="266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70080" y="266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39960" y="266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5600" y="26640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30680" y="266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45160" y="2664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15440" y="266400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341920" y="26640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88520" y="282744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apor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46600" y="282744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93600" y="282744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10440" y="28321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43520" y="28321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72960" y="2827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12880" y="282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70080" y="282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39960" y="282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600" y="2827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30680" y="2827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45160" y="2827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15440" y="282744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341920" y="2827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9240" y="298944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isotteri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46600" y="298944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93600" y="298944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0440" y="29941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3520" y="29941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72960" y="29894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12880" y="29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70080" y="29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39960" y="29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95600" y="2989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30680" y="2989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45160" y="298944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15440" y="298944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341920" y="2989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8160" y="315288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&amp;T Restaurant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46600" y="315288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93240" y="315288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arlem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440" y="31575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43520" y="31575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2960" y="3152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12880" y="3152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43160" y="31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9960" y="3152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5600" y="3152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30680" y="3152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345160" y="3152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15440" y="31528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341920" y="3152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8160" y="3314880"/>
              <a:ext cx="84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ohn's Pizzeri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6600" y="331488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3600" y="331488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10440" y="33195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43520" y="33195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2960" y="331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12880" y="331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70080" y="331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39960" y="331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5600" y="33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30680" y="331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45160" y="33148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15440" y="33148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41920" y="3314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89240" y="3478320"/>
              <a:ext cx="121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izzeria Uno Chicago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46600" y="347832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93600" y="347832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10440" y="3483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43520" y="34830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72960" y="3478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12880" y="3478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70080" y="3478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39960" y="3478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95600" y="3478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30680" y="3478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45160" y="34783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15440" y="347832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41920" y="3478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8160" y="3641760"/>
              <a:ext cx="90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&amp;T Restaurant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46600" y="3641760"/>
              <a:ext cx="33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93240" y="3641760"/>
              <a:ext cx="40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arlem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10440" y="36450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43520" y="36450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72960" y="36417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12880" y="364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43160" y="364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9960" y="364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95600" y="36417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330680" y="3641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45160" y="36417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615440" y="364176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41920" y="36417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84840" y="2481120"/>
              <a:ext cx="25560" cy="13161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82000" y="2506680"/>
              <a:ext cx="25200" cy="1290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10400" y="2481120"/>
              <a:ext cx="496800" cy="25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88520" y="4433760"/>
            <a:ext cx="8128440" cy="1654560"/>
            <a:chOff x="488520" y="4433760"/>
            <a:chExt cx="8128440" cy="1654560"/>
          </a:xfrm>
        </p:grpSpPr>
        <p:sp>
          <p:nvSpPr>
            <p:cNvPr id="347" name=""/>
            <p:cNvSpPr/>
            <p:nvPr/>
          </p:nvSpPr>
          <p:spPr>
            <a:xfrm>
              <a:off x="488880" y="444168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nster Sushi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46240" y="44416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s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92160" y="444168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else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10440" y="44467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043520" y="44467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2960" y="4441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12880" y="444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70080" y="444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39960" y="444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95600" y="4441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30680" y="4441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5160" y="44416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15440" y="44416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341920" y="4441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8880" y="4605480"/>
              <a:ext cx="80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nster Sushi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6240" y="46054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s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93600" y="460548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0440" y="46083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43520" y="46083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72960" y="4605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12880" y="4605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0080" y="4605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39960" y="4605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5600" y="4605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330680" y="4605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45160" y="46054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15440" y="46054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41920" y="46054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8520" y="476712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ae Dong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46240" y="47671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si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92160" y="476712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else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10440" y="477216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43520" y="47721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2960" y="47671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12880" y="476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70080" y="476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39960" y="4767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95600" y="4767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259040" y="4767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2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16360" y="4767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3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15440" y="476712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05560" y="4767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89600" y="4930920"/>
              <a:ext cx="92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exicana Mama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46240" y="493092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exican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93600" y="493092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10440" y="4935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43520" y="4935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72960" y="4930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12880" y="493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70080" y="493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39960" y="493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95600" y="4930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330680" y="4930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45160" y="49309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15440" y="493092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341920" y="4930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9600" y="5092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io Mar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045880" y="50925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panish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93600" y="509256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10440" y="50976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520" y="5097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799880" y="5092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7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12880" y="509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70080" y="509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39960" y="509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95600" y="5092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30680" y="5092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45160" y="509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15440" y="509256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41920" y="5092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9600" y="525312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io Mar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45880" y="52531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Spanish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93600" y="5253120"/>
              <a:ext cx="37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Village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10440" y="52452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9 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43520" y="5245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$20-29</a:t>
              </a:r>
              <a:endParaRPr b="0" lang="en-US" sz="9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99880" y="52531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.7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12880" y="525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70080" y="525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39960" y="525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95600" y="5253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30680" y="525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$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45160" y="525312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15440" y="525312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41920" y="52531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95600" y="5597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75320" y="5597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85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16360" y="55976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468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15440" y="5597640"/>
              <a:ext cx="66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05560" y="5597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723360" y="577224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45880" y="5772240"/>
              <a:ext cx="7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&lt;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5600" y="59356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3320" y="5935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84840" y="4433760"/>
              <a:ext cx="25560" cy="998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2000" y="4433760"/>
              <a:ext cx="25200" cy="998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34440" y="5580000"/>
              <a:ext cx="25200" cy="196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91400" y="5605560"/>
              <a:ext cx="2556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10400" y="5407200"/>
              <a:ext cx="496800" cy="252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59640" y="5580000"/>
              <a:ext cx="105732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59640" y="5751360"/>
              <a:ext cx="1057320" cy="25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5664240" y="5487840"/>
              <a:ext cx="1073160" cy="238320"/>
              <a:chOff x="5664240" y="5487840"/>
              <a:chExt cx="1073160" cy="238320"/>
            </a:xfrm>
          </p:grpSpPr>
          <p:sp>
            <p:nvSpPr>
              <p:cNvPr id="448" name=""/>
              <p:cNvSpPr/>
              <p:nvPr/>
            </p:nvSpPr>
            <p:spPr>
              <a:xfrm>
                <a:off x="5689440" y="5514840"/>
                <a:ext cx="1047960" cy="211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64240" y="5487840"/>
                <a:ext cx="1046160" cy="21276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64240" y="5487840"/>
                <a:ext cx="1046160" cy="2127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5718600" y="5494320"/>
              <a:ext cx="753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=SUM(M2:M97)</a:t>
              </a: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7601040" y="5843520"/>
              <a:ext cx="969840" cy="208080"/>
              <a:chOff x="7601040" y="5843520"/>
              <a:chExt cx="969840" cy="208080"/>
            </a:xfrm>
          </p:grpSpPr>
          <p:sp>
            <p:nvSpPr>
              <p:cNvPr id="453" name=""/>
              <p:cNvSpPr/>
              <p:nvPr/>
            </p:nvSpPr>
            <p:spPr>
              <a:xfrm>
                <a:off x="7628040" y="5870520"/>
                <a:ext cx="942840" cy="181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601040" y="5843520"/>
                <a:ext cx="944640" cy="18252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01040" y="5843520"/>
                <a:ext cx="944640" cy="1825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7656120" y="5850000"/>
              <a:ext cx="72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=SUM(N2:N97)</a:t>
              </a: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7559640" y="5356080"/>
              <a:ext cx="1003320" cy="179640"/>
              <a:chOff x="7559640" y="5356080"/>
              <a:chExt cx="1003320" cy="179640"/>
            </a:xfrm>
          </p:grpSpPr>
          <p:sp>
            <p:nvSpPr>
              <p:cNvPr id="458" name=""/>
              <p:cNvSpPr/>
              <p:nvPr/>
            </p:nvSpPr>
            <p:spPr>
              <a:xfrm>
                <a:off x="7586640" y="5381640"/>
                <a:ext cx="976320" cy="154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559640" y="5356080"/>
                <a:ext cx="976320" cy="1526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559640" y="5356080"/>
                <a:ext cx="976320" cy="1526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7617960" y="5361120"/>
              <a:ext cx="72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ahoma"/>
                </a:rPr>
                <a:t>=SUM(O2:O97)</a:t>
              </a: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62" name=""/>
            <p:cNvGrpSpPr/>
            <p:nvPr/>
          </p:nvGrpSpPr>
          <p:grpSpPr>
            <a:xfrm>
              <a:off x="4481640" y="4541760"/>
              <a:ext cx="3448080" cy="189000"/>
              <a:chOff x="4481640" y="4541760"/>
              <a:chExt cx="3448080" cy="189000"/>
            </a:xfrm>
          </p:grpSpPr>
          <p:sp>
            <p:nvSpPr>
              <p:cNvPr id="463" name=""/>
              <p:cNvSpPr/>
              <p:nvPr/>
            </p:nvSpPr>
            <p:spPr>
              <a:xfrm>
                <a:off x="4506840" y="4568760"/>
                <a:ext cx="3422880" cy="162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481640" y="4541760"/>
                <a:ext cx="3421080" cy="16344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481640" y="4541760"/>
                <a:ext cx="3421080" cy="1634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>
              <a:off x="4488840" y="4548240"/>
              <a:ext cx="2987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ahoma"/>
                </a:rPr>
                <a:t>=+M95*(SUMPRODUCT(I95:K95,inputs!$H$11:$J$11)+H95*100)</a:t>
              </a:r>
              <a:endParaRPr b="0" lang="en-US" sz="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6705360" y="548604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7924680" y="457200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"/>
          <p:cNvSpPr/>
          <p:nvPr/>
        </p:nvSpPr>
        <p:spPr>
          <a:xfrm>
            <a:off x="7543800" y="57913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2194920" y="224964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uisin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2" name=""/>
          <p:cNvSpPr/>
          <p:nvPr/>
        </p:nvSpPr>
        <p:spPr>
          <a:xfrm>
            <a:off x="2195640" y="2406600"/>
            <a:ext cx="55080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"/>
          <p:cNvSpPr/>
          <p:nvPr/>
        </p:nvSpPr>
        <p:spPr>
          <a:xfrm>
            <a:off x="3061440" y="224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4" name=""/>
          <p:cNvSpPr/>
          <p:nvPr/>
        </p:nvSpPr>
        <p:spPr>
          <a:xfrm>
            <a:off x="3062160" y="2406600"/>
            <a:ext cx="8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5" name=""/>
          <p:cNvSpPr/>
          <p:nvPr/>
        </p:nvSpPr>
        <p:spPr>
          <a:xfrm>
            <a:off x="6426360" y="224964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6" name=""/>
          <p:cNvSpPr/>
          <p:nvPr/>
        </p:nvSpPr>
        <p:spPr>
          <a:xfrm>
            <a:off x="6426360" y="2406600"/>
            <a:ext cx="6364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7" name=""/>
          <p:cNvSpPr/>
          <p:nvPr/>
        </p:nvSpPr>
        <p:spPr>
          <a:xfrm>
            <a:off x="7365240" y="224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365960" y="2406600"/>
            <a:ext cx="8568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9" name=""/>
          <p:cNvSpPr/>
          <p:nvPr/>
        </p:nvSpPr>
        <p:spPr>
          <a:xfrm>
            <a:off x="2192760" y="2654280"/>
            <a:ext cx="4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gh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0" name=""/>
          <p:cNvSpPr/>
          <p:nvPr/>
        </p:nvSpPr>
        <p:spPr>
          <a:xfrm>
            <a:off x="3328200" y="265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1" name=""/>
          <p:cNvSpPr/>
          <p:nvPr/>
        </p:nvSpPr>
        <p:spPr>
          <a:xfrm>
            <a:off x="3471840" y="26542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2" name=""/>
          <p:cNvSpPr/>
          <p:nvPr/>
        </p:nvSpPr>
        <p:spPr>
          <a:xfrm>
            <a:off x="4145760" y="265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"/>
          <p:cNvSpPr/>
          <p:nvPr/>
        </p:nvSpPr>
        <p:spPr>
          <a:xfrm>
            <a:off x="6424920" y="265428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nx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4" name=""/>
          <p:cNvSpPr/>
          <p:nvPr/>
        </p:nvSpPr>
        <p:spPr>
          <a:xfrm>
            <a:off x="7644600" y="265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5" name=""/>
          <p:cNvSpPr/>
          <p:nvPr/>
        </p:nvSpPr>
        <p:spPr>
          <a:xfrm>
            <a:off x="7788240" y="26542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6" name=""/>
          <p:cNvSpPr/>
          <p:nvPr/>
        </p:nvSpPr>
        <p:spPr>
          <a:xfrm>
            <a:off x="8489160" y="265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7" name=""/>
          <p:cNvSpPr/>
          <p:nvPr/>
        </p:nvSpPr>
        <p:spPr>
          <a:xfrm>
            <a:off x="2194200" y="284472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8" name=""/>
          <p:cNvSpPr/>
          <p:nvPr/>
        </p:nvSpPr>
        <p:spPr>
          <a:xfrm>
            <a:off x="3328200" y="2844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9" name=""/>
          <p:cNvSpPr/>
          <p:nvPr/>
        </p:nvSpPr>
        <p:spPr>
          <a:xfrm>
            <a:off x="3471840" y="2844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0" name=""/>
          <p:cNvSpPr/>
          <p:nvPr/>
        </p:nvSpPr>
        <p:spPr>
          <a:xfrm>
            <a:off x="4145760" y="2844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1" name=""/>
          <p:cNvSpPr/>
          <p:nvPr/>
        </p:nvSpPr>
        <p:spPr>
          <a:xfrm>
            <a:off x="6424200" y="2844720"/>
            <a:ext cx="59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okly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2" name=""/>
          <p:cNvSpPr/>
          <p:nvPr/>
        </p:nvSpPr>
        <p:spPr>
          <a:xfrm>
            <a:off x="7644600" y="2844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3" name=""/>
          <p:cNvSpPr/>
          <p:nvPr/>
        </p:nvSpPr>
        <p:spPr>
          <a:xfrm>
            <a:off x="7788240" y="2844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4" name=""/>
          <p:cNvSpPr/>
          <p:nvPr/>
        </p:nvSpPr>
        <p:spPr>
          <a:xfrm>
            <a:off x="8489160" y="2844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5" name=""/>
          <p:cNvSpPr/>
          <p:nvPr/>
        </p:nvSpPr>
        <p:spPr>
          <a:xfrm>
            <a:off x="2193480" y="3033720"/>
            <a:ext cx="64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"/>
          <p:cNvSpPr/>
          <p:nvPr/>
        </p:nvSpPr>
        <p:spPr>
          <a:xfrm>
            <a:off x="3328200" y="3033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7" name=""/>
          <p:cNvSpPr/>
          <p:nvPr/>
        </p:nvSpPr>
        <p:spPr>
          <a:xfrm>
            <a:off x="3471840" y="3033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8" name=""/>
          <p:cNvSpPr/>
          <p:nvPr/>
        </p:nvSpPr>
        <p:spPr>
          <a:xfrm>
            <a:off x="4145760" y="3033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9" name=""/>
          <p:cNvSpPr/>
          <p:nvPr/>
        </p:nvSpPr>
        <p:spPr>
          <a:xfrm>
            <a:off x="6423480" y="30337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lsea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7644600" y="3033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"/>
          <p:cNvSpPr/>
          <p:nvPr/>
        </p:nvSpPr>
        <p:spPr>
          <a:xfrm>
            <a:off x="7788240" y="3033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2" name=""/>
          <p:cNvSpPr/>
          <p:nvPr/>
        </p:nvSpPr>
        <p:spPr>
          <a:xfrm>
            <a:off x="8489160" y="3033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3" name=""/>
          <p:cNvSpPr/>
          <p:nvPr/>
        </p:nvSpPr>
        <p:spPr>
          <a:xfrm>
            <a:off x="2193840" y="322272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"/>
          <p:cNvSpPr/>
          <p:nvPr/>
        </p:nvSpPr>
        <p:spPr>
          <a:xfrm>
            <a:off x="3328200" y="322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5" name=""/>
          <p:cNvSpPr/>
          <p:nvPr/>
        </p:nvSpPr>
        <p:spPr>
          <a:xfrm>
            <a:off x="3471840" y="3222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6" name=""/>
          <p:cNvSpPr/>
          <p:nvPr/>
        </p:nvSpPr>
        <p:spPr>
          <a:xfrm>
            <a:off x="4145760" y="322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7" name=""/>
          <p:cNvSpPr/>
          <p:nvPr/>
        </p:nvSpPr>
        <p:spPr>
          <a:xfrm>
            <a:off x="6422760" y="3222720"/>
            <a:ext cx="72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natow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"/>
          <p:cNvSpPr/>
          <p:nvPr/>
        </p:nvSpPr>
        <p:spPr>
          <a:xfrm>
            <a:off x="7644600" y="322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"/>
          <p:cNvSpPr/>
          <p:nvPr/>
        </p:nvSpPr>
        <p:spPr>
          <a:xfrm>
            <a:off x="7788240" y="3222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"/>
          <p:cNvSpPr/>
          <p:nvPr/>
        </p:nvSpPr>
        <p:spPr>
          <a:xfrm>
            <a:off x="8489160" y="3222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1" name=""/>
          <p:cNvSpPr/>
          <p:nvPr/>
        </p:nvSpPr>
        <p:spPr>
          <a:xfrm>
            <a:off x="2192760" y="341136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"/>
          <p:cNvSpPr/>
          <p:nvPr/>
        </p:nvSpPr>
        <p:spPr>
          <a:xfrm>
            <a:off x="3328200" y="341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3" name=""/>
          <p:cNvSpPr/>
          <p:nvPr/>
        </p:nvSpPr>
        <p:spPr>
          <a:xfrm>
            <a:off x="3471840" y="3411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4" name=""/>
          <p:cNvSpPr/>
          <p:nvPr/>
        </p:nvSpPr>
        <p:spPr>
          <a:xfrm>
            <a:off x="4145760" y="341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6423480" y="341136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wntow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6" name=""/>
          <p:cNvSpPr/>
          <p:nvPr/>
        </p:nvSpPr>
        <p:spPr>
          <a:xfrm>
            <a:off x="7644600" y="341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7" name=""/>
          <p:cNvSpPr/>
          <p:nvPr/>
        </p:nvSpPr>
        <p:spPr>
          <a:xfrm>
            <a:off x="7788240" y="3411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8" name=""/>
          <p:cNvSpPr/>
          <p:nvPr/>
        </p:nvSpPr>
        <p:spPr>
          <a:xfrm>
            <a:off x="8489160" y="3411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9" name=""/>
          <p:cNvSpPr/>
          <p:nvPr/>
        </p:nvSpPr>
        <p:spPr>
          <a:xfrm>
            <a:off x="2193480" y="360036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0" name=""/>
          <p:cNvSpPr/>
          <p:nvPr/>
        </p:nvSpPr>
        <p:spPr>
          <a:xfrm>
            <a:off x="3328200" y="3600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" name=""/>
          <p:cNvSpPr/>
          <p:nvPr/>
        </p:nvSpPr>
        <p:spPr>
          <a:xfrm>
            <a:off x="3471840" y="3600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" name=""/>
          <p:cNvSpPr/>
          <p:nvPr/>
        </p:nvSpPr>
        <p:spPr>
          <a:xfrm>
            <a:off x="4145760" y="3600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" name=""/>
          <p:cNvSpPr/>
          <p:nvPr/>
        </p:nvSpPr>
        <p:spPr>
          <a:xfrm>
            <a:off x="6422760" y="3600360"/>
            <a:ext cx="80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st Villag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"/>
          <p:cNvSpPr/>
          <p:nvPr/>
        </p:nvSpPr>
        <p:spPr>
          <a:xfrm>
            <a:off x="7644600" y="3600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" name=""/>
          <p:cNvSpPr/>
          <p:nvPr/>
        </p:nvSpPr>
        <p:spPr>
          <a:xfrm>
            <a:off x="7788240" y="3600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" name=""/>
          <p:cNvSpPr/>
          <p:nvPr/>
        </p:nvSpPr>
        <p:spPr>
          <a:xfrm>
            <a:off x="8489160" y="3600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"/>
          <p:cNvSpPr/>
          <p:nvPr/>
        </p:nvSpPr>
        <p:spPr>
          <a:xfrm>
            <a:off x="2192400" y="3789360"/>
            <a:ext cx="51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g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" name=""/>
          <p:cNvSpPr/>
          <p:nvPr/>
        </p:nvSpPr>
        <p:spPr>
          <a:xfrm>
            <a:off x="3328200" y="378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" name=""/>
          <p:cNvSpPr/>
          <p:nvPr/>
        </p:nvSpPr>
        <p:spPr>
          <a:xfrm>
            <a:off x="3471840" y="3789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" name=""/>
          <p:cNvSpPr/>
          <p:nvPr/>
        </p:nvSpPr>
        <p:spPr>
          <a:xfrm>
            <a:off x="4145760" y="378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" name=""/>
          <p:cNvSpPr/>
          <p:nvPr/>
        </p:nvSpPr>
        <p:spPr>
          <a:xfrm>
            <a:off x="6425640" y="3789360"/>
            <a:ext cx="66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ercy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" name=""/>
          <p:cNvSpPr/>
          <p:nvPr/>
        </p:nvSpPr>
        <p:spPr>
          <a:xfrm>
            <a:off x="7644600" y="378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" name=""/>
          <p:cNvSpPr/>
          <p:nvPr/>
        </p:nvSpPr>
        <p:spPr>
          <a:xfrm>
            <a:off x="7788240" y="3789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" name=""/>
          <p:cNvSpPr/>
          <p:nvPr/>
        </p:nvSpPr>
        <p:spPr>
          <a:xfrm>
            <a:off x="8489160" y="3789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" name=""/>
          <p:cNvSpPr/>
          <p:nvPr/>
        </p:nvSpPr>
        <p:spPr>
          <a:xfrm>
            <a:off x="2191680" y="3978360"/>
            <a:ext cx="70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ibbe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" name=""/>
          <p:cNvSpPr/>
          <p:nvPr/>
        </p:nvSpPr>
        <p:spPr>
          <a:xfrm>
            <a:off x="3328200" y="397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" name=""/>
          <p:cNvSpPr/>
          <p:nvPr/>
        </p:nvSpPr>
        <p:spPr>
          <a:xfrm>
            <a:off x="3471840" y="3978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8" name=""/>
          <p:cNvSpPr/>
          <p:nvPr/>
        </p:nvSpPr>
        <p:spPr>
          <a:xfrm>
            <a:off x="4145760" y="397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9" name=""/>
          <p:cNvSpPr/>
          <p:nvPr/>
        </p:nvSpPr>
        <p:spPr>
          <a:xfrm>
            <a:off x="6425280" y="3978360"/>
            <a:ext cx="4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lem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0" name=""/>
          <p:cNvSpPr/>
          <p:nvPr/>
        </p:nvSpPr>
        <p:spPr>
          <a:xfrm>
            <a:off x="7644600" y="397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1" name=""/>
          <p:cNvSpPr/>
          <p:nvPr/>
        </p:nvSpPr>
        <p:spPr>
          <a:xfrm>
            <a:off x="7788240" y="3978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2" name=""/>
          <p:cNvSpPr/>
          <p:nvPr/>
        </p:nvSpPr>
        <p:spPr>
          <a:xfrm>
            <a:off x="8489160" y="3978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3" name=""/>
          <p:cNvSpPr/>
          <p:nvPr/>
        </p:nvSpPr>
        <p:spPr>
          <a:xfrm>
            <a:off x="2194200" y="4167360"/>
            <a:ext cx="399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tch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4" name=""/>
          <p:cNvSpPr/>
          <p:nvPr/>
        </p:nvSpPr>
        <p:spPr>
          <a:xfrm>
            <a:off x="3328200" y="4167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5" name=""/>
          <p:cNvSpPr/>
          <p:nvPr/>
        </p:nvSpPr>
        <p:spPr>
          <a:xfrm>
            <a:off x="3471840" y="4167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6" name=""/>
          <p:cNvSpPr/>
          <p:nvPr/>
        </p:nvSpPr>
        <p:spPr>
          <a:xfrm>
            <a:off x="4145760" y="4167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7" name=""/>
          <p:cNvSpPr/>
          <p:nvPr/>
        </p:nvSpPr>
        <p:spPr>
          <a:xfrm>
            <a:off x="6424200" y="4167360"/>
            <a:ext cx="64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ttle Italy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"/>
          <p:cNvSpPr/>
          <p:nvPr/>
        </p:nvSpPr>
        <p:spPr>
          <a:xfrm>
            <a:off x="7644600" y="4167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9" name=""/>
          <p:cNvSpPr/>
          <p:nvPr/>
        </p:nvSpPr>
        <p:spPr>
          <a:xfrm>
            <a:off x="7788240" y="416736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0" name=""/>
          <p:cNvSpPr/>
          <p:nvPr/>
        </p:nvSpPr>
        <p:spPr>
          <a:xfrm>
            <a:off x="8489160" y="41673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1" name=""/>
          <p:cNvSpPr/>
          <p:nvPr/>
        </p:nvSpPr>
        <p:spPr>
          <a:xfrm>
            <a:off x="2190240" y="4356000"/>
            <a:ext cx="1235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stern Europe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2" name=""/>
          <p:cNvSpPr/>
          <p:nvPr/>
        </p:nvSpPr>
        <p:spPr>
          <a:xfrm>
            <a:off x="3328200" y="435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3" name=""/>
          <p:cNvSpPr/>
          <p:nvPr/>
        </p:nvSpPr>
        <p:spPr>
          <a:xfrm>
            <a:off x="3471840" y="4356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4" name=""/>
          <p:cNvSpPr/>
          <p:nvPr/>
        </p:nvSpPr>
        <p:spPr>
          <a:xfrm>
            <a:off x="4145760" y="435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5" name=""/>
          <p:cNvSpPr/>
          <p:nvPr/>
        </p:nvSpPr>
        <p:spPr>
          <a:xfrm>
            <a:off x="6424200" y="4356000"/>
            <a:ext cx="56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dtow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6" name=""/>
          <p:cNvSpPr/>
          <p:nvPr/>
        </p:nvSpPr>
        <p:spPr>
          <a:xfrm>
            <a:off x="7644600" y="435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7" name=""/>
          <p:cNvSpPr/>
          <p:nvPr/>
        </p:nvSpPr>
        <p:spPr>
          <a:xfrm>
            <a:off x="7788240" y="4356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8" name=""/>
          <p:cNvSpPr/>
          <p:nvPr/>
        </p:nvSpPr>
        <p:spPr>
          <a:xfrm>
            <a:off x="8489160" y="4356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>
            <a:off x="2192760" y="4545000"/>
            <a:ext cx="59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0" name=""/>
          <p:cNvSpPr/>
          <p:nvPr/>
        </p:nvSpPr>
        <p:spPr>
          <a:xfrm>
            <a:off x="3328200" y="454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1" name=""/>
          <p:cNvSpPr/>
          <p:nvPr/>
        </p:nvSpPr>
        <p:spPr>
          <a:xfrm>
            <a:off x="3471840" y="4545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2" name=""/>
          <p:cNvSpPr/>
          <p:nvPr/>
        </p:nvSpPr>
        <p:spPr>
          <a:xfrm>
            <a:off x="4145760" y="454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3" name=""/>
          <p:cNvSpPr/>
          <p:nvPr/>
        </p:nvSpPr>
        <p:spPr>
          <a:xfrm>
            <a:off x="6423840" y="45450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ens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4" name=""/>
          <p:cNvSpPr/>
          <p:nvPr/>
        </p:nvSpPr>
        <p:spPr>
          <a:xfrm>
            <a:off x="7644600" y="454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5" name=""/>
          <p:cNvSpPr/>
          <p:nvPr/>
        </p:nvSpPr>
        <p:spPr>
          <a:xfrm>
            <a:off x="7788240" y="454500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6" name=""/>
          <p:cNvSpPr/>
          <p:nvPr/>
        </p:nvSpPr>
        <p:spPr>
          <a:xfrm>
            <a:off x="8489160" y="4545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7" name=""/>
          <p:cNvSpPr/>
          <p:nvPr/>
        </p:nvSpPr>
        <p:spPr>
          <a:xfrm>
            <a:off x="2193120" y="4735440"/>
            <a:ext cx="50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8" name=""/>
          <p:cNvSpPr/>
          <p:nvPr/>
        </p:nvSpPr>
        <p:spPr>
          <a:xfrm>
            <a:off x="3328200" y="473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9" name=""/>
          <p:cNvSpPr/>
          <p:nvPr/>
        </p:nvSpPr>
        <p:spPr>
          <a:xfrm>
            <a:off x="3471840" y="4735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0" name=""/>
          <p:cNvSpPr/>
          <p:nvPr/>
        </p:nvSpPr>
        <p:spPr>
          <a:xfrm>
            <a:off x="4145760" y="473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1" name=""/>
          <p:cNvSpPr/>
          <p:nvPr/>
        </p:nvSpPr>
        <p:spPr>
          <a:xfrm>
            <a:off x="6424200" y="473544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Ho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2" name=""/>
          <p:cNvSpPr/>
          <p:nvPr/>
        </p:nvSpPr>
        <p:spPr>
          <a:xfrm>
            <a:off x="7644600" y="473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3" name=""/>
          <p:cNvSpPr/>
          <p:nvPr/>
        </p:nvSpPr>
        <p:spPr>
          <a:xfrm>
            <a:off x="7788240" y="4735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4" name=""/>
          <p:cNvSpPr/>
          <p:nvPr/>
        </p:nvSpPr>
        <p:spPr>
          <a:xfrm>
            <a:off x="8489160" y="473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5" name=""/>
          <p:cNvSpPr/>
          <p:nvPr/>
        </p:nvSpPr>
        <p:spPr>
          <a:xfrm>
            <a:off x="2194200" y="492444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6" name=""/>
          <p:cNvSpPr/>
          <p:nvPr/>
        </p:nvSpPr>
        <p:spPr>
          <a:xfrm>
            <a:off x="3328200" y="492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7" name=""/>
          <p:cNvSpPr/>
          <p:nvPr/>
        </p:nvSpPr>
        <p:spPr>
          <a:xfrm>
            <a:off x="3471840" y="4924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8" name=""/>
          <p:cNvSpPr/>
          <p:nvPr/>
        </p:nvSpPr>
        <p:spPr>
          <a:xfrm>
            <a:off x="4145760" y="492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9" name=""/>
          <p:cNvSpPr/>
          <p:nvPr/>
        </p:nvSpPr>
        <p:spPr>
          <a:xfrm>
            <a:off x="6422400" y="4924440"/>
            <a:ext cx="89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ten Island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0" name=""/>
          <p:cNvSpPr/>
          <p:nvPr/>
        </p:nvSpPr>
        <p:spPr>
          <a:xfrm>
            <a:off x="7644600" y="492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1" name=""/>
          <p:cNvSpPr/>
          <p:nvPr/>
        </p:nvSpPr>
        <p:spPr>
          <a:xfrm>
            <a:off x="7788240" y="4924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2" name=""/>
          <p:cNvSpPr/>
          <p:nvPr/>
        </p:nvSpPr>
        <p:spPr>
          <a:xfrm>
            <a:off x="8489160" y="492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3" name=""/>
          <p:cNvSpPr/>
          <p:nvPr/>
        </p:nvSpPr>
        <p:spPr>
          <a:xfrm>
            <a:off x="2194200" y="511344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4" name=""/>
          <p:cNvSpPr/>
          <p:nvPr/>
        </p:nvSpPr>
        <p:spPr>
          <a:xfrm>
            <a:off x="33282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5" name=""/>
          <p:cNvSpPr/>
          <p:nvPr/>
        </p:nvSpPr>
        <p:spPr>
          <a:xfrm>
            <a:off x="3471840" y="5113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6" name=""/>
          <p:cNvSpPr/>
          <p:nvPr/>
        </p:nvSpPr>
        <p:spPr>
          <a:xfrm>
            <a:off x="414576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7" name=""/>
          <p:cNvSpPr/>
          <p:nvPr/>
        </p:nvSpPr>
        <p:spPr>
          <a:xfrm>
            <a:off x="6424920" y="51134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BeCa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8" name=""/>
          <p:cNvSpPr/>
          <p:nvPr/>
        </p:nvSpPr>
        <p:spPr>
          <a:xfrm>
            <a:off x="764460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9" name=""/>
          <p:cNvSpPr/>
          <p:nvPr/>
        </p:nvSpPr>
        <p:spPr>
          <a:xfrm>
            <a:off x="7788240" y="511344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0" name=""/>
          <p:cNvSpPr/>
          <p:nvPr/>
        </p:nvSpPr>
        <p:spPr>
          <a:xfrm>
            <a:off x="8489160" y="511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1" name=""/>
          <p:cNvSpPr/>
          <p:nvPr/>
        </p:nvSpPr>
        <p:spPr>
          <a:xfrm>
            <a:off x="2194560" y="5302080"/>
            <a:ext cx="41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2" name=""/>
          <p:cNvSpPr/>
          <p:nvPr/>
        </p:nvSpPr>
        <p:spPr>
          <a:xfrm>
            <a:off x="3328200" y="53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3" name=""/>
          <p:cNvSpPr/>
          <p:nvPr/>
        </p:nvSpPr>
        <p:spPr>
          <a:xfrm>
            <a:off x="3471840" y="5302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4" name=""/>
          <p:cNvSpPr/>
          <p:nvPr/>
        </p:nvSpPr>
        <p:spPr>
          <a:xfrm>
            <a:off x="4145760" y="53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5" name=""/>
          <p:cNvSpPr/>
          <p:nvPr/>
        </p:nvSpPr>
        <p:spPr>
          <a:xfrm>
            <a:off x="6423840" y="53020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per East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6" name=""/>
          <p:cNvSpPr/>
          <p:nvPr/>
        </p:nvSpPr>
        <p:spPr>
          <a:xfrm>
            <a:off x="7644600" y="53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7" name=""/>
          <p:cNvSpPr/>
          <p:nvPr/>
        </p:nvSpPr>
        <p:spPr>
          <a:xfrm>
            <a:off x="7788240" y="5302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8" name=""/>
          <p:cNvSpPr/>
          <p:nvPr/>
        </p:nvSpPr>
        <p:spPr>
          <a:xfrm>
            <a:off x="8489160" y="530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9" name=""/>
          <p:cNvSpPr/>
          <p:nvPr/>
        </p:nvSpPr>
        <p:spPr>
          <a:xfrm>
            <a:off x="2192760" y="549108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an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0" name=""/>
          <p:cNvSpPr/>
          <p:nvPr/>
        </p:nvSpPr>
        <p:spPr>
          <a:xfrm>
            <a:off x="3328200" y="54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1" name=""/>
          <p:cNvSpPr/>
          <p:nvPr/>
        </p:nvSpPr>
        <p:spPr>
          <a:xfrm>
            <a:off x="3471840" y="5491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2" name=""/>
          <p:cNvSpPr/>
          <p:nvPr/>
        </p:nvSpPr>
        <p:spPr>
          <a:xfrm>
            <a:off x="4145760" y="54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3" name=""/>
          <p:cNvSpPr/>
          <p:nvPr/>
        </p:nvSpPr>
        <p:spPr>
          <a:xfrm>
            <a:off x="6424560" y="5491080"/>
            <a:ext cx="8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pper West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4" name=""/>
          <p:cNvSpPr/>
          <p:nvPr/>
        </p:nvSpPr>
        <p:spPr>
          <a:xfrm>
            <a:off x="7644600" y="54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5" name=""/>
          <p:cNvSpPr/>
          <p:nvPr/>
        </p:nvSpPr>
        <p:spPr>
          <a:xfrm>
            <a:off x="7788240" y="5491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6" name=""/>
          <p:cNvSpPr/>
          <p:nvPr/>
        </p:nvSpPr>
        <p:spPr>
          <a:xfrm>
            <a:off x="8489160" y="5491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7" name=""/>
          <p:cNvSpPr/>
          <p:nvPr/>
        </p:nvSpPr>
        <p:spPr>
          <a:xfrm>
            <a:off x="2194920" y="56800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ish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8" name=""/>
          <p:cNvSpPr/>
          <p:nvPr/>
        </p:nvSpPr>
        <p:spPr>
          <a:xfrm>
            <a:off x="3328200" y="5680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9" name=""/>
          <p:cNvSpPr/>
          <p:nvPr/>
        </p:nvSpPr>
        <p:spPr>
          <a:xfrm>
            <a:off x="3471840" y="5680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0" name=""/>
          <p:cNvSpPr/>
          <p:nvPr/>
        </p:nvSpPr>
        <p:spPr>
          <a:xfrm>
            <a:off x="4145760" y="5680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1" name=""/>
          <p:cNvSpPr/>
          <p:nvPr/>
        </p:nvSpPr>
        <p:spPr>
          <a:xfrm>
            <a:off x="6423840" y="5683320"/>
            <a:ext cx="45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llage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2" name=""/>
          <p:cNvSpPr/>
          <p:nvPr/>
        </p:nvSpPr>
        <p:spPr>
          <a:xfrm>
            <a:off x="7644600" y="5680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3" name=""/>
          <p:cNvSpPr/>
          <p:nvPr/>
        </p:nvSpPr>
        <p:spPr>
          <a:xfrm>
            <a:off x="7788240" y="568008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=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4" name=""/>
          <p:cNvSpPr/>
          <p:nvPr/>
        </p:nvSpPr>
        <p:spPr>
          <a:xfrm>
            <a:off x="8489160" y="5680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89080" y="2459160"/>
            <a:ext cx="2755800" cy="186840"/>
            <a:chOff x="289080" y="2459160"/>
            <a:chExt cx="2755800" cy="186840"/>
          </a:xfrm>
        </p:grpSpPr>
        <p:sp>
          <p:nvSpPr>
            <p:cNvPr id="616" name=""/>
            <p:cNvSpPr/>
            <p:nvPr/>
          </p:nvSpPr>
          <p:spPr>
            <a:xfrm>
              <a:off x="318960" y="2490840"/>
              <a:ext cx="2725920" cy="155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89080" y="2459160"/>
              <a:ext cx="2725560" cy="15696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89080" y="2459160"/>
              <a:ext cx="2725560" cy="15696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82240" y="2465280"/>
            <a:ext cx="251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VLOOKUP(D2,grouped!$H$2:$I$32,2)*M2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133800" y="2448000"/>
            <a:ext cx="2270160" cy="198000"/>
            <a:chOff x="3133800" y="2448000"/>
            <a:chExt cx="2270160" cy="198000"/>
          </a:xfrm>
        </p:grpSpPr>
        <p:sp>
          <p:nvSpPr>
            <p:cNvPr id="621" name=""/>
            <p:cNvSpPr/>
            <p:nvPr/>
          </p:nvSpPr>
          <p:spPr>
            <a:xfrm>
              <a:off x="3164040" y="2479680"/>
              <a:ext cx="2239920" cy="16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33800" y="2448000"/>
              <a:ext cx="2239920" cy="16812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133800" y="2448000"/>
              <a:ext cx="2239920" cy="16812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3143520" y="2454120"/>
            <a:ext cx="211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COUNTIF($Q$2:$Q$97,grouped!I2)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4421160" y="3270240"/>
            <a:ext cx="2925720" cy="231840"/>
            <a:chOff x="4421160" y="3270240"/>
            <a:chExt cx="2925720" cy="231840"/>
          </a:xfrm>
        </p:grpSpPr>
        <p:sp>
          <p:nvSpPr>
            <p:cNvPr id="626" name=""/>
            <p:cNvSpPr/>
            <p:nvPr/>
          </p:nvSpPr>
          <p:spPr>
            <a:xfrm>
              <a:off x="4452840" y="3301920"/>
              <a:ext cx="2894040" cy="20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21160" y="3270240"/>
              <a:ext cx="2895480" cy="199800"/>
            </a:xfrm>
            <a:prstGeom prst="rect">
              <a:avLst/>
            </a:prstGeom>
            <a:solidFill>
              <a:srgbClr val="fff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21160" y="3270240"/>
              <a:ext cx="2895480" cy="199800"/>
            </a:xfrm>
            <a:prstGeom prst="rect">
              <a:avLst/>
            </a:prstGeom>
            <a:noFill/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419720" y="3276720"/>
            <a:ext cx="249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=VLOOKUP(E3,grouped!$K$2:$L$18,2)*M3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7314840" y="2666880"/>
            <a:ext cx="3049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4267080" y="2666880"/>
            <a:ext cx="6098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2" name=""/>
          <p:cNvSpPr/>
          <p:nvPr/>
        </p:nvSpPr>
        <p:spPr>
          <a:xfrm flipH="1" flipV="1">
            <a:off x="2819160" y="2666880"/>
            <a:ext cx="53316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3" name=""/>
          <p:cNvSpPr/>
          <p:nvPr/>
        </p:nvSpPr>
        <p:spPr>
          <a:xfrm>
            <a:off x="685800" y="16765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isine &amp; location constrai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219320" y="2263680"/>
            <a:ext cx="7238880" cy="38322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olution Methodology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commend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staurant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 Monde, Supreme Macaroni, Rio Ma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71625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1290600" y="2303640"/>
            <a:ext cx="2600280" cy="346860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6781680" y="4114800"/>
            <a:ext cx="1789200" cy="198108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 txBox="1"/>
          <p:nvPr/>
        </p:nvSpPr>
        <p:spPr>
          <a:xfrm>
            <a:off x="5486400" y="1600200"/>
            <a:ext cx="2895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HOME    RU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43" name=""/>
          <p:cNvSpPr/>
          <p:nvPr/>
        </p:nvSpPr>
        <p:spPr>
          <a:xfrm>
            <a:off x="4191120" y="365760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esentation agend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Over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rial Problem Defini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 (Data collection, downsizing by grouping, filtering, attaching weigh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ive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ion Methodology: 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nagerial 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ving in New York City and being singles, we enjoy the dating sc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erally, our first dates include an invitation to a nice restaurant and then a few drinks at a nice lou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ever, as poor students at Stern, we quickly realized that we needed to strategize our dating pla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can’t afford the fancy restaurants we were used to when we were working but we still want to be able to go on a date on a regular bas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current situation is as followed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have three dates scheduled in the upcoming mon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can’t afford  to spend too much mone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still want to enjoy it and have successful d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optimize our dating plans? i.e. how to find the perfect restaurant for the perfect dat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nagerial Problem Defin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w preliminary inputs to our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we are poor and somehow cheap, we decided to have dinner in the neighborhood of our date (we don’t need to pay for the taxi r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ant to limit expenses ($ 100/person/3 dates) (wine exclude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don’t want to have dinner in the same neighborhood twice or eat the same type of cuisine twice. It’s not good for our balanced di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34320" y="2286000"/>
            <a:ext cx="1809720" cy="1363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315200" y="2590920"/>
            <a:ext cx="13716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666880"/>
            <a:ext cx="11430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238880" y="3886200"/>
            <a:ext cx="1598760" cy="1095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315200" y="5181480"/>
            <a:ext cx="152568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sizing the data set (no more than 2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tering th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by location and price 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Data Collection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ain raw data from Zagat’s web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ubbed and formatted data into useful 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grouped data for location and cuis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44960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tering Dat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8098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inputs use Excel Advanced Filter to reduce 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8153640" cy="3505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251460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bjective Fun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ximize “Utility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(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+ Décor (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+ Service (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+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ucc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s attached to Food, Décor,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1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2, w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: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cess rate (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ucces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ttached to each cuis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: 3%, French, Turkish, Greek, Indian: 8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ccess Ra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45760" y="1598760"/>
            <a:ext cx="5940720" cy="4723920"/>
            <a:chOff x="1445760" y="1598760"/>
            <a:chExt cx="5940720" cy="4723920"/>
          </a:xfrm>
        </p:grpSpPr>
        <p:sp>
          <p:nvSpPr>
            <p:cNvPr id="122" name=""/>
            <p:cNvSpPr/>
            <p:nvPr/>
          </p:nvSpPr>
          <p:spPr>
            <a:xfrm>
              <a:off x="1448640" y="159876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uisin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7920" y="1843920"/>
              <a:ext cx="85680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48520" y="1598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49240" y="1843920"/>
              <a:ext cx="1569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06200" y="1682640"/>
              <a:ext cx="55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uccess</a:t>
              </a:r>
              <a:endParaRPr b="0" lang="en-US" sz="11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06200" y="1843920"/>
              <a:ext cx="6285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8720" y="159876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uisin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8000" y="1843920"/>
              <a:ext cx="85500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68920" y="159876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69640" y="1843920"/>
              <a:ext cx="1569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726960" y="1699560"/>
              <a:ext cx="552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success</a:t>
              </a:r>
              <a:endParaRPr b="0" lang="en-US" sz="11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26960" y="1843920"/>
              <a:ext cx="62856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200" y="1920960"/>
              <a:ext cx="64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fgh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91400" y="19209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7280" y="192096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r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80400" y="19209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560" y="221580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fric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59280" y="22158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6920" y="22158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tal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980400" y="22158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47200" y="2512440"/>
              <a:ext cx="85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eric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91040" y="251244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86200" y="2512440"/>
              <a:ext cx="62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Jew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80400" y="25124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6480" y="2809080"/>
              <a:ext cx="50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s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59280" y="28090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87280" y="2809080"/>
              <a:ext cx="44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ati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80400" y="28090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6480" y="3105720"/>
              <a:ext cx="904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ustral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59280" y="3105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6200" y="3105720"/>
              <a:ext cx="91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lays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80400" y="31057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5760" y="3402360"/>
              <a:ext cx="67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elg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9280" y="34023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88720" y="3402360"/>
              <a:ext cx="1308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diterrane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80400" y="34023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7200" y="369900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ribbe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59280" y="36990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6560" y="3699000"/>
              <a:ext cx="75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exic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80400" y="36990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7920" y="399744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utc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9280" y="39974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87280" y="3997440"/>
              <a:ext cx="1355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ddle Easter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80400" y="39974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7920" y="4292280"/>
              <a:ext cx="163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astern Europe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9280" y="42922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87640" y="4292280"/>
              <a:ext cx="103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ortuguese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0400" y="42922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6840" y="4588920"/>
              <a:ext cx="791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gypt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59280" y="45889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86200" y="458892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uss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80400" y="45889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6120" y="4885560"/>
              <a:ext cx="66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gl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59280" y="4885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84760" y="4885560"/>
              <a:ext cx="1221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candinav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80400" y="488556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47920" y="51822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renc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59280" y="518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7280" y="5182200"/>
              <a:ext cx="75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afood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80400" y="518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9360" y="547884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rm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59280" y="5478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86200" y="5478840"/>
              <a:ext cx="73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pan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80400" y="54788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5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49000" y="577368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reek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59280" y="57736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86920" y="5773680"/>
              <a:ext cx="66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urkish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80400" y="577368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200" y="6070320"/>
              <a:ext cx="55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nd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59280" y="60703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87280" y="6078960"/>
              <a:ext cx="98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Vegetarian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80400" y="607032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%</a:t>
              </a:r>
              <a:endParaRPr b="0" lang="en-US" sz="1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0:12:20Z</dcterms:created>
  <dc:creator>Linda Q. Fu</dc:creator>
  <dc:description/>
  <dc:language>en-US</dc:language>
  <cp:lastModifiedBy>Stern School</cp:lastModifiedBy>
  <dcterms:modified xsi:type="dcterms:W3CDTF">2003-04-30T21:28:12Z</dcterms:modified>
  <cp:revision>51</cp:revision>
  <dc:subject/>
  <dc:title>B60.2350 Decision Models</dc:title>
</cp:coreProperties>
</file>