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83E8-4BC4-4137-9BA7-CD152A1E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A73D-C4AC-43BB-9080-C7C50C7B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860B-0F62-43FF-BFCE-D8780D33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EFB7-EF21-4A6B-B284-F164E0C5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6F11-60B9-45F5-BFC8-668F9018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412F-0C33-4B59-BDAE-5CF4F9B1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678C-17D6-4E02-B613-87761027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3547-9ED8-4BB3-96E4-771AE5A9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A972-8A67-4686-8608-6E90EC3C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9BAA-210D-4502-9ECD-5CA38E77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F476-5D57-46A1-B208-79899DBF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E3D5-05EB-4E6C-B5AE-DF506D15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50C8-9B54-468D-B41E-B1DB77700B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ixflags.com/parks/Rides/list.asp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reat Adventure at Six Flag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timizing a day at the p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b Ew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oe W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on Zaczepinsk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on Dubrof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ns van He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3352680"/>
            <a:ext cx="2233440" cy="3457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9112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ecision Variabl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ran must decided which rides to ride and in which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de quality is judged by speed and h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ran must also decide when to eat lu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29200" y="1447920"/>
            <a:ext cx="37861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ize F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 = Kicks Ass – Su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cks Ass = Speed + H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ks = Waiting + Pu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487840" y="1143000"/>
            <a:ext cx="3446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ran does not have the money for “Fast Lane” upg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ran will only ride “Thrill” r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ran must ride Superman and Nit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nstraints Continue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ran won’t ride any ride more than twi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ran must eat lunch at some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ran has a moderate threshold of pain for wa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ran can only ride one ride at a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332320" y="1447920"/>
            <a:ext cx="31258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Mode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olutionary Solver…some non-linearity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Maxima, may not be true optimal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it times vary throughout the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33720" y="3581280"/>
            <a:ext cx="48816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ocal Maxim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2171880"/>
            <a:ext cx="6553080" cy="3314520"/>
          </a:xfrm>
          <a:custGeom>
            <a:avLst/>
            <a:gdLst/>
            <a:ahLst/>
            <a:rect l="l" t="t" r="r" b="b"/>
            <a:pathLst>
              <a:path w="4128" h="2088">
                <a:moveTo>
                  <a:pt x="0" y="1032"/>
                </a:moveTo>
                <a:cubicBezTo>
                  <a:pt x="124" y="1424"/>
                  <a:pt x="248" y="1816"/>
                  <a:pt x="384" y="1656"/>
                </a:cubicBezTo>
                <a:cubicBezTo>
                  <a:pt x="520" y="1496"/>
                  <a:pt x="696" y="144"/>
                  <a:pt x="816" y="72"/>
                </a:cubicBezTo>
                <a:cubicBezTo>
                  <a:pt x="936" y="0"/>
                  <a:pt x="992" y="1136"/>
                  <a:pt x="1104" y="1224"/>
                </a:cubicBezTo>
                <a:cubicBezTo>
                  <a:pt x="1216" y="1312"/>
                  <a:pt x="1328" y="520"/>
                  <a:pt x="1488" y="600"/>
                </a:cubicBezTo>
                <a:cubicBezTo>
                  <a:pt x="1648" y="680"/>
                  <a:pt x="1856" y="1688"/>
                  <a:pt x="2064" y="1704"/>
                </a:cubicBezTo>
                <a:cubicBezTo>
                  <a:pt x="2272" y="1720"/>
                  <a:pt x="2536" y="656"/>
                  <a:pt x="2736" y="696"/>
                </a:cubicBezTo>
                <a:cubicBezTo>
                  <a:pt x="2936" y="736"/>
                  <a:pt x="3112" y="1856"/>
                  <a:pt x="3264" y="1944"/>
                </a:cubicBezTo>
                <a:cubicBezTo>
                  <a:pt x="3416" y="2032"/>
                  <a:pt x="3504" y="1200"/>
                  <a:pt x="3648" y="1224"/>
                </a:cubicBezTo>
                <a:cubicBezTo>
                  <a:pt x="3792" y="1248"/>
                  <a:pt x="4048" y="1944"/>
                  <a:pt x="4128" y="2088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2971800"/>
            <a:ext cx="83808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02040" y="243828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Maxim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514600" y="1905120"/>
            <a:ext cx="83808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37920" y="148428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obal Maxim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Mode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olutionary Solver…some non-linearity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Maxima, may not be true optimal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it times vary throughout the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33720" y="3581280"/>
            <a:ext cx="48816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Model: Inpu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47224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Model Continue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57200" y="1633680"/>
            <a:ext cx="8229600" cy="4459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o Optimize the Day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2903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Agend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Decision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our Obj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our 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mmen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5880" y="2819520"/>
            <a:ext cx="238140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equence of Rid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American Scream 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er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ull Mount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naway Mine T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equence Continue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naway Mine Train (Enco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u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lling Thu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man &amp; Rob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Juran Should…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 on all rides onc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Stunt Man Freefall (Too Much Puking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ride on the Runaway Mine Train twic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581280" y="2895480"/>
            <a:ext cx="238140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xtens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porate travel time between r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 all available park attr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ulate movement through the park to back test Solver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0" y="3733920"/>
            <a:ext cx="25178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99"/>
                </a:solidFill>
                <a:latin typeface="Arial"/>
              </a:rPr>
              <a:t>Questions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3896" r="3332" b="0"/>
          <a:stretch/>
        </p:blipFill>
        <p:spPr>
          <a:xfrm>
            <a:off x="228600" y="1143000"/>
            <a:ext cx="8839080" cy="5638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Park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ides That Roc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man Ultimate F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nly coaster of its kind in the Northe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d in Spring 200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tures a pretzel-shaped, inverted loop  and 360 degree in-line r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de reaches 60 mph and goes to a height of 115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de lasts more than 3 min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1600200"/>
            <a:ext cx="2381040" cy="2038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19920" y="3809880"/>
            <a:ext cx="23619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t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d in Spring 200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tures 7 relentless hills, steep drops and sharp curves on more than a mile of twisted stee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de reaches 80 mph and goes to a height of 23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de last 4 min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0" y="76320"/>
            <a:ext cx="5257800" cy="1498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25560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6840" y="202716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man the R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d in Spring 199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ins ride on the outside, not the inside of each of the loop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tures two vertical outside loops, two outside helixes and a zero gravity ro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de reaches 50 mph and goes to a height of 105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de last 2 min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2057400" cy="2146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943600" y="2057400"/>
            <a:ext cx="23814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951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u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d in Spring 19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floorless coaster in the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tures car without chassis or body, floorless chair on top of trac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de reaches 61 mph and goes to a height of 142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de last 3 min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90920" y="46080"/>
            <a:ext cx="4340160" cy="1736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324480" y="2209680"/>
            <a:ext cx="23814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ides That Suc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1752480"/>
            <a:ext cx="1400040" cy="1400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162920" y="3352680"/>
            <a:ext cx="1400040" cy="1400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238880" y="5105520"/>
            <a:ext cx="1400400" cy="1400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1600200"/>
            <a:ext cx="64008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rides are for those shorter than 54” or with den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hanted Teac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ll fast asleep as you spin and rotate in these colorful teac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 Whe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150-foot Ferris wheel offers views of the park and natural woodland landscape. Sc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osemite Sam'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light Scho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ke planes go around in a circle. Fun for all age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oblem Definition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tle Juran is planning a day at Six Fla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k is open for 8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nts as much fun as possible for his allowance doll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not pay any extra amounts for r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14:56:09Z</dcterms:created>
  <dc:creator>Stern School</dc:creator>
  <dc:description/>
  <dc:language>en-US</dc:language>
  <cp:lastModifiedBy>Stern School</cp:lastModifiedBy>
  <dcterms:modified xsi:type="dcterms:W3CDTF">2003-05-08T00:56:12Z</dcterms:modified>
  <cp:revision>21</cp:revision>
  <dc:subject/>
  <dc:title>Great Adventure at Six Flags</dc:title>
</cp:coreProperties>
</file>