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136-3D55-499C-ACD8-92AC9D09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514-89FE-4B57-B6B0-79173FF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F06-3361-4190-B16B-C74F4E92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6E4-9C6A-4AFF-9E84-4A72082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E150-CB66-4F37-8C9F-CC386EF4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8D84-DB70-410A-8FC4-D28D412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3915-55B4-4135-93E6-B3D3E60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7F3-7D8B-4BAF-9875-1E48586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689-F9BD-41E5-84E7-EDB65D7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2742-FE46-4F1D-9749-68FAC29C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077D-3933-4170-8A5A-19F516B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8F5-AE68-4595-ADF1-52F5B7D7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6B1B-0BFD-477F-80DD-27C8D8F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CB32-AC50-4A3C-B99F-4837437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31C-8A2D-40D4-8D55-B727103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5F05-8927-46B7-B629-E2FD54AA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0CA-07F1-416B-ACEB-A26E3BD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915-8BB4-400A-83B6-90C07CC4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254-7ADF-4C27-93B3-4C7A6F23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EB5-DC97-44B4-BFA0-3AF369DF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598-A3E6-4FF4-A769-6B69D99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35B-DD35-4B71-BCDF-F86740E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CEC-B839-41B7-8539-5DEA9EFE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6EC-0687-493E-87D5-32D40A3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64C-2612-4595-9BD3-32C4A6B430C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800000"/>
            </a:solidFill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469-7C6C-435B-A67A-56DBE740235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aximizing Utility at McDonald’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ision Models, Spring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dd Burn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ott Gold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hwin Ram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wis Rubov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7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ids’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ef &amp;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40160" cy="3119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otential enhancem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aged kids’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 break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son to other restaur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mmended Daily Allowance of Nutrition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The model’s limit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minimizes dietary preferences, so the program will rarely face budg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account for value me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ting at McDonald’s is a poor health decision, regardless of what you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8987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Revolutionize fast food industr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t up kiosks in McDonalds that incorporate ordering and paymen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duce costs and processing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eople can potentially order more 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rove damaged image from obese children laws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how that company cares about country’s health conc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Objectives of the 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rg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ustomers who feel compelled to eat at McDonald’s yet observe a modicum of dietary cau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Identify the optimal meal given the target customer’s budget, dietary constraints and meal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Key features of the mod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Budg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Adult or Kids’ M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ietary Constra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ietary Pre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eal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Optimal meal, including tot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You feed it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0199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It digest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1517760"/>
            <a:ext cx="746784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then the data dumps out…</a:t>
            </a: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549440"/>
            <a:ext cx="746784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6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ult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43400" cy="329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Comparison of me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$7.00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ult m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335480" cy="380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46:49Z</dcterms:created>
  <dc:creator>Ashwin Ramji</dc:creator>
  <dc:description/>
  <dc:language>en-US</dc:language>
  <cp:lastModifiedBy>Lewis Rubovitz</cp:lastModifiedBy>
  <dcterms:modified xsi:type="dcterms:W3CDTF">2003-05-08T03:29:20Z</dcterms:modified>
  <cp:revision>19</cp:revision>
  <dc:subject/>
  <dc:title>Maximizing Utility at McDonald’s Decision Models, Spring 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95688514</vt:r8>
  </property>
  <property fmtid="{D5CDD505-2E9C-101B-9397-08002B2CF9AE}" pid="3" name="_AuthorEmail">
    <vt:lpwstr>aar241@softhome.net</vt:lpwstr>
  </property>
  <property fmtid="{D5CDD505-2E9C-101B-9397-08002B2CF9AE}" pid="4" name="_AuthorEmailDisplayName">
    <vt:lpwstr>Ashwin Ramji</vt:lpwstr>
  </property>
  <property fmtid="{D5CDD505-2E9C-101B-9397-08002B2CF9AE}" pid="5" name="_EmailSubject">
    <vt:lpwstr>slides</vt:lpwstr>
  </property>
</Properties>
</file>