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C42-AE01-4552-A1B9-E1F7622B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071-F2B0-43F5-9CC7-0981767F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C91-DEDE-4D27-8B1A-B8EA2D53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67D-54C8-40BB-B55C-DEAEA15B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B8F1-11EB-4B4D-BA50-3F5DE18F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1DD1-896A-486B-8E19-2D9A2C59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88A5-B6FD-4FEA-A474-F7E5CAD4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0928-EC75-4263-B33F-78241FC9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3855-5F5B-4F81-8EB6-A0BFDF45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075A-4690-466A-BA4D-D37A3243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A986-B2B1-46FD-8EF6-0EA94E63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406-DB8D-4274-80AF-0483B443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F3F6-6138-4A33-B7CA-65601390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AEA0-F215-4E73-AB3B-253038EF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9555-DB9F-4E1F-ADD7-0E536097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F725-7C17-419A-B0DE-A09533BB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CD4E-484A-4075-B220-274420CA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E72-AEA8-4148-A129-BEBABF09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DA4-C674-4DA0-9858-B0E9DE9F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165-783A-454B-ABFE-C9612837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819-885E-4571-8537-AF2AB22D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962-DF9D-4424-BFF0-8BCAE3A2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C7F-720C-4FF4-A657-9338578D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741-8225-4DCD-898C-BCD8C668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6B7C-E6B8-4E92-975B-6F02E8A24045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800000"/>
            </a:solidFill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006D-8FB3-4645-BA92-6DC33E8E5026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ximizing Utility at McDonald’s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 Models, Spring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dd Burn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ott Gold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hwin Ram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wis Rubov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Comparison of me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$7.00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ids’ m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ndw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s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ef &amp;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340160" cy="3119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otential enhanc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ckaged kids’ m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lude break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rison to other restaur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ommended Daily Allowance of Nutrition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The model’s limit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ypically minimizes dietary preferences, so the program will rarely face budgetary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es not account for value me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ting at McDonald’s is a poor health decision, regardless of what you 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28987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Revolutionize fast food industr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t up kiosks in McDonalds that incorporate ordering and payment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Reduce costs and processing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People can potentially order more f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rove damaged image from obese children laws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Show that company cares about country’s health concer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Objectives of the mod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arg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Customers who feel compelled to eat at McDonald’s yet observe a modicum of dietary cau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dentify the optimal meal given the target customer’s budget, dietary constraints and meal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Key features of the mod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p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Budg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Adult or Kids’ Me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ietary Constrai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ietary Prefer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Meal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Optimal meal, including tot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You feed it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601992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It digests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1517760"/>
            <a:ext cx="746784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then the data dumps out…</a:t>
            </a: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1549440"/>
            <a:ext cx="7467840" cy="33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Comparison of me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$6.00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ult m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ndw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s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343400" cy="329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Comparison of me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$7.00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ult m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s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335480" cy="3805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46:49Z</dcterms:created>
  <dc:creator>Ashwin Ramji</dc:creator>
  <dc:description/>
  <dc:language>en-US</dc:language>
  <cp:lastModifiedBy>Lewis Rubovitz</cp:lastModifiedBy>
  <dcterms:modified xsi:type="dcterms:W3CDTF">2003-05-08T03:29:20Z</dcterms:modified>
  <cp:revision>19</cp:revision>
  <dc:subject/>
  <dc:title>Maximizing Utility at McDonald’s Decision Models, Spring 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95688514</vt:r8>
  </property>
  <property fmtid="{D5CDD505-2E9C-101B-9397-08002B2CF9AE}" pid="3" name="_AuthorEmail">
    <vt:lpwstr>aar241@softhome.net</vt:lpwstr>
  </property>
  <property fmtid="{D5CDD505-2E9C-101B-9397-08002B2CF9AE}" pid="4" name="_AuthorEmailDisplayName">
    <vt:lpwstr>Ashwin Ramji</vt:lpwstr>
  </property>
  <property fmtid="{D5CDD505-2E9C-101B-9397-08002B2CF9AE}" pid="5" name="_EmailSubject">
    <vt:lpwstr>slides</vt:lpwstr>
  </property>
</Properties>
</file>