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3D5-8242-4967-A560-64CC2562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C7D-1A59-41B2-84A1-B77ABCB5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5E5-81F6-4FB3-A407-77B38C5C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A3B-33CA-47EB-B7E3-F22DB013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ACFD-8414-4D7B-AD51-A5937A1E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9796-6FD8-4F2B-8F0F-AF6E262D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B556-3C55-437F-A52F-683D4003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9786-340D-479A-98F7-06DA2A4A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1D8C-F361-4143-931C-9BD6DBB9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9BB0-2870-4EB9-AAC7-A52ED5CB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4A76-E4E0-438F-83D8-0515F32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B88-FEF7-4B05-9EFF-348AF4C5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AC28-4613-4171-A5FA-3D3DDAA3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A60A-7A92-44E8-8179-13BE8800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86BE-9BB9-4D52-B315-1E6E6C56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792B-EE49-4BD2-A24F-BADE9E27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0AF3-41E8-498B-9268-62F4C498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B3D-95EA-42EB-8246-324A98CC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9C7-793C-40BB-BA23-0FB6E7D7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8E7-9E51-463E-B656-FB6A220A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D77-499F-40D3-B7F7-21059917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A61-D428-419A-8AD0-6A6B633E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A02-2F3F-4181-A675-07A6CF67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B77-8293-46BC-AB97-A0F97475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A3E5-0DD6-4BC6-AD8F-D01555817C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0C55-FC74-4221-A47B-D1B169973BD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Brooklyn Brewery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esented By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vid Chap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drew Gribbi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h Kel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ris McGoldri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nnon “Nightrain” Nort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9880" y="380880"/>
            <a:ext cx="1365480" cy="13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Methodology: Method 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A Assum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on Amount = Forecasted Demand – Beer in Stock = Available Barr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s = Barrels Sold * Price of B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sts = Fixed Cost + (Barrels Produced * Variable Co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3525840" cy="21891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52584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Methodology: Method 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B Assum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on Amount = Forecasted Demand + Lefto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rels Not Sold = Max (Barrels Available – Barrels Sold,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le Barrels = Production Amount + Left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s = Barrels Sold * Price of B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sts = Fixed Cost + (Barrels Produced * Variable Co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3502080" cy="21891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35020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Methodology: Method 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C Assum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on Amount is determined monthly based on 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OQ = SQRT(2RS/hC) where R = Yearly Demand; S = Setup Costs; h = % Inventory Costs; C = (Variable Cost – S) *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that Variable Costs contain Setup Costs, assume S = $10 for all beer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914400" y="4419720"/>
            <a:ext cx="3525840" cy="21891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52584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com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nalysis of the three methods generated the following resul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the results we recommend Method B: Variable production plan that takes into account the inventory leftover from the previous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467480" cy="13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comes (cont’d):  Method 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873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229600" cy="1873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1523880" y="5486400"/>
            <a:ext cx="5923080" cy="10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bout Our Projec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l searched for the “right”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ident Gribbin has a boyhood dream of making beer for the m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ight bulb went off in “Nightrain” Norton’s 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15462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bout Our Project (Cont’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duled a visit to the Brooklyn Brewery in Brooklyn, 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 for hours with Chief Operating Offi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k a tour of the 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tested product at a local Brooklyn P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362320" y="3709800"/>
            <a:ext cx="4147920" cy="2756880"/>
            <a:chOff x="2362320" y="3709800"/>
            <a:chExt cx="4147920" cy="2756880"/>
          </a:xfrm>
        </p:grpSpPr>
        <p:grpSp>
          <p:nvGrpSpPr>
            <p:cNvPr id="99" name=""/>
            <p:cNvGrpSpPr/>
            <p:nvPr/>
          </p:nvGrpSpPr>
          <p:grpSpPr>
            <a:xfrm>
              <a:off x="2362320" y="3709800"/>
              <a:ext cx="4147920" cy="2756880"/>
              <a:chOff x="2362320" y="3709800"/>
              <a:chExt cx="4147920" cy="2756880"/>
            </a:xfrm>
          </p:grpSpPr>
          <p:sp>
            <p:nvSpPr>
              <p:cNvPr id="100" name=""/>
              <p:cNvSpPr/>
              <p:nvPr/>
            </p:nvSpPr>
            <p:spPr>
              <a:xfrm>
                <a:off x="2362320" y="5851440"/>
                <a:ext cx="4147920" cy="615240"/>
              </a:xfrm>
              <a:custGeom>
                <a:avLst/>
                <a:gdLst/>
                <a:ahLst/>
                <a:rect l="l" t="t" r="r" b="b"/>
                <a:pathLst>
                  <a:path w="5226" h="777">
                    <a:moveTo>
                      <a:pt x="0" y="198"/>
                    </a:moveTo>
                    <a:lnTo>
                      <a:pt x="376" y="179"/>
                    </a:lnTo>
                    <a:lnTo>
                      <a:pt x="1741" y="201"/>
                    </a:lnTo>
                    <a:lnTo>
                      <a:pt x="2724" y="86"/>
                    </a:lnTo>
                    <a:lnTo>
                      <a:pt x="3067" y="35"/>
                    </a:lnTo>
                    <a:lnTo>
                      <a:pt x="4890" y="5"/>
                    </a:lnTo>
                    <a:lnTo>
                      <a:pt x="5188" y="0"/>
                    </a:lnTo>
                    <a:lnTo>
                      <a:pt x="5139" y="56"/>
                    </a:lnTo>
                    <a:lnTo>
                      <a:pt x="5226" y="109"/>
                    </a:lnTo>
                    <a:lnTo>
                      <a:pt x="4729" y="319"/>
                    </a:lnTo>
                    <a:lnTo>
                      <a:pt x="4876" y="327"/>
                    </a:lnTo>
                    <a:lnTo>
                      <a:pt x="3840" y="485"/>
                    </a:lnTo>
                    <a:lnTo>
                      <a:pt x="4147" y="528"/>
                    </a:lnTo>
                    <a:lnTo>
                      <a:pt x="3198" y="637"/>
                    </a:lnTo>
                    <a:lnTo>
                      <a:pt x="3476" y="681"/>
                    </a:lnTo>
                    <a:lnTo>
                      <a:pt x="1799" y="777"/>
                    </a:lnTo>
                    <a:lnTo>
                      <a:pt x="1925" y="572"/>
                    </a:lnTo>
                    <a:lnTo>
                      <a:pt x="808" y="602"/>
                    </a:lnTo>
                    <a:lnTo>
                      <a:pt x="831" y="544"/>
                    </a:lnTo>
                    <a:lnTo>
                      <a:pt x="254" y="485"/>
                    </a:lnTo>
                    <a:lnTo>
                      <a:pt x="371" y="413"/>
                    </a:lnTo>
                    <a:lnTo>
                      <a:pt x="143" y="339"/>
                    </a:lnTo>
                    <a:lnTo>
                      <a:pt x="289" y="275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3709800"/>
                <a:ext cx="4136760" cy="2676240"/>
              </a:xfrm>
              <a:custGeom>
                <a:avLst/>
                <a:gdLst/>
                <a:ahLst/>
                <a:rect l="l" t="t" r="r" b="b"/>
                <a:pathLst>
                  <a:path w="5212" h="3374">
                    <a:moveTo>
                      <a:pt x="4943" y="2717"/>
                    </a:moveTo>
                    <a:lnTo>
                      <a:pt x="4978" y="2713"/>
                    </a:lnTo>
                    <a:lnTo>
                      <a:pt x="5011" y="2711"/>
                    </a:lnTo>
                    <a:lnTo>
                      <a:pt x="5044" y="2710"/>
                    </a:lnTo>
                    <a:lnTo>
                      <a:pt x="5077" y="2710"/>
                    </a:lnTo>
                    <a:lnTo>
                      <a:pt x="5109" y="2708"/>
                    </a:lnTo>
                    <a:lnTo>
                      <a:pt x="5142" y="2708"/>
                    </a:lnTo>
                    <a:lnTo>
                      <a:pt x="5175" y="2706"/>
                    </a:lnTo>
                    <a:lnTo>
                      <a:pt x="5212" y="2706"/>
                    </a:lnTo>
                    <a:lnTo>
                      <a:pt x="5212" y="2692"/>
                    </a:lnTo>
                    <a:lnTo>
                      <a:pt x="4948" y="2692"/>
                    </a:lnTo>
                    <a:lnTo>
                      <a:pt x="4941" y="2685"/>
                    </a:lnTo>
                    <a:lnTo>
                      <a:pt x="4939" y="2680"/>
                    </a:lnTo>
                    <a:lnTo>
                      <a:pt x="4941" y="2673"/>
                    </a:lnTo>
                    <a:lnTo>
                      <a:pt x="4943" y="2668"/>
                    </a:lnTo>
                    <a:lnTo>
                      <a:pt x="4937" y="2654"/>
                    </a:lnTo>
                    <a:lnTo>
                      <a:pt x="4944" y="2645"/>
                    </a:lnTo>
                    <a:lnTo>
                      <a:pt x="4955" y="2636"/>
                    </a:lnTo>
                    <a:lnTo>
                      <a:pt x="4964" y="2627"/>
                    </a:lnTo>
                    <a:lnTo>
                      <a:pt x="4967" y="2606"/>
                    </a:lnTo>
                    <a:lnTo>
                      <a:pt x="4967" y="2587"/>
                    </a:lnTo>
                    <a:lnTo>
                      <a:pt x="4964" y="2566"/>
                    </a:lnTo>
                    <a:lnTo>
                      <a:pt x="4960" y="2547"/>
                    </a:lnTo>
                    <a:lnTo>
                      <a:pt x="4951" y="2526"/>
                    </a:lnTo>
                    <a:lnTo>
                      <a:pt x="4943" y="2509"/>
                    </a:lnTo>
                    <a:lnTo>
                      <a:pt x="4932" y="2491"/>
                    </a:lnTo>
                    <a:lnTo>
                      <a:pt x="4923" y="2477"/>
                    </a:lnTo>
                    <a:lnTo>
                      <a:pt x="4911" y="2475"/>
                    </a:lnTo>
                    <a:lnTo>
                      <a:pt x="4904" y="2472"/>
                    </a:lnTo>
                    <a:lnTo>
                      <a:pt x="4899" y="2463"/>
                    </a:lnTo>
                    <a:lnTo>
                      <a:pt x="4895" y="2456"/>
                    </a:lnTo>
                    <a:lnTo>
                      <a:pt x="4892" y="2447"/>
                    </a:lnTo>
                    <a:lnTo>
                      <a:pt x="4888" y="2439"/>
                    </a:lnTo>
                    <a:lnTo>
                      <a:pt x="4883" y="2430"/>
                    </a:lnTo>
                    <a:lnTo>
                      <a:pt x="4880" y="2426"/>
                    </a:lnTo>
                    <a:lnTo>
                      <a:pt x="4876" y="2398"/>
                    </a:lnTo>
                    <a:lnTo>
                      <a:pt x="4871" y="2372"/>
                    </a:lnTo>
                    <a:lnTo>
                      <a:pt x="4864" y="2346"/>
                    </a:lnTo>
                    <a:lnTo>
                      <a:pt x="4855" y="2321"/>
                    </a:lnTo>
                    <a:lnTo>
                      <a:pt x="4843" y="2297"/>
                    </a:lnTo>
                    <a:lnTo>
                      <a:pt x="4831" y="2274"/>
                    </a:lnTo>
                    <a:lnTo>
                      <a:pt x="4817" y="2251"/>
                    </a:lnTo>
                    <a:lnTo>
                      <a:pt x="4803" y="2232"/>
                    </a:lnTo>
                    <a:lnTo>
                      <a:pt x="4794" y="2222"/>
                    </a:lnTo>
                    <a:lnTo>
                      <a:pt x="4785" y="2213"/>
                    </a:lnTo>
                    <a:lnTo>
                      <a:pt x="4776" y="2204"/>
                    </a:lnTo>
                    <a:lnTo>
                      <a:pt x="4768" y="2197"/>
                    </a:lnTo>
                    <a:lnTo>
                      <a:pt x="4757" y="2188"/>
                    </a:lnTo>
                    <a:lnTo>
                      <a:pt x="4748" y="2181"/>
                    </a:lnTo>
                    <a:lnTo>
                      <a:pt x="4740" y="2173"/>
                    </a:lnTo>
                    <a:lnTo>
                      <a:pt x="4736" y="2164"/>
                    </a:lnTo>
                    <a:lnTo>
                      <a:pt x="4717" y="2148"/>
                    </a:lnTo>
                    <a:lnTo>
                      <a:pt x="4699" y="2134"/>
                    </a:lnTo>
                    <a:lnTo>
                      <a:pt x="4680" y="2120"/>
                    </a:lnTo>
                    <a:lnTo>
                      <a:pt x="4663" y="2106"/>
                    </a:lnTo>
                    <a:lnTo>
                      <a:pt x="4643" y="2092"/>
                    </a:lnTo>
                    <a:lnTo>
                      <a:pt x="4624" y="2080"/>
                    </a:lnTo>
                    <a:lnTo>
                      <a:pt x="4603" y="2070"/>
                    </a:lnTo>
                    <a:lnTo>
                      <a:pt x="4584" y="2063"/>
                    </a:lnTo>
                    <a:lnTo>
                      <a:pt x="4561" y="2061"/>
                    </a:lnTo>
                    <a:lnTo>
                      <a:pt x="4523" y="2019"/>
                    </a:lnTo>
                    <a:lnTo>
                      <a:pt x="4481" y="1987"/>
                    </a:lnTo>
                    <a:lnTo>
                      <a:pt x="4437" y="1959"/>
                    </a:lnTo>
                    <a:lnTo>
                      <a:pt x="4391" y="1937"/>
                    </a:lnTo>
                    <a:lnTo>
                      <a:pt x="4344" y="1912"/>
                    </a:lnTo>
                    <a:lnTo>
                      <a:pt x="4297" y="1889"/>
                    </a:lnTo>
                    <a:lnTo>
                      <a:pt x="4251" y="1863"/>
                    </a:lnTo>
                    <a:lnTo>
                      <a:pt x="4210" y="1833"/>
                    </a:lnTo>
                    <a:lnTo>
                      <a:pt x="4157" y="1781"/>
                    </a:lnTo>
                    <a:lnTo>
                      <a:pt x="4105" y="1734"/>
                    </a:lnTo>
                    <a:lnTo>
                      <a:pt x="4054" y="1687"/>
                    </a:lnTo>
                    <a:lnTo>
                      <a:pt x="4005" y="1639"/>
                    </a:lnTo>
                    <a:lnTo>
                      <a:pt x="3954" y="1592"/>
                    </a:lnTo>
                    <a:lnTo>
                      <a:pt x="3905" y="1545"/>
                    </a:lnTo>
                    <a:lnTo>
                      <a:pt x="3856" y="1498"/>
                    </a:lnTo>
                    <a:lnTo>
                      <a:pt x="3807" y="1450"/>
                    </a:lnTo>
                    <a:lnTo>
                      <a:pt x="3765" y="1408"/>
                    </a:lnTo>
                    <a:lnTo>
                      <a:pt x="3725" y="1368"/>
                    </a:lnTo>
                    <a:lnTo>
                      <a:pt x="3685" y="1326"/>
                    </a:lnTo>
                    <a:lnTo>
                      <a:pt x="3644" y="1286"/>
                    </a:lnTo>
                    <a:lnTo>
                      <a:pt x="3601" y="1246"/>
                    </a:lnTo>
                    <a:lnTo>
                      <a:pt x="3559" y="1211"/>
                    </a:lnTo>
                    <a:lnTo>
                      <a:pt x="3513" y="1179"/>
                    </a:lnTo>
                    <a:lnTo>
                      <a:pt x="3468" y="1153"/>
                    </a:lnTo>
                    <a:lnTo>
                      <a:pt x="3469" y="1130"/>
                    </a:lnTo>
                    <a:lnTo>
                      <a:pt x="3476" y="1109"/>
                    </a:lnTo>
                    <a:lnTo>
                      <a:pt x="3482" y="1088"/>
                    </a:lnTo>
                    <a:lnTo>
                      <a:pt x="3492" y="1069"/>
                    </a:lnTo>
                    <a:lnTo>
                      <a:pt x="3501" y="1048"/>
                    </a:lnTo>
                    <a:lnTo>
                      <a:pt x="3511" y="1029"/>
                    </a:lnTo>
                    <a:lnTo>
                      <a:pt x="3522" y="1010"/>
                    </a:lnTo>
                    <a:lnTo>
                      <a:pt x="3534" y="992"/>
                    </a:lnTo>
                    <a:lnTo>
                      <a:pt x="3534" y="973"/>
                    </a:lnTo>
                    <a:lnTo>
                      <a:pt x="3536" y="954"/>
                    </a:lnTo>
                    <a:lnTo>
                      <a:pt x="3531" y="934"/>
                    </a:lnTo>
                    <a:lnTo>
                      <a:pt x="3527" y="919"/>
                    </a:lnTo>
                    <a:lnTo>
                      <a:pt x="3518" y="901"/>
                    </a:lnTo>
                    <a:lnTo>
                      <a:pt x="3510" y="885"/>
                    </a:lnTo>
                    <a:lnTo>
                      <a:pt x="3497" y="870"/>
                    </a:lnTo>
                    <a:lnTo>
                      <a:pt x="3487" y="859"/>
                    </a:lnTo>
                    <a:lnTo>
                      <a:pt x="3473" y="856"/>
                    </a:lnTo>
                    <a:lnTo>
                      <a:pt x="3462" y="854"/>
                    </a:lnTo>
                    <a:lnTo>
                      <a:pt x="3452" y="854"/>
                    </a:lnTo>
                    <a:lnTo>
                      <a:pt x="3441" y="854"/>
                    </a:lnTo>
                    <a:lnTo>
                      <a:pt x="3429" y="854"/>
                    </a:lnTo>
                    <a:lnTo>
                      <a:pt x="3419" y="854"/>
                    </a:lnTo>
                    <a:lnTo>
                      <a:pt x="3408" y="854"/>
                    </a:lnTo>
                    <a:lnTo>
                      <a:pt x="3398" y="856"/>
                    </a:lnTo>
                    <a:lnTo>
                      <a:pt x="3403" y="859"/>
                    </a:lnTo>
                    <a:lnTo>
                      <a:pt x="3317" y="899"/>
                    </a:lnTo>
                    <a:lnTo>
                      <a:pt x="3305" y="887"/>
                    </a:lnTo>
                    <a:lnTo>
                      <a:pt x="3298" y="870"/>
                    </a:lnTo>
                    <a:lnTo>
                      <a:pt x="3293" y="859"/>
                    </a:lnTo>
                    <a:lnTo>
                      <a:pt x="3287" y="852"/>
                    </a:lnTo>
                    <a:lnTo>
                      <a:pt x="3280" y="843"/>
                    </a:lnTo>
                    <a:lnTo>
                      <a:pt x="3273" y="840"/>
                    </a:lnTo>
                    <a:lnTo>
                      <a:pt x="3286" y="831"/>
                    </a:lnTo>
                    <a:lnTo>
                      <a:pt x="3298" y="828"/>
                    </a:lnTo>
                    <a:lnTo>
                      <a:pt x="3308" y="822"/>
                    </a:lnTo>
                    <a:lnTo>
                      <a:pt x="3312" y="812"/>
                    </a:lnTo>
                    <a:lnTo>
                      <a:pt x="3310" y="803"/>
                    </a:lnTo>
                    <a:lnTo>
                      <a:pt x="3305" y="800"/>
                    </a:lnTo>
                    <a:lnTo>
                      <a:pt x="3298" y="798"/>
                    </a:lnTo>
                    <a:lnTo>
                      <a:pt x="3291" y="798"/>
                    </a:lnTo>
                    <a:lnTo>
                      <a:pt x="3279" y="788"/>
                    </a:lnTo>
                    <a:lnTo>
                      <a:pt x="3273" y="774"/>
                    </a:lnTo>
                    <a:lnTo>
                      <a:pt x="3270" y="765"/>
                    </a:lnTo>
                    <a:lnTo>
                      <a:pt x="3268" y="760"/>
                    </a:lnTo>
                    <a:lnTo>
                      <a:pt x="3261" y="754"/>
                    </a:lnTo>
                    <a:lnTo>
                      <a:pt x="3252" y="753"/>
                    </a:lnTo>
                    <a:lnTo>
                      <a:pt x="3273" y="739"/>
                    </a:lnTo>
                    <a:lnTo>
                      <a:pt x="3289" y="737"/>
                    </a:lnTo>
                    <a:lnTo>
                      <a:pt x="3307" y="742"/>
                    </a:lnTo>
                    <a:lnTo>
                      <a:pt x="3321" y="749"/>
                    </a:lnTo>
                    <a:lnTo>
                      <a:pt x="3336" y="758"/>
                    </a:lnTo>
                    <a:lnTo>
                      <a:pt x="3349" y="756"/>
                    </a:lnTo>
                    <a:lnTo>
                      <a:pt x="3361" y="756"/>
                    </a:lnTo>
                    <a:lnTo>
                      <a:pt x="3373" y="753"/>
                    </a:lnTo>
                    <a:lnTo>
                      <a:pt x="3387" y="749"/>
                    </a:lnTo>
                    <a:lnTo>
                      <a:pt x="3399" y="739"/>
                    </a:lnTo>
                    <a:lnTo>
                      <a:pt x="3410" y="726"/>
                    </a:lnTo>
                    <a:lnTo>
                      <a:pt x="3417" y="711"/>
                    </a:lnTo>
                    <a:lnTo>
                      <a:pt x="3424" y="695"/>
                    </a:lnTo>
                    <a:lnTo>
                      <a:pt x="3419" y="677"/>
                    </a:lnTo>
                    <a:lnTo>
                      <a:pt x="3419" y="662"/>
                    </a:lnTo>
                    <a:lnTo>
                      <a:pt x="3415" y="646"/>
                    </a:lnTo>
                    <a:lnTo>
                      <a:pt x="3408" y="637"/>
                    </a:lnTo>
                    <a:lnTo>
                      <a:pt x="3382" y="602"/>
                    </a:lnTo>
                    <a:lnTo>
                      <a:pt x="3352" y="578"/>
                    </a:lnTo>
                    <a:lnTo>
                      <a:pt x="3317" y="560"/>
                    </a:lnTo>
                    <a:lnTo>
                      <a:pt x="3280" y="550"/>
                    </a:lnTo>
                    <a:lnTo>
                      <a:pt x="3238" y="541"/>
                    </a:lnTo>
                    <a:lnTo>
                      <a:pt x="3198" y="537"/>
                    </a:lnTo>
                    <a:lnTo>
                      <a:pt x="3156" y="536"/>
                    </a:lnTo>
                    <a:lnTo>
                      <a:pt x="3116" y="534"/>
                    </a:lnTo>
                    <a:lnTo>
                      <a:pt x="3114" y="522"/>
                    </a:lnTo>
                    <a:lnTo>
                      <a:pt x="3114" y="511"/>
                    </a:lnTo>
                    <a:lnTo>
                      <a:pt x="3113" y="502"/>
                    </a:lnTo>
                    <a:lnTo>
                      <a:pt x="3113" y="494"/>
                    </a:lnTo>
                    <a:lnTo>
                      <a:pt x="3107" y="476"/>
                    </a:lnTo>
                    <a:lnTo>
                      <a:pt x="3099" y="460"/>
                    </a:lnTo>
                    <a:lnTo>
                      <a:pt x="3109" y="420"/>
                    </a:lnTo>
                    <a:lnTo>
                      <a:pt x="3121" y="380"/>
                    </a:lnTo>
                    <a:lnTo>
                      <a:pt x="3128" y="338"/>
                    </a:lnTo>
                    <a:lnTo>
                      <a:pt x="3134" y="298"/>
                    </a:lnTo>
                    <a:lnTo>
                      <a:pt x="3132" y="256"/>
                    </a:lnTo>
                    <a:lnTo>
                      <a:pt x="3127" y="217"/>
                    </a:lnTo>
                    <a:lnTo>
                      <a:pt x="3113" y="179"/>
                    </a:lnTo>
                    <a:lnTo>
                      <a:pt x="3092" y="144"/>
                    </a:lnTo>
                    <a:lnTo>
                      <a:pt x="3069" y="105"/>
                    </a:lnTo>
                    <a:lnTo>
                      <a:pt x="3043" y="79"/>
                    </a:lnTo>
                    <a:lnTo>
                      <a:pt x="3011" y="58"/>
                    </a:lnTo>
                    <a:lnTo>
                      <a:pt x="2976" y="46"/>
                    </a:lnTo>
                    <a:lnTo>
                      <a:pt x="2938" y="35"/>
                    </a:lnTo>
                    <a:lnTo>
                      <a:pt x="2899" y="28"/>
                    </a:lnTo>
                    <a:lnTo>
                      <a:pt x="2861" y="23"/>
                    </a:lnTo>
                    <a:lnTo>
                      <a:pt x="2826" y="18"/>
                    </a:lnTo>
                    <a:lnTo>
                      <a:pt x="2768" y="11"/>
                    </a:lnTo>
                    <a:lnTo>
                      <a:pt x="2712" y="9"/>
                    </a:lnTo>
                    <a:lnTo>
                      <a:pt x="2656" y="13"/>
                    </a:lnTo>
                    <a:lnTo>
                      <a:pt x="2602" y="21"/>
                    </a:lnTo>
                    <a:lnTo>
                      <a:pt x="2547" y="27"/>
                    </a:lnTo>
                    <a:lnTo>
                      <a:pt x="2493" y="35"/>
                    </a:lnTo>
                    <a:lnTo>
                      <a:pt x="2441" y="39"/>
                    </a:lnTo>
                    <a:lnTo>
                      <a:pt x="2388" y="42"/>
                    </a:lnTo>
                    <a:lnTo>
                      <a:pt x="2388" y="35"/>
                    </a:lnTo>
                    <a:lnTo>
                      <a:pt x="2383" y="21"/>
                    </a:lnTo>
                    <a:lnTo>
                      <a:pt x="2376" y="13"/>
                    </a:lnTo>
                    <a:lnTo>
                      <a:pt x="2365" y="6"/>
                    </a:lnTo>
                    <a:lnTo>
                      <a:pt x="2355" y="4"/>
                    </a:lnTo>
                    <a:lnTo>
                      <a:pt x="2341" y="0"/>
                    </a:lnTo>
                    <a:lnTo>
                      <a:pt x="2327" y="0"/>
                    </a:lnTo>
                    <a:lnTo>
                      <a:pt x="2313" y="0"/>
                    </a:lnTo>
                    <a:lnTo>
                      <a:pt x="2301" y="2"/>
                    </a:lnTo>
                    <a:lnTo>
                      <a:pt x="2287" y="4"/>
                    </a:lnTo>
                    <a:lnTo>
                      <a:pt x="2273" y="9"/>
                    </a:lnTo>
                    <a:lnTo>
                      <a:pt x="2257" y="14"/>
                    </a:lnTo>
                    <a:lnTo>
                      <a:pt x="2245" y="25"/>
                    </a:lnTo>
                    <a:lnTo>
                      <a:pt x="2231" y="34"/>
                    </a:lnTo>
                    <a:lnTo>
                      <a:pt x="2222" y="46"/>
                    </a:lnTo>
                    <a:lnTo>
                      <a:pt x="2213" y="58"/>
                    </a:lnTo>
                    <a:lnTo>
                      <a:pt x="2211" y="74"/>
                    </a:lnTo>
                    <a:lnTo>
                      <a:pt x="2190" y="74"/>
                    </a:lnTo>
                    <a:lnTo>
                      <a:pt x="2169" y="79"/>
                    </a:lnTo>
                    <a:lnTo>
                      <a:pt x="2148" y="84"/>
                    </a:lnTo>
                    <a:lnTo>
                      <a:pt x="2129" y="91"/>
                    </a:lnTo>
                    <a:lnTo>
                      <a:pt x="2107" y="97"/>
                    </a:lnTo>
                    <a:lnTo>
                      <a:pt x="2086" y="104"/>
                    </a:lnTo>
                    <a:lnTo>
                      <a:pt x="2065" y="111"/>
                    </a:lnTo>
                    <a:lnTo>
                      <a:pt x="2044" y="118"/>
                    </a:lnTo>
                    <a:lnTo>
                      <a:pt x="1986" y="135"/>
                    </a:lnTo>
                    <a:lnTo>
                      <a:pt x="1930" y="154"/>
                    </a:lnTo>
                    <a:lnTo>
                      <a:pt x="1872" y="174"/>
                    </a:lnTo>
                    <a:lnTo>
                      <a:pt x="1816" y="196"/>
                    </a:lnTo>
                    <a:lnTo>
                      <a:pt x="1758" y="223"/>
                    </a:lnTo>
                    <a:lnTo>
                      <a:pt x="1708" y="254"/>
                    </a:lnTo>
                    <a:lnTo>
                      <a:pt x="1659" y="291"/>
                    </a:lnTo>
                    <a:lnTo>
                      <a:pt x="1615" y="340"/>
                    </a:lnTo>
                    <a:lnTo>
                      <a:pt x="1606" y="350"/>
                    </a:lnTo>
                    <a:lnTo>
                      <a:pt x="1599" y="361"/>
                    </a:lnTo>
                    <a:lnTo>
                      <a:pt x="1594" y="371"/>
                    </a:lnTo>
                    <a:lnTo>
                      <a:pt x="1590" y="382"/>
                    </a:lnTo>
                    <a:lnTo>
                      <a:pt x="1585" y="392"/>
                    </a:lnTo>
                    <a:lnTo>
                      <a:pt x="1580" y="404"/>
                    </a:lnTo>
                    <a:lnTo>
                      <a:pt x="1576" y="415"/>
                    </a:lnTo>
                    <a:lnTo>
                      <a:pt x="1576" y="427"/>
                    </a:lnTo>
                    <a:lnTo>
                      <a:pt x="1569" y="462"/>
                    </a:lnTo>
                    <a:lnTo>
                      <a:pt x="1571" y="497"/>
                    </a:lnTo>
                    <a:lnTo>
                      <a:pt x="1580" y="529"/>
                    </a:lnTo>
                    <a:lnTo>
                      <a:pt x="1594" y="562"/>
                    </a:lnTo>
                    <a:lnTo>
                      <a:pt x="1611" y="588"/>
                    </a:lnTo>
                    <a:lnTo>
                      <a:pt x="1634" y="614"/>
                    </a:lnTo>
                    <a:lnTo>
                      <a:pt x="1659" y="639"/>
                    </a:lnTo>
                    <a:lnTo>
                      <a:pt x="1687" y="662"/>
                    </a:lnTo>
                    <a:lnTo>
                      <a:pt x="1685" y="672"/>
                    </a:lnTo>
                    <a:lnTo>
                      <a:pt x="1685" y="684"/>
                    </a:lnTo>
                    <a:lnTo>
                      <a:pt x="1683" y="697"/>
                    </a:lnTo>
                    <a:lnTo>
                      <a:pt x="1685" y="709"/>
                    </a:lnTo>
                    <a:lnTo>
                      <a:pt x="1685" y="719"/>
                    </a:lnTo>
                    <a:lnTo>
                      <a:pt x="1688" y="732"/>
                    </a:lnTo>
                    <a:lnTo>
                      <a:pt x="1694" y="742"/>
                    </a:lnTo>
                    <a:lnTo>
                      <a:pt x="1706" y="753"/>
                    </a:lnTo>
                    <a:lnTo>
                      <a:pt x="1694" y="758"/>
                    </a:lnTo>
                    <a:lnTo>
                      <a:pt x="1681" y="763"/>
                    </a:lnTo>
                    <a:lnTo>
                      <a:pt x="1669" y="767"/>
                    </a:lnTo>
                    <a:lnTo>
                      <a:pt x="1659" y="772"/>
                    </a:lnTo>
                    <a:lnTo>
                      <a:pt x="1646" y="770"/>
                    </a:lnTo>
                    <a:lnTo>
                      <a:pt x="1634" y="770"/>
                    </a:lnTo>
                    <a:lnTo>
                      <a:pt x="1622" y="770"/>
                    </a:lnTo>
                    <a:lnTo>
                      <a:pt x="1611" y="770"/>
                    </a:lnTo>
                    <a:lnTo>
                      <a:pt x="1601" y="767"/>
                    </a:lnTo>
                    <a:lnTo>
                      <a:pt x="1590" y="765"/>
                    </a:lnTo>
                    <a:lnTo>
                      <a:pt x="1580" y="761"/>
                    </a:lnTo>
                    <a:lnTo>
                      <a:pt x="1571" y="758"/>
                    </a:lnTo>
                    <a:lnTo>
                      <a:pt x="1559" y="758"/>
                    </a:lnTo>
                    <a:lnTo>
                      <a:pt x="1555" y="768"/>
                    </a:lnTo>
                    <a:lnTo>
                      <a:pt x="1561" y="777"/>
                    </a:lnTo>
                    <a:lnTo>
                      <a:pt x="1569" y="784"/>
                    </a:lnTo>
                    <a:lnTo>
                      <a:pt x="1580" y="788"/>
                    </a:lnTo>
                    <a:lnTo>
                      <a:pt x="1592" y="791"/>
                    </a:lnTo>
                    <a:lnTo>
                      <a:pt x="1604" y="791"/>
                    </a:lnTo>
                    <a:lnTo>
                      <a:pt x="1618" y="791"/>
                    </a:lnTo>
                    <a:lnTo>
                      <a:pt x="1631" y="791"/>
                    </a:lnTo>
                    <a:lnTo>
                      <a:pt x="1645" y="793"/>
                    </a:lnTo>
                    <a:lnTo>
                      <a:pt x="1650" y="798"/>
                    </a:lnTo>
                    <a:lnTo>
                      <a:pt x="1636" y="805"/>
                    </a:lnTo>
                    <a:lnTo>
                      <a:pt x="1622" y="803"/>
                    </a:lnTo>
                    <a:lnTo>
                      <a:pt x="1615" y="802"/>
                    </a:lnTo>
                    <a:lnTo>
                      <a:pt x="1608" y="803"/>
                    </a:lnTo>
                    <a:lnTo>
                      <a:pt x="1603" y="807"/>
                    </a:lnTo>
                    <a:lnTo>
                      <a:pt x="1599" y="816"/>
                    </a:lnTo>
                    <a:lnTo>
                      <a:pt x="1604" y="821"/>
                    </a:lnTo>
                    <a:lnTo>
                      <a:pt x="1606" y="828"/>
                    </a:lnTo>
                    <a:lnTo>
                      <a:pt x="1580" y="826"/>
                    </a:lnTo>
                    <a:lnTo>
                      <a:pt x="1557" y="829"/>
                    </a:lnTo>
                    <a:lnTo>
                      <a:pt x="1534" y="835"/>
                    </a:lnTo>
                    <a:lnTo>
                      <a:pt x="1512" y="842"/>
                    </a:lnTo>
                    <a:lnTo>
                      <a:pt x="1489" y="849"/>
                    </a:lnTo>
                    <a:lnTo>
                      <a:pt x="1468" y="857"/>
                    </a:lnTo>
                    <a:lnTo>
                      <a:pt x="1445" y="863"/>
                    </a:lnTo>
                    <a:lnTo>
                      <a:pt x="1424" y="870"/>
                    </a:lnTo>
                    <a:lnTo>
                      <a:pt x="1422" y="878"/>
                    </a:lnTo>
                    <a:lnTo>
                      <a:pt x="1429" y="889"/>
                    </a:lnTo>
                    <a:lnTo>
                      <a:pt x="1440" y="889"/>
                    </a:lnTo>
                    <a:lnTo>
                      <a:pt x="1454" y="885"/>
                    </a:lnTo>
                    <a:lnTo>
                      <a:pt x="1466" y="880"/>
                    </a:lnTo>
                    <a:lnTo>
                      <a:pt x="1480" y="877"/>
                    </a:lnTo>
                    <a:lnTo>
                      <a:pt x="1489" y="884"/>
                    </a:lnTo>
                    <a:lnTo>
                      <a:pt x="1499" y="891"/>
                    </a:lnTo>
                    <a:lnTo>
                      <a:pt x="1489" y="892"/>
                    </a:lnTo>
                    <a:lnTo>
                      <a:pt x="1477" y="894"/>
                    </a:lnTo>
                    <a:lnTo>
                      <a:pt x="1468" y="898"/>
                    </a:lnTo>
                    <a:lnTo>
                      <a:pt x="1464" y="908"/>
                    </a:lnTo>
                    <a:lnTo>
                      <a:pt x="1470" y="917"/>
                    </a:lnTo>
                    <a:lnTo>
                      <a:pt x="1480" y="922"/>
                    </a:lnTo>
                    <a:lnTo>
                      <a:pt x="1489" y="922"/>
                    </a:lnTo>
                    <a:lnTo>
                      <a:pt x="1499" y="924"/>
                    </a:lnTo>
                    <a:lnTo>
                      <a:pt x="1487" y="924"/>
                    </a:lnTo>
                    <a:lnTo>
                      <a:pt x="1478" y="929"/>
                    </a:lnTo>
                    <a:lnTo>
                      <a:pt x="1468" y="934"/>
                    </a:lnTo>
                    <a:lnTo>
                      <a:pt x="1463" y="943"/>
                    </a:lnTo>
                    <a:lnTo>
                      <a:pt x="1449" y="959"/>
                    </a:lnTo>
                    <a:lnTo>
                      <a:pt x="1435" y="978"/>
                    </a:lnTo>
                    <a:lnTo>
                      <a:pt x="1443" y="989"/>
                    </a:lnTo>
                    <a:lnTo>
                      <a:pt x="1456" y="994"/>
                    </a:lnTo>
                    <a:lnTo>
                      <a:pt x="1470" y="992"/>
                    </a:lnTo>
                    <a:lnTo>
                      <a:pt x="1484" y="994"/>
                    </a:lnTo>
                    <a:lnTo>
                      <a:pt x="1463" y="1025"/>
                    </a:lnTo>
                    <a:lnTo>
                      <a:pt x="1459" y="1034"/>
                    </a:lnTo>
                    <a:lnTo>
                      <a:pt x="1464" y="1043"/>
                    </a:lnTo>
                    <a:lnTo>
                      <a:pt x="1471" y="1041"/>
                    </a:lnTo>
                    <a:lnTo>
                      <a:pt x="1477" y="1043"/>
                    </a:lnTo>
                    <a:lnTo>
                      <a:pt x="1478" y="1046"/>
                    </a:lnTo>
                    <a:lnTo>
                      <a:pt x="1482" y="1052"/>
                    </a:lnTo>
                    <a:lnTo>
                      <a:pt x="1482" y="1062"/>
                    </a:lnTo>
                    <a:lnTo>
                      <a:pt x="1489" y="1071"/>
                    </a:lnTo>
                    <a:lnTo>
                      <a:pt x="1475" y="1071"/>
                    </a:lnTo>
                    <a:lnTo>
                      <a:pt x="1464" y="1076"/>
                    </a:lnTo>
                    <a:lnTo>
                      <a:pt x="1452" y="1081"/>
                    </a:lnTo>
                    <a:lnTo>
                      <a:pt x="1442" y="1090"/>
                    </a:lnTo>
                    <a:lnTo>
                      <a:pt x="1431" y="1095"/>
                    </a:lnTo>
                    <a:lnTo>
                      <a:pt x="1421" y="1104"/>
                    </a:lnTo>
                    <a:lnTo>
                      <a:pt x="1410" y="1113"/>
                    </a:lnTo>
                    <a:lnTo>
                      <a:pt x="1401" y="1123"/>
                    </a:lnTo>
                    <a:lnTo>
                      <a:pt x="1386" y="1139"/>
                    </a:lnTo>
                    <a:lnTo>
                      <a:pt x="1372" y="1158"/>
                    </a:lnTo>
                    <a:lnTo>
                      <a:pt x="1361" y="1176"/>
                    </a:lnTo>
                    <a:lnTo>
                      <a:pt x="1352" y="1197"/>
                    </a:lnTo>
                    <a:lnTo>
                      <a:pt x="1344" y="1216"/>
                    </a:lnTo>
                    <a:lnTo>
                      <a:pt x="1340" y="1237"/>
                    </a:lnTo>
                    <a:lnTo>
                      <a:pt x="1338" y="1260"/>
                    </a:lnTo>
                    <a:lnTo>
                      <a:pt x="1344" y="1284"/>
                    </a:lnTo>
                    <a:lnTo>
                      <a:pt x="1321" y="1288"/>
                    </a:lnTo>
                    <a:lnTo>
                      <a:pt x="1302" y="1296"/>
                    </a:lnTo>
                    <a:lnTo>
                      <a:pt x="1281" y="1305"/>
                    </a:lnTo>
                    <a:lnTo>
                      <a:pt x="1265" y="1319"/>
                    </a:lnTo>
                    <a:lnTo>
                      <a:pt x="1247" y="1330"/>
                    </a:lnTo>
                    <a:lnTo>
                      <a:pt x="1230" y="1344"/>
                    </a:lnTo>
                    <a:lnTo>
                      <a:pt x="1212" y="1358"/>
                    </a:lnTo>
                    <a:lnTo>
                      <a:pt x="1197" y="1372"/>
                    </a:lnTo>
                    <a:lnTo>
                      <a:pt x="1186" y="1382"/>
                    </a:lnTo>
                    <a:lnTo>
                      <a:pt x="1177" y="1394"/>
                    </a:lnTo>
                    <a:lnTo>
                      <a:pt x="1167" y="1405"/>
                    </a:lnTo>
                    <a:lnTo>
                      <a:pt x="1158" y="1417"/>
                    </a:lnTo>
                    <a:lnTo>
                      <a:pt x="1148" y="1428"/>
                    </a:lnTo>
                    <a:lnTo>
                      <a:pt x="1137" y="1438"/>
                    </a:lnTo>
                    <a:lnTo>
                      <a:pt x="1127" y="1449"/>
                    </a:lnTo>
                    <a:lnTo>
                      <a:pt x="1120" y="1464"/>
                    </a:lnTo>
                    <a:lnTo>
                      <a:pt x="1111" y="1480"/>
                    </a:lnTo>
                    <a:lnTo>
                      <a:pt x="1104" y="1498"/>
                    </a:lnTo>
                    <a:lnTo>
                      <a:pt x="1093" y="1513"/>
                    </a:lnTo>
                    <a:lnTo>
                      <a:pt x="1083" y="1531"/>
                    </a:lnTo>
                    <a:lnTo>
                      <a:pt x="1071" y="1547"/>
                    </a:lnTo>
                    <a:lnTo>
                      <a:pt x="1059" y="1562"/>
                    </a:lnTo>
                    <a:lnTo>
                      <a:pt x="1048" y="1578"/>
                    </a:lnTo>
                    <a:lnTo>
                      <a:pt x="1041" y="1597"/>
                    </a:lnTo>
                    <a:lnTo>
                      <a:pt x="1027" y="1617"/>
                    </a:lnTo>
                    <a:lnTo>
                      <a:pt x="1015" y="1638"/>
                    </a:lnTo>
                    <a:lnTo>
                      <a:pt x="999" y="1655"/>
                    </a:lnTo>
                    <a:lnTo>
                      <a:pt x="983" y="1673"/>
                    </a:lnTo>
                    <a:lnTo>
                      <a:pt x="968" y="1688"/>
                    </a:lnTo>
                    <a:lnTo>
                      <a:pt x="952" y="1707"/>
                    </a:lnTo>
                    <a:lnTo>
                      <a:pt x="938" y="1725"/>
                    </a:lnTo>
                    <a:lnTo>
                      <a:pt x="929" y="1748"/>
                    </a:lnTo>
                    <a:lnTo>
                      <a:pt x="922" y="1755"/>
                    </a:lnTo>
                    <a:lnTo>
                      <a:pt x="919" y="1765"/>
                    </a:lnTo>
                    <a:lnTo>
                      <a:pt x="915" y="1776"/>
                    </a:lnTo>
                    <a:lnTo>
                      <a:pt x="913" y="1786"/>
                    </a:lnTo>
                    <a:lnTo>
                      <a:pt x="908" y="1795"/>
                    </a:lnTo>
                    <a:lnTo>
                      <a:pt x="905" y="1804"/>
                    </a:lnTo>
                    <a:lnTo>
                      <a:pt x="898" y="1811"/>
                    </a:lnTo>
                    <a:lnTo>
                      <a:pt x="891" y="1818"/>
                    </a:lnTo>
                    <a:lnTo>
                      <a:pt x="859" y="1846"/>
                    </a:lnTo>
                    <a:lnTo>
                      <a:pt x="829" y="1874"/>
                    </a:lnTo>
                    <a:lnTo>
                      <a:pt x="798" y="1902"/>
                    </a:lnTo>
                    <a:lnTo>
                      <a:pt x="768" y="1933"/>
                    </a:lnTo>
                    <a:lnTo>
                      <a:pt x="737" y="1961"/>
                    </a:lnTo>
                    <a:lnTo>
                      <a:pt x="710" y="1994"/>
                    </a:lnTo>
                    <a:lnTo>
                      <a:pt x="684" y="2028"/>
                    </a:lnTo>
                    <a:lnTo>
                      <a:pt x="663" y="2066"/>
                    </a:lnTo>
                    <a:lnTo>
                      <a:pt x="658" y="2077"/>
                    </a:lnTo>
                    <a:lnTo>
                      <a:pt x="654" y="2089"/>
                    </a:lnTo>
                    <a:lnTo>
                      <a:pt x="651" y="2099"/>
                    </a:lnTo>
                    <a:lnTo>
                      <a:pt x="647" y="2112"/>
                    </a:lnTo>
                    <a:lnTo>
                      <a:pt x="642" y="2122"/>
                    </a:lnTo>
                    <a:lnTo>
                      <a:pt x="637" y="2134"/>
                    </a:lnTo>
                    <a:lnTo>
                      <a:pt x="633" y="2147"/>
                    </a:lnTo>
                    <a:lnTo>
                      <a:pt x="633" y="2162"/>
                    </a:lnTo>
                    <a:lnTo>
                      <a:pt x="612" y="2174"/>
                    </a:lnTo>
                    <a:lnTo>
                      <a:pt x="595" y="2190"/>
                    </a:lnTo>
                    <a:lnTo>
                      <a:pt x="577" y="2206"/>
                    </a:lnTo>
                    <a:lnTo>
                      <a:pt x="562" y="2223"/>
                    </a:lnTo>
                    <a:lnTo>
                      <a:pt x="546" y="2239"/>
                    </a:lnTo>
                    <a:lnTo>
                      <a:pt x="535" y="2260"/>
                    </a:lnTo>
                    <a:lnTo>
                      <a:pt x="525" y="2279"/>
                    </a:lnTo>
                    <a:lnTo>
                      <a:pt x="518" y="2304"/>
                    </a:lnTo>
                    <a:lnTo>
                      <a:pt x="478" y="2353"/>
                    </a:lnTo>
                    <a:lnTo>
                      <a:pt x="441" y="2404"/>
                    </a:lnTo>
                    <a:lnTo>
                      <a:pt x="406" y="2456"/>
                    </a:lnTo>
                    <a:lnTo>
                      <a:pt x="376" y="2510"/>
                    </a:lnTo>
                    <a:lnTo>
                      <a:pt x="350" y="2566"/>
                    </a:lnTo>
                    <a:lnTo>
                      <a:pt x="332" y="2626"/>
                    </a:lnTo>
                    <a:lnTo>
                      <a:pt x="322" y="2687"/>
                    </a:lnTo>
                    <a:lnTo>
                      <a:pt x="325" y="2755"/>
                    </a:lnTo>
                    <a:lnTo>
                      <a:pt x="325" y="2771"/>
                    </a:lnTo>
                    <a:lnTo>
                      <a:pt x="331" y="2788"/>
                    </a:lnTo>
                    <a:lnTo>
                      <a:pt x="336" y="2804"/>
                    </a:lnTo>
                    <a:lnTo>
                      <a:pt x="346" y="2818"/>
                    </a:lnTo>
                    <a:lnTo>
                      <a:pt x="345" y="2830"/>
                    </a:lnTo>
                    <a:lnTo>
                      <a:pt x="346" y="2844"/>
                    </a:lnTo>
                    <a:lnTo>
                      <a:pt x="345" y="2857"/>
                    </a:lnTo>
                    <a:lnTo>
                      <a:pt x="343" y="2871"/>
                    </a:lnTo>
                    <a:lnTo>
                      <a:pt x="327" y="2869"/>
                    </a:lnTo>
                    <a:lnTo>
                      <a:pt x="313" y="2865"/>
                    </a:lnTo>
                    <a:lnTo>
                      <a:pt x="275" y="2865"/>
                    </a:lnTo>
                    <a:lnTo>
                      <a:pt x="238" y="2869"/>
                    </a:lnTo>
                    <a:lnTo>
                      <a:pt x="198" y="2869"/>
                    </a:lnTo>
                    <a:lnTo>
                      <a:pt x="157" y="2872"/>
                    </a:lnTo>
                    <a:lnTo>
                      <a:pt x="115" y="2872"/>
                    </a:lnTo>
                    <a:lnTo>
                      <a:pt x="75" y="2874"/>
                    </a:lnTo>
                    <a:lnTo>
                      <a:pt x="37" y="2876"/>
                    </a:lnTo>
                    <a:lnTo>
                      <a:pt x="0" y="2878"/>
                    </a:lnTo>
                    <a:lnTo>
                      <a:pt x="0" y="2897"/>
                    </a:lnTo>
                    <a:lnTo>
                      <a:pt x="42" y="2897"/>
                    </a:lnTo>
                    <a:lnTo>
                      <a:pt x="86" y="2897"/>
                    </a:lnTo>
                    <a:lnTo>
                      <a:pt x="129" y="2895"/>
                    </a:lnTo>
                    <a:lnTo>
                      <a:pt x="177" y="2895"/>
                    </a:lnTo>
                    <a:lnTo>
                      <a:pt x="220" y="2892"/>
                    </a:lnTo>
                    <a:lnTo>
                      <a:pt x="266" y="2892"/>
                    </a:lnTo>
                    <a:lnTo>
                      <a:pt x="310" y="2890"/>
                    </a:lnTo>
                    <a:lnTo>
                      <a:pt x="355" y="2892"/>
                    </a:lnTo>
                    <a:lnTo>
                      <a:pt x="355" y="2902"/>
                    </a:lnTo>
                    <a:lnTo>
                      <a:pt x="334" y="2906"/>
                    </a:lnTo>
                    <a:lnTo>
                      <a:pt x="315" y="2909"/>
                    </a:lnTo>
                    <a:lnTo>
                      <a:pt x="296" y="2911"/>
                    </a:lnTo>
                    <a:lnTo>
                      <a:pt x="276" y="2914"/>
                    </a:lnTo>
                    <a:lnTo>
                      <a:pt x="255" y="2914"/>
                    </a:lnTo>
                    <a:lnTo>
                      <a:pt x="234" y="2916"/>
                    </a:lnTo>
                    <a:lnTo>
                      <a:pt x="215" y="2918"/>
                    </a:lnTo>
                    <a:lnTo>
                      <a:pt x="196" y="2921"/>
                    </a:lnTo>
                    <a:lnTo>
                      <a:pt x="215" y="2920"/>
                    </a:lnTo>
                    <a:lnTo>
                      <a:pt x="234" y="2921"/>
                    </a:lnTo>
                    <a:lnTo>
                      <a:pt x="254" y="2925"/>
                    </a:lnTo>
                    <a:lnTo>
                      <a:pt x="273" y="2928"/>
                    </a:lnTo>
                    <a:lnTo>
                      <a:pt x="292" y="2928"/>
                    </a:lnTo>
                    <a:lnTo>
                      <a:pt x="311" y="2928"/>
                    </a:lnTo>
                    <a:lnTo>
                      <a:pt x="332" y="2927"/>
                    </a:lnTo>
                    <a:lnTo>
                      <a:pt x="355" y="2925"/>
                    </a:lnTo>
                    <a:lnTo>
                      <a:pt x="360" y="2914"/>
                    </a:lnTo>
                    <a:lnTo>
                      <a:pt x="366" y="2920"/>
                    </a:lnTo>
                    <a:lnTo>
                      <a:pt x="366" y="2925"/>
                    </a:lnTo>
                    <a:lnTo>
                      <a:pt x="369" y="2932"/>
                    </a:lnTo>
                    <a:lnTo>
                      <a:pt x="373" y="2937"/>
                    </a:lnTo>
                    <a:lnTo>
                      <a:pt x="371" y="2944"/>
                    </a:lnTo>
                    <a:lnTo>
                      <a:pt x="343" y="2942"/>
                    </a:lnTo>
                    <a:lnTo>
                      <a:pt x="317" y="2942"/>
                    </a:lnTo>
                    <a:lnTo>
                      <a:pt x="289" y="2944"/>
                    </a:lnTo>
                    <a:lnTo>
                      <a:pt x="262" y="2948"/>
                    </a:lnTo>
                    <a:lnTo>
                      <a:pt x="234" y="2951"/>
                    </a:lnTo>
                    <a:lnTo>
                      <a:pt x="208" y="2955"/>
                    </a:lnTo>
                    <a:lnTo>
                      <a:pt x="182" y="2958"/>
                    </a:lnTo>
                    <a:lnTo>
                      <a:pt x="156" y="2963"/>
                    </a:lnTo>
                    <a:lnTo>
                      <a:pt x="178" y="2963"/>
                    </a:lnTo>
                    <a:lnTo>
                      <a:pt x="203" y="2963"/>
                    </a:lnTo>
                    <a:lnTo>
                      <a:pt x="227" y="2963"/>
                    </a:lnTo>
                    <a:lnTo>
                      <a:pt x="252" y="2963"/>
                    </a:lnTo>
                    <a:lnTo>
                      <a:pt x="275" y="2963"/>
                    </a:lnTo>
                    <a:lnTo>
                      <a:pt x="299" y="2963"/>
                    </a:lnTo>
                    <a:lnTo>
                      <a:pt x="324" y="2963"/>
                    </a:lnTo>
                    <a:lnTo>
                      <a:pt x="350" y="2963"/>
                    </a:lnTo>
                    <a:lnTo>
                      <a:pt x="359" y="2962"/>
                    </a:lnTo>
                    <a:lnTo>
                      <a:pt x="369" y="2965"/>
                    </a:lnTo>
                    <a:lnTo>
                      <a:pt x="378" y="2967"/>
                    </a:lnTo>
                    <a:lnTo>
                      <a:pt x="387" y="2963"/>
                    </a:lnTo>
                    <a:lnTo>
                      <a:pt x="394" y="2963"/>
                    </a:lnTo>
                    <a:lnTo>
                      <a:pt x="402" y="2969"/>
                    </a:lnTo>
                    <a:lnTo>
                      <a:pt x="408" y="2972"/>
                    </a:lnTo>
                    <a:lnTo>
                      <a:pt x="409" y="2979"/>
                    </a:lnTo>
                    <a:lnTo>
                      <a:pt x="187" y="3004"/>
                    </a:lnTo>
                    <a:lnTo>
                      <a:pt x="213" y="3002"/>
                    </a:lnTo>
                    <a:lnTo>
                      <a:pt x="240" y="3002"/>
                    </a:lnTo>
                    <a:lnTo>
                      <a:pt x="268" y="3002"/>
                    </a:lnTo>
                    <a:lnTo>
                      <a:pt x="297" y="3004"/>
                    </a:lnTo>
                    <a:lnTo>
                      <a:pt x="324" y="3002"/>
                    </a:lnTo>
                    <a:lnTo>
                      <a:pt x="353" y="3002"/>
                    </a:lnTo>
                    <a:lnTo>
                      <a:pt x="380" y="3000"/>
                    </a:lnTo>
                    <a:lnTo>
                      <a:pt x="409" y="2998"/>
                    </a:lnTo>
                    <a:lnTo>
                      <a:pt x="416" y="3000"/>
                    </a:lnTo>
                    <a:lnTo>
                      <a:pt x="425" y="3002"/>
                    </a:lnTo>
                    <a:lnTo>
                      <a:pt x="432" y="3002"/>
                    </a:lnTo>
                    <a:lnTo>
                      <a:pt x="439" y="2998"/>
                    </a:lnTo>
                    <a:lnTo>
                      <a:pt x="450" y="3002"/>
                    </a:lnTo>
                    <a:lnTo>
                      <a:pt x="458" y="3011"/>
                    </a:lnTo>
                    <a:lnTo>
                      <a:pt x="464" y="3019"/>
                    </a:lnTo>
                    <a:lnTo>
                      <a:pt x="467" y="3028"/>
                    </a:lnTo>
                    <a:lnTo>
                      <a:pt x="303" y="3047"/>
                    </a:lnTo>
                    <a:lnTo>
                      <a:pt x="325" y="3049"/>
                    </a:lnTo>
                    <a:lnTo>
                      <a:pt x="348" y="3051"/>
                    </a:lnTo>
                    <a:lnTo>
                      <a:pt x="371" y="3051"/>
                    </a:lnTo>
                    <a:lnTo>
                      <a:pt x="394" y="3052"/>
                    </a:lnTo>
                    <a:lnTo>
                      <a:pt x="415" y="3051"/>
                    </a:lnTo>
                    <a:lnTo>
                      <a:pt x="437" y="3051"/>
                    </a:lnTo>
                    <a:lnTo>
                      <a:pt x="460" y="3049"/>
                    </a:lnTo>
                    <a:lnTo>
                      <a:pt x="483" y="3047"/>
                    </a:lnTo>
                    <a:lnTo>
                      <a:pt x="492" y="3058"/>
                    </a:lnTo>
                    <a:lnTo>
                      <a:pt x="502" y="3070"/>
                    </a:lnTo>
                    <a:lnTo>
                      <a:pt x="514" y="3079"/>
                    </a:lnTo>
                    <a:lnTo>
                      <a:pt x="528" y="3089"/>
                    </a:lnTo>
                    <a:lnTo>
                      <a:pt x="541" y="3096"/>
                    </a:lnTo>
                    <a:lnTo>
                      <a:pt x="555" y="3107"/>
                    </a:lnTo>
                    <a:lnTo>
                      <a:pt x="567" y="3114"/>
                    </a:lnTo>
                    <a:lnTo>
                      <a:pt x="581" y="3124"/>
                    </a:lnTo>
                    <a:lnTo>
                      <a:pt x="558" y="3126"/>
                    </a:lnTo>
                    <a:lnTo>
                      <a:pt x="535" y="3129"/>
                    </a:lnTo>
                    <a:lnTo>
                      <a:pt x="513" y="3131"/>
                    </a:lnTo>
                    <a:lnTo>
                      <a:pt x="492" y="3136"/>
                    </a:lnTo>
                    <a:lnTo>
                      <a:pt x="469" y="3138"/>
                    </a:lnTo>
                    <a:lnTo>
                      <a:pt x="446" y="3140"/>
                    </a:lnTo>
                    <a:lnTo>
                      <a:pt x="425" y="3142"/>
                    </a:lnTo>
                    <a:lnTo>
                      <a:pt x="404" y="3145"/>
                    </a:lnTo>
                    <a:lnTo>
                      <a:pt x="395" y="3150"/>
                    </a:lnTo>
                    <a:lnTo>
                      <a:pt x="413" y="3149"/>
                    </a:lnTo>
                    <a:lnTo>
                      <a:pt x="432" y="3149"/>
                    </a:lnTo>
                    <a:lnTo>
                      <a:pt x="450" y="3149"/>
                    </a:lnTo>
                    <a:lnTo>
                      <a:pt x="469" y="3149"/>
                    </a:lnTo>
                    <a:lnTo>
                      <a:pt x="486" y="3147"/>
                    </a:lnTo>
                    <a:lnTo>
                      <a:pt x="506" y="3145"/>
                    </a:lnTo>
                    <a:lnTo>
                      <a:pt x="523" y="3143"/>
                    </a:lnTo>
                    <a:lnTo>
                      <a:pt x="544" y="3143"/>
                    </a:lnTo>
                    <a:lnTo>
                      <a:pt x="565" y="3131"/>
                    </a:lnTo>
                    <a:lnTo>
                      <a:pt x="588" y="3129"/>
                    </a:lnTo>
                    <a:lnTo>
                      <a:pt x="611" y="3131"/>
                    </a:lnTo>
                    <a:lnTo>
                      <a:pt x="633" y="3138"/>
                    </a:lnTo>
                    <a:lnTo>
                      <a:pt x="654" y="3143"/>
                    </a:lnTo>
                    <a:lnTo>
                      <a:pt x="677" y="3149"/>
                    </a:lnTo>
                    <a:lnTo>
                      <a:pt x="700" y="3152"/>
                    </a:lnTo>
                    <a:lnTo>
                      <a:pt x="726" y="3154"/>
                    </a:lnTo>
                    <a:lnTo>
                      <a:pt x="712" y="3157"/>
                    </a:lnTo>
                    <a:lnTo>
                      <a:pt x="698" y="3161"/>
                    </a:lnTo>
                    <a:lnTo>
                      <a:pt x="684" y="3163"/>
                    </a:lnTo>
                    <a:lnTo>
                      <a:pt x="672" y="3164"/>
                    </a:lnTo>
                    <a:lnTo>
                      <a:pt x="656" y="3166"/>
                    </a:lnTo>
                    <a:lnTo>
                      <a:pt x="644" y="3168"/>
                    </a:lnTo>
                    <a:lnTo>
                      <a:pt x="630" y="3170"/>
                    </a:lnTo>
                    <a:lnTo>
                      <a:pt x="618" y="3175"/>
                    </a:lnTo>
                    <a:lnTo>
                      <a:pt x="637" y="3170"/>
                    </a:lnTo>
                    <a:lnTo>
                      <a:pt x="660" y="3170"/>
                    </a:lnTo>
                    <a:lnTo>
                      <a:pt x="681" y="3170"/>
                    </a:lnTo>
                    <a:lnTo>
                      <a:pt x="705" y="3170"/>
                    </a:lnTo>
                    <a:lnTo>
                      <a:pt x="726" y="3166"/>
                    </a:lnTo>
                    <a:lnTo>
                      <a:pt x="747" y="3164"/>
                    </a:lnTo>
                    <a:lnTo>
                      <a:pt x="766" y="3159"/>
                    </a:lnTo>
                    <a:lnTo>
                      <a:pt x="787" y="3154"/>
                    </a:lnTo>
                    <a:lnTo>
                      <a:pt x="819" y="3154"/>
                    </a:lnTo>
                    <a:lnTo>
                      <a:pt x="850" y="3156"/>
                    </a:lnTo>
                    <a:lnTo>
                      <a:pt x="882" y="3156"/>
                    </a:lnTo>
                    <a:lnTo>
                      <a:pt x="915" y="3159"/>
                    </a:lnTo>
                    <a:lnTo>
                      <a:pt x="945" y="3161"/>
                    </a:lnTo>
                    <a:lnTo>
                      <a:pt x="976" y="3163"/>
                    </a:lnTo>
                    <a:lnTo>
                      <a:pt x="1008" y="3163"/>
                    </a:lnTo>
                    <a:lnTo>
                      <a:pt x="1041" y="3164"/>
                    </a:lnTo>
                    <a:lnTo>
                      <a:pt x="1022" y="3168"/>
                    </a:lnTo>
                    <a:lnTo>
                      <a:pt x="1006" y="3170"/>
                    </a:lnTo>
                    <a:lnTo>
                      <a:pt x="990" y="3171"/>
                    </a:lnTo>
                    <a:lnTo>
                      <a:pt x="975" y="3173"/>
                    </a:lnTo>
                    <a:lnTo>
                      <a:pt x="990" y="3171"/>
                    </a:lnTo>
                    <a:lnTo>
                      <a:pt x="1010" y="3171"/>
                    </a:lnTo>
                    <a:lnTo>
                      <a:pt x="1025" y="3170"/>
                    </a:lnTo>
                    <a:lnTo>
                      <a:pt x="1041" y="3173"/>
                    </a:lnTo>
                    <a:lnTo>
                      <a:pt x="1106" y="3168"/>
                    </a:lnTo>
                    <a:lnTo>
                      <a:pt x="1172" y="3168"/>
                    </a:lnTo>
                    <a:lnTo>
                      <a:pt x="1237" y="3168"/>
                    </a:lnTo>
                    <a:lnTo>
                      <a:pt x="1305" y="3168"/>
                    </a:lnTo>
                    <a:lnTo>
                      <a:pt x="1372" y="3166"/>
                    </a:lnTo>
                    <a:lnTo>
                      <a:pt x="1438" y="3166"/>
                    </a:lnTo>
                    <a:lnTo>
                      <a:pt x="1506" y="3163"/>
                    </a:lnTo>
                    <a:lnTo>
                      <a:pt x="1576" y="3159"/>
                    </a:lnTo>
                    <a:lnTo>
                      <a:pt x="1596" y="3156"/>
                    </a:lnTo>
                    <a:lnTo>
                      <a:pt x="1617" y="3159"/>
                    </a:lnTo>
                    <a:lnTo>
                      <a:pt x="1636" y="3163"/>
                    </a:lnTo>
                    <a:lnTo>
                      <a:pt x="1657" y="3170"/>
                    </a:lnTo>
                    <a:lnTo>
                      <a:pt x="1674" y="3177"/>
                    </a:lnTo>
                    <a:lnTo>
                      <a:pt x="1695" y="3185"/>
                    </a:lnTo>
                    <a:lnTo>
                      <a:pt x="1715" y="3191"/>
                    </a:lnTo>
                    <a:lnTo>
                      <a:pt x="1736" y="3198"/>
                    </a:lnTo>
                    <a:lnTo>
                      <a:pt x="1718" y="3205"/>
                    </a:lnTo>
                    <a:lnTo>
                      <a:pt x="1758" y="3203"/>
                    </a:lnTo>
                    <a:lnTo>
                      <a:pt x="1799" y="3203"/>
                    </a:lnTo>
                    <a:lnTo>
                      <a:pt x="1839" y="3199"/>
                    </a:lnTo>
                    <a:lnTo>
                      <a:pt x="1879" y="3198"/>
                    </a:lnTo>
                    <a:lnTo>
                      <a:pt x="1918" y="3194"/>
                    </a:lnTo>
                    <a:lnTo>
                      <a:pt x="1960" y="3192"/>
                    </a:lnTo>
                    <a:lnTo>
                      <a:pt x="2000" y="3191"/>
                    </a:lnTo>
                    <a:lnTo>
                      <a:pt x="2042" y="3192"/>
                    </a:lnTo>
                    <a:lnTo>
                      <a:pt x="2068" y="3217"/>
                    </a:lnTo>
                    <a:lnTo>
                      <a:pt x="2026" y="3222"/>
                    </a:lnTo>
                    <a:lnTo>
                      <a:pt x="1984" y="3226"/>
                    </a:lnTo>
                    <a:lnTo>
                      <a:pt x="1942" y="3226"/>
                    </a:lnTo>
                    <a:lnTo>
                      <a:pt x="1902" y="3227"/>
                    </a:lnTo>
                    <a:lnTo>
                      <a:pt x="1858" y="3226"/>
                    </a:lnTo>
                    <a:lnTo>
                      <a:pt x="1814" y="3226"/>
                    </a:lnTo>
                    <a:lnTo>
                      <a:pt x="1772" y="3226"/>
                    </a:lnTo>
                    <a:lnTo>
                      <a:pt x="1730" y="3229"/>
                    </a:lnTo>
                    <a:lnTo>
                      <a:pt x="1725" y="3236"/>
                    </a:lnTo>
                    <a:lnTo>
                      <a:pt x="1725" y="3240"/>
                    </a:lnTo>
                    <a:lnTo>
                      <a:pt x="1727" y="3243"/>
                    </a:lnTo>
                    <a:lnTo>
                      <a:pt x="1776" y="3241"/>
                    </a:lnTo>
                    <a:lnTo>
                      <a:pt x="1825" y="3241"/>
                    </a:lnTo>
                    <a:lnTo>
                      <a:pt x="1870" y="3240"/>
                    </a:lnTo>
                    <a:lnTo>
                      <a:pt x="1916" y="3240"/>
                    </a:lnTo>
                    <a:lnTo>
                      <a:pt x="1960" y="3238"/>
                    </a:lnTo>
                    <a:lnTo>
                      <a:pt x="2005" y="3236"/>
                    </a:lnTo>
                    <a:lnTo>
                      <a:pt x="2052" y="3233"/>
                    </a:lnTo>
                    <a:lnTo>
                      <a:pt x="2101" y="3229"/>
                    </a:lnTo>
                    <a:lnTo>
                      <a:pt x="2115" y="3238"/>
                    </a:lnTo>
                    <a:lnTo>
                      <a:pt x="2119" y="3248"/>
                    </a:lnTo>
                    <a:lnTo>
                      <a:pt x="2121" y="3259"/>
                    </a:lnTo>
                    <a:lnTo>
                      <a:pt x="2119" y="3269"/>
                    </a:lnTo>
                    <a:lnTo>
                      <a:pt x="2115" y="3280"/>
                    </a:lnTo>
                    <a:lnTo>
                      <a:pt x="2131" y="3299"/>
                    </a:lnTo>
                    <a:lnTo>
                      <a:pt x="2152" y="3313"/>
                    </a:lnTo>
                    <a:lnTo>
                      <a:pt x="2175" y="3324"/>
                    </a:lnTo>
                    <a:lnTo>
                      <a:pt x="2201" y="3331"/>
                    </a:lnTo>
                    <a:lnTo>
                      <a:pt x="2227" y="3334"/>
                    </a:lnTo>
                    <a:lnTo>
                      <a:pt x="2255" y="3339"/>
                    </a:lnTo>
                    <a:lnTo>
                      <a:pt x="2281" y="3345"/>
                    </a:lnTo>
                    <a:lnTo>
                      <a:pt x="2309" y="3355"/>
                    </a:lnTo>
                    <a:lnTo>
                      <a:pt x="2295" y="3357"/>
                    </a:lnTo>
                    <a:lnTo>
                      <a:pt x="2283" y="3360"/>
                    </a:lnTo>
                    <a:lnTo>
                      <a:pt x="2269" y="3360"/>
                    </a:lnTo>
                    <a:lnTo>
                      <a:pt x="2257" y="3360"/>
                    </a:lnTo>
                    <a:lnTo>
                      <a:pt x="2241" y="3360"/>
                    </a:lnTo>
                    <a:lnTo>
                      <a:pt x="2231" y="3360"/>
                    </a:lnTo>
                    <a:lnTo>
                      <a:pt x="2218" y="3364"/>
                    </a:lnTo>
                    <a:lnTo>
                      <a:pt x="2211" y="3373"/>
                    </a:lnTo>
                    <a:lnTo>
                      <a:pt x="2211" y="3374"/>
                    </a:lnTo>
                    <a:lnTo>
                      <a:pt x="2264" y="3371"/>
                    </a:lnTo>
                    <a:lnTo>
                      <a:pt x="2320" y="3371"/>
                    </a:lnTo>
                    <a:lnTo>
                      <a:pt x="2374" y="3369"/>
                    </a:lnTo>
                    <a:lnTo>
                      <a:pt x="2432" y="3367"/>
                    </a:lnTo>
                    <a:lnTo>
                      <a:pt x="2488" y="3364"/>
                    </a:lnTo>
                    <a:lnTo>
                      <a:pt x="2546" y="3360"/>
                    </a:lnTo>
                    <a:lnTo>
                      <a:pt x="2603" y="3355"/>
                    </a:lnTo>
                    <a:lnTo>
                      <a:pt x="2661" y="3350"/>
                    </a:lnTo>
                    <a:lnTo>
                      <a:pt x="2675" y="3345"/>
                    </a:lnTo>
                    <a:lnTo>
                      <a:pt x="2691" y="3345"/>
                    </a:lnTo>
                    <a:lnTo>
                      <a:pt x="2707" y="3345"/>
                    </a:lnTo>
                    <a:lnTo>
                      <a:pt x="2722" y="3350"/>
                    </a:lnTo>
                    <a:lnTo>
                      <a:pt x="2740" y="3345"/>
                    </a:lnTo>
                    <a:lnTo>
                      <a:pt x="2759" y="3341"/>
                    </a:lnTo>
                    <a:lnTo>
                      <a:pt x="2777" y="3338"/>
                    </a:lnTo>
                    <a:lnTo>
                      <a:pt x="2798" y="3338"/>
                    </a:lnTo>
                    <a:lnTo>
                      <a:pt x="2815" y="3336"/>
                    </a:lnTo>
                    <a:lnTo>
                      <a:pt x="2834" y="3336"/>
                    </a:lnTo>
                    <a:lnTo>
                      <a:pt x="2855" y="3336"/>
                    </a:lnTo>
                    <a:lnTo>
                      <a:pt x="2878" y="3336"/>
                    </a:lnTo>
                    <a:lnTo>
                      <a:pt x="2883" y="3331"/>
                    </a:lnTo>
                    <a:lnTo>
                      <a:pt x="2747" y="3331"/>
                    </a:lnTo>
                    <a:lnTo>
                      <a:pt x="2763" y="3324"/>
                    </a:lnTo>
                    <a:lnTo>
                      <a:pt x="2782" y="3318"/>
                    </a:lnTo>
                    <a:lnTo>
                      <a:pt x="2801" y="3313"/>
                    </a:lnTo>
                    <a:lnTo>
                      <a:pt x="2822" y="3310"/>
                    </a:lnTo>
                    <a:lnTo>
                      <a:pt x="2840" y="3303"/>
                    </a:lnTo>
                    <a:lnTo>
                      <a:pt x="2859" y="3294"/>
                    </a:lnTo>
                    <a:lnTo>
                      <a:pt x="2873" y="3280"/>
                    </a:lnTo>
                    <a:lnTo>
                      <a:pt x="2887" y="3262"/>
                    </a:lnTo>
                    <a:lnTo>
                      <a:pt x="2896" y="3248"/>
                    </a:lnTo>
                    <a:lnTo>
                      <a:pt x="2903" y="3236"/>
                    </a:lnTo>
                    <a:lnTo>
                      <a:pt x="2903" y="3222"/>
                    </a:lnTo>
                    <a:lnTo>
                      <a:pt x="2903" y="3210"/>
                    </a:lnTo>
                    <a:lnTo>
                      <a:pt x="2899" y="3196"/>
                    </a:lnTo>
                    <a:lnTo>
                      <a:pt x="2897" y="3182"/>
                    </a:lnTo>
                    <a:lnTo>
                      <a:pt x="2896" y="3168"/>
                    </a:lnTo>
                    <a:lnTo>
                      <a:pt x="2897" y="3154"/>
                    </a:lnTo>
                    <a:lnTo>
                      <a:pt x="2892" y="3145"/>
                    </a:lnTo>
                    <a:lnTo>
                      <a:pt x="2889" y="3136"/>
                    </a:lnTo>
                    <a:lnTo>
                      <a:pt x="2885" y="3129"/>
                    </a:lnTo>
                    <a:lnTo>
                      <a:pt x="2892" y="3124"/>
                    </a:lnTo>
                    <a:lnTo>
                      <a:pt x="2890" y="3112"/>
                    </a:lnTo>
                    <a:lnTo>
                      <a:pt x="2889" y="3107"/>
                    </a:lnTo>
                    <a:lnTo>
                      <a:pt x="2885" y="3101"/>
                    </a:lnTo>
                    <a:lnTo>
                      <a:pt x="2882" y="3098"/>
                    </a:lnTo>
                    <a:lnTo>
                      <a:pt x="2878" y="3093"/>
                    </a:lnTo>
                    <a:lnTo>
                      <a:pt x="2876" y="3087"/>
                    </a:lnTo>
                    <a:lnTo>
                      <a:pt x="2876" y="3079"/>
                    </a:lnTo>
                    <a:lnTo>
                      <a:pt x="2880" y="3072"/>
                    </a:lnTo>
                    <a:lnTo>
                      <a:pt x="2873" y="3038"/>
                    </a:lnTo>
                    <a:lnTo>
                      <a:pt x="2869" y="3007"/>
                    </a:lnTo>
                    <a:lnTo>
                      <a:pt x="2864" y="2974"/>
                    </a:lnTo>
                    <a:lnTo>
                      <a:pt x="2864" y="2942"/>
                    </a:lnTo>
                    <a:lnTo>
                      <a:pt x="2862" y="2907"/>
                    </a:lnTo>
                    <a:lnTo>
                      <a:pt x="2862" y="2874"/>
                    </a:lnTo>
                    <a:lnTo>
                      <a:pt x="2862" y="2841"/>
                    </a:lnTo>
                    <a:lnTo>
                      <a:pt x="2868" y="2809"/>
                    </a:lnTo>
                    <a:lnTo>
                      <a:pt x="2873" y="2799"/>
                    </a:lnTo>
                    <a:lnTo>
                      <a:pt x="2880" y="2804"/>
                    </a:lnTo>
                    <a:lnTo>
                      <a:pt x="2894" y="2804"/>
                    </a:lnTo>
                    <a:lnTo>
                      <a:pt x="2908" y="2801"/>
                    </a:lnTo>
                    <a:lnTo>
                      <a:pt x="2922" y="2804"/>
                    </a:lnTo>
                    <a:lnTo>
                      <a:pt x="2915" y="2815"/>
                    </a:lnTo>
                    <a:lnTo>
                      <a:pt x="2906" y="2815"/>
                    </a:lnTo>
                    <a:lnTo>
                      <a:pt x="2894" y="2813"/>
                    </a:lnTo>
                    <a:lnTo>
                      <a:pt x="2883" y="2816"/>
                    </a:lnTo>
                    <a:lnTo>
                      <a:pt x="2883" y="2832"/>
                    </a:lnTo>
                    <a:lnTo>
                      <a:pt x="2917" y="2837"/>
                    </a:lnTo>
                    <a:lnTo>
                      <a:pt x="2917" y="2843"/>
                    </a:lnTo>
                    <a:lnTo>
                      <a:pt x="2880" y="2846"/>
                    </a:lnTo>
                    <a:lnTo>
                      <a:pt x="2880" y="2862"/>
                    </a:lnTo>
                    <a:lnTo>
                      <a:pt x="2913" y="2865"/>
                    </a:lnTo>
                    <a:lnTo>
                      <a:pt x="2913" y="2872"/>
                    </a:lnTo>
                    <a:lnTo>
                      <a:pt x="2908" y="2879"/>
                    </a:lnTo>
                    <a:lnTo>
                      <a:pt x="2901" y="2879"/>
                    </a:lnTo>
                    <a:lnTo>
                      <a:pt x="2890" y="2876"/>
                    </a:lnTo>
                    <a:lnTo>
                      <a:pt x="2880" y="2878"/>
                    </a:lnTo>
                    <a:lnTo>
                      <a:pt x="2880" y="2897"/>
                    </a:lnTo>
                    <a:lnTo>
                      <a:pt x="2894" y="2897"/>
                    </a:lnTo>
                    <a:lnTo>
                      <a:pt x="2908" y="2897"/>
                    </a:lnTo>
                    <a:lnTo>
                      <a:pt x="2915" y="2899"/>
                    </a:lnTo>
                    <a:lnTo>
                      <a:pt x="2918" y="2909"/>
                    </a:lnTo>
                    <a:lnTo>
                      <a:pt x="2908" y="2913"/>
                    </a:lnTo>
                    <a:lnTo>
                      <a:pt x="2899" y="2914"/>
                    </a:lnTo>
                    <a:lnTo>
                      <a:pt x="2889" y="2914"/>
                    </a:lnTo>
                    <a:lnTo>
                      <a:pt x="2878" y="2914"/>
                    </a:lnTo>
                    <a:lnTo>
                      <a:pt x="2878" y="2927"/>
                    </a:lnTo>
                    <a:lnTo>
                      <a:pt x="2880" y="2941"/>
                    </a:lnTo>
                    <a:lnTo>
                      <a:pt x="2889" y="2935"/>
                    </a:lnTo>
                    <a:lnTo>
                      <a:pt x="2899" y="2934"/>
                    </a:lnTo>
                    <a:lnTo>
                      <a:pt x="2908" y="2932"/>
                    </a:lnTo>
                    <a:lnTo>
                      <a:pt x="2918" y="2930"/>
                    </a:lnTo>
                    <a:lnTo>
                      <a:pt x="2924" y="2930"/>
                    </a:lnTo>
                    <a:lnTo>
                      <a:pt x="2932" y="2935"/>
                    </a:lnTo>
                    <a:lnTo>
                      <a:pt x="2938" y="2941"/>
                    </a:lnTo>
                    <a:lnTo>
                      <a:pt x="2943" y="2949"/>
                    </a:lnTo>
                    <a:lnTo>
                      <a:pt x="2878" y="2946"/>
                    </a:lnTo>
                    <a:lnTo>
                      <a:pt x="2880" y="2955"/>
                    </a:lnTo>
                    <a:lnTo>
                      <a:pt x="2880" y="2963"/>
                    </a:lnTo>
                    <a:lnTo>
                      <a:pt x="2967" y="2963"/>
                    </a:lnTo>
                    <a:lnTo>
                      <a:pt x="2974" y="2960"/>
                    </a:lnTo>
                    <a:lnTo>
                      <a:pt x="2983" y="2955"/>
                    </a:lnTo>
                    <a:lnTo>
                      <a:pt x="2988" y="2951"/>
                    </a:lnTo>
                    <a:lnTo>
                      <a:pt x="2999" y="2958"/>
                    </a:lnTo>
                    <a:lnTo>
                      <a:pt x="2995" y="2965"/>
                    </a:lnTo>
                    <a:lnTo>
                      <a:pt x="2994" y="2970"/>
                    </a:lnTo>
                    <a:lnTo>
                      <a:pt x="2883" y="2977"/>
                    </a:lnTo>
                    <a:lnTo>
                      <a:pt x="2887" y="2995"/>
                    </a:lnTo>
                    <a:lnTo>
                      <a:pt x="3004" y="2984"/>
                    </a:lnTo>
                    <a:lnTo>
                      <a:pt x="3011" y="2988"/>
                    </a:lnTo>
                    <a:lnTo>
                      <a:pt x="3018" y="2997"/>
                    </a:lnTo>
                    <a:lnTo>
                      <a:pt x="3027" y="3002"/>
                    </a:lnTo>
                    <a:lnTo>
                      <a:pt x="3039" y="3004"/>
                    </a:lnTo>
                    <a:lnTo>
                      <a:pt x="3020" y="3005"/>
                    </a:lnTo>
                    <a:lnTo>
                      <a:pt x="3002" y="3007"/>
                    </a:lnTo>
                    <a:lnTo>
                      <a:pt x="2983" y="3009"/>
                    </a:lnTo>
                    <a:lnTo>
                      <a:pt x="2966" y="3012"/>
                    </a:lnTo>
                    <a:lnTo>
                      <a:pt x="2946" y="3012"/>
                    </a:lnTo>
                    <a:lnTo>
                      <a:pt x="2927" y="3014"/>
                    </a:lnTo>
                    <a:lnTo>
                      <a:pt x="2908" y="3014"/>
                    </a:lnTo>
                    <a:lnTo>
                      <a:pt x="2889" y="3014"/>
                    </a:lnTo>
                    <a:lnTo>
                      <a:pt x="2889" y="3023"/>
                    </a:lnTo>
                    <a:lnTo>
                      <a:pt x="2892" y="3033"/>
                    </a:lnTo>
                    <a:lnTo>
                      <a:pt x="2924" y="3028"/>
                    </a:lnTo>
                    <a:lnTo>
                      <a:pt x="2959" y="3025"/>
                    </a:lnTo>
                    <a:lnTo>
                      <a:pt x="2990" y="3021"/>
                    </a:lnTo>
                    <a:lnTo>
                      <a:pt x="3025" y="3021"/>
                    </a:lnTo>
                    <a:lnTo>
                      <a:pt x="3057" y="3018"/>
                    </a:lnTo>
                    <a:lnTo>
                      <a:pt x="3090" y="3016"/>
                    </a:lnTo>
                    <a:lnTo>
                      <a:pt x="3120" y="3014"/>
                    </a:lnTo>
                    <a:lnTo>
                      <a:pt x="3151" y="3014"/>
                    </a:lnTo>
                    <a:lnTo>
                      <a:pt x="3169" y="3014"/>
                    </a:lnTo>
                    <a:lnTo>
                      <a:pt x="3188" y="3014"/>
                    </a:lnTo>
                    <a:lnTo>
                      <a:pt x="3205" y="3011"/>
                    </a:lnTo>
                    <a:lnTo>
                      <a:pt x="3224" y="3007"/>
                    </a:lnTo>
                    <a:lnTo>
                      <a:pt x="3240" y="3000"/>
                    </a:lnTo>
                    <a:lnTo>
                      <a:pt x="3256" y="2991"/>
                    </a:lnTo>
                    <a:lnTo>
                      <a:pt x="3272" y="2981"/>
                    </a:lnTo>
                    <a:lnTo>
                      <a:pt x="3287" y="2970"/>
                    </a:lnTo>
                    <a:lnTo>
                      <a:pt x="3314" y="2967"/>
                    </a:lnTo>
                    <a:lnTo>
                      <a:pt x="3343" y="2965"/>
                    </a:lnTo>
                    <a:lnTo>
                      <a:pt x="3375" y="2963"/>
                    </a:lnTo>
                    <a:lnTo>
                      <a:pt x="3406" y="2962"/>
                    </a:lnTo>
                    <a:lnTo>
                      <a:pt x="3436" y="2958"/>
                    </a:lnTo>
                    <a:lnTo>
                      <a:pt x="3468" y="2958"/>
                    </a:lnTo>
                    <a:lnTo>
                      <a:pt x="3496" y="2955"/>
                    </a:lnTo>
                    <a:lnTo>
                      <a:pt x="3524" y="2955"/>
                    </a:lnTo>
                    <a:lnTo>
                      <a:pt x="3499" y="2941"/>
                    </a:lnTo>
                    <a:lnTo>
                      <a:pt x="3307" y="2958"/>
                    </a:lnTo>
                    <a:lnTo>
                      <a:pt x="3321" y="2944"/>
                    </a:lnTo>
                    <a:lnTo>
                      <a:pt x="3340" y="2935"/>
                    </a:lnTo>
                    <a:lnTo>
                      <a:pt x="3361" y="2928"/>
                    </a:lnTo>
                    <a:lnTo>
                      <a:pt x="3382" y="2928"/>
                    </a:lnTo>
                    <a:lnTo>
                      <a:pt x="3403" y="2927"/>
                    </a:lnTo>
                    <a:lnTo>
                      <a:pt x="3426" y="2927"/>
                    </a:lnTo>
                    <a:lnTo>
                      <a:pt x="3447" y="2923"/>
                    </a:lnTo>
                    <a:lnTo>
                      <a:pt x="3468" y="2921"/>
                    </a:lnTo>
                    <a:lnTo>
                      <a:pt x="3457" y="2909"/>
                    </a:lnTo>
                    <a:lnTo>
                      <a:pt x="3441" y="2913"/>
                    </a:lnTo>
                    <a:lnTo>
                      <a:pt x="3429" y="2916"/>
                    </a:lnTo>
                    <a:lnTo>
                      <a:pt x="3417" y="2916"/>
                    </a:lnTo>
                    <a:lnTo>
                      <a:pt x="3406" y="2918"/>
                    </a:lnTo>
                    <a:lnTo>
                      <a:pt x="3394" y="2916"/>
                    </a:lnTo>
                    <a:lnTo>
                      <a:pt x="3382" y="2916"/>
                    </a:lnTo>
                    <a:lnTo>
                      <a:pt x="3370" y="2916"/>
                    </a:lnTo>
                    <a:lnTo>
                      <a:pt x="3356" y="2920"/>
                    </a:lnTo>
                    <a:lnTo>
                      <a:pt x="3370" y="2913"/>
                    </a:lnTo>
                    <a:lnTo>
                      <a:pt x="3385" y="2907"/>
                    </a:lnTo>
                    <a:lnTo>
                      <a:pt x="3394" y="2904"/>
                    </a:lnTo>
                    <a:lnTo>
                      <a:pt x="3403" y="2904"/>
                    </a:lnTo>
                    <a:lnTo>
                      <a:pt x="3413" y="2904"/>
                    </a:lnTo>
                    <a:lnTo>
                      <a:pt x="3424" y="2906"/>
                    </a:lnTo>
                    <a:lnTo>
                      <a:pt x="3438" y="2895"/>
                    </a:lnTo>
                    <a:lnTo>
                      <a:pt x="3452" y="2895"/>
                    </a:lnTo>
                    <a:lnTo>
                      <a:pt x="3462" y="2899"/>
                    </a:lnTo>
                    <a:lnTo>
                      <a:pt x="3475" y="2907"/>
                    </a:lnTo>
                    <a:lnTo>
                      <a:pt x="3483" y="2914"/>
                    </a:lnTo>
                    <a:lnTo>
                      <a:pt x="3496" y="2923"/>
                    </a:lnTo>
                    <a:lnTo>
                      <a:pt x="3506" y="2930"/>
                    </a:lnTo>
                    <a:lnTo>
                      <a:pt x="3524" y="2934"/>
                    </a:lnTo>
                    <a:lnTo>
                      <a:pt x="3518" y="2939"/>
                    </a:lnTo>
                    <a:lnTo>
                      <a:pt x="3525" y="2942"/>
                    </a:lnTo>
                    <a:lnTo>
                      <a:pt x="3536" y="2946"/>
                    </a:lnTo>
                    <a:lnTo>
                      <a:pt x="3546" y="2948"/>
                    </a:lnTo>
                    <a:lnTo>
                      <a:pt x="3557" y="2951"/>
                    </a:lnTo>
                    <a:lnTo>
                      <a:pt x="3566" y="2951"/>
                    </a:lnTo>
                    <a:lnTo>
                      <a:pt x="3576" y="2955"/>
                    </a:lnTo>
                    <a:lnTo>
                      <a:pt x="3585" y="2960"/>
                    </a:lnTo>
                    <a:lnTo>
                      <a:pt x="3594" y="2969"/>
                    </a:lnTo>
                    <a:lnTo>
                      <a:pt x="3623" y="2976"/>
                    </a:lnTo>
                    <a:lnTo>
                      <a:pt x="3655" y="2983"/>
                    </a:lnTo>
                    <a:lnTo>
                      <a:pt x="3688" y="2988"/>
                    </a:lnTo>
                    <a:lnTo>
                      <a:pt x="3723" y="2993"/>
                    </a:lnTo>
                    <a:lnTo>
                      <a:pt x="3756" y="2995"/>
                    </a:lnTo>
                    <a:lnTo>
                      <a:pt x="3791" y="2997"/>
                    </a:lnTo>
                    <a:lnTo>
                      <a:pt x="3825" y="2993"/>
                    </a:lnTo>
                    <a:lnTo>
                      <a:pt x="3861" y="2990"/>
                    </a:lnTo>
                    <a:lnTo>
                      <a:pt x="3865" y="2998"/>
                    </a:lnTo>
                    <a:lnTo>
                      <a:pt x="3907" y="2993"/>
                    </a:lnTo>
                    <a:lnTo>
                      <a:pt x="3952" y="2988"/>
                    </a:lnTo>
                    <a:lnTo>
                      <a:pt x="3998" y="2983"/>
                    </a:lnTo>
                    <a:lnTo>
                      <a:pt x="4043" y="2979"/>
                    </a:lnTo>
                    <a:lnTo>
                      <a:pt x="4089" y="2972"/>
                    </a:lnTo>
                    <a:lnTo>
                      <a:pt x="4134" y="2967"/>
                    </a:lnTo>
                    <a:lnTo>
                      <a:pt x="4178" y="2960"/>
                    </a:lnTo>
                    <a:lnTo>
                      <a:pt x="4224" y="2955"/>
                    </a:lnTo>
                    <a:lnTo>
                      <a:pt x="4234" y="2953"/>
                    </a:lnTo>
                    <a:lnTo>
                      <a:pt x="4248" y="2953"/>
                    </a:lnTo>
                    <a:lnTo>
                      <a:pt x="4262" y="2953"/>
                    </a:lnTo>
                    <a:lnTo>
                      <a:pt x="4278" y="2953"/>
                    </a:lnTo>
                    <a:lnTo>
                      <a:pt x="4290" y="2951"/>
                    </a:lnTo>
                    <a:lnTo>
                      <a:pt x="4302" y="2948"/>
                    </a:lnTo>
                    <a:lnTo>
                      <a:pt x="4313" y="2939"/>
                    </a:lnTo>
                    <a:lnTo>
                      <a:pt x="4321" y="2927"/>
                    </a:lnTo>
                    <a:lnTo>
                      <a:pt x="4334" y="2928"/>
                    </a:lnTo>
                    <a:lnTo>
                      <a:pt x="4348" y="2930"/>
                    </a:lnTo>
                    <a:lnTo>
                      <a:pt x="4358" y="2930"/>
                    </a:lnTo>
                    <a:lnTo>
                      <a:pt x="4374" y="2934"/>
                    </a:lnTo>
                    <a:lnTo>
                      <a:pt x="4377" y="2934"/>
                    </a:lnTo>
                    <a:lnTo>
                      <a:pt x="4386" y="2934"/>
                    </a:lnTo>
                    <a:lnTo>
                      <a:pt x="4391" y="2934"/>
                    </a:lnTo>
                    <a:lnTo>
                      <a:pt x="4398" y="2939"/>
                    </a:lnTo>
                    <a:lnTo>
                      <a:pt x="4391" y="2941"/>
                    </a:lnTo>
                    <a:lnTo>
                      <a:pt x="4386" y="2941"/>
                    </a:lnTo>
                    <a:lnTo>
                      <a:pt x="4379" y="2944"/>
                    </a:lnTo>
                    <a:lnTo>
                      <a:pt x="4381" y="2953"/>
                    </a:lnTo>
                    <a:lnTo>
                      <a:pt x="4447" y="2946"/>
                    </a:lnTo>
                    <a:lnTo>
                      <a:pt x="4519" y="2939"/>
                    </a:lnTo>
                    <a:lnTo>
                      <a:pt x="4589" y="2932"/>
                    </a:lnTo>
                    <a:lnTo>
                      <a:pt x="4663" y="2927"/>
                    </a:lnTo>
                    <a:lnTo>
                      <a:pt x="4734" y="2920"/>
                    </a:lnTo>
                    <a:lnTo>
                      <a:pt x="4808" y="2914"/>
                    </a:lnTo>
                    <a:lnTo>
                      <a:pt x="4880" y="2907"/>
                    </a:lnTo>
                    <a:lnTo>
                      <a:pt x="4953" y="2902"/>
                    </a:lnTo>
                    <a:lnTo>
                      <a:pt x="4964" y="2897"/>
                    </a:lnTo>
                    <a:lnTo>
                      <a:pt x="4759" y="2911"/>
                    </a:lnTo>
                    <a:lnTo>
                      <a:pt x="4750" y="2906"/>
                    </a:lnTo>
                    <a:lnTo>
                      <a:pt x="4762" y="2900"/>
                    </a:lnTo>
                    <a:lnTo>
                      <a:pt x="4776" y="2895"/>
                    </a:lnTo>
                    <a:lnTo>
                      <a:pt x="4789" y="2886"/>
                    </a:lnTo>
                    <a:lnTo>
                      <a:pt x="4803" y="2879"/>
                    </a:lnTo>
                    <a:lnTo>
                      <a:pt x="4815" y="2871"/>
                    </a:lnTo>
                    <a:lnTo>
                      <a:pt x="4827" y="2862"/>
                    </a:lnTo>
                    <a:lnTo>
                      <a:pt x="4839" y="2851"/>
                    </a:lnTo>
                    <a:lnTo>
                      <a:pt x="4852" y="2843"/>
                    </a:lnTo>
                    <a:lnTo>
                      <a:pt x="4860" y="2851"/>
                    </a:lnTo>
                    <a:lnTo>
                      <a:pt x="5046" y="2827"/>
                    </a:lnTo>
                    <a:lnTo>
                      <a:pt x="5025" y="2825"/>
                    </a:lnTo>
                    <a:lnTo>
                      <a:pt x="5004" y="2825"/>
                    </a:lnTo>
                    <a:lnTo>
                      <a:pt x="4983" y="2825"/>
                    </a:lnTo>
                    <a:lnTo>
                      <a:pt x="4962" y="2827"/>
                    </a:lnTo>
                    <a:lnTo>
                      <a:pt x="4941" y="2827"/>
                    </a:lnTo>
                    <a:lnTo>
                      <a:pt x="4920" y="2829"/>
                    </a:lnTo>
                    <a:lnTo>
                      <a:pt x="4899" y="2829"/>
                    </a:lnTo>
                    <a:lnTo>
                      <a:pt x="4880" y="2832"/>
                    </a:lnTo>
                    <a:lnTo>
                      <a:pt x="4871" y="2823"/>
                    </a:lnTo>
                    <a:lnTo>
                      <a:pt x="4885" y="2809"/>
                    </a:lnTo>
                    <a:lnTo>
                      <a:pt x="4911" y="2802"/>
                    </a:lnTo>
                    <a:lnTo>
                      <a:pt x="4937" y="2799"/>
                    </a:lnTo>
                    <a:lnTo>
                      <a:pt x="4965" y="2797"/>
                    </a:lnTo>
                    <a:lnTo>
                      <a:pt x="4995" y="2795"/>
                    </a:lnTo>
                    <a:lnTo>
                      <a:pt x="5023" y="2794"/>
                    </a:lnTo>
                    <a:lnTo>
                      <a:pt x="5053" y="2792"/>
                    </a:lnTo>
                    <a:lnTo>
                      <a:pt x="5081" y="2788"/>
                    </a:lnTo>
                    <a:lnTo>
                      <a:pt x="5111" y="2785"/>
                    </a:lnTo>
                    <a:lnTo>
                      <a:pt x="5125" y="2778"/>
                    </a:lnTo>
                    <a:lnTo>
                      <a:pt x="4895" y="2785"/>
                    </a:lnTo>
                    <a:lnTo>
                      <a:pt x="4906" y="2760"/>
                    </a:lnTo>
                    <a:lnTo>
                      <a:pt x="5111" y="2736"/>
                    </a:lnTo>
                    <a:lnTo>
                      <a:pt x="5111" y="2734"/>
                    </a:lnTo>
                    <a:lnTo>
                      <a:pt x="5086" y="2734"/>
                    </a:lnTo>
                    <a:lnTo>
                      <a:pt x="5063" y="2734"/>
                    </a:lnTo>
                    <a:lnTo>
                      <a:pt x="5041" y="2734"/>
                    </a:lnTo>
                    <a:lnTo>
                      <a:pt x="5018" y="2734"/>
                    </a:lnTo>
                    <a:lnTo>
                      <a:pt x="4995" y="2734"/>
                    </a:lnTo>
                    <a:lnTo>
                      <a:pt x="4972" y="2736"/>
                    </a:lnTo>
                    <a:lnTo>
                      <a:pt x="4950" y="2738"/>
                    </a:lnTo>
                    <a:lnTo>
                      <a:pt x="4929" y="2741"/>
                    </a:lnTo>
                    <a:lnTo>
                      <a:pt x="4920" y="2734"/>
                    </a:lnTo>
                    <a:lnTo>
                      <a:pt x="4923" y="2724"/>
                    </a:lnTo>
                    <a:lnTo>
                      <a:pt x="4929" y="2722"/>
                    </a:lnTo>
                    <a:lnTo>
                      <a:pt x="4936" y="2718"/>
                    </a:lnTo>
                    <a:lnTo>
                      <a:pt x="4943" y="2717"/>
                    </a:lnTo>
                    <a:close/>
                    <a:moveTo>
                      <a:pt x="1368" y="2589"/>
                    </a:moveTo>
                    <a:lnTo>
                      <a:pt x="1372" y="2573"/>
                    </a:lnTo>
                    <a:lnTo>
                      <a:pt x="1379" y="2559"/>
                    </a:lnTo>
                    <a:lnTo>
                      <a:pt x="1387" y="2544"/>
                    </a:lnTo>
                    <a:lnTo>
                      <a:pt x="1396" y="2530"/>
                    </a:lnTo>
                    <a:lnTo>
                      <a:pt x="1396" y="2517"/>
                    </a:lnTo>
                    <a:lnTo>
                      <a:pt x="1400" y="2507"/>
                    </a:lnTo>
                    <a:lnTo>
                      <a:pt x="1401" y="2498"/>
                    </a:lnTo>
                    <a:lnTo>
                      <a:pt x="1407" y="2491"/>
                    </a:lnTo>
                    <a:lnTo>
                      <a:pt x="1412" y="2482"/>
                    </a:lnTo>
                    <a:lnTo>
                      <a:pt x="1417" y="2475"/>
                    </a:lnTo>
                    <a:lnTo>
                      <a:pt x="1424" y="2467"/>
                    </a:lnTo>
                    <a:lnTo>
                      <a:pt x="1435" y="2458"/>
                    </a:lnTo>
                    <a:lnTo>
                      <a:pt x="1463" y="2384"/>
                    </a:lnTo>
                    <a:lnTo>
                      <a:pt x="1466" y="2390"/>
                    </a:lnTo>
                    <a:lnTo>
                      <a:pt x="1464" y="2398"/>
                    </a:lnTo>
                    <a:lnTo>
                      <a:pt x="1463" y="2405"/>
                    </a:lnTo>
                    <a:lnTo>
                      <a:pt x="1468" y="2414"/>
                    </a:lnTo>
                    <a:lnTo>
                      <a:pt x="1471" y="2440"/>
                    </a:lnTo>
                    <a:lnTo>
                      <a:pt x="1477" y="2468"/>
                    </a:lnTo>
                    <a:lnTo>
                      <a:pt x="1478" y="2496"/>
                    </a:lnTo>
                    <a:lnTo>
                      <a:pt x="1482" y="2524"/>
                    </a:lnTo>
                    <a:lnTo>
                      <a:pt x="1484" y="2552"/>
                    </a:lnTo>
                    <a:lnTo>
                      <a:pt x="1485" y="2580"/>
                    </a:lnTo>
                    <a:lnTo>
                      <a:pt x="1489" y="2608"/>
                    </a:lnTo>
                    <a:lnTo>
                      <a:pt x="1494" y="2636"/>
                    </a:lnTo>
                    <a:lnTo>
                      <a:pt x="1477" y="2631"/>
                    </a:lnTo>
                    <a:lnTo>
                      <a:pt x="1459" y="2626"/>
                    </a:lnTo>
                    <a:lnTo>
                      <a:pt x="1443" y="2620"/>
                    </a:lnTo>
                    <a:lnTo>
                      <a:pt x="1428" y="2615"/>
                    </a:lnTo>
                    <a:lnTo>
                      <a:pt x="1412" y="2608"/>
                    </a:lnTo>
                    <a:lnTo>
                      <a:pt x="1396" y="2601"/>
                    </a:lnTo>
                    <a:lnTo>
                      <a:pt x="1382" y="2594"/>
                    </a:lnTo>
                    <a:lnTo>
                      <a:pt x="1368" y="2589"/>
                    </a:lnTo>
                    <a:close/>
                    <a:moveTo>
                      <a:pt x="3720" y="2544"/>
                    </a:moveTo>
                    <a:lnTo>
                      <a:pt x="3702" y="2547"/>
                    </a:lnTo>
                    <a:lnTo>
                      <a:pt x="3690" y="2542"/>
                    </a:lnTo>
                    <a:lnTo>
                      <a:pt x="3678" y="2530"/>
                    </a:lnTo>
                    <a:lnTo>
                      <a:pt x="3665" y="2519"/>
                    </a:lnTo>
                    <a:lnTo>
                      <a:pt x="3646" y="2509"/>
                    </a:lnTo>
                    <a:lnTo>
                      <a:pt x="3627" y="2498"/>
                    </a:lnTo>
                    <a:lnTo>
                      <a:pt x="3608" y="2488"/>
                    </a:lnTo>
                    <a:lnTo>
                      <a:pt x="3590" y="2479"/>
                    </a:lnTo>
                    <a:lnTo>
                      <a:pt x="3569" y="2470"/>
                    </a:lnTo>
                    <a:lnTo>
                      <a:pt x="3550" y="2465"/>
                    </a:lnTo>
                    <a:lnTo>
                      <a:pt x="3529" y="2460"/>
                    </a:lnTo>
                    <a:lnTo>
                      <a:pt x="3510" y="2461"/>
                    </a:lnTo>
                    <a:lnTo>
                      <a:pt x="3496" y="2453"/>
                    </a:lnTo>
                    <a:lnTo>
                      <a:pt x="3489" y="2440"/>
                    </a:lnTo>
                    <a:lnTo>
                      <a:pt x="3485" y="2423"/>
                    </a:lnTo>
                    <a:lnTo>
                      <a:pt x="3482" y="2409"/>
                    </a:lnTo>
                    <a:lnTo>
                      <a:pt x="3480" y="2397"/>
                    </a:lnTo>
                    <a:lnTo>
                      <a:pt x="3483" y="2390"/>
                    </a:lnTo>
                    <a:lnTo>
                      <a:pt x="3489" y="2384"/>
                    </a:lnTo>
                    <a:lnTo>
                      <a:pt x="3497" y="2381"/>
                    </a:lnTo>
                    <a:lnTo>
                      <a:pt x="3511" y="2372"/>
                    </a:lnTo>
                    <a:lnTo>
                      <a:pt x="3524" y="2360"/>
                    </a:lnTo>
                    <a:lnTo>
                      <a:pt x="3541" y="2365"/>
                    </a:lnTo>
                    <a:lnTo>
                      <a:pt x="3559" y="2372"/>
                    </a:lnTo>
                    <a:lnTo>
                      <a:pt x="3576" y="2379"/>
                    </a:lnTo>
                    <a:lnTo>
                      <a:pt x="3595" y="2386"/>
                    </a:lnTo>
                    <a:lnTo>
                      <a:pt x="3611" y="2391"/>
                    </a:lnTo>
                    <a:lnTo>
                      <a:pt x="3630" y="2397"/>
                    </a:lnTo>
                    <a:lnTo>
                      <a:pt x="3648" y="2400"/>
                    </a:lnTo>
                    <a:lnTo>
                      <a:pt x="3667" y="2402"/>
                    </a:lnTo>
                    <a:lnTo>
                      <a:pt x="3678" y="2412"/>
                    </a:lnTo>
                    <a:lnTo>
                      <a:pt x="3693" y="2425"/>
                    </a:lnTo>
                    <a:lnTo>
                      <a:pt x="3709" y="2435"/>
                    </a:lnTo>
                    <a:lnTo>
                      <a:pt x="3727" y="2446"/>
                    </a:lnTo>
                    <a:lnTo>
                      <a:pt x="3742" y="2453"/>
                    </a:lnTo>
                    <a:lnTo>
                      <a:pt x="3760" y="2460"/>
                    </a:lnTo>
                    <a:lnTo>
                      <a:pt x="3777" y="2465"/>
                    </a:lnTo>
                    <a:lnTo>
                      <a:pt x="3797" y="2470"/>
                    </a:lnTo>
                    <a:lnTo>
                      <a:pt x="3812" y="2482"/>
                    </a:lnTo>
                    <a:lnTo>
                      <a:pt x="3830" y="2493"/>
                    </a:lnTo>
                    <a:lnTo>
                      <a:pt x="3839" y="2495"/>
                    </a:lnTo>
                    <a:lnTo>
                      <a:pt x="3849" y="2498"/>
                    </a:lnTo>
                    <a:lnTo>
                      <a:pt x="3860" y="2498"/>
                    </a:lnTo>
                    <a:lnTo>
                      <a:pt x="3870" y="2500"/>
                    </a:lnTo>
                    <a:lnTo>
                      <a:pt x="3851" y="2505"/>
                    </a:lnTo>
                    <a:lnTo>
                      <a:pt x="3833" y="2516"/>
                    </a:lnTo>
                    <a:lnTo>
                      <a:pt x="3814" y="2523"/>
                    </a:lnTo>
                    <a:lnTo>
                      <a:pt x="3797" y="2531"/>
                    </a:lnTo>
                    <a:lnTo>
                      <a:pt x="3777" y="2537"/>
                    </a:lnTo>
                    <a:lnTo>
                      <a:pt x="3758" y="2542"/>
                    </a:lnTo>
                    <a:lnTo>
                      <a:pt x="3739" y="2544"/>
                    </a:lnTo>
                    <a:lnTo>
                      <a:pt x="3720" y="25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68520" y="3723480"/>
                <a:ext cx="16200" cy="44280"/>
              </a:xfrm>
              <a:custGeom>
                <a:avLst/>
                <a:gdLst/>
                <a:ahLst/>
                <a:rect l="l" t="t" r="r" b="b"/>
                <a:pathLst>
                  <a:path w="20" h="56">
                    <a:moveTo>
                      <a:pt x="20" y="0"/>
                    </a:moveTo>
                    <a:lnTo>
                      <a:pt x="16" y="14"/>
                    </a:lnTo>
                    <a:lnTo>
                      <a:pt x="13" y="28"/>
                    </a:lnTo>
                    <a:lnTo>
                      <a:pt x="7" y="38"/>
                    </a:lnTo>
                    <a:lnTo>
                      <a:pt x="7" y="56"/>
                    </a:lnTo>
                    <a:lnTo>
                      <a:pt x="0" y="42"/>
                    </a:lnTo>
                    <a:lnTo>
                      <a:pt x="2" y="24"/>
                    </a:lnTo>
                    <a:lnTo>
                      <a:pt x="9" y="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16320" y="3733200"/>
                <a:ext cx="30240" cy="5364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38" y="68"/>
                    </a:moveTo>
                    <a:lnTo>
                      <a:pt x="35" y="68"/>
                    </a:lnTo>
                    <a:lnTo>
                      <a:pt x="23" y="51"/>
                    </a:lnTo>
                    <a:lnTo>
                      <a:pt x="12" y="35"/>
                    </a:lnTo>
                    <a:lnTo>
                      <a:pt x="2" y="18"/>
                    </a:lnTo>
                    <a:lnTo>
                      <a:pt x="0" y="0"/>
                    </a:lnTo>
                    <a:lnTo>
                      <a:pt x="9" y="16"/>
                    </a:lnTo>
                    <a:lnTo>
                      <a:pt x="21" y="33"/>
                    </a:lnTo>
                    <a:lnTo>
                      <a:pt x="31" y="49"/>
                    </a:lnTo>
                    <a:lnTo>
                      <a:pt x="38" y="68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41800" y="3733200"/>
                <a:ext cx="88920" cy="24840"/>
              </a:xfrm>
              <a:custGeom>
                <a:avLst/>
                <a:gdLst/>
                <a:ahLst/>
                <a:rect l="l" t="t" r="r" b="b"/>
                <a:pathLst>
                  <a:path w="112" h="32">
                    <a:moveTo>
                      <a:pt x="112" y="11"/>
                    </a:moveTo>
                    <a:lnTo>
                      <a:pt x="103" y="14"/>
                    </a:lnTo>
                    <a:lnTo>
                      <a:pt x="94" y="18"/>
                    </a:lnTo>
                    <a:lnTo>
                      <a:pt x="84" y="19"/>
                    </a:lnTo>
                    <a:lnTo>
                      <a:pt x="73" y="21"/>
                    </a:lnTo>
                    <a:lnTo>
                      <a:pt x="61" y="21"/>
                    </a:lnTo>
                    <a:lnTo>
                      <a:pt x="51" y="23"/>
                    </a:lnTo>
                    <a:lnTo>
                      <a:pt x="40" y="23"/>
                    </a:lnTo>
                    <a:lnTo>
                      <a:pt x="31" y="26"/>
                    </a:lnTo>
                    <a:lnTo>
                      <a:pt x="23" y="19"/>
                    </a:lnTo>
                    <a:lnTo>
                      <a:pt x="16" y="21"/>
                    </a:lnTo>
                    <a:lnTo>
                      <a:pt x="5" y="25"/>
                    </a:lnTo>
                    <a:lnTo>
                      <a:pt x="0" y="32"/>
                    </a:lnTo>
                    <a:lnTo>
                      <a:pt x="7" y="23"/>
                    </a:lnTo>
                    <a:lnTo>
                      <a:pt x="19" y="16"/>
                    </a:lnTo>
                    <a:lnTo>
                      <a:pt x="33" y="9"/>
                    </a:lnTo>
                    <a:lnTo>
                      <a:pt x="49" y="5"/>
                    </a:lnTo>
                    <a:lnTo>
                      <a:pt x="65" y="0"/>
                    </a:lnTo>
                    <a:lnTo>
                      <a:pt x="80" y="2"/>
                    </a:lnTo>
                    <a:lnTo>
                      <a:pt x="96" y="4"/>
                    </a:lnTo>
                    <a:lnTo>
                      <a:pt x="112" y="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32040" y="3749040"/>
                <a:ext cx="1195560" cy="556560"/>
              </a:xfrm>
              <a:custGeom>
                <a:avLst/>
                <a:gdLst/>
                <a:ahLst/>
                <a:rect l="l" t="t" r="r" b="b"/>
                <a:pathLst>
                  <a:path w="1505" h="704">
                    <a:moveTo>
                      <a:pt x="1410" y="46"/>
                    </a:moveTo>
                    <a:lnTo>
                      <a:pt x="1435" y="69"/>
                    </a:lnTo>
                    <a:lnTo>
                      <a:pt x="1459" y="97"/>
                    </a:lnTo>
                    <a:lnTo>
                      <a:pt x="1477" y="125"/>
                    </a:lnTo>
                    <a:lnTo>
                      <a:pt x="1492" y="158"/>
                    </a:lnTo>
                    <a:lnTo>
                      <a:pt x="1501" y="189"/>
                    </a:lnTo>
                    <a:lnTo>
                      <a:pt x="1505" y="224"/>
                    </a:lnTo>
                    <a:lnTo>
                      <a:pt x="1503" y="259"/>
                    </a:lnTo>
                    <a:lnTo>
                      <a:pt x="1498" y="296"/>
                    </a:lnTo>
                    <a:lnTo>
                      <a:pt x="1485" y="329"/>
                    </a:lnTo>
                    <a:lnTo>
                      <a:pt x="1478" y="312"/>
                    </a:lnTo>
                    <a:lnTo>
                      <a:pt x="1473" y="294"/>
                    </a:lnTo>
                    <a:lnTo>
                      <a:pt x="1466" y="279"/>
                    </a:lnTo>
                    <a:lnTo>
                      <a:pt x="1457" y="270"/>
                    </a:lnTo>
                    <a:lnTo>
                      <a:pt x="1452" y="275"/>
                    </a:lnTo>
                    <a:lnTo>
                      <a:pt x="1454" y="296"/>
                    </a:lnTo>
                    <a:lnTo>
                      <a:pt x="1457" y="317"/>
                    </a:lnTo>
                    <a:lnTo>
                      <a:pt x="1459" y="338"/>
                    </a:lnTo>
                    <a:lnTo>
                      <a:pt x="1463" y="361"/>
                    </a:lnTo>
                    <a:lnTo>
                      <a:pt x="1464" y="382"/>
                    </a:lnTo>
                    <a:lnTo>
                      <a:pt x="1468" y="403"/>
                    </a:lnTo>
                    <a:lnTo>
                      <a:pt x="1471" y="424"/>
                    </a:lnTo>
                    <a:lnTo>
                      <a:pt x="1477" y="446"/>
                    </a:lnTo>
                    <a:lnTo>
                      <a:pt x="1485" y="446"/>
                    </a:lnTo>
                    <a:lnTo>
                      <a:pt x="1485" y="485"/>
                    </a:lnTo>
                    <a:lnTo>
                      <a:pt x="1463" y="485"/>
                    </a:lnTo>
                    <a:lnTo>
                      <a:pt x="1442" y="483"/>
                    </a:lnTo>
                    <a:lnTo>
                      <a:pt x="1419" y="478"/>
                    </a:lnTo>
                    <a:lnTo>
                      <a:pt x="1398" y="474"/>
                    </a:lnTo>
                    <a:lnTo>
                      <a:pt x="1375" y="469"/>
                    </a:lnTo>
                    <a:lnTo>
                      <a:pt x="1354" y="464"/>
                    </a:lnTo>
                    <a:lnTo>
                      <a:pt x="1331" y="462"/>
                    </a:lnTo>
                    <a:lnTo>
                      <a:pt x="1310" y="464"/>
                    </a:lnTo>
                    <a:lnTo>
                      <a:pt x="1282" y="462"/>
                    </a:lnTo>
                    <a:lnTo>
                      <a:pt x="1260" y="462"/>
                    </a:lnTo>
                    <a:lnTo>
                      <a:pt x="1235" y="460"/>
                    </a:lnTo>
                    <a:lnTo>
                      <a:pt x="1214" y="460"/>
                    </a:lnTo>
                    <a:lnTo>
                      <a:pt x="1191" y="459"/>
                    </a:lnTo>
                    <a:lnTo>
                      <a:pt x="1170" y="459"/>
                    </a:lnTo>
                    <a:lnTo>
                      <a:pt x="1146" y="459"/>
                    </a:lnTo>
                    <a:lnTo>
                      <a:pt x="1123" y="464"/>
                    </a:lnTo>
                    <a:lnTo>
                      <a:pt x="1039" y="473"/>
                    </a:lnTo>
                    <a:lnTo>
                      <a:pt x="957" y="483"/>
                    </a:lnTo>
                    <a:lnTo>
                      <a:pt x="871" y="494"/>
                    </a:lnTo>
                    <a:lnTo>
                      <a:pt x="787" y="508"/>
                    </a:lnTo>
                    <a:lnTo>
                      <a:pt x="703" y="522"/>
                    </a:lnTo>
                    <a:lnTo>
                      <a:pt x="621" y="539"/>
                    </a:lnTo>
                    <a:lnTo>
                      <a:pt x="540" y="560"/>
                    </a:lnTo>
                    <a:lnTo>
                      <a:pt x="465" y="588"/>
                    </a:lnTo>
                    <a:lnTo>
                      <a:pt x="429" y="599"/>
                    </a:lnTo>
                    <a:lnTo>
                      <a:pt x="392" y="609"/>
                    </a:lnTo>
                    <a:lnTo>
                      <a:pt x="357" y="620"/>
                    </a:lnTo>
                    <a:lnTo>
                      <a:pt x="322" y="635"/>
                    </a:lnTo>
                    <a:lnTo>
                      <a:pt x="287" y="649"/>
                    </a:lnTo>
                    <a:lnTo>
                      <a:pt x="254" y="665"/>
                    </a:lnTo>
                    <a:lnTo>
                      <a:pt x="222" y="683"/>
                    </a:lnTo>
                    <a:lnTo>
                      <a:pt x="192" y="704"/>
                    </a:lnTo>
                    <a:lnTo>
                      <a:pt x="177" y="700"/>
                    </a:lnTo>
                    <a:lnTo>
                      <a:pt x="164" y="698"/>
                    </a:lnTo>
                    <a:lnTo>
                      <a:pt x="154" y="695"/>
                    </a:lnTo>
                    <a:lnTo>
                      <a:pt x="143" y="693"/>
                    </a:lnTo>
                    <a:lnTo>
                      <a:pt x="133" y="686"/>
                    </a:lnTo>
                    <a:lnTo>
                      <a:pt x="122" y="681"/>
                    </a:lnTo>
                    <a:lnTo>
                      <a:pt x="114" y="674"/>
                    </a:lnTo>
                    <a:lnTo>
                      <a:pt x="107" y="665"/>
                    </a:lnTo>
                    <a:lnTo>
                      <a:pt x="112" y="646"/>
                    </a:lnTo>
                    <a:lnTo>
                      <a:pt x="112" y="651"/>
                    </a:lnTo>
                    <a:lnTo>
                      <a:pt x="114" y="660"/>
                    </a:lnTo>
                    <a:lnTo>
                      <a:pt x="115" y="667"/>
                    </a:lnTo>
                    <a:lnTo>
                      <a:pt x="124" y="674"/>
                    </a:lnTo>
                    <a:lnTo>
                      <a:pt x="136" y="672"/>
                    </a:lnTo>
                    <a:lnTo>
                      <a:pt x="149" y="665"/>
                    </a:lnTo>
                    <a:lnTo>
                      <a:pt x="142" y="656"/>
                    </a:lnTo>
                    <a:lnTo>
                      <a:pt x="143" y="651"/>
                    </a:lnTo>
                    <a:lnTo>
                      <a:pt x="145" y="642"/>
                    </a:lnTo>
                    <a:lnTo>
                      <a:pt x="149" y="637"/>
                    </a:lnTo>
                    <a:lnTo>
                      <a:pt x="131" y="604"/>
                    </a:lnTo>
                    <a:lnTo>
                      <a:pt x="108" y="576"/>
                    </a:lnTo>
                    <a:lnTo>
                      <a:pt x="80" y="550"/>
                    </a:lnTo>
                    <a:lnTo>
                      <a:pt x="52" y="527"/>
                    </a:lnTo>
                    <a:lnTo>
                      <a:pt x="28" y="499"/>
                    </a:lnTo>
                    <a:lnTo>
                      <a:pt x="9" y="471"/>
                    </a:lnTo>
                    <a:lnTo>
                      <a:pt x="0" y="436"/>
                    </a:lnTo>
                    <a:lnTo>
                      <a:pt x="5" y="396"/>
                    </a:lnTo>
                    <a:lnTo>
                      <a:pt x="28" y="341"/>
                    </a:lnTo>
                    <a:lnTo>
                      <a:pt x="63" y="300"/>
                    </a:lnTo>
                    <a:lnTo>
                      <a:pt x="103" y="263"/>
                    </a:lnTo>
                    <a:lnTo>
                      <a:pt x="149" y="233"/>
                    </a:lnTo>
                    <a:lnTo>
                      <a:pt x="196" y="205"/>
                    </a:lnTo>
                    <a:lnTo>
                      <a:pt x="248" y="184"/>
                    </a:lnTo>
                    <a:lnTo>
                      <a:pt x="297" y="163"/>
                    </a:lnTo>
                    <a:lnTo>
                      <a:pt x="348" y="144"/>
                    </a:lnTo>
                    <a:lnTo>
                      <a:pt x="390" y="133"/>
                    </a:lnTo>
                    <a:lnTo>
                      <a:pt x="434" y="119"/>
                    </a:lnTo>
                    <a:lnTo>
                      <a:pt x="476" y="104"/>
                    </a:lnTo>
                    <a:lnTo>
                      <a:pt x="518" y="90"/>
                    </a:lnTo>
                    <a:lnTo>
                      <a:pt x="558" y="74"/>
                    </a:lnTo>
                    <a:lnTo>
                      <a:pt x="600" y="60"/>
                    </a:lnTo>
                    <a:lnTo>
                      <a:pt x="642" y="49"/>
                    </a:lnTo>
                    <a:lnTo>
                      <a:pt x="689" y="46"/>
                    </a:lnTo>
                    <a:lnTo>
                      <a:pt x="740" y="34"/>
                    </a:lnTo>
                    <a:lnTo>
                      <a:pt x="792" y="27"/>
                    </a:lnTo>
                    <a:lnTo>
                      <a:pt x="845" y="20"/>
                    </a:lnTo>
                    <a:lnTo>
                      <a:pt x="899" y="14"/>
                    </a:lnTo>
                    <a:lnTo>
                      <a:pt x="952" y="9"/>
                    </a:lnTo>
                    <a:lnTo>
                      <a:pt x="1006" y="7"/>
                    </a:lnTo>
                    <a:lnTo>
                      <a:pt x="1060" y="2"/>
                    </a:lnTo>
                    <a:lnTo>
                      <a:pt x="1116" y="0"/>
                    </a:lnTo>
                    <a:lnTo>
                      <a:pt x="1153" y="0"/>
                    </a:lnTo>
                    <a:lnTo>
                      <a:pt x="1191" y="4"/>
                    </a:lnTo>
                    <a:lnTo>
                      <a:pt x="1228" y="7"/>
                    </a:lnTo>
                    <a:lnTo>
                      <a:pt x="1267" y="13"/>
                    </a:lnTo>
                    <a:lnTo>
                      <a:pt x="1303" y="18"/>
                    </a:lnTo>
                    <a:lnTo>
                      <a:pt x="1340" y="27"/>
                    </a:lnTo>
                    <a:lnTo>
                      <a:pt x="1375" y="35"/>
                    </a:lnTo>
                    <a:lnTo>
                      <a:pt x="1410" y="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284640" y="3764880"/>
                <a:ext cx="36360" cy="3132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45" y="41"/>
                    </a:moveTo>
                    <a:lnTo>
                      <a:pt x="29" y="37"/>
                    </a:lnTo>
                    <a:lnTo>
                      <a:pt x="19" y="30"/>
                    </a:lnTo>
                    <a:lnTo>
                      <a:pt x="7" y="20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4" y="9"/>
                    </a:lnTo>
                    <a:lnTo>
                      <a:pt x="26" y="20"/>
                    </a:lnTo>
                    <a:lnTo>
                      <a:pt x="36" y="28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92640" y="3776040"/>
                <a:ext cx="27000" cy="2988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33" y="6"/>
                    </a:moveTo>
                    <a:lnTo>
                      <a:pt x="28" y="14"/>
                    </a:lnTo>
                    <a:lnTo>
                      <a:pt x="21" y="25"/>
                    </a:lnTo>
                    <a:lnTo>
                      <a:pt x="12" y="32"/>
                    </a:lnTo>
                    <a:lnTo>
                      <a:pt x="5" y="39"/>
                    </a:lnTo>
                    <a:lnTo>
                      <a:pt x="0" y="34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90760" y="3818880"/>
                <a:ext cx="42840" cy="18720"/>
              </a:xfrm>
              <a:custGeom>
                <a:avLst/>
                <a:gdLst/>
                <a:ahLst/>
                <a:rect l="l" t="t" r="r" b="b"/>
                <a:pathLst>
                  <a:path w="55" h="22">
                    <a:moveTo>
                      <a:pt x="55" y="10"/>
                    </a:moveTo>
                    <a:lnTo>
                      <a:pt x="55" y="19"/>
                    </a:lnTo>
                    <a:lnTo>
                      <a:pt x="39" y="22"/>
                    </a:lnTo>
                    <a:lnTo>
                      <a:pt x="27" y="22"/>
                    </a:lnTo>
                    <a:lnTo>
                      <a:pt x="13" y="17"/>
                    </a:lnTo>
                    <a:lnTo>
                      <a:pt x="2" y="10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6" y="3"/>
                    </a:lnTo>
                    <a:lnTo>
                      <a:pt x="28" y="8"/>
                    </a:lnTo>
                    <a:lnTo>
                      <a:pt x="41" y="10"/>
                    </a:lnTo>
                    <a:lnTo>
                      <a:pt x="55" y="1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08480" y="382356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41" y="28"/>
                    </a:moveTo>
                    <a:lnTo>
                      <a:pt x="30" y="30"/>
                    </a:lnTo>
                    <a:lnTo>
                      <a:pt x="21" y="26"/>
                    </a:lnTo>
                    <a:lnTo>
                      <a:pt x="11" y="17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16" y="5"/>
                    </a:lnTo>
                    <a:lnTo>
                      <a:pt x="27" y="10"/>
                    </a:lnTo>
                    <a:lnTo>
                      <a:pt x="35" y="16"/>
                    </a:lnTo>
                    <a:lnTo>
                      <a:pt x="41" y="28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14880" y="385056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32" y="0"/>
                    </a:moveTo>
                    <a:lnTo>
                      <a:pt x="28" y="10"/>
                    </a:lnTo>
                    <a:lnTo>
                      <a:pt x="23" y="21"/>
                    </a:lnTo>
                    <a:lnTo>
                      <a:pt x="14" y="30"/>
                    </a:lnTo>
                    <a:lnTo>
                      <a:pt x="5" y="37"/>
                    </a:lnTo>
                    <a:lnTo>
                      <a:pt x="0" y="31"/>
                    </a:lnTo>
                    <a:lnTo>
                      <a:pt x="5" y="19"/>
                    </a:lnTo>
                    <a:lnTo>
                      <a:pt x="14" y="12"/>
                    </a:lnTo>
                    <a:lnTo>
                      <a:pt x="23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87600" y="3861720"/>
                <a:ext cx="34920" cy="2340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44" y="32"/>
                    </a:moveTo>
                    <a:lnTo>
                      <a:pt x="30" y="30"/>
                    </a:lnTo>
                    <a:lnTo>
                      <a:pt x="19" y="26"/>
                    </a:lnTo>
                    <a:lnTo>
                      <a:pt x="9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" y="4"/>
                    </a:lnTo>
                    <a:lnTo>
                      <a:pt x="24" y="12"/>
                    </a:lnTo>
                    <a:lnTo>
                      <a:pt x="35" y="21"/>
                    </a:lnTo>
                    <a:lnTo>
                      <a:pt x="44" y="3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10040" y="3869640"/>
                <a:ext cx="511200" cy="234720"/>
              </a:xfrm>
              <a:custGeom>
                <a:avLst/>
                <a:gdLst/>
                <a:ahLst/>
                <a:rect l="l" t="t" r="r" b="b"/>
                <a:pathLst>
                  <a:path w="644" h="295">
                    <a:moveTo>
                      <a:pt x="631" y="78"/>
                    </a:moveTo>
                    <a:lnTo>
                      <a:pt x="631" y="89"/>
                    </a:lnTo>
                    <a:lnTo>
                      <a:pt x="635" y="99"/>
                    </a:lnTo>
                    <a:lnTo>
                      <a:pt x="638" y="110"/>
                    </a:lnTo>
                    <a:lnTo>
                      <a:pt x="642" y="122"/>
                    </a:lnTo>
                    <a:lnTo>
                      <a:pt x="642" y="133"/>
                    </a:lnTo>
                    <a:lnTo>
                      <a:pt x="644" y="143"/>
                    </a:lnTo>
                    <a:lnTo>
                      <a:pt x="640" y="154"/>
                    </a:lnTo>
                    <a:lnTo>
                      <a:pt x="637" y="166"/>
                    </a:lnTo>
                    <a:lnTo>
                      <a:pt x="600" y="195"/>
                    </a:lnTo>
                    <a:lnTo>
                      <a:pt x="563" y="222"/>
                    </a:lnTo>
                    <a:lnTo>
                      <a:pt x="521" y="243"/>
                    </a:lnTo>
                    <a:lnTo>
                      <a:pt x="481" y="260"/>
                    </a:lnTo>
                    <a:lnTo>
                      <a:pt x="435" y="272"/>
                    </a:lnTo>
                    <a:lnTo>
                      <a:pt x="390" y="283"/>
                    </a:lnTo>
                    <a:lnTo>
                      <a:pt x="343" y="288"/>
                    </a:lnTo>
                    <a:lnTo>
                      <a:pt x="297" y="293"/>
                    </a:lnTo>
                    <a:lnTo>
                      <a:pt x="257" y="293"/>
                    </a:lnTo>
                    <a:lnTo>
                      <a:pt x="217" y="295"/>
                    </a:lnTo>
                    <a:lnTo>
                      <a:pt x="173" y="293"/>
                    </a:lnTo>
                    <a:lnTo>
                      <a:pt x="131" y="290"/>
                    </a:lnTo>
                    <a:lnTo>
                      <a:pt x="89" y="279"/>
                    </a:lnTo>
                    <a:lnTo>
                      <a:pt x="54" y="265"/>
                    </a:lnTo>
                    <a:lnTo>
                      <a:pt x="23" y="241"/>
                    </a:lnTo>
                    <a:lnTo>
                      <a:pt x="0" y="209"/>
                    </a:lnTo>
                    <a:lnTo>
                      <a:pt x="0" y="195"/>
                    </a:lnTo>
                    <a:lnTo>
                      <a:pt x="2" y="183"/>
                    </a:lnTo>
                    <a:lnTo>
                      <a:pt x="2" y="169"/>
                    </a:lnTo>
                    <a:lnTo>
                      <a:pt x="5" y="157"/>
                    </a:lnTo>
                    <a:lnTo>
                      <a:pt x="7" y="143"/>
                    </a:lnTo>
                    <a:lnTo>
                      <a:pt x="14" y="131"/>
                    </a:lnTo>
                    <a:lnTo>
                      <a:pt x="23" y="120"/>
                    </a:lnTo>
                    <a:lnTo>
                      <a:pt x="35" y="112"/>
                    </a:lnTo>
                    <a:lnTo>
                      <a:pt x="77" y="75"/>
                    </a:lnTo>
                    <a:lnTo>
                      <a:pt x="126" y="49"/>
                    </a:lnTo>
                    <a:lnTo>
                      <a:pt x="175" y="29"/>
                    </a:lnTo>
                    <a:lnTo>
                      <a:pt x="229" y="17"/>
                    </a:lnTo>
                    <a:lnTo>
                      <a:pt x="281" y="8"/>
                    </a:lnTo>
                    <a:lnTo>
                      <a:pt x="337" y="5"/>
                    </a:lnTo>
                    <a:lnTo>
                      <a:pt x="392" y="1"/>
                    </a:lnTo>
                    <a:lnTo>
                      <a:pt x="448" y="0"/>
                    </a:lnTo>
                    <a:lnTo>
                      <a:pt x="472" y="0"/>
                    </a:lnTo>
                    <a:lnTo>
                      <a:pt x="498" y="1"/>
                    </a:lnTo>
                    <a:lnTo>
                      <a:pt x="523" y="7"/>
                    </a:lnTo>
                    <a:lnTo>
                      <a:pt x="549" y="15"/>
                    </a:lnTo>
                    <a:lnTo>
                      <a:pt x="572" y="24"/>
                    </a:lnTo>
                    <a:lnTo>
                      <a:pt x="595" y="38"/>
                    </a:lnTo>
                    <a:lnTo>
                      <a:pt x="614" y="56"/>
                    </a:lnTo>
                    <a:lnTo>
                      <a:pt x="631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55920" y="3872880"/>
                <a:ext cx="17640" cy="43920"/>
              </a:xfrm>
              <a:custGeom>
                <a:avLst/>
                <a:gdLst/>
                <a:ahLst/>
                <a:rect l="l" t="t" r="r" b="b"/>
                <a:pathLst>
                  <a:path w="21" h="54">
                    <a:moveTo>
                      <a:pt x="21" y="54"/>
                    </a:moveTo>
                    <a:lnTo>
                      <a:pt x="12" y="54"/>
                    </a:lnTo>
                    <a:lnTo>
                      <a:pt x="7" y="38"/>
                    </a:lnTo>
                    <a:lnTo>
                      <a:pt x="3" y="24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8" y="10"/>
                    </a:lnTo>
                    <a:lnTo>
                      <a:pt x="14" y="24"/>
                    </a:lnTo>
                    <a:lnTo>
                      <a:pt x="17" y="38"/>
                    </a:lnTo>
                    <a:lnTo>
                      <a:pt x="21" y="5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32360" y="3882240"/>
                <a:ext cx="465120" cy="199800"/>
              </a:xfrm>
              <a:custGeom>
                <a:avLst/>
                <a:gdLst/>
                <a:ahLst/>
                <a:rect l="l" t="t" r="r" b="b"/>
                <a:pathLst>
                  <a:path w="586" h="252">
                    <a:moveTo>
                      <a:pt x="460" y="14"/>
                    </a:moveTo>
                    <a:lnTo>
                      <a:pt x="476" y="16"/>
                    </a:lnTo>
                    <a:lnTo>
                      <a:pt x="495" y="18"/>
                    </a:lnTo>
                    <a:lnTo>
                      <a:pt x="514" y="21"/>
                    </a:lnTo>
                    <a:lnTo>
                      <a:pt x="534" y="28"/>
                    </a:lnTo>
                    <a:lnTo>
                      <a:pt x="548" y="34"/>
                    </a:lnTo>
                    <a:lnTo>
                      <a:pt x="563" y="44"/>
                    </a:lnTo>
                    <a:lnTo>
                      <a:pt x="576" y="58"/>
                    </a:lnTo>
                    <a:lnTo>
                      <a:pt x="586" y="77"/>
                    </a:lnTo>
                    <a:lnTo>
                      <a:pt x="586" y="90"/>
                    </a:lnTo>
                    <a:lnTo>
                      <a:pt x="584" y="104"/>
                    </a:lnTo>
                    <a:lnTo>
                      <a:pt x="579" y="116"/>
                    </a:lnTo>
                    <a:lnTo>
                      <a:pt x="576" y="128"/>
                    </a:lnTo>
                    <a:lnTo>
                      <a:pt x="567" y="139"/>
                    </a:lnTo>
                    <a:lnTo>
                      <a:pt x="562" y="149"/>
                    </a:lnTo>
                    <a:lnTo>
                      <a:pt x="553" y="160"/>
                    </a:lnTo>
                    <a:lnTo>
                      <a:pt x="548" y="172"/>
                    </a:lnTo>
                    <a:lnTo>
                      <a:pt x="486" y="201"/>
                    </a:lnTo>
                    <a:lnTo>
                      <a:pt x="423" y="226"/>
                    </a:lnTo>
                    <a:lnTo>
                      <a:pt x="359" y="242"/>
                    </a:lnTo>
                    <a:lnTo>
                      <a:pt x="296" y="252"/>
                    </a:lnTo>
                    <a:lnTo>
                      <a:pt x="229" y="252"/>
                    </a:lnTo>
                    <a:lnTo>
                      <a:pt x="163" y="249"/>
                    </a:lnTo>
                    <a:lnTo>
                      <a:pt x="98" y="236"/>
                    </a:lnTo>
                    <a:lnTo>
                      <a:pt x="37" y="219"/>
                    </a:lnTo>
                    <a:lnTo>
                      <a:pt x="24" y="212"/>
                    </a:lnTo>
                    <a:lnTo>
                      <a:pt x="16" y="207"/>
                    </a:lnTo>
                    <a:lnTo>
                      <a:pt x="7" y="198"/>
                    </a:lnTo>
                    <a:lnTo>
                      <a:pt x="4" y="189"/>
                    </a:lnTo>
                    <a:lnTo>
                      <a:pt x="0" y="170"/>
                    </a:lnTo>
                    <a:lnTo>
                      <a:pt x="4" y="154"/>
                    </a:lnTo>
                    <a:lnTo>
                      <a:pt x="11" y="139"/>
                    </a:lnTo>
                    <a:lnTo>
                      <a:pt x="21" y="126"/>
                    </a:lnTo>
                    <a:lnTo>
                      <a:pt x="31" y="112"/>
                    </a:lnTo>
                    <a:lnTo>
                      <a:pt x="47" y="104"/>
                    </a:lnTo>
                    <a:lnTo>
                      <a:pt x="61" y="93"/>
                    </a:lnTo>
                    <a:lnTo>
                      <a:pt x="75" y="86"/>
                    </a:lnTo>
                    <a:lnTo>
                      <a:pt x="117" y="67"/>
                    </a:lnTo>
                    <a:lnTo>
                      <a:pt x="163" y="49"/>
                    </a:lnTo>
                    <a:lnTo>
                      <a:pt x="210" y="34"/>
                    </a:lnTo>
                    <a:lnTo>
                      <a:pt x="257" y="21"/>
                    </a:lnTo>
                    <a:lnTo>
                      <a:pt x="304" y="9"/>
                    </a:lnTo>
                    <a:lnTo>
                      <a:pt x="352" y="4"/>
                    </a:lnTo>
                    <a:lnTo>
                      <a:pt x="401" y="0"/>
                    </a:lnTo>
                    <a:lnTo>
                      <a:pt x="453" y="6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21400" y="3885480"/>
                <a:ext cx="10800" cy="50400"/>
              </a:xfrm>
              <a:custGeom>
                <a:avLst/>
                <a:gdLst/>
                <a:ahLst/>
                <a:rect l="l" t="t" r="r" b="b"/>
                <a:pathLst>
                  <a:path w="14" h="63">
                    <a:moveTo>
                      <a:pt x="14" y="0"/>
                    </a:moveTo>
                    <a:lnTo>
                      <a:pt x="10" y="15"/>
                    </a:lnTo>
                    <a:lnTo>
                      <a:pt x="10" y="31"/>
                    </a:lnTo>
                    <a:lnTo>
                      <a:pt x="8" y="47"/>
                    </a:lnTo>
                    <a:lnTo>
                      <a:pt x="8" y="63"/>
                    </a:lnTo>
                    <a:lnTo>
                      <a:pt x="3" y="63"/>
                    </a:lnTo>
                    <a:lnTo>
                      <a:pt x="0" y="47"/>
                    </a:lnTo>
                    <a:lnTo>
                      <a:pt x="1" y="31"/>
                    </a:lnTo>
                    <a:lnTo>
                      <a:pt x="3" y="14"/>
                    </a:lnTo>
                    <a:lnTo>
                      <a:pt x="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57760" y="3894840"/>
                <a:ext cx="7920" cy="88560"/>
              </a:xfrm>
              <a:custGeom>
                <a:avLst/>
                <a:gdLst/>
                <a:ahLst/>
                <a:rect l="l" t="t" r="r" b="b"/>
                <a:pathLst>
                  <a:path w="11" h="110">
                    <a:moveTo>
                      <a:pt x="11" y="110"/>
                    </a:moveTo>
                    <a:lnTo>
                      <a:pt x="5" y="96"/>
                    </a:lnTo>
                    <a:lnTo>
                      <a:pt x="4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11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292720" y="399492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28" h="66">
                    <a:moveTo>
                      <a:pt x="28" y="0"/>
                    </a:moveTo>
                    <a:lnTo>
                      <a:pt x="21" y="14"/>
                    </a:lnTo>
                    <a:lnTo>
                      <a:pt x="15" y="33"/>
                    </a:lnTo>
                    <a:lnTo>
                      <a:pt x="8" y="49"/>
                    </a:lnTo>
                    <a:lnTo>
                      <a:pt x="1" y="66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0" y="38"/>
                    </a:lnTo>
                    <a:lnTo>
                      <a:pt x="5" y="30"/>
                    </a:lnTo>
                    <a:lnTo>
                      <a:pt x="14" y="1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15040" y="4001400"/>
                <a:ext cx="60120" cy="5976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5"/>
                    </a:moveTo>
                    <a:lnTo>
                      <a:pt x="66" y="14"/>
                    </a:lnTo>
                    <a:lnTo>
                      <a:pt x="57" y="24"/>
                    </a:lnTo>
                    <a:lnTo>
                      <a:pt x="49" y="35"/>
                    </a:lnTo>
                    <a:lnTo>
                      <a:pt x="40" y="45"/>
                    </a:lnTo>
                    <a:lnTo>
                      <a:pt x="29" y="54"/>
                    </a:lnTo>
                    <a:lnTo>
                      <a:pt x="19" y="63"/>
                    </a:lnTo>
                    <a:lnTo>
                      <a:pt x="8" y="70"/>
                    </a:lnTo>
                    <a:lnTo>
                      <a:pt x="0" y="77"/>
                    </a:lnTo>
                    <a:lnTo>
                      <a:pt x="5" y="63"/>
                    </a:lnTo>
                    <a:lnTo>
                      <a:pt x="12" y="52"/>
                    </a:lnTo>
                    <a:lnTo>
                      <a:pt x="21" y="43"/>
                    </a:lnTo>
                    <a:lnTo>
                      <a:pt x="31" y="35"/>
                    </a:lnTo>
                    <a:lnTo>
                      <a:pt x="40" y="26"/>
                    </a:lnTo>
                    <a:lnTo>
                      <a:pt x="50" y="17"/>
                    </a:lnTo>
                    <a:lnTo>
                      <a:pt x="61" y="9"/>
                    </a:lnTo>
                    <a:lnTo>
                      <a:pt x="71" y="0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248440" y="401400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24" h="55">
                    <a:moveTo>
                      <a:pt x="24" y="39"/>
                    </a:moveTo>
                    <a:lnTo>
                      <a:pt x="24" y="55"/>
                    </a:lnTo>
                    <a:lnTo>
                      <a:pt x="15" y="39"/>
                    </a:lnTo>
                    <a:lnTo>
                      <a:pt x="5" y="25"/>
                    </a:lnTo>
                    <a:lnTo>
                      <a:pt x="0" y="11"/>
                    </a:lnTo>
                    <a:lnTo>
                      <a:pt x="7" y="0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21440" y="40442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18" y="31"/>
                    </a:lnTo>
                    <a:lnTo>
                      <a:pt x="7" y="23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11" y="7"/>
                    </a:lnTo>
                    <a:lnTo>
                      <a:pt x="20" y="17"/>
                    </a:lnTo>
                    <a:lnTo>
                      <a:pt x="27" y="28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42040" y="404892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63" h="37">
                    <a:moveTo>
                      <a:pt x="63" y="0"/>
                    </a:moveTo>
                    <a:lnTo>
                      <a:pt x="50" y="12"/>
                    </a:lnTo>
                    <a:lnTo>
                      <a:pt x="35" y="21"/>
                    </a:lnTo>
                    <a:lnTo>
                      <a:pt x="26" y="23"/>
                    </a:lnTo>
                    <a:lnTo>
                      <a:pt x="17" y="28"/>
                    </a:lnTo>
                    <a:lnTo>
                      <a:pt x="7" y="32"/>
                    </a:lnTo>
                    <a:lnTo>
                      <a:pt x="0" y="37"/>
                    </a:lnTo>
                    <a:lnTo>
                      <a:pt x="10" y="21"/>
                    </a:lnTo>
                    <a:lnTo>
                      <a:pt x="28" y="11"/>
                    </a:lnTo>
                    <a:lnTo>
                      <a:pt x="35" y="5"/>
                    </a:lnTo>
                    <a:lnTo>
                      <a:pt x="45" y="2"/>
                    </a:lnTo>
                    <a:lnTo>
                      <a:pt x="54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95880" y="4082400"/>
                <a:ext cx="41400" cy="1872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51" y="17"/>
                    </a:moveTo>
                    <a:lnTo>
                      <a:pt x="51" y="23"/>
                    </a:lnTo>
                    <a:lnTo>
                      <a:pt x="44" y="16"/>
                    </a:lnTo>
                    <a:lnTo>
                      <a:pt x="35" y="14"/>
                    </a:lnTo>
                    <a:lnTo>
                      <a:pt x="26" y="12"/>
                    </a:lnTo>
                    <a:lnTo>
                      <a:pt x="19" y="14"/>
                    </a:lnTo>
                    <a:lnTo>
                      <a:pt x="10" y="12"/>
                    </a:lnTo>
                    <a:lnTo>
                      <a:pt x="5" y="12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12" y="2"/>
                    </a:lnTo>
                    <a:lnTo>
                      <a:pt x="26" y="5"/>
                    </a:lnTo>
                    <a:lnTo>
                      <a:pt x="37" y="10"/>
                    </a:lnTo>
                    <a:lnTo>
                      <a:pt x="51" y="17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0" y="4104720"/>
                <a:ext cx="54000" cy="57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69" y="9"/>
                    </a:moveTo>
                    <a:lnTo>
                      <a:pt x="0" y="9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37" y="0"/>
                    </a:lnTo>
                    <a:lnTo>
                      <a:pt x="53" y="2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95880" y="4125240"/>
                <a:ext cx="36360" cy="1224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45" y="2"/>
                    </a:moveTo>
                    <a:lnTo>
                      <a:pt x="35" y="7"/>
                    </a:lnTo>
                    <a:lnTo>
                      <a:pt x="23" y="13"/>
                    </a:lnTo>
                    <a:lnTo>
                      <a:pt x="10" y="16"/>
                    </a:lnTo>
                    <a:lnTo>
                      <a:pt x="2" y="14"/>
                    </a:lnTo>
                    <a:lnTo>
                      <a:pt x="0" y="6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3" y="0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34120" y="4139640"/>
                <a:ext cx="38160" cy="3132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47" y="38"/>
                    </a:moveTo>
                    <a:lnTo>
                      <a:pt x="47" y="4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33" y="10"/>
                    </a:lnTo>
                    <a:lnTo>
                      <a:pt x="42" y="22"/>
                    </a:lnTo>
                    <a:lnTo>
                      <a:pt x="47" y="38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24280" y="4137840"/>
                <a:ext cx="1227240" cy="286920"/>
              </a:xfrm>
              <a:custGeom>
                <a:avLst/>
                <a:gdLst/>
                <a:ahLst/>
                <a:rect l="l" t="t" r="r" b="b"/>
                <a:pathLst>
                  <a:path w="1547" h="360">
                    <a:moveTo>
                      <a:pt x="959" y="2"/>
                    </a:moveTo>
                    <a:lnTo>
                      <a:pt x="886" y="9"/>
                    </a:lnTo>
                    <a:lnTo>
                      <a:pt x="812" y="21"/>
                    </a:lnTo>
                    <a:lnTo>
                      <a:pt x="740" y="33"/>
                    </a:lnTo>
                    <a:lnTo>
                      <a:pt x="670" y="49"/>
                    </a:lnTo>
                    <a:lnTo>
                      <a:pt x="599" y="65"/>
                    </a:lnTo>
                    <a:lnTo>
                      <a:pt x="529" y="86"/>
                    </a:lnTo>
                    <a:lnTo>
                      <a:pt x="459" y="107"/>
                    </a:lnTo>
                    <a:lnTo>
                      <a:pt x="390" y="133"/>
                    </a:lnTo>
                    <a:lnTo>
                      <a:pt x="373" y="140"/>
                    </a:lnTo>
                    <a:lnTo>
                      <a:pt x="355" y="147"/>
                    </a:lnTo>
                    <a:lnTo>
                      <a:pt x="338" y="154"/>
                    </a:lnTo>
                    <a:lnTo>
                      <a:pt x="322" y="161"/>
                    </a:lnTo>
                    <a:lnTo>
                      <a:pt x="305" y="166"/>
                    </a:lnTo>
                    <a:lnTo>
                      <a:pt x="287" y="175"/>
                    </a:lnTo>
                    <a:lnTo>
                      <a:pt x="272" y="182"/>
                    </a:lnTo>
                    <a:lnTo>
                      <a:pt x="258" y="192"/>
                    </a:lnTo>
                    <a:lnTo>
                      <a:pt x="279" y="185"/>
                    </a:lnTo>
                    <a:lnTo>
                      <a:pt x="299" y="180"/>
                    </a:lnTo>
                    <a:lnTo>
                      <a:pt x="320" y="171"/>
                    </a:lnTo>
                    <a:lnTo>
                      <a:pt x="341" y="164"/>
                    </a:lnTo>
                    <a:lnTo>
                      <a:pt x="362" y="156"/>
                    </a:lnTo>
                    <a:lnTo>
                      <a:pt x="385" y="149"/>
                    </a:lnTo>
                    <a:lnTo>
                      <a:pt x="408" y="142"/>
                    </a:lnTo>
                    <a:lnTo>
                      <a:pt x="432" y="138"/>
                    </a:lnTo>
                    <a:lnTo>
                      <a:pt x="488" y="121"/>
                    </a:lnTo>
                    <a:lnTo>
                      <a:pt x="546" y="105"/>
                    </a:lnTo>
                    <a:lnTo>
                      <a:pt x="606" y="89"/>
                    </a:lnTo>
                    <a:lnTo>
                      <a:pt x="665" y="75"/>
                    </a:lnTo>
                    <a:lnTo>
                      <a:pt x="723" y="59"/>
                    </a:lnTo>
                    <a:lnTo>
                      <a:pt x="784" y="49"/>
                    </a:lnTo>
                    <a:lnTo>
                      <a:pt x="844" y="38"/>
                    </a:lnTo>
                    <a:lnTo>
                      <a:pt x="905" y="31"/>
                    </a:lnTo>
                    <a:lnTo>
                      <a:pt x="865" y="42"/>
                    </a:lnTo>
                    <a:lnTo>
                      <a:pt x="828" y="52"/>
                    </a:lnTo>
                    <a:lnTo>
                      <a:pt x="788" y="63"/>
                    </a:lnTo>
                    <a:lnTo>
                      <a:pt x="751" y="75"/>
                    </a:lnTo>
                    <a:lnTo>
                      <a:pt x="712" y="86"/>
                    </a:lnTo>
                    <a:lnTo>
                      <a:pt x="674" y="100"/>
                    </a:lnTo>
                    <a:lnTo>
                      <a:pt x="637" y="115"/>
                    </a:lnTo>
                    <a:lnTo>
                      <a:pt x="604" y="133"/>
                    </a:lnTo>
                    <a:lnTo>
                      <a:pt x="625" y="126"/>
                    </a:lnTo>
                    <a:lnTo>
                      <a:pt x="648" y="121"/>
                    </a:lnTo>
                    <a:lnTo>
                      <a:pt x="670" y="114"/>
                    </a:lnTo>
                    <a:lnTo>
                      <a:pt x="695" y="107"/>
                    </a:lnTo>
                    <a:lnTo>
                      <a:pt x="718" y="100"/>
                    </a:lnTo>
                    <a:lnTo>
                      <a:pt x="742" y="93"/>
                    </a:lnTo>
                    <a:lnTo>
                      <a:pt x="765" y="87"/>
                    </a:lnTo>
                    <a:lnTo>
                      <a:pt x="789" y="82"/>
                    </a:lnTo>
                    <a:lnTo>
                      <a:pt x="712" y="105"/>
                    </a:lnTo>
                    <a:lnTo>
                      <a:pt x="637" y="131"/>
                    </a:lnTo>
                    <a:lnTo>
                      <a:pt x="560" y="156"/>
                    </a:lnTo>
                    <a:lnTo>
                      <a:pt x="485" y="180"/>
                    </a:lnTo>
                    <a:lnTo>
                      <a:pt x="406" y="203"/>
                    </a:lnTo>
                    <a:lnTo>
                      <a:pt x="329" y="227"/>
                    </a:lnTo>
                    <a:lnTo>
                      <a:pt x="251" y="247"/>
                    </a:lnTo>
                    <a:lnTo>
                      <a:pt x="172" y="268"/>
                    </a:lnTo>
                    <a:lnTo>
                      <a:pt x="172" y="271"/>
                    </a:lnTo>
                    <a:lnTo>
                      <a:pt x="189" y="273"/>
                    </a:lnTo>
                    <a:lnTo>
                      <a:pt x="209" y="275"/>
                    </a:lnTo>
                    <a:lnTo>
                      <a:pt x="226" y="273"/>
                    </a:lnTo>
                    <a:lnTo>
                      <a:pt x="245" y="271"/>
                    </a:lnTo>
                    <a:lnTo>
                      <a:pt x="263" y="266"/>
                    </a:lnTo>
                    <a:lnTo>
                      <a:pt x="282" y="262"/>
                    </a:lnTo>
                    <a:lnTo>
                      <a:pt x="301" y="259"/>
                    </a:lnTo>
                    <a:lnTo>
                      <a:pt x="320" y="255"/>
                    </a:lnTo>
                    <a:lnTo>
                      <a:pt x="438" y="219"/>
                    </a:lnTo>
                    <a:lnTo>
                      <a:pt x="557" y="182"/>
                    </a:lnTo>
                    <a:lnTo>
                      <a:pt x="676" y="145"/>
                    </a:lnTo>
                    <a:lnTo>
                      <a:pt x="796" y="110"/>
                    </a:lnTo>
                    <a:lnTo>
                      <a:pt x="917" y="77"/>
                    </a:lnTo>
                    <a:lnTo>
                      <a:pt x="1040" y="51"/>
                    </a:lnTo>
                    <a:lnTo>
                      <a:pt x="1164" y="28"/>
                    </a:lnTo>
                    <a:lnTo>
                      <a:pt x="1293" y="17"/>
                    </a:lnTo>
                    <a:lnTo>
                      <a:pt x="1327" y="19"/>
                    </a:lnTo>
                    <a:lnTo>
                      <a:pt x="1363" y="23"/>
                    </a:lnTo>
                    <a:lnTo>
                      <a:pt x="1400" y="26"/>
                    </a:lnTo>
                    <a:lnTo>
                      <a:pt x="1438" y="37"/>
                    </a:lnTo>
                    <a:lnTo>
                      <a:pt x="1472" y="49"/>
                    </a:lnTo>
                    <a:lnTo>
                      <a:pt x="1501" y="66"/>
                    </a:lnTo>
                    <a:lnTo>
                      <a:pt x="1526" y="91"/>
                    </a:lnTo>
                    <a:lnTo>
                      <a:pt x="1547" y="126"/>
                    </a:lnTo>
                    <a:lnTo>
                      <a:pt x="1543" y="135"/>
                    </a:lnTo>
                    <a:lnTo>
                      <a:pt x="1542" y="145"/>
                    </a:lnTo>
                    <a:lnTo>
                      <a:pt x="1542" y="154"/>
                    </a:lnTo>
                    <a:lnTo>
                      <a:pt x="1542" y="163"/>
                    </a:lnTo>
                    <a:lnTo>
                      <a:pt x="1538" y="170"/>
                    </a:lnTo>
                    <a:lnTo>
                      <a:pt x="1535" y="177"/>
                    </a:lnTo>
                    <a:lnTo>
                      <a:pt x="1528" y="182"/>
                    </a:lnTo>
                    <a:lnTo>
                      <a:pt x="1519" y="187"/>
                    </a:lnTo>
                    <a:lnTo>
                      <a:pt x="1505" y="185"/>
                    </a:lnTo>
                    <a:lnTo>
                      <a:pt x="1493" y="184"/>
                    </a:lnTo>
                    <a:lnTo>
                      <a:pt x="1479" y="180"/>
                    </a:lnTo>
                    <a:lnTo>
                      <a:pt x="1466" y="177"/>
                    </a:lnTo>
                    <a:lnTo>
                      <a:pt x="1452" y="173"/>
                    </a:lnTo>
                    <a:lnTo>
                      <a:pt x="1440" y="170"/>
                    </a:lnTo>
                    <a:lnTo>
                      <a:pt x="1428" y="168"/>
                    </a:lnTo>
                    <a:lnTo>
                      <a:pt x="1416" y="168"/>
                    </a:lnTo>
                    <a:lnTo>
                      <a:pt x="1407" y="154"/>
                    </a:lnTo>
                    <a:lnTo>
                      <a:pt x="1395" y="145"/>
                    </a:lnTo>
                    <a:lnTo>
                      <a:pt x="1381" y="136"/>
                    </a:lnTo>
                    <a:lnTo>
                      <a:pt x="1372" y="124"/>
                    </a:lnTo>
                    <a:lnTo>
                      <a:pt x="1379" y="122"/>
                    </a:lnTo>
                    <a:lnTo>
                      <a:pt x="1389" y="122"/>
                    </a:lnTo>
                    <a:lnTo>
                      <a:pt x="1400" y="122"/>
                    </a:lnTo>
                    <a:lnTo>
                      <a:pt x="1410" y="124"/>
                    </a:lnTo>
                    <a:lnTo>
                      <a:pt x="1419" y="126"/>
                    </a:lnTo>
                    <a:lnTo>
                      <a:pt x="1430" y="129"/>
                    </a:lnTo>
                    <a:lnTo>
                      <a:pt x="1437" y="135"/>
                    </a:lnTo>
                    <a:lnTo>
                      <a:pt x="1444" y="140"/>
                    </a:lnTo>
                    <a:lnTo>
                      <a:pt x="1449" y="140"/>
                    </a:lnTo>
                    <a:lnTo>
                      <a:pt x="1459" y="142"/>
                    </a:lnTo>
                    <a:lnTo>
                      <a:pt x="1466" y="145"/>
                    </a:lnTo>
                    <a:lnTo>
                      <a:pt x="1475" y="150"/>
                    </a:lnTo>
                    <a:lnTo>
                      <a:pt x="1482" y="161"/>
                    </a:lnTo>
                    <a:lnTo>
                      <a:pt x="1494" y="164"/>
                    </a:lnTo>
                    <a:lnTo>
                      <a:pt x="1501" y="152"/>
                    </a:lnTo>
                    <a:lnTo>
                      <a:pt x="1503" y="142"/>
                    </a:lnTo>
                    <a:lnTo>
                      <a:pt x="1500" y="133"/>
                    </a:lnTo>
                    <a:lnTo>
                      <a:pt x="1494" y="124"/>
                    </a:lnTo>
                    <a:lnTo>
                      <a:pt x="1484" y="115"/>
                    </a:lnTo>
                    <a:lnTo>
                      <a:pt x="1473" y="108"/>
                    </a:lnTo>
                    <a:lnTo>
                      <a:pt x="1465" y="101"/>
                    </a:lnTo>
                    <a:lnTo>
                      <a:pt x="1459" y="96"/>
                    </a:lnTo>
                    <a:lnTo>
                      <a:pt x="1428" y="86"/>
                    </a:lnTo>
                    <a:lnTo>
                      <a:pt x="1398" y="77"/>
                    </a:lnTo>
                    <a:lnTo>
                      <a:pt x="1367" y="70"/>
                    </a:lnTo>
                    <a:lnTo>
                      <a:pt x="1337" y="65"/>
                    </a:lnTo>
                    <a:lnTo>
                      <a:pt x="1306" y="59"/>
                    </a:lnTo>
                    <a:lnTo>
                      <a:pt x="1274" y="58"/>
                    </a:lnTo>
                    <a:lnTo>
                      <a:pt x="1244" y="58"/>
                    </a:lnTo>
                    <a:lnTo>
                      <a:pt x="1216" y="61"/>
                    </a:lnTo>
                    <a:lnTo>
                      <a:pt x="1071" y="79"/>
                    </a:lnTo>
                    <a:lnTo>
                      <a:pt x="933" y="110"/>
                    </a:lnTo>
                    <a:lnTo>
                      <a:pt x="798" y="150"/>
                    </a:lnTo>
                    <a:lnTo>
                      <a:pt x="667" y="198"/>
                    </a:lnTo>
                    <a:lnTo>
                      <a:pt x="534" y="243"/>
                    </a:lnTo>
                    <a:lnTo>
                      <a:pt x="403" y="288"/>
                    </a:lnTo>
                    <a:lnTo>
                      <a:pt x="270" y="327"/>
                    </a:lnTo>
                    <a:lnTo>
                      <a:pt x="133" y="360"/>
                    </a:lnTo>
                    <a:lnTo>
                      <a:pt x="112" y="353"/>
                    </a:lnTo>
                    <a:lnTo>
                      <a:pt x="91" y="348"/>
                    </a:lnTo>
                    <a:lnTo>
                      <a:pt x="72" y="337"/>
                    </a:lnTo>
                    <a:lnTo>
                      <a:pt x="56" y="329"/>
                    </a:lnTo>
                    <a:lnTo>
                      <a:pt x="39" y="315"/>
                    </a:lnTo>
                    <a:lnTo>
                      <a:pt x="25" y="301"/>
                    </a:lnTo>
                    <a:lnTo>
                      <a:pt x="14" y="283"/>
                    </a:lnTo>
                    <a:lnTo>
                      <a:pt x="6" y="268"/>
                    </a:lnTo>
                    <a:lnTo>
                      <a:pt x="0" y="236"/>
                    </a:lnTo>
                    <a:lnTo>
                      <a:pt x="100" y="187"/>
                    </a:lnTo>
                    <a:lnTo>
                      <a:pt x="205" y="145"/>
                    </a:lnTo>
                    <a:lnTo>
                      <a:pt x="310" y="108"/>
                    </a:lnTo>
                    <a:lnTo>
                      <a:pt x="418" y="79"/>
                    </a:lnTo>
                    <a:lnTo>
                      <a:pt x="527" y="52"/>
                    </a:lnTo>
                    <a:lnTo>
                      <a:pt x="639" y="31"/>
                    </a:lnTo>
                    <a:lnTo>
                      <a:pt x="753" y="14"/>
                    </a:lnTo>
                    <a:lnTo>
                      <a:pt x="870" y="2"/>
                    </a:lnTo>
                    <a:lnTo>
                      <a:pt x="880" y="0"/>
                    </a:lnTo>
                    <a:lnTo>
                      <a:pt x="893" y="0"/>
                    </a:lnTo>
                    <a:lnTo>
                      <a:pt x="905" y="0"/>
                    </a:lnTo>
                    <a:lnTo>
                      <a:pt x="917" y="0"/>
                    </a:lnTo>
                    <a:lnTo>
                      <a:pt x="928" y="0"/>
                    </a:lnTo>
                    <a:lnTo>
                      <a:pt x="938" y="0"/>
                    </a:lnTo>
                    <a:lnTo>
                      <a:pt x="949" y="0"/>
                    </a:lnTo>
                    <a:lnTo>
                      <a:pt x="959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94320" y="41396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13400" y="413964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30680" y="413964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18280" y="4152240"/>
                <a:ext cx="23760" cy="42480"/>
              </a:xfrm>
              <a:custGeom>
                <a:avLst/>
                <a:gdLst/>
                <a:ahLst/>
                <a:rect l="l" t="t" r="r" b="b"/>
                <a:pathLst>
                  <a:path w="30" h="55">
                    <a:moveTo>
                      <a:pt x="30" y="34"/>
                    </a:moveTo>
                    <a:lnTo>
                      <a:pt x="30" y="55"/>
                    </a:lnTo>
                    <a:lnTo>
                      <a:pt x="21" y="44"/>
                    </a:lnTo>
                    <a:lnTo>
                      <a:pt x="17" y="32"/>
                    </a:lnTo>
                    <a:lnTo>
                      <a:pt x="10" y="2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11"/>
                    </a:lnTo>
                    <a:lnTo>
                      <a:pt x="24" y="21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10160" y="4160160"/>
                <a:ext cx="83880" cy="72720"/>
              </a:xfrm>
              <a:custGeom>
                <a:avLst/>
                <a:gdLst/>
                <a:ahLst/>
                <a:rect l="l" t="t" r="r" b="b"/>
                <a:pathLst>
                  <a:path w="105" h="93">
                    <a:moveTo>
                      <a:pt x="105" y="84"/>
                    </a:moveTo>
                    <a:lnTo>
                      <a:pt x="105" y="93"/>
                    </a:lnTo>
                    <a:lnTo>
                      <a:pt x="91" y="82"/>
                    </a:lnTo>
                    <a:lnTo>
                      <a:pt x="79" y="72"/>
                    </a:lnTo>
                    <a:lnTo>
                      <a:pt x="65" y="60"/>
                    </a:lnTo>
                    <a:lnTo>
                      <a:pt x="51" y="49"/>
                    </a:lnTo>
                    <a:lnTo>
                      <a:pt x="35" y="35"/>
                    </a:lnTo>
                    <a:lnTo>
                      <a:pt x="23" y="23"/>
                    </a:lnTo>
                    <a:lnTo>
                      <a:pt x="9" y="11"/>
                    </a:lnTo>
                    <a:lnTo>
                      <a:pt x="0" y="0"/>
                    </a:lnTo>
                    <a:lnTo>
                      <a:pt x="14" y="2"/>
                    </a:lnTo>
                    <a:lnTo>
                      <a:pt x="28" y="14"/>
                    </a:lnTo>
                    <a:lnTo>
                      <a:pt x="10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35480" y="4156920"/>
                <a:ext cx="20880" cy="2664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26" y="3"/>
                    </a:moveTo>
                    <a:lnTo>
                      <a:pt x="19" y="12"/>
                    </a:lnTo>
                    <a:lnTo>
                      <a:pt x="16" y="21"/>
                    </a:lnTo>
                    <a:lnTo>
                      <a:pt x="10" y="29"/>
                    </a:lnTo>
                    <a:lnTo>
                      <a:pt x="3" y="35"/>
                    </a:lnTo>
                    <a:lnTo>
                      <a:pt x="0" y="22"/>
                    </a:lnTo>
                    <a:lnTo>
                      <a:pt x="5" y="14"/>
                    </a:lnTo>
                    <a:lnTo>
                      <a:pt x="12" y="7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280120" y="4163400"/>
                <a:ext cx="15840" cy="4068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19" y="44"/>
                    </a:moveTo>
                    <a:lnTo>
                      <a:pt x="14" y="51"/>
                    </a:lnTo>
                    <a:lnTo>
                      <a:pt x="2" y="42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4" y="20"/>
                    </a:lnTo>
                    <a:lnTo>
                      <a:pt x="16" y="32"/>
                    </a:lnTo>
                    <a:lnTo>
                      <a:pt x="19" y="4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713040" y="4180680"/>
                <a:ext cx="61920" cy="5688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77" y="74"/>
                    </a:moveTo>
                    <a:lnTo>
                      <a:pt x="67" y="65"/>
                    </a:lnTo>
                    <a:lnTo>
                      <a:pt x="56" y="58"/>
                    </a:lnTo>
                    <a:lnTo>
                      <a:pt x="46" y="49"/>
                    </a:lnTo>
                    <a:lnTo>
                      <a:pt x="35" y="42"/>
                    </a:lnTo>
                    <a:lnTo>
                      <a:pt x="23" y="32"/>
                    </a:lnTo>
                    <a:lnTo>
                      <a:pt x="14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21" y="14"/>
                    </a:lnTo>
                    <a:lnTo>
                      <a:pt x="32" y="23"/>
                    </a:lnTo>
                    <a:lnTo>
                      <a:pt x="42" y="34"/>
                    </a:lnTo>
                    <a:lnTo>
                      <a:pt x="51" y="42"/>
                    </a:lnTo>
                    <a:lnTo>
                      <a:pt x="62" y="53"/>
                    </a:lnTo>
                    <a:lnTo>
                      <a:pt x="69" y="63"/>
                    </a:lnTo>
                    <a:lnTo>
                      <a:pt x="7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773520" y="4182480"/>
                <a:ext cx="36360" cy="2952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5" y="30"/>
                    </a:moveTo>
                    <a:lnTo>
                      <a:pt x="38" y="37"/>
                    </a:lnTo>
                    <a:lnTo>
                      <a:pt x="33" y="35"/>
                    </a:lnTo>
                    <a:lnTo>
                      <a:pt x="24" y="28"/>
                    </a:lnTo>
                    <a:lnTo>
                      <a:pt x="17" y="26"/>
                    </a:lnTo>
                    <a:lnTo>
                      <a:pt x="12" y="19"/>
                    </a:lnTo>
                    <a:lnTo>
                      <a:pt x="5" y="14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15" y="2"/>
                    </a:lnTo>
                    <a:lnTo>
                      <a:pt x="26" y="10"/>
                    </a:lnTo>
                    <a:lnTo>
                      <a:pt x="35" y="19"/>
                    </a:lnTo>
                    <a:lnTo>
                      <a:pt x="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64080" y="4225320"/>
                <a:ext cx="1422360" cy="1091520"/>
              </a:xfrm>
              <a:custGeom>
                <a:avLst/>
                <a:gdLst/>
                <a:ahLst/>
                <a:rect l="l" t="t" r="r" b="b"/>
                <a:pathLst>
                  <a:path w="1794" h="1377">
                    <a:moveTo>
                      <a:pt x="1479" y="65"/>
                    </a:moveTo>
                    <a:lnTo>
                      <a:pt x="1481" y="83"/>
                    </a:lnTo>
                    <a:lnTo>
                      <a:pt x="1482" y="102"/>
                    </a:lnTo>
                    <a:lnTo>
                      <a:pt x="1482" y="121"/>
                    </a:lnTo>
                    <a:lnTo>
                      <a:pt x="1484" y="142"/>
                    </a:lnTo>
                    <a:lnTo>
                      <a:pt x="1484" y="161"/>
                    </a:lnTo>
                    <a:lnTo>
                      <a:pt x="1486" y="180"/>
                    </a:lnTo>
                    <a:lnTo>
                      <a:pt x="1489" y="200"/>
                    </a:lnTo>
                    <a:lnTo>
                      <a:pt x="1496" y="221"/>
                    </a:lnTo>
                    <a:lnTo>
                      <a:pt x="1498" y="247"/>
                    </a:lnTo>
                    <a:lnTo>
                      <a:pt x="1502" y="277"/>
                    </a:lnTo>
                    <a:lnTo>
                      <a:pt x="1505" y="305"/>
                    </a:lnTo>
                    <a:lnTo>
                      <a:pt x="1514" y="334"/>
                    </a:lnTo>
                    <a:lnTo>
                      <a:pt x="1524" y="359"/>
                    </a:lnTo>
                    <a:lnTo>
                      <a:pt x="1542" y="383"/>
                    </a:lnTo>
                    <a:lnTo>
                      <a:pt x="1564" y="401"/>
                    </a:lnTo>
                    <a:lnTo>
                      <a:pt x="1594" y="417"/>
                    </a:lnTo>
                    <a:lnTo>
                      <a:pt x="1620" y="420"/>
                    </a:lnTo>
                    <a:lnTo>
                      <a:pt x="1647" y="429"/>
                    </a:lnTo>
                    <a:lnTo>
                      <a:pt x="1669" y="438"/>
                    </a:lnTo>
                    <a:lnTo>
                      <a:pt x="1694" y="453"/>
                    </a:lnTo>
                    <a:lnTo>
                      <a:pt x="1715" y="467"/>
                    </a:lnTo>
                    <a:lnTo>
                      <a:pt x="1736" y="487"/>
                    </a:lnTo>
                    <a:lnTo>
                      <a:pt x="1755" y="506"/>
                    </a:lnTo>
                    <a:lnTo>
                      <a:pt x="1774" y="529"/>
                    </a:lnTo>
                    <a:lnTo>
                      <a:pt x="1783" y="551"/>
                    </a:lnTo>
                    <a:lnTo>
                      <a:pt x="1788" y="576"/>
                    </a:lnTo>
                    <a:lnTo>
                      <a:pt x="1792" y="602"/>
                    </a:lnTo>
                    <a:lnTo>
                      <a:pt x="1794" y="628"/>
                    </a:lnTo>
                    <a:lnTo>
                      <a:pt x="1790" y="653"/>
                    </a:lnTo>
                    <a:lnTo>
                      <a:pt x="1785" y="679"/>
                    </a:lnTo>
                    <a:lnTo>
                      <a:pt x="1776" y="703"/>
                    </a:lnTo>
                    <a:lnTo>
                      <a:pt x="1766" y="728"/>
                    </a:lnTo>
                    <a:lnTo>
                      <a:pt x="1753" y="744"/>
                    </a:lnTo>
                    <a:lnTo>
                      <a:pt x="1743" y="759"/>
                    </a:lnTo>
                    <a:lnTo>
                      <a:pt x="1732" y="775"/>
                    </a:lnTo>
                    <a:lnTo>
                      <a:pt x="1722" y="793"/>
                    </a:lnTo>
                    <a:lnTo>
                      <a:pt x="1708" y="807"/>
                    </a:lnTo>
                    <a:lnTo>
                      <a:pt x="1696" y="822"/>
                    </a:lnTo>
                    <a:lnTo>
                      <a:pt x="1680" y="836"/>
                    </a:lnTo>
                    <a:lnTo>
                      <a:pt x="1666" y="852"/>
                    </a:lnTo>
                    <a:lnTo>
                      <a:pt x="1668" y="843"/>
                    </a:lnTo>
                    <a:lnTo>
                      <a:pt x="1673" y="838"/>
                    </a:lnTo>
                    <a:lnTo>
                      <a:pt x="1676" y="831"/>
                    </a:lnTo>
                    <a:lnTo>
                      <a:pt x="1678" y="826"/>
                    </a:lnTo>
                    <a:lnTo>
                      <a:pt x="1671" y="826"/>
                    </a:lnTo>
                    <a:lnTo>
                      <a:pt x="1633" y="859"/>
                    </a:lnTo>
                    <a:lnTo>
                      <a:pt x="1601" y="899"/>
                    </a:lnTo>
                    <a:lnTo>
                      <a:pt x="1575" y="941"/>
                    </a:lnTo>
                    <a:lnTo>
                      <a:pt x="1552" y="985"/>
                    </a:lnTo>
                    <a:lnTo>
                      <a:pt x="1526" y="1025"/>
                    </a:lnTo>
                    <a:lnTo>
                      <a:pt x="1498" y="1067"/>
                    </a:lnTo>
                    <a:lnTo>
                      <a:pt x="1465" y="1104"/>
                    </a:lnTo>
                    <a:lnTo>
                      <a:pt x="1423" y="1135"/>
                    </a:lnTo>
                    <a:lnTo>
                      <a:pt x="1425" y="1113"/>
                    </a:lnTo>
                    <a:lnTo>
                      <a:pt x="1432" y="1092"/>
                    </a:lnTo>
                    <a:lnTo>
                      <a:pt x="1442" y="1071"/>
                    </a:lnTo>
                    <a:lnTo>
                      <a:pt x="1454" y="1050"/>
                    </a:lnTo>
                    <a:lnTo>
                      <a:pt x="1465" y="1029"/>
                    </a:lnTo>
                    <a:lnTo>
                      <a:pt x="1477" y="1008"/>
                    </a:lnTo>
                    <a:lnTo>
                      <a:pt x="1486" y="985"/>
                    </a:lnTo>
                    <a:lnTo>
                      <a:pt x="1491" y="964"/>
                    </a:lnTo>
                    <a:lnTo>
                      <a:pt x="1458" y="999"/>
                    </a:lnTo>
                    <a:lnTo>
                      <a:pt x="1458" y="1004"/>
                    </a:lnTo>
                    <a:lnTo>
                      <a:pt x="1460" y="1011"/>
                    </a:lnTo>
                    <a:lnTo>
                      <a:pt x="1456" y="1008"/>
                    </a:lnTo>
                    <a:lnTo>
                      <a:pt x="1453" y="1011"/>
                    </a:lnTo>
                    <a:lnTo>
                      <a:pt x="1423" y="1053"/>
                    </a:lnTo>
                    <a:lnTo>
                      <a:pt x="1397" y="1100"/>
                    </a:lnTo>
                    <a:lnTo>
                      <a:pt x="1370" y="1148"/>
                    </a:lnTo>
                    <a:lnTo>
                      <a:pt x="1346" y="1197"/>
                    </a:lnTo>
                    <a:lnTo>
                      <a:pt x="1314" y="1239"/>
                    </a:lnTo>
                    <a:lnTo>
                      <a:pt x="1281" y="1279"/>
                    </a:lnTo>
                    <a:lnTo>
                      <a:pt x="1237" y="1312"/>
                    </a:lnTo>
                    <a:lnTo>
                      <a:pt x="1187" y="1338"/>
                    </a:lnTo>
                    <a:lnTo>
                      <a:pt x="1139" y="1351"/>
                    </a:lnTo>
                    <a:lnTo>
                      <a:pt x="1094" y="1363"/>
                    </a:lnTo>
                    <a:lnTo>
                      <a:pt x="1047" y="1372"/>
                    </a:lnTo>
                    <a:lnTo>
                      <a:pt x="1001" y="1377"/>
                    </a:lnTo>
                    <a:lnTo>
                      <a:pt x="954" y="1377"/>
                    </a:lnTo>
                    <a:lnTo>
                      <a:pt x="907" y="1375"/>
                    </a:lnTo>
                    <a:lnTo>
                      <a:pt x="859" y="1366"/>
                    </a:lnTo>
                    <a:lnTo>
                      <a:pt x="812" y="1354"/>
                    </a:lnTo>
                    <a:lnTo>
                      <a:pt x="795" y="1345"/>
                    </a:lnTo>
                    <a:lnTo>
                      <a:pt x="779" y="1338"/>
                    </a:lnTo>
                    <a:lnTo>
                      <a:pt x="763" y="1330"/>
                    </a:lnTo>
                    <a:lnTo>
                      <a:pt x="747" y="1323"/>
                    </a:lnTo>
                    <a:lnTo>
                      <a:pt x="732" y="1312"/>
                    </a:lnTo>
                    <a:lnTo>
                      <a:pt x="716" y="1303"/>
                    </a:lnTo>
                    <a:lnTo>
                      <a:pt x="702" y="1291"/>
                    </a:lnTo>
                    <a:lnTo>
                      <a:pt x="690" y="1281"/>
                    </a:lnTo>
                    <a:lnTo>
                      <a:pt x="698" y="1274"/>
                    </a:lnTo>
                    <a:lnTo>
                      <a:pt x="704" y="1267"/>
                    </a:lnTo>
                    <a:lnTo>
                      <a:pt x="691" y="1258"/>
                    </a:lnTo>
                    <a:lnTo>
                      <a:pt x="681" y="1256"/>
                    </a:lnTo>
                    <a:lnTo>
                      <a:pt x="670" y="1256"/>
                    </a:lnTo>
                    <a:lnTo>
                      <a:pt x="662" y="1261"/>
                    </a:lnTo>
                    <a:lnTo>
                      <a:pt x="646" y="1251"/>
                    </a:lnTo>
                    <a:lnTo>
                      <a:pt x="632" y="1240"/>
                    </a:lnTo>
                    <a:lnTo>
                      <a:pt x="616" y="1230"/>
                    </a:lnTo>
                    <a:lnTo>
                      <a:pt x="602" y="1221"/>
                    </a:lnTo>
                    <a:lnTo>
                      <a:pt x="588" y="1209"/>
                    </a:lnTo>
                    <a:lnTo>
                      <a:pt x="574" y="1198"/>
                    </a:lnTo>
                    <a:lnTo>
                      <a:pt x="560" y="1186"/>
                    </a:lnTo>
                    <a:lnTo>
                      <a:pt x="550" y="1174"/>
                    </a:lnTo>
                    <a:lnTo>
                      <a:pt x="541" y="1176"/>
                    </a:lnTo>
                    <a:lnTo>
                      <a:pt x="536" y="1183"/>
                    </a:lnTo>
                    <a:lnTo>
                      <a:pt x="541" y="1195"/>
                    </a:lnTo>
                    <a:lnTo>
                      <a:pt x="551" y="1209"/>
                    </a:lnTo>
                    <a:lnTo>
                      <a:pt x="562" y="1219"/>
                    </a:lnTo>
                    <a:lnTo>
                      <a:pt x="578" y="1232"/>
                    </a:lnTo>
                    <a:lnTo>
                      <a:pt x="592" y="1240"/>
                    </a:lnTo>
                    <a:lnTo>
                      <a:pt x="607" y="1251"/>
                    </a:lnTo>
                    <a:lnTo>
                      <a:pt x="621" y="1261"/>
                    </a:lnTo>
                    <a:lnTo>
                      <a:pt x="637" y="1272"/>
                    </a:lnTo>
                    <a:lnTo>
                      <a:pt x="606" y="1268"/>
                    </a:lnTo>
                    <a:lnTo>
                      <a:pt x="576" y="1263"/>
                    </a:lnTo>
                    <a:lnTo>
                      <a:pt x="544" y="1251"/>
                    </a:lnTo>
                    <a:lnTo>
                      <a:pt x="516" y="1239"/>
                    </a:lnTo>
                    <a:lnTo>
                      <a:pt x="487" y="1223"/>
                    </a:lnTo>
                    <a:lnTo>
                      <a:pt x="457" y="1209"/>
                    </a:lnTo>
                    <a:lnTo>
                      <a:pt x="427" y="1195"/>
                    </a:lnTo>
                    <a:lnTo>
                      <a:pt x="399" y="1188"/>
                    </a:lnTo>
                    <a:lnTo>
                      <a:pt x="370" y="1170"/>
                    </a:lnTo>
                    <a:lnTo>
                      <a:pt x="342" y="1155"/>
                    </a:lnTo>
                    <a:lnTo>
                      <a:pt x="314" y="1137"/>
                    </a:lnTo>
                    <a:lnTo>
                      <a:pt x="287" y="1120"/>
                    </a:lnTo>
                    <a:lnTo>
                      <a:pt x="261" y="1097"/>
                    </a:lnTo>
                    <a:lnTo>
                      <a:pt x="240" y="1074"/>
                    </a:lnTo>
                    <a:lnTo>
                      <a:pt x="219" y="1046"/>
                    </a:lnTo>
                    <a:lnTo>
                      <a:pt x="203" y="1018"/>
                    </a:lnTo>
                    <a:lnTo>
                      <a:pt x="216" y="1022"/>
                    </a:lnTo>
                    <a:lnTo>
                      <a:pt x="230" y="1022"/>
                    </a:lnTo>
                    <a:lnTo>
                      <a:pt x="228" y="1013"/>
                    </a:lnTo>
                    <a:lnTo>
                      <a:pt x="210" y="1003"/>
                    </a:lnTo>
                    <a:lnTo>
                      <a:pt x="195" y="994"/>
                    </a:lnTo>
                    <a:lnTo>
                      <a:pt x="179" y="983"/>
                    </a:lnTo>
                    <a:lnTo>
                      <a:pt x="165" y="973"/>
                    </a:lnTo>
                    <a:lnTo>
                      <a:pt x="149" y="961"/>
                    </a:lnTo>
                    <a:lnTo>
                      <a:pt x="135" y="948"/>
                    </a:lnTo>
                    <a:lnTo>
                      <a:pt x="123" y="934"/>
                    </a:lnTo>
                    <a:lnTo>
                      <a:pt x="112" y="920"/>
                    </a:lnTo>
                    <a:lnTo>
                      <a:pt x="91" y="910"/>
                    </a:lnTo>
                    <a:lnTo>
                      <a:pt x="76" y="901"/>
                    </a:lnTo>
                    <a:lnTo>
                      <a:pt x="60" y="889"/>
                    </a:lnTo>
                    <a:lnTo>
                      <a:pt x="48" y="877"/>
                    </a:lnTo>
                    <a:lnTo>
                      <a:pt x="35" y="861"/>
                    </a:lnTo>
                    <a:lnTo>
                      <a:pt x="27" y="845"/>
                    </a:lnTo>
                    <a:lnTo>
                      <a:pt x="16" y="826"/>
                    </a:lnTo>
                    <a:lnTo>
                      <a:pt x="11" y="808"/>
                    </a:lnTo>
                    <a:lnTo>
                      <a:pt x="21" y="808"/>
                    </a:lnTo>
                    <a:lnTo>
                      <a:pt x="30" y="803"/>
                    </a:lnTo>
                    <a:lnTo>
                      <a:pt x="27" y="791"/>
                    </a:lnTo>
                    <a:lnTo>
                      <a:pt x="20" y="787"/>
                    </a:lnTo>
                    <a:lnTo>
                      <a:pt x="7" y="786"/>
                    </a:lnTo>
                    <a:lnTo>
                      <a:pt x="0" y="787"/>
                    </a:lnTo>
                    <a:lnTo>
                      <a:pt x="0" y="744"/>
                    </a:lnTo>
                    <a:lnTo>
                      <a:pt x="6" y="749"/>
                    </a:lnTo>
                    <a:lnTo>
                      <a:pt x="11" y="754"/>
                    </a:lnTo>
                    <a:lnTo>
                      <a:pt x="18" y="754"/>
                    </a:lnTo>
                    <a:lnTo>
                      <a:pt x="21" y="751"/>
                    </a:lnTo>
                    <a:lnTo>
                      <a:pt x="25" y="747"/>
                    </a:lnTo>
                    <a:lnTo>
                      <a:pt x="28" y="744"/>
                    </a:lnTo>
                    <a:lnTo>
                      <a:pt x="21" y="733"/>
                    </a:lnTo>
                    <a:lnTo>
                      <a:pt x="11" y="728"/>
                    </a:lnTo>
                    <a:lnTo>
                      <a:pt x="0" y="733"/>
                    </a:lnTo>
                    <a:lnTo>
                      <a:pt x="0" y="717"/>
                    </a:lnTo>
                    <a:lnTo>
                      <a:pt x="4" y="702"/>
                    </a:lnTo>
                    <a:lnTo>
                      <a:pt x="6" y="686"/>
                    </a:lnTo>
                    <a:lnTo>
                      <a:pt x="9" y="672"/>
                    </a:lnTo>
                    <a:lnTo>
                      <a:pt x="11" y="658"/>
                    </a:lnTo>
                    <a:lnTo>
                      <a:pt x="16" y="644"/>
                    </a:lnTo>
                    <a:lnTo>
                      <a:pt x="21" y="630"/>
                    </a:lnTo>
                    <a:lnTo>
                      <a:pt x="28" y="618"/>
                    </a:lnTo>
                    <a:lnTo>
                      <a:pt x="35" y="621"/>
                    </a:lnTo>
                    <a:lnTo>
                      <a:pt x="48" y="618"/>
                    </a:lnTo>
                    <a:lnTo>
                      <a:pt x="49" y="611"/>
                    </a:lnTo>
                    <a:lnTo>
                      <a:pt x="53" y="604"/>
                    </a:lnTo>
                    <a:lnTo>
                      <a:pt x="46" y="597"/>
                    </a:lnTo>
                    <a:lnTo>
                      <a:pt x="39" y="593"/>
                    </a:lnTo>
                    <a:lnTo>
                      <a:pt x="83" y="518"/>
                    </a:lnTo>
                    <a:lnTo>
                      <a:pt x="91" y="513"/>
                    </a:lnTo>
                    <a:lnTo>
                      <a:pt x="98" y="508"/>
                    </a:lnTo>
                    <a:lnTo>
                      <a:pt x="104" y="499"/>
                    </a:lnTo>
                    <a:lnTo>
                      <a:pt x="111" y="492"/>
                    </a:lnTo>
                    <a:lnTo>
                      <a:pt x="114" y="481"/>
                    </a:lnTo>
                    <a:lnTo>
                      <a:pt x="119" y="473"/>
                    </a:lnTo>
                    <a:lnTo>
                      <a:pt x="125" y="462"/>
                    </a:lnTo>
                    <a:lnTo>
                      <a:pt x="135" y="457"/>
                    </a:lnTo>
                    <a:lnTo>
                      <a:pt x="144" y="443"/>
                    </a:lnTo>
                    <a:lnTo>
                      <a:pt x="154" y="431"/>
                    </a:lnTo>
                    <a:lnTo>
                      <a:pt x="163" y="418"/>
                    </a:lnTo>
                    <a:lnTo>
                      <a:pt x="172" y="406"/>
                    </a:lnTo>
                    <a:lnTo>
                      <a:pt x="175" y="390"/>
                    </a:lnTo>
                    <a:lnTo>
                      <a:pt x="181" y="375"/>
                    </a:lnTo>
                    <a:lnTo>
                      <a:pt x="182" y="359"/>
                    </a:lnTo>
                    <a:lnTo>
                      <a:pt x="184" y="345"/>
                    </a:lnTo>
                    <a:lnTo>
                      <a:pt x="189" y="331"/>
                    </a:lnTo>
                    <a:lnTo>
                      <a:pt x="196" y="319"/>
                    </a:lnTo>
                    <a:lnTo>
                      <a:pt x="202" y="306"/>
                    </a:lnTo>
                    <a:lnTo>
                      <a:pt x="210" y="294"/>
                    </a:lnTo>
                    <a:lnTo>
                      <a:pt x="216" y="280"/>
                    </a:lnTo>
                    <a:lnTo>
                      <a:pt x="221" y="268"/>
                    </a:lnTo>
                    <a:lnTo>
                      <a:pt x="224" y="254"/>
                    </a:lnTo>
                    <a:lnTo>
                      <a:pt x="228" y="240"/>
                    </a:lnTo>
                    <a:lnTo>
                      <a:pt x="235" y="247"/>
                    </a:lnTo>
                    <a:lnTo>
                      <a:pt x="245" y="256"/>
                    </a:lnTo>
                    <a:lnTo>
                      <a:pt x="256" y="261"/>
                    </a:lnTo>
                    <a:lnTo>
                      <a:pt x="268" y="268"/>
                    </a:lnTo>
                    <a:lnTo>
                      <a:pt x="280" y="271"/>
                    </a:lnTo>
                    <a:lnTo>
                      <a:pt x="294" y="277"/>
                    </a:lnTo>
                    <a:lnTo>
                      <a:pt x="307" y="280"/>
                    </a:lnTo>
                    <a:lnTo>
                      <a:pt x="321" y="285"/>
                    </a:lnTo>
                    <a:lnTo>
                      <a:pt x="319" y="282"/>
                    </a:lnTo>
                    <a:lnTo>
                      <a:pt x="314" y="285"/>
                    </a:lnTo>
                    <a:lnTo>
                      <a:pt x="305" y="289"/>
                    </a:lnTo>
                    <a:lnTo>
                      <a:pt x="301" y="296"/>
                    </a:lnTo>
                    <a:lnTo>
                      <a:pt x="307" y="319"/>
                    </a:lnTo>
                    <a:lnTo>
                      <a:pt x="296" y="322"/>
                    </a:lnTo>
                    <a:lnTo>
                      <a:pt x="291" y="333"/>
                    </a:lnTo>
                    <a:lnTo>
                      <a:pt x="293" y="341"/>
                    </a:lnTo>
                    <a:lnTo>
                      <a:pt x="296" y="352"/>
                    </a:lnTo>
                    <a:lnTo>
                      <a:pt x="301" y="362"/>
                    </a:lnTo>
                    <a:lnTo>
                      <a:pt x="310" y="373"/>
                    </a:lnTo>
                    <a:lnTo>
                      <a:pt x="324" y="368"/>
                    </a:lnTo>
                    <a:lnTo>
                      <a:pt x="340" y="364"/>
                    </a:lnTo>
                    <a:lnTo>
                      <a:pt x="342" y="371"/>
                    </a:lnTo>
                    <a:lnTo>
                      <a:pt x="349" y="376"/>
                    </a:lnTo>
                    <a:lnTo>
                      <a:pt x="357" y="375"/>
                    </a:lnTo>
                    <a:lnTo>
                      <a:pt x="370" y="373"/>
                    </a:lnTo>
                    <a:lnTo>
                      <a:pt x="378" y="366"/>
                    </a:lnTo>
                    <a:lnTo>
                      <a:pt x="389" y="357"/>
                    </a:lnTo>
                    <a:lnTo>
                      <a:pt x="385" y="345"/>
                    </a:lnTo>
                    <a:lnTo>
                      <a:pt x="396" y="334"/>
                    </a:lnTo>
                    <a:lnTo>
                      <a:pt x="408" y="326"/>
                    </a:lnTo>
                    <a:lnTo>
                      <a:pt x="420" y="315"/>
                    </a:lnTo>
                    <a:lnTo>
                      <a:pt x="433" y="306"/>
                    </a:lnTo>
                    <a:lnTo>
                      <a:pt x="443" y="296"/>
                    </a:lnTo>
                    <a:lnTo>
                      <a:pt x="454" y="287"/>
                    </a:lnTo>
                    <a:lnTo>
                      <a:pt x="462" y="278"/>
                    </a:lnTo>
                    <a:lnTo>
                      <a:pt x="473" y="270"/>
                    </a:lnTo>
                    <a:lnTo>
                      <a:pt x="478" y="263"/>
                    </a:lnTo>
                    <a:lnTo>
                      <a:pt x="488" y="261"/>
                    </a:lnTo>
                    <a:lnTo>
                      <a:pt x="497" y="259"/>
                    </a:lnTo>
                    <a:lnTo>
                      <a:pt x="506" y="259"/>
                    </a:lnTo>
                    <a:lnTo>
                      <a:pt x="490" y="275"/>
                    </a:lnTo>
                    <a:lnTo>
                      <a:pt x="476" y="291"/>
                    </a:lnTo>
                    <a:lnTo>
                      <a:pt x="462" y="308"/>
                    </a:lnTo>
                    <a:lnTo>
                      <a:pt x="452" y="329"/>
                    </a:lnTo>
                    <a:lnTo>
                      <a:pt x="441" y="347"/>
                    </a:lnTo>
                    <a:lnTo>
                      <a:pt x="436" y="368"/>
                    </a:lnTo>
                    <a:lnTo>
                      <a:pt x="434" y="389"/>
                    </a:lnTo>
                    <a:lnTo>
                      <a:pt x="441" y="411"/>
                    </a:lnTo>
                    <a:lnTo>
                      <a:pt x="429" y="418"/>
                    </a:lnTo>
                    <a:lnTo>
                      <a:pt x="422" y="427"/>
                    </a:lnTo>
                    <a:lnTo>
                      <a:pt x="419" y="438"/>
                    </a:lnTo>
                    <a:lnTo>
                      <a:pt x="427" y="450"/>
                    </a:lnTo>
                    <a:lnTo>
                      <a:pt x="431" y="450"/>
                    </a:lnTo>
                    <a:lnTo>
                      <a:pt x="436" y="455"/>
                    </a:lnTo>
                    <a:lnTo>
                      <a:pt x="443" y="450"/>
                    </a:lnTo>
                    <a:lnTo>
                      <a:pt x="452" y="445"/>
                    </a:lnTo>
                    <a:lnTo>
                      <a:pt x="464" y="464"/>
                    </a:lnTo>
                    <a:lnTo>
                      <a:pt x="480" y="485"/>
                    </a:lnTo>
                    <a:lnTo>
                      <a:pt x="497" y="499"/>
                    </a:lnTo>
                    <a:lnTo>
                      <a:pt x="518" y="515"/>
                    </a:lnTo>
                    <a:lnTo>
                      <a:pt x="539" y="525"/>
                    </a:lnTo>
                    <a:lnTo>
                      <a:pt x="562" y="536"/>
                    </a:lnTo>
                    <a:lnTo>
                      <a:pt x="586" y="541"/>
                    </a:lnTo>
                    <a:lnTo>
                      <a:pt x="613" y="548"/>
                    </a:lnTo>
                    <a:lnTo>
                      <a:pt x="581" y="550"/>
                    </a:lnTo>
                    <a:lnTo>
                      <a:pt x="550" y="551"/>
                    </a:lnTo>
                    <a:lnTo>
                      <a:pt x="518" y="546"/>
                    </a:lnTo>
                    <a:lnTo>
                      <a:pt x="488" y="541"/>
                    </a:lnTo>
                    <a:lnTo>
                      <a:pt x="457" y="529"/>
                    </a:lnTo>
                    <a:lnTo>
                      <a:pt x="431" y="513"/>
                    </a:lnTo>
                    <a:lnTo>
                      <a:pt x="406" y="494"/>
                    </a:lnTo>
                    <a:lnTo>
                      <a:pt x="389" y="471"/>
                    </a:lnTo>
                    <a:lnTo>
                      <a:pt x="377" y="473"/>
                    </a:lnTo>
                    <a:lnTo>
                      <a:pt x="373" y="481"/>
                    </a:lnTo>
                    <a:lnTo>
                      <a:pt x="380" y="495"/>
                    </a:lnTo>
                    <a:lnTo>
                      <a:pt x="392" y="511"/>
                    </a:lnTo>
                    <a:lnTo>
                      <a:pt x="406" y="523"/>
                    </a:lnTo>
                    <a:lnTo>
                      <a:pt x="422" y="537"/>
                    </a:lnTo>
                    <a:lnTo>
                      <a:pt x="438" y="546"/>
                    </a:lnTo>
                    <a:lnTo>
                      <a:pt x="455" y="557"/>
                    </a:lnTo>
                    <a:lnTo>
                      <a:pt x="471" y="565"/>
                    </a:lnTo>
                    <a:lnTo>
                      <a:pt x="490" y="574"/>
                    </a:lnTo>
                    <a:lnTo>
                      <a:pt x="518" y="576"/>
                    </a:lnTo>
                    <a:lnTo>
                      <a:pt x="550" y="579"/>
                    </a:lnTo>
                    <a:lnTo>
                      <a:pt x="581" y="581"/>
                    </a:lnTo>
                    <a:lnTo>
                      <a:pt x="613" y="583"/>
                    </a:lnTo>
                    <a:lnTo>
                      <a:pt x="641" y="579"/>
                    </a:lnTo>
                    <a:lnTo>
                      <a:pt x="670" y="572"/>
                    </a:lnTo>
                    <a:lnTo>
                      <a:pt x="697" y="560"/>
                    </a:lnTo>
                    <a:lnTo>
                      <a:pt x="725" y="543"/>
                    </a:lnTo>
                    <a:lnTo>
                      <a:pt x="749" y="536"/>
                    </a:lnTo>
                    <a:lnTo>
                      <a:pt x="774" y="527"/>
                    </a:lnTo>
                    <a:lnTo>
                      <a:pt x="796" y="513"/>
                    </a:lnTo>
                    <a:lnTo>
                      <a:pt x="819" y="499"/>
                    </a:lnTo>
                    <a:lnTo>
                      <a:pt x="838" y="481"/>
                    </a:lnTo>
                    <a:lnTo>
                      <a:pt x="859" y="464"/>
                    </a:lnTo>
                    <a:lnTo>
                      <a:pt x="879" y="446"/>
                    </a:lnTo>
                    <a:lnTo>
                      <a:pt x="900" y="431"/>
                    </a:lnTo>
                    <a:lnTo>
                      <a:pt x="910" y="410"/>
                    </a:lnTo>
                    <a:lnTo>
                      <a:pt x="921" y="390"/>
                    </a:lnTo>
                    <a:lnTo>
                      <a:pt x="928" y="368"/>
                    </a:lnTo>
                    <a:lnTo>
                      <a:pt x="936" y="345"/>
                    </a:lnTo>
                    <a:lnTo>
                      <a:pt x="938" y="320"/>
                    </a:lnTo>
                    <a:lnTo>
                      <a:pt x="938" y="298"/>
                    </a:lnTo>
                    <a:lnTo>
                      <a:pt x="933" y="275"/>
                    </a:lnTo>
                    <a:lnTo>
                      <a:pt x="922" y="256"/>
                    </a:lnTo>
                    <a:lnTo>
                      <a:pt x="910" y="240"/>
                    </a:lnTo>
                    <a:lnTo>
                      <a:pt x="901" y="226"/>
                    </a:lnTo>
                    <a:lnTo>
                      <a:pt x="891" y="210"/>
                    </a:lnTo>
                    <a:lnTo>
                      <a:pt x="882" y="196"/>
                    </a:lnTo>
                    <a:lnTo>
                      <a:pt x="872" y="180"/>
                    </a:lnTo>
                    <a:lnTo>
                      <a:pt x="861" y="170"/>
                    </a:lnTo>
                    <a:lnTo>
                      <a:pt x="847" y="160"/>
                    </a:lnTo>
                    <a:lnTo>
                      <a:pt x="831" y="154"/>
                    </a:lnTo>
                    <a:lnTo>
                      <a:pt x="868" y="137"/>
                    </a:lnTo>
                    <a:lnTo>
                      <a:pt x="908" y="123"/>
                    </a:lnTo>
                    <a:lnTo>
                      <a:pt x="947" y="107"/>
                    </a:lnTo>
                    <a:lnTo>
                      <a:pt x="989" y="97"/>
                    </a:lnTo>
                    <a:lnTo>
                      <a:pt x="1029" y="83"/>
                    </a:lnTo>
                    <a:lnTo>
                      <a:pt x="1069" y="72"/>
                    </a:lnTo>
                    <a:lnTo>
                      <a:pt x="1110" y="62"/>
                    </a:lnTo>
                    <a:lnTo>
                      <a:pt x="1152" y="51"/>
                    </a:lnTo>
                    <a:lnTo>
                      <a:pt x="1159" y="56"/>
                    </a:lnTo>
                    <a:lnTo>
                      <a:pt x="1171" y="60"/>
                    </a:lnTo>
                    <a:lnTo>
                      <a:pt x="1181" y="60"/>
                    </a:lnTo>
                    <a:lnTo>
                      <a:pt x="1195" y="62"/>
                    </a:lnTo>
                    <a:lnTo>
                      <a:pt x="1206" y="62"/>
                    </a:lnTo>
                    <a:lnTo>
                      <a:pt x="1216" y="63"/>
                    </a:lnTo>
                    <a:lnTo>
                      <a:pt x="1225" y="69"/>
                    </a:lnTo>
                    <a:lnTo>
                      <a:pt x="1234" y="81"/>
                    </a:lnTo>
                    <a:lnTo>
                      <a:pt x="1201" y="81"/>
                    </a:lnTo>
                    <a:lnTo>
                      <a:pt x="1169" y="84"/>
                    </a:lnTo>
                    <a:lnTo>
                      <a:pt x="1138" y="88"/>
                    </a:lnTo>
                    <a:lnTo>
                      <a:pt x="1108" y="95"/>
                    </a:lnTo>
                    <a:lnTo>
                      <a:pt x="1078" y="104"/>
                    </a:lnTo>
                    <a:lnTo>
                      <a:pt x="1052" y="118"/>
                    </a:lnTo>
                    <a:lnTo>
                      <a:pt x="1026" y="135"/>
                    </a:lnTo>
                    <a:lnTo>
                      <a:pt x="1005" y="160"/>
                    </a:lnTo>
                    <a:lnTo>
                      <a:pt x="987" y="173"/>
                    </a:lnTo>
                    <a:lnTo>
                      <a:pt x="975" y="191"/>
                    </a:lnTo>
                    <a:lnTo>
                      <a:pt x="970" y="201"/>
                    </a:lnTo>
                    <a:lnTo>
                      <a:pt x="966" y="212"/>
                    </a:lnTo>
                    <a:lnTo>
                      <a:pt x="963" y="222"/>
                    </a:lnTo>
                    <a:lnTo>
                      <a:pt x="963" y="235"/>
                    </a:lnTo>
                    <a:lnTo>
                      <a:pt x="950" y="235"/>
                    </a:lnTo>
                    <a:lnTo>
                      <a:pt x="942" y="240"/>
                    </a:lnTo>
                    <a:lnTo>
                      <a:pt x="935" y="249"/>
                    </a:lnTo>
                    <a:lnTo>
                      <a:pt x="935" y="259"/>
                    </a:lnTo>
                    <a:lnTo>
                      <a:pt x="940" y="270"/>
                    </a:lnTo>
                    <a:lnTo>
                      <a:pt x="943" y="280"/>
                    </a:lnTo>
                    <a:lnTo>
                      <a:pt x="943" y="292"/>
                    </a:lnTo>
                    <a:lnTo>
                      <a:pt x="945" y="306"/>
                    </a:lnTo>
                    <a:lnTo>
                      <a:pt x="943" y="317"/>
                    </a:lnTo>
                    <a:lnTo>
                      <a:pt x="943" y="331"/>
                    </a:lnTo>
                    <a:lnTo>
                      <a:pt x="945" y="343"/>
                    </a:lnTo>
                    <a:lnTo>
                      <a:pt x="949" y="357"/>
                    </a:lnTo>
                    <a:lnTo>
                      <a:pt x="952" y="380"/>
                    </a:lnTo>
                    <a:lnTo>
                      <a:pt x="959" y="403"/>
                    </a:lnTo>
                    <a:lnTo>
                      <a:pt x="968" y="422"/>
                    </a:lnTo>
                    <a:lnTo>
                      <a:pt x="980" y="443"/>
                    </a:lnTo>
                    <a:lnTo>
                      <a:pt x="991" y="460"/>
                    </a:lnTo>
                    <a:lnTo>
                      <a:pt x="1006" y="480"/>
                    </a:lnTo>
                    <a:lnTo>
                      <a:pt x="1022" y="497"/>
                    </a:lnTo>
                    <a:lnTo>
                      <a:pt x="1041" y="515"/>
                    </a:lnTo>
                    <a:lnTo>
                      <a:pt x="1075" y="529"/>
                    </a:lnTo>
                    <a:lnTo>
                      <a:pt x="1113" y="544"/>
                    </a:lnTo>
                    <a:lnTo>
                      <a:pt x="1152" y="557"/>
                    </a:lnTo>
                    <a:lnTo>
                      <a:pt x="1190" y="574"/>
                    </a:lnTo>
                    <a:lnTo>
                      <a:pt x="1222" y="592"/>
                    </a:lnTo>
                    <a:lnTo>
                      <a:pt x="1248" y="616"/>
                    </a:lnTo>
                    <a:lnTo>
                      <a:pt x="1260" y="647"/>
                    </a:lnTo>
                    <a:lnTo>
                      <a:pt x="1264" y="689"/>
                    </a:lnTo>
                    <a:lnTo>
                      <a:pt x="1222" y="724"/>
                    </a:lnTo>
                    <a:lnTo>
                      <a:pt x="1176" y="749"/>
                    </a:lnTo>
                    <a:lnTo>
                      <a:pt x="1127" y="763"/>
                    </a:lnTo>
                    <a:lnTo>
                      <a:pt x="1076" y="772"/>
                    </a:lnTo>
                    <a:lnTo>
                      <a:pt x="1022" y="773"/>
                    </a:lnTo>
                    <a:lnTo>
                      <a:pt x="968" y="777"/>
                    </a:lnTo>
                    <a:lnTo>
                      <a:pt x="914" y="780"/>
                    </a:lnTo>
                    <a:lnTo>
                      <a:pt x="861" y="789"/>
                    </a:lnTo>
                    <a:lnTo>
                      <a:pt x="835" y="789"/>
                    </a:lnTo>
                    <a:lnTo>
                      <a:pt x="810" y="789"/>
                    </a:lnTo>
                    <a:lnTo>
                      <a:pt x="784" y="787"/>
                    </a:lnTo>
                    <a:lnTo>
                      <a:pt x="761" y="786"/>
                    </a:lnTo>
                    <a:lnTo>
                      <a:pt x="735" y="779"/>
                    </a:lnTo>
                    <a:lnTo>
                      <a:pt x="712" y="772"/>
                    </a:lnTo>
                    <a:lnTo>
                      <a:pt x="691" y="761"/>
                    </a:lnTo>
                    <a:lnTo>
                      <a:pt x="672" y="749"/>
                    </a:lnTo>
                    <a:lnTo>
                      <a:pt x="667" y="733"/>
                    </a:lnTo>
                    <a:lnTo>
                      <a:pt x="665" y="717"/>
                    </a:lnTo>
                    <a:lnTo>
                      <a:pt x="665" y="702"/>
                    </a:lnTo>
                    <a:lnTo>
                      <a:pt x="670" y="686"/>
                    </a:lnTo>
                    <a:lnTo>
                      <a:pt x="683" y="668"/>
                    </a:lnTo>
                    <a:lnTo>
                      <a:pt x="697" y="654"/>
                    </a:lnTo>
                    <a:lnTo>
                      <a:pt x="712" y="640"/>
                    </a:lnTo>
                    <a:lnTo>
                      <a:pt x="728" y="630"/>
                    </a:lnTo>
                    <a:lnTo>
                      <a:pt x="744" y="619"/>
                    </a:lnTo>
                    <a:lnTo>
                      <a:pt x="761" y="609"/>
                    </a:lnTo>
                    <a:lnTo>
                      <a:pt x="779" y="600"/>
                    </a:lnTo>
                    <a:lnTo>
                      <a:pt x="798" y="592"/>
                    </a:lnTo>
                    <a:lnTo>
                      <a:pt x="795" y="585"/>
                    </a:lnTo>
                    <a:lnTo>
                      <a:pt x="791" y="579"/>
                    </a:lnTo>
                    <a:lnTo>
                      <a:pt x="763" y="583"/>
                    </a:lnTo>
                    <a:lnTo>
                      <a:pt x="739" y="588"/>
                    </a:lnTo>
                    <a:lnTo>
                      <a:pt x="712" y="597"/>
                    </a:lnTo>
                    <a:lnTo>
                      <a:pt x="691" y="609"/>
                    </a:lnTo>
                    <a:lnTo>
                      <a:pt x="669" y="621"/>
                    </a:lnTo>
                    <a:lnTo>
                      <a:pt x="649" y="637"/>
                    </a:lnTo>
                    <a:lnTo>
                      <a:pt x="628" y="656"/>
                    </a:lnTo>
                    <a:lnTo>
                      <a:pt x="613" y="679"/>
                    </a:lnTo>
                    <a:lnTo>
                      <a:pt x="606" y="696"/>
                    </a:lnTo>
                    <a:lnTo>
                      <a:pt x="609" y="716"/>
                    </a:lnTo>
                    <a:lnTo>
                      <a:pt x="609" y="724"/>
                    </a:lnTo>
                    <a:lnTo>
                      <a:pt x="613" y="735"/>
                    </a:lnTo>
                    <a:lnTo>
                      <a:pt x="614" y="744"/>
                    </a:lnTo>
                    <a:lnTo>
                      <a:pt x="618" y="754"/>
                    </a:lnTo>
                    <a:lnTo>
                      <a:pt x="641" y="777"/>
                    </a:lnTo>
                    <a:lnTo>
                      <a:pt x="667" y="798"/>
                    </a:lnTo>
                    <a:lnTo>
                      <a:pt x="697" y="814"/>
                    </a:lnTo>
                    <a:lnTo>
                      <a:pt x="728" y="828"/>
                    </a:lnTo>
                    <a:lnTo>
                      <a:pt x="760" y="836"/>
                    </a:lnTo>
                    <a:lnTo>
                      <a:pt x="793" y="843"/>
                    </a:lnTo>
                    <a:lnTo>
                      <a:pt x="828" y="845"/>
                    </a:lnTo>
                    <a:lnTo>
                      <a:pt x="865" y="845"/>
                    </a:lnTo>
                    <a:lnTo>
                      <a:pt x="886" y="843"/>
                    </a:lnTo>
                    <a:lnTo>
                      <a:pt x="908" y="843"/>
                    </a:lnTo>
                    <a:lnTo>
                      <a:pt x="929" y="843"/>
                    </a:lnTo>
                    <a:lnTo>
                      <a:pt x="954" y="843"/>
                    </a:lnTo>
                    <a:lnTo>
                      <a:pt x="977" y="842"/>
                    </a:lnTo>
                    <a:lnTo>
                      <a:pt x="999" y="840"/>
                    </a:lnTo>
                    <a:lnTo>
                      <a:pt x="1022" y="836"/>
                    </a:lnTo>
                    <a:lnTo>
                      <a:pt x="1045" y="833"/>
                    </a:lnTo>
                    <a:lnTo>
                      <a:pt x="1075" y="833"/>
                    </a:lnTo>
                    <a:lnTo>
                      <a:pt x="1106" y="833"/>
                    </a:lnTo>
                    <a:lnTo>
                      <a:pt x="1136" y="828"/>
                    </a:lnTo>
                    <a:lnTo>
                      <a:pt x="1167" y="822"/>
                    </a:lnTo>
                    <a:lnTo>
                      <a:pt x="1192" y="810"/>
                    </a:lnTo>
                    <a:lnTo>
                      <a:pt x="1218" y="796"/>
                    </a:lnTo>
                    <a:lnTo>
                      <a:pt x="1239" y="777"/>
                    </a:lnTo>
                    <a:lnTo>
                      <a:pt x="1260" y="754"/>
                    </a:lnTo>
                    <a:lnTo>
                      <a:pt x="1265" y="744"/>
                    </a:lnTo>
                    <a:lnTo>
                      <a:pt x="1274" y="738"/>
                    </a:lnTo>
                    <a:lnTo>
                      <a:pt x="1279" y="728"/>
                    </a:lnTo>
                    <a:lnTo>
                      <a:pt x="1285" y="717"/>
                    </a:lnTo>
                    <a:lnTo>
                      <a:pt x="1290" y="707"/>
                    </a:lnTo>
                    <a:lnTo>
                      <a:pt x="1297" y="698"/>
                    </a:lnTo>
                    <a:lnTo>
                      <a:pt x="1300" y="688"/>
                    </a:lnTo>
                    <a:lnTo>
                      <a:pt x="1304" y="677"/>
                    </a:lnTo>
                    <a:lnTo>
                      <a:pt x="1306" y="665"/>
                    </a:lnTo>
                    <a:lnTo>
                      <a:pt x="1307" y="654"/>
                    </a:lnTo>
                    <a:lnTo>
                      <a:pt x="1334" y="661"/>
                    </a:lnTo>
                    <a:lnTo>
                      <a:pt x="1360" y="663"/>
                    </a:lnTo>
                    <a:lnTo>
                      <a:pt x="1386" y="661"/>
                    </a:lnTo>
                    <a:lnTo>
                      <a:pt x="1414" y="658"/>
                    </a:lnTo>
                    <a:lnTo>
                      <a:pt x="1440" y="649"/>
                    </a:lnTo>
                    <a:lnTo>
                      <a:pt x="1467" y="642"/>
                    </a:lnTo>
                    <a:lnTo>
                      <a:pt x="1493" y="633"/>
                    </a:lnTo>
                    <a:lnTo>
                      <a:pt x="1521" y="630"/>
                    </a:lnTo>
                    <a:lnTo>
                      <a:pt x="1519" y="647"/>
                    </a:lnTo>
                    <a:lnTo>
                      <a:pt x="1519" y="665"/>
                    </a:lnTo>
                    <a:lnTo>
                      <a:pt x="1516" y="682"/>
                    </a:lnTo>
                    <a:lnTo>
                      <a:pt x="1512" y="700"/>
                    </a:lnTo>
                    <a:lnTo>
                      <a:pt x="1505" y="714"/>
                    </a:lnTo>
                    <a:lnTo>
                      <a:pt x="1498" y="728"/>
                    </a:lnTo>
                    <a:lnTo>
                      <a:pt x="1486" y="738"/>
                    </a:lnTo>
                    <a:lnTo>
                      <a:pt x="1472" y="749"/>
                    </a:lnTo>
                    <a:lnTo>
                      <a:pt x="1458" y="754"/>
                    </a:lnTo>
                    <a:lnTo>
                      <a:pt x="1444" y="759"/>
                    </a:lnTo>
                    <a:lnTo>
                      <a:pt x="1430" y="763"/>
                    </a:lnTo>
                    <a:lnTo>
                      <a:pt x="1418" y="766"/>
                    </a:lnTo>
                    <a:lnTo>
                      <a:pt x="1402" y="766"/>
                    </a:lnTo>
                    <a:lnTo>
                      <a:pt x="1388" y="768"/>
                    </a:lnTo>
                    <a:lnTo>
                      <a:pt x="1374" y="768"/>
                    </a:lnTo>
                    <a:lnTo>
                      <a:pt x="1360" y="768"/>
                    </a:lnTo>
                    <a:lnTo>
                      <a:pt x="1316" y="779"/>
                    </a:lnTo>
                    <a:lnTo>
                      <a:pt x="1278" y="796"/>
                    </a:lnTo>
                    <a:lnTo>
                      <a:pt x="1237" y="817"/>
                    </a:lnTo>
                    <a:lnTo>
                      <a:pt x="1201" y="843"/>
                    </a:lnTo>
                    <a:lnTo>
                      <a:pt x="1162" y="866"/>
                    </a:lnTo>
                    <a:lnTo>
                      <a:pt x="1124" y="889"/>
                    </a:lnTo>
                    <a:lnTo>
                      <a:pt x="1083" y="906"/>
                    </a:lnTo>
                    <a:lnTo>
                      <a:pt x="1041" y="919"/>
                    </a:lnTo>
                    <a:lnTo>
                      <a:pt x="1005" y="915"/>
                    </a:lnTo>
                    <a:lnTo>
                      <a:pt x="973" y="913"/>
                    </a:lnTo>
                    <a:lnTo>
                      <a:pt x="940" y="908"/>
                    </a:lnTo>
                    <a:lnTo>
                      <a:pt x="908" y="908"/>
                    </a:lnTo>
                    <a:lnTo>
                      <a:pt x="875" y="905"/>
                    </a:lnTo>
                    <a:lnTo>
                      <a:pt x="842" y="905"/>
                    </a:lnTo>
                    <a:lnTo>
                      <a:pt x="807" y="906"/>
                    </a:lnTo>
                    <a:lnTo>
                      <a:pt x="774" y="913"/>
                    </a:lnTo>
                    <a:lnTo>
                      <a:pt x="733" y="922"/>
                    </a:lnTo>
                    <a:lnTo>
                      <a:pt x="697" y="934"/>
                    </a:lnTo>
                    <a:lnTo>
                      <a:pt x="658" y="945"/>
                    </a:lnTo>
                    <a:lnTo>
                      <a:pt x="620" y="957"/>
                    </a:lnTo>
                    <a:lnTo>
                      <a:pt x="579" y="966"/>
                    </a:lnTo>
                    <a:lnTo>
                      <a:pt x="541" y="973"/>
                    </a:lnTo>
                    <a:lnTo>
                      <a:pt x="501" y="975"/>
                    </a:lnTo>
                    <a:lnTo>
                      <a:pt x="461" y="975"/>
                    </a:lnTo>
                    <a:lnTo>
                      <a:pt x="454" y="969"/>
                    </a:lnTo>
                    <a:lnTo>
                      <a:pt x="447" y="971"/>
                    </a:lnTo>
                    <a:lnTo>
                      <a:pt x="438" y="971"/>
                    </a:lnTo>
                    <a:lnTo>
                      <a:pt x="433" y="969"/>
                    </a:lnTo>
                    <a:lnTo>
                      <a:pt x="399" y="952"/>
                    </a:lnTo>
                    <a:lnTo>
                      <a:pt x="375" y="931"/>
                    </a:lnTo>
                    <a:lnTo>
                      <a:pt x="357" y="905"/>
                    </a:lnTo>
                    <a:lnTo>
                      <a:pt x="345" y="877"/>
                    </a:lnTo>
                    <a:lnTo>
                      <a:pt x="333" y="843"/>
                    </a:lnTo>
                    <a:lnTo>
                      <a:pt x="326" y="810"/>
                    </a:lnTo>
                    <a:lnTo>
                      <a:pt x="317" y="779"/>
                    </a:lnTo>
                    <a:lnTo>
                      <a:pt x="310" y="749"/>
                    </a:lnTo>
                    <a:lnTo>
                      <a:pt x="310" y="744"/>
                    </a:lnTo>
                    <a:lnTo>
                      <a:pt x="329" y="745"/>
                    </a:lnTo>
                    <a:lnTo>
                      <a:pt x="356" y="751"/>
                    </a:lnTo>
                    <a:lnTo>
                      <a:pt x="380" y="756"/>
                    </a:lnTo>
                    <a:lnTo>
                      <a:pt x="408" y="763"/>
                    </a:lnTo>
                    <a:lnTo>
                      <a:pt x="433" y="763"/>
                    </a:lnTo>
                    <a:lnTo>
                      <a:pt x="459" y="759"/>
                    </a:lnTo>
                    <a:lnTo>
                      <a:pt x="480" y="747"/>
                    </a:lnTo>
                    <a:lnTo>
                      <a:pt x="501" y="724"/>
                    </a:lnTo>
                    <a:lnTo>
                      <a:pt x="508" y="712"/>
                    </a:lnTo>
                    <a:lnTo>
                      <a:pt x="511" y="700"/>
                    </a:lnTo>
                    <a:lnTo>
                      <a:pt x="513" y="688"/>
                    </a:lnTo>
                    <a:lnTo>
                      <a:pt x="516" y="679"/>
                    </a:lnTo>
                    <a:lnTo>
                      <a:pt x="513" y="668"/>
                    </a:lnTo>
                    <a:lnTo>
                      <a:pt x="506" y="665"/>
                    </a:lnTo>
                    <a:lnTo>
                      <a:pt x="490" y="675"/>
                    </a:lnTo>
                    <a:lnTo>
                      <a:pt x="478" y="693"/>
                    </a:lnTo>
                    <a:lnTo>
                      <a:pt x="469" y="700"/>
                    </a:lnTo>
                    <a:lnTo>
                      <a:pt x="462" y="709"/>
                    </a:lnTo>
                    <a:lnTo>
                      <a:pt x="452" y="714"/>
                    </a:lnTo>
                    <a:lnTo>
                      <a:pt x="441" y="719"/>
                    </a:lnTo>
                    <a:lnTo>
                      <a:pt x="405" y="724"/>
                    </a:lnTo>
                    <a:lnTo>
                      <a:pt x="373" y="723"/>
                    </a:lnTo>
                    <a:lnTo>
                      <a:pt x="342" y="714"/>
                    </a:lnTo>
                    <a:lnTo>
                      <a:pt x="310" y="705"/>
                    </a:lnTo>
                    <a:lnTo>
                      <a:pt x="279" y="696"/>
                    </a:lnTo>
                    <a:lnTo>
                      <a:pt x="247" y="693"/>
                    </a:lnTo>
                    <a:lnTo>
                      <a:pt x="216" y="696"/>
                    </a:lnTo>
                    <a:lnTo>
                      <a:pt x="184" y="714"/>
                    </a:lnTo>
                    <a:lnTo>
                      <a:pt x="174" y="724"/>
                    </a:lnTo>
                    <a:lnTo>
                      <a:pt x="161" y="735"/>
                    </a:lnTo>
                    <a:lnTo>
                      <a:pt x="153" y="747"/>
                    </a:lnTo>
                    <a:lnTo>
                      <a:pt x="156" y="759"/>
                    </a:lnTo>
                    <a:lnTo>
                      <a:pt x="165" y="752"/>
                    </a:lnTo>
                    <a:lnTo>
                      <a:pt x="175" y="747"/>
                    </a:lnTo>
                    <a:lnTo>
                      <a:pt x="186" y="742"/>
                    </a:lnTo>
                    <a:lnTo>
                      <a:pt x="196" y="738"/>
                    </a:lnTo>
                    <a:lnTo>
                      <a:pt x="207" y="733"/>
                    </a:lnTo>
                    <a:lnTo>
                      <a:pt x="219" y="731"/>
                    </a:lnTo>
                    <a:lnTo>
                      <a:pt x="230" y="730"/>
                    </a:lnTo>
                    <a:lnTo>
                      <a:pt x="244" y="730"/>
                    </a:lnTo>
                    <a:lnTo>
                      <a:pt x="231" y="737"/>
                    </a:lnTo>
                    <a:lnTo>
                      <a:pt x="219" y="751"/>
                    </a:lnTo>
                    <a:lnTo>
                      <a:pt x="205" y="758"/>
                    </a:lnTo>
                    <a:lnTo>
                      <a:pt x="195" y="752"/>
                    </a:lnTo>
                    <a:lnTo>
                      <a:pt x="189" y="754"/>
                    </a:lnTo>
                    <a:lnTo>
                      <a:pt x="184" y="759"/>
                    </a:lnTo>
                    <a:lnTo>
                      <a:pt x="184" y="768"/>
                    </a:lnTo>
                    <a:lnTo>
                      <a:pt x="189" y="777"/>
                    </a:lnTo>
                    <a:lnTo>
                      <a:pt x="193" y="782"/>
                    </a:lnTo>
                    <a:lnTo>
                      <a:pt x="189" y="793"/>
                    </a:lnTo>
                    <a:lnTo>
                      <a:pt x="202" y="798"/>
                    </a:lnTo>
                    <a:lnTo>
                      <a:pt x="217" y="791"/>
                    </a:lnTo>
                    <a:lnTo>
                      <a:pt x="233" y="777"/>
                    </a:lnTo>
                    <a:lnTo>
                      <a:pt x="251" y="763"/>
                    </a:lnTo>
                    <a:lnTo>
                      <a:pt x="263" y="749"/>
                    </a:lnTo>
                    <a:lnTo>
                      <a:pt x="275" y="747"/>
                    </a:lnTo>
                    <a:lnTo>
                      <a:pt x="284" y="758"/>
                    </a:lnTo>
                    <a:lnTo>
                      <a:pt x="287" y="789"/>
                    </a:lnTo>
                    <a:lnTo>
                      <a:pt x="294" y="819"/>
                    </a:lnTo>
                    <a:lnTo>
                      <a:pt x="305" y="850"/>
                    </a:lnTo>
                    <a:lnTo>
                      <a:pt x="315" y="880"/>
                    </a:lnTo>
                    <a:lnTo>
                      <a:pt x="329" y="912"/>
                    </a:lnTo>
                    <a:lnTo>
                      <a:pt x="345" y="938"/>
                    </a:lnTo>
                    <a:lnTo>
                      <a:pt x="366" y="962"/>
                    </a:lnTo>
                    <a:lnTo>
                      <a:pt x="392" y="982"/>
                    </a:lnTo>
                    <a:lnTo>
                      <a:pt x="424" y="997"/>
                    </a:lnTo>
                    <a:lnTo>
                      <a:pt x="436" y="1001"/>
                    </a:lnTo>
                    <a:lnTo>
                      <a:pt x="452" y="1003"/>
                    </a:lnTo>
                    <a:lnTo>
                      <a:pt x="469" y="1003"/>
                    </a:lnTo>
                    <a:lnTo>
                      <a:pt x="488" y="1004"/>
                    </a:lnTo>
                    <a:lnTo>
                      <a:pt x="506" y="1003"/>
                    </a:lnTo>
                    <a:lnTo>
                      <a:pt x="525" y="1001"/>
                    </a:lnTo>
                    <a:lnTo>
                      <a:pt x="541" y="999"/>
                    </a:lnTo>
                    <a:lnTo>
                      <a:pt x="558" y="999"/>
                    </a:lnTo>
                    <a:lnTo>
                      <a:pt x="564" y="1006"/>
                    </a:lnTo>
                    <a:lnTo>
                      <a:pt x="569" y="1010"/>
                    </a:lnTo>
                    <a:lnTo>
                      <a:pt x="576" y="1010"/>
                    </a:lnTo>
                    <a:lnTo>
                      <a:pt x="586" y="1010"/>
                    </a:lnTo>
                    <a:lnTo>
                      <a:pt x="602" y="1004"/>
                    </a:lnTo>
                    <a:lnTo>
                      <a:pt x="621" y="1006"/>
                    </a:lnTo>
                    <a:lnTo>
                      <a:pt x="667" y="1006"/>
                    </a:lnTo>
                    <a:lnTo>
                      <a:pt x="714" y="1011"/>
                    </a:lnTo>
                    <a:lnTo>
                      <a:pt x="761" y="1018"/>
                    </a:lnTo>
                    <a:lnTo>
                      <a:pt x="810" y="1027"/>
                    </a:lnTo>
                    <a:lnTo>
                      <a:pt x="856" y="1031"/>
                    </a:lnTo>
                    <a:lnTo>
                      <a:pt x="903" y="1031"/>
                    </a:lnTo>
                    <a:lnTo>
                      <a:pt x="949" y="1024"/>
                    </a:lnTo>
                    <a:lnTo>
                      <a:pt x="992" y="1006"/>
                    </a:lnTo>
                    <a:lnTo>
                      <a:pt x="1138" y="994"/>
                    </a:lnTo>
                    <a:lnTo>
                      <a:pt x="1155" y="983"/>
                    </a:lnTo>
                    <a:lnTo>
                      <a:pt x="1173" y="971"/>
                    </a:lnTo>
                    <a:lnTo>
                      <a:pt x="1188" y="957"/>
                    </a:lnTo>
                    <a:lnTo>
                      <a:pt x="1206" y="945"/>
                    </a:lnTo>
                    <a:lnTo>
                      <a:pt x="1215" y="943"/>
                    </a:lnTo>
                    <a:lnTo>
                      <a:pt x="1220" y="936"/>
                    </a:lnTo>
                    <a:lnTo>
                      <a:pt x="1222" y="927"/>
                    </a:lnTo>
                    <a:lnTo>
                      <a:pt x="1229" y="920"/>
                    </a:lnTo>
                    <a:lnTo>
                      <a:pt x="1243" y="908"/>
                    </a:lnTo>
                    <a:lnTo>
                      <a:pt x="1258" y="896"/>
                    </a:lnTo>
                    <a:lnTo>
                      <a:pt x="1274" y="884"/>
                    </a:lnTo>
                    <a:lnTo>
                      <a:pt x="1290" y="871"/>
                    </a:lnTo>
                    <a:lnTo>
                      <a:pt x="1304" y="856"/>
                    </a:lnTo>
                    <a:lnTo>
                      <a:pt x="1320" y="842"/>
                    </a:lnTo>
                    <a:lnTo>
                      <a:pt x="1334" y="824"/>
                    </a:lnTo>
                    <a:lnTo>
                      <a:pt x="1346" y="808"/>
                    </a:lnTo>
                    <a:lnTo>
                      <a:pt x="1374" y="807"/>
                    </a:lnTo>
                    <a:lnTo>
                      <a:pt x="1402" y="805"/>
                    </a:lnTo>
                    <a:lnTo>
                      <a:pt x="1430" y="798"/>
                    </a:lnTo>
                    <a:lnTo>
                      <a:pt x="1458" y="789"/>
                    </a:lnTo>
                    <a:lnTo>
                      <a:pt x="1482" y="775"/>
                    </a:lnTo>
                    <a:lnTo>
                      <a:pt x="1505" y="761"/>
                    </a:lnTo>
                    <a:lnTo>
                      <a:pt x="1526" y="740"/>
                    </a:lnTo>
                    <a:lnTo>
                      <a:pt x="1545" y="719"/>
                    </a:lnTo>
                    <a:lnTo>
                      <a:pt x="1545" y="707"/>
                    </a:lnTo>
                    <a:lnTo>
                      <a:pt x="1545" y="696"/>
                    </a:lnTo>
                    <a:lnTo>
                      <a:pt x="1547" y="686"/>
                    </a:lnTo>
                    <a:lnTo>
                      <a:pt x="1549" y="675"/>
                    </a:lnTo>
                    <a:lnTo>
                      <a:pt x="1549" y="663"/>
                    </a:lnTo>
                    <a:lnTo>
                      <a:pt x="1549" y="653"/>
                    </a:lnTo>
                    <a:lnTo>
                      <a:pt x="1547" y="642"/>
                    </a:lnTo>
                    <a:lnTo>
                      <a:pt x="1545" y="632"/>
                    </a:lnTo>
                    <a:lnTo>
                      <a:pt x="1552" y="640"/>
                    </a:lnTo>
                    <a:lnTo>
                      <a:pt x="1561" y="653"/>
                    </a:lnTo>
                    <a:lnTo>
                      <a:pt x="1570" y="663"/>
                    </a:lnTo>
                    <a:lnTo>
                      <a:pt x="1585" y="665"/>
                    </a:lnTo>
                    <a:lnTo>
                      <a:pt x="1594" y="653"/>
                    </a:lnTo>
                    <a:lnTo>
                      <a:pt x="1598" y="642"/>
                    </a:lnTo>
                    <a:lnTo>
                      <a:pt x="1584" y="630"/>
                    </a:lnTo>
                    <a:lnTo>
                      <a:pt x="1573" y="618"/>
                    </a:lnTo>
                    <a:lnTo>
                      <a:pt x="1582" y="623"/>
                    </a:lnTo>
                    <a:lnTo>
                      <a:pt x="1591" y="625"/>
                    </a:lnTo>
                    <a:lnTo>
                      <a:pt x="1599" y="626"/>
                    </a:lnTo>
                    <a:lnTo>
                      <a:pt x="1610" y="635"/>
                    </a:lnTo>
                    <a:lnTo>
                      <a:pt x="1617" y="647"/>
                    </a:lnTo>
                    <a:lnTo>
                      <a:pt x="1627" y="661"/>
                    </a:lnTo>
                    <a:lnTo>
                      <a:pt x="1638" y="658"/>
                    </a:lnTo>
                    <a:lnTo>
                      <a:pt x="1647" y="647"/>
                    </a:lnTo>
                    <a:lnTo>
                      <a:pt x="1645" y="635"/>
                    </a:lnTo>
                    <a:lnTo>
                      <a:pt x="1643" y="625"/>
                    </a:lnTo>
                    <a:lnTo>
                      <a:pt x="1638" y="614"/>
                    </a:lnTo>
                    <a:lnTo>
                      <a:pt x="1634" y="609"/>
                    </a:lnTo>
                    <a:lnTo>
                      <a:pt x="1620" y="595"/>
                    </a:lnTo>
                    <a:lnTo>
                      <a:pt x="1603" y="586"/>
                    </a:lnTo>
                    <a:lnTo>
                      <a:pt x="1587" y="579"/>
                    </a:lnTo>
                    <a:lnTo>
                      <a:pt x="1573" y="579"/>
                    </a:lnTo>
                    <a:lnTo>
                      <a:pt x="1559" y="579"/>
                    </a:lnTo>
                    <a:lnTo>
                      <a:pt x="1545" y="585"/>
                    </a:lnTo>
                    <a:lnTo>
                      <a:pt x="1530" y="588"/>
                    </a:lnTo>
                    <a:lnTo>
                      <a:pt x="1517" y="593"/>
                    </a:lnTo>
                    <a:lnTo>
                      <a:pt x="1503" y="597"/>
                    </a:lnTo>
                    <a:lnTo>
                      <a:pt x="1491" y="602"/>
                    </a:lnTo>
                    <a:lnTo>
                      <a:pt x="1472" y="606"/>
                    </a:lnTo>
                    <a:lnTo>
                      <a:pt x="1453" y="611"/>
                    </a:lnTo>
                    <a:lnTo>
                      <a:pt x="1433" y="616"/>
                    </a:lnTo>
                    <a:lnTo>
                      <a:pt x="1414" y="621"/>
                    </a:lnTo>
                    <a:lnTo>
                      <a:pt x="1393" y="623"/>
                    </a:lnTo>
                    <a:lnTo>
                      <a:pt x="1372" y="626"/>
                    </a:lnTo>
                    <a:lnTo>
                      <a:pt x="1349" y="628"/>
                    </a:lnTo>
                    <a:lnTo>
                      <a:pt x="1328" y="630"/>
                    </a:lnTo>
                    <a:lnTo>
                      <a:pt x="1316" y="621"/>
                    </a:lnTo>
                    <a:lnTo>
                      <a:pt x="1306" y="614"/>
                    </a:lnTo>
                    <a:lnTo>
                      <a:pt x="1295" y="607"/>
                    </a:lnTo>
                    <a:lnTo>
                      <a:pt x="1286" y="602"/>
                    </a:lnTo>
                    <a:lnTo>
                      <a:pt x="1276" y="593"/>
                    </a:lnTo>
                    <a:lnTo>
                      <a:pt x="1265" y="585"/>
                    </a:lnTo>
                    <a:lnTo>
                      <a:pt x="1257" y="576"/>
                    </a:lnTo>
                    <a:lnTo>
                      <a:pt x="1248" y="567"/>
                    </a:lnTo>
                    <a:lnTo>
                      <a:pt x="1276" y="565"/>
                    </a:lnTo>
                    <a:lnTo>
                      <a:pt x="1307" y="564"/>
                    </a:lnTo>
                    <a:lnTo>
                      <a:pt x="1337" y="557"/>
                    </a:lnTo>
                    <a:lnTo>
                      <a:pt x="1369" y="551"/>
                    </a:lnTo>
                    <a:lnTo>
                      <a:pt x="1397" y="537"/>
                    </a:lnTo>
                    <a:lnTo>
                      <a:pt x="1421" y="522"/>
                    </a:lnTo>
                    <a:lnTo>
                      <a:pt x="1442" y="499"/>
                    </a:lnTo>
                    <a:lnTo>
                      <a:pt x="1458" y="471"/>
                    </a:lnTo>
                    <a:lnTo>
                      <a:pt x="1449" y="462"/>
                    </a:lnTo>
                    <a:lnTo>
                      <a:pt x="1428" y="480"/>
                    </a:lnTo>
                    <a:lnTo>
                      <a:pt x="1407" y="497"/>
                    </a:lnTo>
                    <a:lnTo>
                      <a:pt x="1383" y="509"/>
                    </a:lnTo>
                    <a:lnTo>
                      <a:pt x="1360" y="522"/>
                    </a:lnTo>
                    <a:lnTo>
                      <a:pt x="1334" y="527"/>
                    </a:lnTo>
                    <a:lnTo>
                      <a:pt x="1307" y="532"/>
                    </a:lnTo>
                    <a:lnTo>
                      <a:pt x="1279" y="536"/>
                    </a:lnTo>
                    <a:lnTo>
                      <a:pt x="1253" y="539"/>
                    </a:lnTo>
                    <a:lnTo>
                      <a:pt x="1276" y="530"/>
                    </a:lnTo>
                    <a:lnTo>
                      <a:pt x="1299" y="522"/>
                    </a:lnTo>
                    <a:lnTo>
                      <a:pt x="1321" y="509"/>
                    </a:lnTo>
                    <a:lnTo>
                      <a:pt x="1346" y="499"/>
                    </a:lnTo>
                    <a:lnTo>
                      <a:pt x="1365" y="483"/>
                    </a:lnTo>
                    <a:lnTo>
                      <a:pt x="1384" y="467"/>
                    </a:lnTo>
                    <a:lnTo>
                      <a:pt x="1398" y="446"/>
                    </a:lnTo>
                    <a:lnTo>
                      <a:pt x="1414" y="425"/>
                    </a:lnTo>
                    <a:lnTo>
                      <a:pt x="1428" y="413"/>
                    </a:lnTo>
                    <a:lnTo>
                      <a:pt x="1442" y="401"/>
                    </a:lnTo>
                    <a:lnTo>
                      <a:pt x="1442" y="385"/>
                    </a:lnTo>
                    <a:lnTo>
                      <a:pt x="1444" y="373"/>
                    </a:lnTo>
                    <a:lnTo>
                      <a:pt x="1446" y="357"/>
                    </a:lnTo>
                    <a:lnTo>
                      <a:pt x="1451" y="345"/>
                    </a:lnTo>
                    <a:lnTo>
                      <a:pt x="1453" y="331"/>
                    </a:lnTo>
                    <a:lnTo>
                      <a:pt x="1456" y="317"/>
                    </a:lnTo>
                    <a:lnTo>
                      <a:pt x="1460" y="303"/>
                    </a:lnTo>
                    <a:lnTo>
                      <a:pt x="1463" y="291"/>
                    </a:lnTo>
                    <a:lnTo>
                      <a:pt x="1454" y="257"/>
                    </a:lnTo>
                    <a:lnTo>
                      <a:pt x="1444" y="226"/>
                    </a:lnTo>
                    <a:lnTo>
                      <a:pt x="1430" y="196"/>
                    </a:lnTo>
                    <a:lnTo>
                      <a:pt x="1414" y="170"/>
                    </a:lnTo>
                    <a:lnTo>
                      <a:pt x="1391" y="146"/>
                    </a:lnTo>
                    <a:lnTo>
                      <a:pt x="1367" y="126"/>
                    </a:lnTo>
                    <a:lnTo>
                      <a:pt x="1339" y="109"/>
                    </a:lnTo>
                    <a:lnTo>
                      <a:pt x="1307" y="98"/>
                    </a:lnTo>
                    <a:lnTo>
                      <a:pt x="1292" y="95"/>
                    </a:lnTo>
                    <a:lnTo>
                      <a:pt x="1279" y="91"/>
                    </a:lnTo>
                    <a:lnTo>
                      <a:pt x="1267" y="86"/>
                    </a:lnTo>
                    <a:lnTo>
                      <a:pt x="1253" y="84"/>
                    </a:lnTo>
                    <a:lnTo>
                      <a:pt x="1267" y="81"/>
                    </a:lnTo>
                    <a:lnTo>
                      <a:pt x="1283" y="77"/>
                    </a:lnTo>
                    <a:lnTo>
                      <a:pt x="1297" y="76"/>
                    </a:lnTo>
                    <a:lnTo>
                      <a:pt x="1313" y="84"/>
                    </a:lnTo>
                    <a:lnTo>
                      <a:pt x="1321" y="76"/>
                    </a:lnTo>
                    <a:lnTo>
                      <a:pt x="1332" y="79"/>
                    </a:lnTo>
                    <a:lnTo>
                      <a:pt x="1341" y="83"/>
                    </a:lnTo>
                    <a:lnTo>
                      <a:pt x="1351" y="84"/>
                    </a:lnTo>
                    <a:lnTo>
                      <a:pt x="1349" y="91"/>
                    </a:lnTo>
                    <a:lnTo>
                      <a:pt x="1355" y="97"/>
                    </a:lnTo>
                    <a:lnTo>
                      <a:pt x="1362" y="100"/>
                    </a:lnTo>
                    <a:lnTo>
                      <a:pt x="1370" y="105"/>
                    </a:lnTo>
                    <a:lnTo>
                      <a:pt x="1376" y="102"/>
                    </a:lnTo>
                    <a:lnTo>
                      <a:pt x="1379" y="97"/>
                    </a:lnTo>
                    <a:lnTo>
                      <a:pt x="1383" y="91"/>
                    </a:lnTo>
                    <a:lnTo>
                      <a:pt x="1390" y="90"/>
                    </a:lnTo>
                    <a:lnTo>
                      <a:pt x="1393" y="95"/>
                    </a:lnTo>
                    <a:lnTo>
                      <a:pt x="1397" y="105"/>
                    </a:lnTo>
                    <a:lnTo>
                      <a:pt x="1398" y="114"/>
                    </a:lnTo>
                    <a:lnTo>
                      <a:pt x="1402" y="126"/>
                    </a:lnTo>
                    <a:lnTo>
                      <a:pt x="1404" y="135"/>
                    </a:lnTo>
                    <a:lnTo>
                      <a:pt x="1411" y="144"/>
                    </a:lnTo>
                    <a:lnTo>
                      <a:pt x="1419" y="149"/>
                    </a:lnTo>
                    <a:lnTo>
                      <a:pt x="1435" y="149"/>
                    </a:lnTo>
                    <a:lnTo>
                      <a:pt x="1444" y="132"/>
                    </a:lnTo>
                    <a:lnTo>
                      <a:pt x="1454" y="114"/>
                    </a:lnTo>
                    <a:lnTo>
                      <a:pt x="1456" y="97"/>
                    </a:lnTo>
                    <a:lnTo>
                      <a:pt x="1453" y="81"/>
                    </a:lnTo>
                    <a:lnTo>
                      <a:pt x="1456" y="65"/>
                    </a:lnTo>
                    <a:lnTo>
                      <a:pt x="1451" y="53"/>
                    </a:lnTo>
                    <a:lnTo>
                      <a:pt x="1442" y="41"/>
                    </a:lnTo>
                    <a:lnTo>
                      <a:pt x="1439" y="30"/>
                    </a:lnTo>
                    <a:lnTo>
                      <a:pt x="1423" y="30"/>
                    </a:lnTo>
                    <a:lnTo>
                      <a:pt x="1421" y="16"/>
                    </a:lnTo>
                    <a:lnTo>
                      <a:pt x="1414" y="7"/>
                    </a:lnTo>
                    <a:lnTo>
                      <a:pt x="1404" y="7"/>
                    </a:lnTo>
                    <a:lnTo>
                      <a:pt x="1418" y="0"/>
                    </a:lnTo>
                    <a:lnTo>
                      <a:pt x="1432" y="0"/>
                    </a:lnTo>
                    <a:lnTo>
                      <a:pt x="1440" y="4"/>
                    </a:lnTo>
                    <a:lnTo>
                      <a:pt x="1451" y="14"/>
                    </a:lnTo>
                    <a:lnTo>
                      <a:pt x="1458" y="25"/>
                    </a:lnTo>
                    <a:lnTo>
                      <a:pt x="1465" y="39"/>
                    </a:lnTo>
                    <a:lnTo>
                      <a:pt x="1472" y="51"/>
                    </a:lnTo>
                    <a:lnTo>
                      <a:pt x="1479" y="65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49600" y="4313880"/>
                <a:ext cx="347760" cy="213840"/>
              </a:xfrm>
              <a:custGeom>
                <a:avLst/>
                <a:gdLst/>
                <a:ahLst/>
                <a:rect l="l" t="t" r="r" b="b"/>
                <a:pathLst>
                  <a:path w="439" h="271">
                    <a:moveTo>
                      <a:pt x="414" y="103"/>
                    </a:moveTo>
                    <a:lnTo>
                      <a:pt x="402" y="95"/>
                    </a:lnTo>
                    <a:lnTo>
                      <a:pt x="392" y="89"/>
                    </a:lnTo>
                    <a:lnTo>
                      <a:pt x="378" y="81"/>
                    </a:lnTo>
                    <a:lnTo>
                      <a:pt x="365" y="75"/>
                    </a:lnTo>
                    <a:lnTo>
                      <a:pt x="350" y="68"/>
                    </a:lnTo>
                    <a:lnTo>
                      <a:pt x="336" y="61"/>
                    </a:lnTo>
                    <a:lnTo>
                      <a:pt x="322" y="56"/>
                    </a:lnTo>
                    <a:lnTo>
                      <a:pt x="308" y="51"/>
                    </a:lnTo>
                    <a:lnTo>
                      <a:pt x="302" y="56"/>
                    </a:lnTo>
                    <a:lnTo>
                      <a:pt x="320" y="67"/>
                    </a:lnTo>
                    <a:lnTo>
                      <a:pt x="341" y="79"/>
                    </a:lnTo>
                    <a:lnTo>
                      <a:pt x="362" y="89"/>
                    </a:lnTo>
                    <a:lnTo>
                      <a:pt x="383" y="102"/>
                    </a:lnTo>
                    <a:lnTo>
                      <a:pt x="400" y="112"/>
                    </a:lnTo>
                    <a:lnTo>
                      <a:pt x="416" y="130"/>
                    </a:lnTo>
                    <a:lnTo>
                      <a:pt x="428" y="145"/>
                    </a:lnTo>
                    <a:lnTo>
                      <a:pt x="439" y="168"/>
                    </a:lnTo>
                    <a:lnTo>
                      <a:pt x="414" y="152"/>
                    </a:lnTo>
                    <a:lnTo>
                      <a:pt x="390" y="138"/>
                    </a:lnTo>
                    <a:lnTo>
                      <a:pt x="364" y="124"/>
                    </a:lnTo>
                    <a:lnTo>
                      <a:pt x="339" y="110"/>
                    </a:lnTo>
                    <a:lnTo>
                      <a:pt x="313" y="96"/>
                    </a:lnTo>
                    <a:lnTo>
                      <a:pt x="287" y="84"/>
                    </a:lnTo>
                    <a:lnTo>
                      <a:pt x="260" y="72"/>
                    </a:lnTo>
                    <a:lnTo>
                      <a:pt x="234" y="61"/>
                    </a:lnTo>
                    <a:lnTo>
                      <a:pt x="229" y="65"/>
                    </a:lnTo>
                    <a:lnTo>
                      <a:pt x="229" y="72"/>
                    </a:lnTo>
                    <a:lnTo>
                      <a:pt x="255" y="82"/>
                    </a:lnTo>
                    <a:lnTo>
                      <a:pt x="283" y="95"/>
                    </a:lnTo>
                    <a:lnTo>
                      <a:pt x="311" y="109"/>
                    </a:lnTo>
                    <a:lnTo>
                      <a:pt x="339" y="124"/>
                    </a:lnTo>
                    <a:lnTo>
                      <a:pt x="365" y="138"/>
                    </a:lnTo>
                    <a:lnTo>
                      <a:pt x="392" y="156"/>
                    </a:lnTo>
                    <a:lnTo>
                      <a:pt x="414" y="175"/>
                    </a:lnTo>
                    <a:lnTo>
                      <a:pt x="439" y="196"/>
                    </a:lnTo>
                    <a:lnTo>
                      <a:pt x="434" y="217"/>
                    </a:lnTo>
                    <a:lnTo>
                      <a:pt x="418" y="208"/>
                    </a:lnTo>
                    <a:lnTo>
                      <a:pt x="404" y="201"/>
                    </a:lnTo>
                    <a:lnTo>
                      <a:pt x="388" y="194"/>
                    </a:lnTo>
                    <a:lnTo>
                      <a:pt x="374" y="187"/>
                    </a:lnTo>
                    <a:lnTo>
                      <a:pt x="358" y="179"/>
                    </a:lnTo>
                    <a:lnTo>
                      <a:pt x="344" y="172"/>
                    </a:lnTo>
                    <a:lnTo>
                      <a:pt x="330" y="166"/>
                    </a:lnTo>
                    <a:lnTo>
                      <a:pt x="316" y="163"/>
                    </a:lnTo>
                    <a:lnTo>
                      <a:pt x="313" y="165"/>
                    </a:lnTo>
                    <a:lnTo>
                      <a:pt x="323" y="172"/>
                    </a:lnTo>
                    <a:lnTo>
                      <a:pt x="337" y="180"/>
                    </a:lnTo>
                    <a:lnTo>
                      <a:pt x="351" y="189"/>
                    </a:lnTo>
                    <a:lnTo>
                      <a:pt x="367" y="198"/>
                    </a:lnTo>
                    <a:lnTo>
                      <a:pt x="381" y="205"/>
                    </a:lnTo>
                    <a:lnTo>
                      <a:pt x="395" y="214"/>
                    </a:lnTo>
                    <a:lnTo>
                      <a:pt x="409" y="222"/>
                    </a:lnTo>
                    <a:lnTo>
                      <a:pt x="425" y="233"/>
                    </a:lnTo>
                    <a:lnTo>
                      <a:pt x="425" y="242"/>
                    </a:lnTo>
                    <a:lnTo>
                      <a:pt x="421" y="252"/>
                    </a:lnTo>
                    <a:lnTo>
                      <a:pt x="413" y="261"/>
                    </a:lnTo>
                    <a:lnTo>
                      <a:pt x="409" y="271"/>
                    </a:lnTo>
                    <a:lnTo>
                      <a:pt x="392" y="261"/>
                    </a:lnTo>
                    <a:lnTo>
                      <a:pt x="374" y="250"/>
                    </a:lnTo>
                    <a:lnTo>
                      <a:pt x="358" y="242"/>
                    </a:lnTo>
                    <a:lnTo>
                      <a:pt x="343" y="233"/>
                    </a:lnTo>
                    <a:lnTo>
                      <a:pt x="325" y="222"/>
                    </a:lnTo>
                    <a:lnTo>
                      <a:pt x="308" y="215"/>
                    </a:lnTo>
                    <a:lnTo>
                      <a:pt x="292" y="205"/>
                    </a:lnTo>
                    <a:lnTo>
                      <a:pt x="276" y="198"/>
                    </a:lnTo>
                    <a:lnTo>
                      <a:pt x="264" y="191"/>
                    </a:lnTo>
                    <a:lnTo>
                      <a:pt x="252" y="186"/>
                    </a:lnTo>
                    <a:lnTo>
                      <a:pt x="241" y="180"/>
                    </a:lnTo>
                    <a:lnTo>
                      <a:pt x="231" y="177"/>
                    </a:lnTo>
                    <a:lnTo>
                      <a:pt x="218" y="172"/>
                    </a:lnTo>
                    <a:lnTo>
                      <a:pt x="206" y="168"/>
                    </a:lnTo>
                    <a:lnTo>
                      <a:pt x="194" y="165"/>
                    </a:lnTo>
                    <a:lnTo>
                      <a:pt x="182" y="165"/>
                    </a:lnTo>
                    <a:lnTo>
                      <a:pt x="176" y="156"/>
                    </a:lnTo>
                    <a:lnTo>
                      <a:pt x="171" y="158"/>
                    </a:lnTo>
                    <a:lnTo>
                      <a:pt x="162" y="159"/>
                    </a:lnTo>
                    <a:lnTo>
                      <a:pt x="157" y="158"/>
                    </a:lnTo>
                    <a:lnTo>
                      <a:pt x="138" y="147"/>
                    </a:lnTo>
                    <a:lnTo>
                      <a:pt x="119" y="142"/>
                    </a:lnTo>
                    <a:lnTo>
                      <a:pt x="99" y="137"/>
                    </a:lnTo>
                    <a:lnTo>
                      <a:pt x="80" y="137"/>
                    </a:lnTo>
                    <a:lnTo>
                      <a:pt x="59" y="133"/>
                    </a:lnTo>
                    <a:lnTo>
                      <a:pt x="40" y="131"/>
                    </a:lnTo>
                    <a:lnTo>
                      <a:pt x="19" y="130"/>
                    </a:lnTo>
                    <a:lnTo>
                      <a:pt x="0" y="128"/>
                    </a:lnTo>
                    <a:lnTo>
                      <a:pt x="7" y="102"/>
                    </a:lnTo>
                    <a:lnTo>
                      <a:pt x="21" y="81"/>
                    </a:lnTo>
                    <a:lnTo>
                      <a:pt x="38" y="63"/>
                    </a:lnTo>
                    <a:lnTo>
                      <a:pt x="61" y="49"/>
                    </a:lnTo>
                    <a:lnTo>
                      <a:pt x="82" y="37"/>
                    </a:lnTo>
                    <a:lnTo>
                      <a:pt x="108" y="27"/>
                    </a:lnTo>
                    <a:lnTo>
                      <a:pt x="131" y="16"/>
                    </a:lnTo>
                    <a:lnTo>
                      <a:pt x="155" y="7"/>
                    </a:lnTo>
                    <a:lnTo>
                      <a:pt x="190" y="0"/>
                    </a:lnTo>
                    <a:lnTo>
                      <a:pt x="227" y="0"/>
                    </a:lnTo>
                    <a:lnTo>
                      <a:pt x="266" y="6"/>
                    </a:lnTo>
                    <a:lnTo>
                      <a:pt x="304" y="16"/>
                    </a:lnTo>
                    <a:lnTo>
                      <a:pt x="337" y="28"/>
                    </a:lnTo>
                    <a:lnTo>
                      <a:pt x="369" y="49"/>
                    </a:lnTo>
                    <a:lnTo>
                      <a:pt x="393" y="72"/>
                    </a:lnTo>
                    <a:lnTo>
                      <a:pt x="414" y="103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32360" y="4367880"/>
                <a:ext cx="328680" cy="171000"/>
              </a:xfrm>
              <a:custGeom>
                <a:avLst/>
                <a:gdLst/>
                <a:ahLst/>
                <a:rect l="l" t="t" r="r" b="b"/>
                <a:pathLst>
                  <a:path w="413" h="217">
                    <a:moveTo>
                      <a:pt x="395" y="35"/>
                    </a:moveTo>
                    <a:lnTo>
                      <a:pt x="413" y="62"/>
                    </a:lnTo>
                    <a:lnTo>
                      <a:pt x="355" y="69"/>
                    </a:lnTo>
                    <a:lnTo>
                      <a:pt x="302" y="81"/>
                    </a:lnTo>
                    <a:lnTo>
                      <a:pt x="248" y="97"/>
                    </a:lnTo>
                    <a:lnTo>
                      <a:pt x="197" y="118"/>
                    </a:lnTo>
                    <a:lnTo>
                      <a:pt x="145" y="137"/>
                    </a:lnTo>
                    <a:lnTo>
                      <a:pt x="96" y="161"/>
                    </a:lnTo>
                    <a:lnTo>
                      <a:pt x="47" y="188"/>
                    </a:lnTo>
                    <a:lnTo>
                      <a:pt x="0" y="217"/>
                    </a:lnTo>
                    <a:lnTo>
                      <a:pt x="0" y="202"/>
                    </a:lnTo>
                    <a:lnTo>
                      <a:pt x="12" y="193"/>
                    </a:lnTo>
                    <a:lnTo>
                      <a:pt x="24" y="186"/>
                    </a:lnTo>
                    <a:lnTo>
                      <a:pt x="36" y="179"/>
                    </a:lnTo>
                    <a:lnTo>
                      <a:pt x="50" y="172"/>
                    </a:lnTo>
                    <a:lnTo>
                      <a:pt x="63" y="165"/>
                    </a:lnTo>
                    <a:lnTo>
                      <a:pt x="75" y="158"/>
                    </a:lnTo>
                    <a:lnTo>
                      <a:pt x="87" y="151"/>
                    </a:lnTo>
                    <a:lnTo>
                      <a:pt x="101" y="144"/>
                    </a:lnTo>
                    <a:lnTo>
                      <a:pt x="85" y="142"/>
                    </a:lnTo>
                    <a:lnTo>
                      <a:pt x="73" y="146"/>
                    </a:lnTo>
                    <a:lnTo>
                      <a:pt x="59" y="149"/>
                    </a:lnTo>
                    <a:lnTo>
                      <a:pt x="49" y="154"/>
                    </a:lnTo>
                    <a:lnTo>
                      <a:pt x="36" y="160"/>
                    </a:lnTo>
                    <a:lnTo>
                      <a:pt x="24" y="168"/>
                    </a:lnTo>
                    <a:lnTo>
                      <a:pt x="12" y="174"/>
                    </a:lnTo>
                    <a:lnTo>
                      <a:pt x="2" y="182"/>
                    </a:lnTo>
                    <a:lnTo>
                      <a:pt x="14" y="165"/>
                    </a:lnTo>
                    <a:lnTo>
                      <a:pt x="31" y="151"/>
                    </a:lnTo>
                    <a:lnTo>
                      <a:pt x="47" y="139"/>
                    </a:lnTo>
                    <a:lnTo>
                      <a:pt x="68" y="128"/>
                    </a:lnTo>
                    <a:lnTo>
                      <a:pt x="87" y="116"/>
                    </a:lnTo>
                    <a:lnTo>
                      <a:pt x="108" y="107"/>
                    </a:lnTo>
                    <a:lnTo>
                      <a:pt x="129" y="100"/>
                    </a:lnTo>
                    <a:lnTo>
                      <a:pt x="150" y="95"/>
                    </a:lnTo>
                    <a:lnTo>
                      <a:pt x="155" y="90"/>
                    </a:lnTo>
                    <a:lnTo>
                      <a:pt x="162" y="84"/>
                    </a:lnTo>
                    <a:lnTo>
                      <a:pt x="143" y="83"/>
                    </a:lnTo>
                    <a:lnTo>
                      <a:pt x="126" y="86"/>
                    </a:lnTo>
                    <a:lnTo>
                      <a:pt x="110" y="91"/>
                    </a:lnTo>
                    <a:lnTo>
                      <a:pt x="94" y="100"/>
                    </a:lnTo>
                    <a:lnTo>
                      <a:pt x="78" y="107"/>
                    </a:lnTo>
                    <a:lnTo>
                      <a:pt x="63" y="118"/>
                    </a:lnTo>
                    <a:lnTo>
                      <a:pt x="49" y="126"/>
                    </a:lnTo>
                    <a:lnTo>
                      <a:pt x="35" y="135"/>
                    </a:lnTo>
                    <a:lnTo>
                      <a:pt x="56" y="100"/>
                    </a:lnTo>
                    <a:lnTo>
                      <a:pt x="85" y="77"/>
                    </a:lnTo>
                    <a:lnTo>
                      <a:pt x="115" y="60"/>
                    </a:lnTo>
                    <a:lnTo>
                      <a:pt x="152" y="49"/>
                    </a:lnTo>
                    <a:lnTo>
                      <a:pt x="187" y="37"/>
                    </a:lnTo>
                    <a:lnTo>
                      <a:pt x="224" y="28"/>
                    </a:lnTo>
                    <a:lnTo>
                      <a:pt x="259" y="16"/>
                    </a:lnTo>
                    <a:lnTo>
                      <a:pt x="294" y="2"/>
                    </a:lnTo>
                    <a:lnTo>
                      <a:pt x="306" y="0"/>
                    </a:lnTo>
                    <a:lnTo>
                      <a:pt x="322" y="0"/>
                    </a:lnTo>
                    <a:lnTo>
                      <a:pt x="336" y="2"/>
                    </a:lnTo>
                    <a:lnTo>
                      <a:pt x="350" y="7"/>
                    </a:lnTo>
                    <a:lnTo>
                      <a:pt x="362" y="13"/>
                    </a:lnTo>
                    <a:lnTo>
                      <a:pt x="374" y="18"/>
                    </a:lnTo>
                    <a:lnTo>
                      <a:pt x="385" y="25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32440" y="439164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935600" y="4408920"/>
                <a:ext cx="214200" cy="215640"/>
              </a:xfrm>
              <a:custGeom>
                <a:avLst/>
                <a:gdLst/>
                <a:ahLst/>
                <a:rect l="l" t="t" r="r" b="b"/>
                <a:pathLst>
                  <a:path w="269" h="271">
                    <a:moveTo>
                      <a:pt x="238" y="9"/>
                    </a:moveTo>
                    <a:lnTo>
                      <a:pt x="243" y="16"/>
                    </a:lnTo>
                    <a:lnTo>
                      <a:pt x="250" y="26"/>
                    </a:lnTo>
                    <a:lnTo>
                      <a:pt x="254" y="37"/>
                    </a:lnTo>
                    <a:lnTo>
                      <a:pt x="257" y="47"/>
                    </a:lnTo>
                    <a:lnTo>
                      <a:pt x="259" y="58"/>
                    </a:lnTo>
                    <a:lnTo>
                      <a:pt x="262" y="70"/>
                    </a:lnTo>
                    <a:lnTo>
                      <a:pt x="264" y="82"/>
                    </a:lnTo>
                    <a:lnTo>
                      <a:pt x="269" y="94"/>
                    </a:lnTo>
                    <a:lnTo>
                      <a:pt x="259" y="115"/>
                    </a:lnTo>
                    <a:lnTo>
                      <a:pt x="248" y="136"/>
                    </a:lnTo>
                    <a:lnTo>
                      <a:pt x="238" y="157"/>
                    </a:lnTo>
                    <a:lnTo>
                      <a:pt x="227" y="180"/>
                    </a:lnTo>
                    <a:lnTo>
                      <a:pt x="217" y="201"/>
                    </a:lnTo>
                    <a:lnTo>
                      <a:pt x="208" y="222"/>
                    </a:lnTo>
                    <a:lnTo>
                      <a:pt x="201" y="245"/>
                    </a:lnTo>
                    <a:lnTo>
                      <a:pt x="199" y="271"/>
                    </a:lnTo>
                    <a:lnTo>
                      <a:pt x="187" y="268"/>
                    </a:lnTo>
                    <a:lnTo>
                      <a:pt x="182" y="259"/>
                    </a:lnTo>
                    <a:lnTo>
                      <a:pt x="173" y="248"/>
                    </a:lnTo>
                    <a:lnTo>
                      <a:pt x="166" y="241"/>
                    </a:lnTo>
                    <a:lnTo>
                      <a:pt x="145" y="226"/>
                    </a:lnTo>
                    <a:lnTo>
                      <a:pt x="124" y="210"/>
                    </a:lnTo>
                    <a:lnTo>
                      <a:pt x="103" y="196"/>
                    </a:lnTo>
                    <a:lnTo>
                      <a:pt x="82" y="182"/>
                    </a:lnTo>
                    <a:lnTo>
                      <a:pt x="61" y="168"/>
                    </a:lnTo>
                    <a:lnTo>
                      <a:pt x="40" y="156"/>
                    </a:lnTo>
                    <a:lnTo>
                      <a:pt x="19" y="142"/>
                    </a:lnTo>
                    <a:lnTo>
                      <a:pt x="0" y="131"/>
                    </a:lnTo>
                    <a:lnTo>
                      <a:pt x="3" y="121"/>
                    </a:lnTo>
                    <a:lnTo>
                      <a:pt x="10" y="112"/>
                    </a:lnTo>
                    <a:lnTo>
                      <a:pt x="16" y="101"/>
                    </a:lnTo>
                    <a:lnTo>
                      <a:pt x="26" y="93"/>
                    </a:lnTo>
                    <a:lnTo>
                      <a:pt x="33" y="82"/>
                    </a:lnTo>
                    <a:lnTo>
                      <a:pt x="44" y="73"/>
                    </a:lnTo>
                    <a:lnTo>
                      <a:pt x="52" y="65"/>
                    </a:lnTo>
                    <a:lnTo>
                      <a:pt x="63" y="58"/>
                    </a:lnTo>
                    <a:lnTo>
                      <a:pt x="82" y="47"/>
                    </a:lnTo>
                    <a:lnTo>
                      <a:pt x="103" y="35"/>
                    </a:lnTo>
                    <a:lnTo>
                      <a:pt x="124" y="23"/>
                    </a:lnTo>
                    <a:lnTo>
                      <a:pt x="147" y="12"/>
                    </a:lnTo>
                    <a:lnTo>
                      <a:pt x="168" y="3"/>
                    </a:lnTo>
                    <a:lnTo>
                      <a:pt x="191" y="0"/>
                    </a:lnTo>
                    <a:lnTo>
                      <a:pt x="213" y="0"/>
                    </a:lnTo>
                    <a:lnTo>
                      <a:pt x="238" y="9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76560" y="4407480"/>
                <a:ext cx="19080" cy="5508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25" y="70"/>
                    </a:moveTo>
                    <a:lnTo>
                      <a:pt x="11" y="60"/>
                    </a:lnTo>
                    <a:lnTo>
                      <a:pt x="4" y="46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6" y="0"/>
                    </a:lnTo>
                    <a:lnTo>
                      <a:pt x="11" y="16"/>
                    </a:lnTo>
                    <a:lnTo>
                      <a:pt x="14" y="35"/>
                    </a:lnTo>
                    <a:lnTo>
                      <a:pt x="16" y="53"/>
                    </a:lnTo>
                    <a:lnTo>
                      <a:pt x="25" y="7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3080" y="4429800"/>
                <a:ext cx="33480" cy="5328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9" y="0"/>
                    </a:moveTo>
                    <a:lnTo>
                      <a:pt x="16" y="16"/>
                    </a:lnTo>
                    <a:lnTo>
                      <a:pt x="28" y="32"/>
                    </a:lnTo>
                    <a:lnTo>
                      <a:pt x="34" y="39"/>
                    </a:lnTo>
                    <a:lnTo>
                      <a:pt x="39" y="47"/>
                    </a:lnTo>
                    <a:lnTo>
                      <a:pt x="41" y="58"/>
                    </a:lnTo>
                    <a:lnTo>
                      <a:pt x="42" y="68"/>
                    </a:lnTo>
                    <a:lnTo>
                      <a:pt x="28" y="53"/>
                    </a:lnTo>
                    <a:lnTo>
                      <a:pt x="16" y="37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011560" y="4437720"/>
                <a:ext cx="108000" cy="132840"/>
              </a:xfrm>
              <a:custGeom>
                <a:avLst/>
                <a:gdLst/>
                <a:ahLst/>
                <a:rect l="l" t="t" r="r" b="b"/>
                <a:pathLst>
                  <a:path w="137" h="168">
                    <a:moveTo>
                      <a:pt x="137" y="10"/>
                    </a:moveTo>
                    <a:lnTo>
                      <a:pt x="133" y="17"/>
                    </a:lnTo>
                    <a:lnTo>
                      <a:pt x="128" y="21"/>
                    </a:lnTo>
                    <a:lnTo>
                      <a:pt x="119" y="21"/>
                    </a:lnTo>
                    <a:lnTo>
                      <a:pt x="114" y="21"/>
                    </a:lnTo>
                    <a:lnTo>
                      <a:pt x="103" y="26"/>
                    </a:lnTo>
                    <a:lnTo>
                      <a:pt x="93" y="31"/>
                    </a:lnTo>
                    <a:lnTo>
                      <a:pt x="84" y="38"/>
                    </a:lnTo>
                    <a:lnTo>
                      <a:pt x="79" y="47"/>
                    </a:lnTo>
                    <a:lnTo>
                      <a:pt x="63" y="63"/>
                    </a:lnTo>
                    <a:lnTo>
                      <a:pt x="51" y="82"/>
                    </a:lnTo>
                    <a:lnTo>
                      <a:pt x="60" y="85"/>
                    </a:lnTo>
                    <a:lnTo>
                      <a:pt x="68" y="92"/>
                    </a:lnTo>
                    <a:lnTo>
                      <a:pt x="77" y="101"/>
                    </a:lnTo>
                    <a:lnTo>
                      <a:pt x="86" y="112"/>
                    </a:lnTo>
                    <a:lnTo>
                      <a:pt x="88" y="124"/>
                    </a:lnTo>
                    <a:lnTo>
                      <a:pt x="86" y="138"/>
                    </a:lnTo>
                    <a:lnTo>
                      <a:pt x="79" y="148"/>
                    </a:lnTo>
                    <a:lnTo>
                      <a:pt x="70" y="161"/>
                    </a:lnTo>
                    <a:lnTo>
                      <a:pt x="63" y="166"/>
                    </a:lnTo>
                    <a:lnTo>
                      <a:pt x="54" y="168"/>
                    </a:lnTo>
                    <a:lnTo>
                      <a:pt x="56" y="154"/>
                    </a:lnTo>
                    <a:lnTo>
                      <a:pt x="61" y="141"/>
                    </a:lnTo>
                    <a:lnTo>
                      <a:pt x="65" y="127"/>
                    </a:lnTo>
                    <a:lnTo>
                      <a:pt x="65" y="113"/>
                    </a:lnTo>
                    <a:lnTo>
                      <a:pt x="56" y="106"/>
                    </a:lnTo>
                    <a:lnTo>
                      <a:pt x="49" y="103"/>
                    </a:lnTo>
                    <a:lnTo>
                      <a:pt x="40" y="101"/>
                    </a:lnTo>
                    <a:lnTo>
                      <a:pt x="35" y="106"/>
                    </a:lnTo>
                    <a:lnTo>
                      <a:pt x="26" y="115"/>
                    </a:lnTo>
                    <a:lnTo>
                      <a:pt x="19" y="127"/>
                    </a:lnTo>
                    <a:lnTo>
                      <a:pt x="12" y="140"/>
                    </a:lnTo>
                    <a:lnTo>
                      <a:pt x="2" y="152"/>
                    </a:lnTo>
                    <a:lnTo>
                      <a:pt x="0" y="140"/>
                    </a:lnTo>
                    <a:lnTo>
                      <a:pt x="5" y="129"/>
                    </a:lnTo>
                    <a:lnTo>
                      <a:pt x="9" y="117"/>
                    </a:lnTo>
                    <a:lnTo>
                      <a:pt x="7" y="106"/>
                    </a:lnTo>
                    <a:lnTo>
                      <a:pt x="18" y="87"/>
                    </a:lnTo>
                    <a:lnTo>
                      <a:pt x="30" y="70"/>
                    </a:lnTo>
                    <a:lnTo>
                      <a:pt x="42" y="50"/>
                    </a:lnTo>
                    <a:lnTo>
                      <a:pt x="58" y="35"/>
                    </a:lnTo>
                    <a:lnTo>
                      <a:pt x="72" y="17"/>
                    </a:lnTo>
                    <a:lnTo>
                      <a:pt x="89" y="7"/>
                    </a:lnTo>
                    <a:lnTo>
                      <a:pt x="109" y="0"/>
                    </a:lnTo>
                    <a:lnTo>
                      <a:pt x="130" y="0"/>
                    </a:lnTo>
                    <a:lnTo>
                      <a:pt x="1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41720" y="4437720"/>
                <a:ext cx="344520" cy="194760"/>
              </a:xfrm>
              <a:custGeom>
                <a:avLst/>
                <a:gdLst/>
                <a:ahLst/>
                <a:rect l="l" t="t" r="r" b="b"/>
                <a:pathLst>
                  <a:path w="434" h="245">
                    <a:moveTo>
                      <a:pt x="434" y="57"/>
                    </a:moveTo>
                    <a:lnTo>
                      <a:pt x="425" y="87"/>
                    </a:lnTo>
                    <a:lnTo>
                      <a:pt x="411" y="119"/>
                    </a:lnTo>
                    <a:lnTo>
                      <a:pt x="390" y="143"/>
                    </a:lnTo>
                    <a:lnTo>
                      <a:pt x="368" y="169"/>
                    </a:lnTo>
                    <a:lnTo>
                      <a:pt x="340" y="190"/>
                    </a:lnTo>
                    <a:lnTo>
                      <a:pt x="312" y="210"/>
                    </a:lnTo>
                    <a:lnTo>
                      <a:pt x="282" y="225"/>
                    </a:lnTo>
                    <a:lnTo>
                      <a:pt x="254" y="239"/>
                    </a:lnTo>
                    <a:lnTo>
                      <a:pt x="221" y="243"/>
                    </a:lnTo>
                    <a:lnTo>
                      <a:pt x="187" y="245"/>
                    </a:lnTo>
                    <a:lnTo>
                      <a:pt x="152" y="245"/>
                    </a:lnTo>
                    <a:lnTo>
                      <a:pt x="121" y="241"/>
                    </a:lnTo>
                    <a:lnTo>
                      <a:pt x="88" y="231"/>
                    </a:lnTo>
                    <a:lnTo>
                      <a:pt x="58" y="218"/>
                    </a:lnTo>
                    <a:lnTo>
                      <a:pt x="30" y="197"/>
                    </a:lnTo>
                    <a:lnTo>
                      <a:pt x="9" y="175"/>
                    </a:lnTo>
                    <a:lnTo>
                      <a:pt x="6" y="166"/>
                    </a:lnTo>
                    <a:lnTo>
                      <a:pt x="0" y="157"/>
                    </a:lnTo>
                    <a:lnTo>
                      <a:pt x="84" y="106"/>
                    </a:lnTo>
                    <a:lnTo>
                      <a:pt x="96" y="122"/>
                    </a:lnTo>
                    <a:lnTo>
                      <a:pt x="114" y="140"/>
                    </a:lnTo>
                    <a:lnTo>
                      <a:pt x="130" y="155"/>
                    </a:lnTo>
                    <a:lnTo>
                      <a:pt x="149" y="171"/>
                    </a:lnTo>
                    <a:lnTo>
                      <a:pt x="168" y="182"/>
                    </a:lnTo>
                    <a:lnTo>
                      <a:pt x="191" y="189"/>
                    </a:lnTo>
                    <a:lnTo>
                      <a:pt x="214" y="192"/>
                    </a:lnTo>
                    <a:lnTo>
                      <a:pt x="240" y="190"/>
                    </a:lnTo>
                    <a:lnTo>
                      <a:pt x="261" y="185"/>
                    </a:lnTo>
                    <a:lnTo>
                      <a:pt x="287" y="180"/>
                    </a:lnTo>
                    <a:lnTo>
                      <a:pt x="310" y="169"/>
                    </a:lnTo>
                    <a:lnTo>
                      <a:pt x="334" y="159"/>
                    </a:lnTo>
                    <a:lnTo>
                      <a:pt x="354" y="143"/>
                    </a:lnTo>
                    <a:lnTo>
                      <a:pt x="371" y="127"/>
                    </a:lnTo>
                    <a:lnTo>
                      <a:pt x="387" y="106"/>
                    </a:lnTo>
                    <a:lnTo>
                      <a:pt x="397" y="87"/>
                    </a:lnTo>
                    <a:lnTo>
                      <a:pt x="396" y="75"/>
                    </a:lnTo>
                    <a:lnTo>
                      <a:pt x="397" y="63"/>
                    </a:lnTo>
                    <a:lnTo>
                      <a:pt x="399" y="52"/>
                    </a:lnTo>
                    <a:lnTo>
                      <a:pt x="403" y="42"/>
                    </a:lnTo>
                    <a:lnTo>
                      <a:pt x="403" y="31"/>
                    </a:lnTo>
                    <a:lnTo>
                      <a:pt x="404" y="21"/>
                    </a:lnTo>
                    <a:lnTo>
                      <a:pt x="403" y="10"/>
                    </a:lnTo>
                    <a:lnTo>
                      <a:pt x="403" y="1"/>
                    </a:lnTo>
                    <a:lnTo>
                      <a:pt x="411" y="0"/>
                    </a:lnTo>
                    <a:lnTo>
                      <a:pt x="418" y="3"/>
                    </a:lnTo>
                    <a:lnTo>
                      <a:pt x="422" y="8"/>
                    </a:lnTo>
                    <a:lnTo>
                      <a:pt x="425" y="19"/>
                    </a:lnTo>
                    <a:lnTo>
                      <a:pt x="427" y="26"/>
                    </a:lnTo>
                    <a:lnTo>
                      <a:pt x="429" y="36"/>
                    </a:lnTo>
                    <a:lnTo>
                      <a:pt x="429" y="47"/>
                    </a:lnTo>
                    <a:lnTo>
                      <a:pt x="434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24080" y="445032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8" y="34"/>
                    </a:moveTo>
                    <a:lnTo>
                      <a:pt x="1" y="34"/>
                    </a:lnTo>
                    <a:lnTo>
                      <a:pt x="0" y="25"/>
                    </a:lnTo>
                    <a:lnTo>
                      <a:pt x="3" y="16"/>
                    </a:lnTo>
                    <a:lnTo>
                      <a:pt x="10" y="6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17" y="16"/>
                    </a:lnTo>
                    <a:lnTo>
                      <a:pt x="10" y="25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87920" y="4450320"/>
                <a:ext cx="19080" cy="45720"/>
              </a:xfrm>
              <a:custGeom>
                <a:avLst/>
                <a:gdLst/>
                <a:ahLst/>
                <a:rect l="l" t="t" r="r" b="b"/>
                <a:pathLst>
                  <a:path w="23" h="58">
                    <a:moveTo>
                      <a:pt x="23" y="0"/>
                    </a:moveTo>
                    <a:lnTo>
                      <a:pt x="21" y="14"/>
                    </a:lnTo>
                    <a:lnTo>
                      <a:pt x="20" y="30"/>
                    </a:lnTo>
                    <a:lnTo>
                      <a:pt x="14" y="44"/>
                    </a:lnTo>
                    <a:lnTo>
                      <a:pt x="6" y="58"/>
                    </a:lnTo>
                    <a:lnTo>
                      <a:pt x="0" y="58"/>
                    </a:lnTo>
                    <a:lnTo>
                      <a:pt x="4" y="41"/>
                    </a:lnTo>
                    <a:lnTo>
                      <a:pt x="7" y="25"/>
                    </a:lnTo>
                    <a:lnTo>
                      <a:pt x="11" y="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41680" y="4455000"/>
                <a:ext cx="131760" cy="68040"/>
              </a:xfrm>
              <a:custGeom>
                <a:avLst/>
                <a:gdLst/>
                <a:ahLst/>
                <a:rect l="l" t="t" r="r" b="b"/>
                <a:pathLst>
                  <a:path w="164" h="85">
                    <a:moveTo>
                      <a:pt x="161" y="24"/>
                    </a:moveTo>
                    <a:lnTo>
                      <a:pt x="154" y="33"/>
                    </a:lnTo>
                    <a:lnTo>
                      <a:pt x="147" y="43"/>
                    </a:lnTo>
                    <a:lnTo>
                      <a:pt x="136" y="52"/>
                    </a:lnTo>
                    <a:lnTo>
                      <a:pt x="128" y="63"/>
                    </a:lnTo>
                    <a:lnTo>
                      <a:pt x="115" y="70"/>
                    </a:lnTo>
                    <a:lnTo>
                      <a:pt x="105" y="77"/>
                    </a:lnTo>
                    <a:lnTo>
                      <a:pt x="93" y="82"/>
                    </a:lnTo>
                    <a:lnTo>
                      <a:pt x="82" y="85"/>
                    </a:lnTo>
                    <a:lnTo>
                      <a:pt x="68" y="84"/>
                    </a:lnTo>
                    <a:lnTo>
                      <a:pt x="58" y="84"/>
                    </a:lnTo>
                    <a:lnTo>
                      <a:pt x="47" y="82"/>
                    </a:lnTo>
                    <a:lnTo>
                      <a:pt x="37" y="82"/>
                    </a:lnTo>
                    <a:lnTo>
                      <a:pt x="17" y="73"/>
                    </a:lnTo>
                    <a:lnTo>
                      <a:pt x="0" y="61"/>
                    </a:lnTo>
                    <a:lnTo>
                      <a:pt x="14" y="68"/>
                    </a:lnTo>
                    <a:lnTo>
                      <a:pt x="30" y="73"/>
                    </a:lnTo>
                    <a:lnTo>
                      <a:pt x="44" y="73"/>
                    </a:lnTo>
                    <a:lnTo>
                      <a:pt x="59" y="71"/>
                    </a:lnTo>
                    <a:lnTo>
                      <a:pt x="73" y="64"/>
                    </a:lnTo>
                    <a:lnTo>
                      <a:pt x="89" y="59"/>
                    </a:lnTo>
                    <a:lnTo>
                      <a:pt x="105" y="50"/>
                    </a:lnTo>
                    <a:lnTo>
                      <a:pt x="121" y="43"/>
                    </a:lnTo>
                    <a:lnTo>
                      <a:pt x="128" y="33"/>
                    </a:lnTo>
                    <a:lnTo>
                      <a:pt x="135" y="22"/>
                    </a:lnTo>
                    <a:lnTo>
                      <a:pt x="138" y="10"/>
                    </a:lnTo>
                    <a:lnTo>
                      <a:pt x="140" y="0"/>
                    </a:lnTo>
                    <a:lnTo>
                      <a:pt x="149" y="1"/>
                    </a:lnTo>
                    <a:lnTo>
                      <a:pt x="159" y="7"/>
                    </a:lnTo>
                    <a:lnTo>
                      <a:pt x="164" y="12"/>
                    </a:lnTo>
                    <a:lnTo>
                      <a:pt x="161" y="24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618160" y="4466160"/>
                <a:ext cx="42840" cy="3600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10"/>
                    </a:moveTo>
                    <a:lnTo>
                      <a:pt x="0" y="47"/>
                    </a:lnTo>
                    <a:lnTo>
                      <a:pt x="7" y="29"/>
                    </a:lnTo>
                    <a:lnTo>
                      <a:pt x="21" y="17"/>
                    </a:lnTo>
                    <a:lnTo>
                      <a:pt x="35" y="5"/>
                    </a:lnTo>
                    <a:lnTo>
                      <a:pt x="52" y="0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52840" y="4469400"/>
                <a:ext cx="306360" cy="155160"/>
              </a:xfrm>
              <a:custGeom>
                <a:avLst/>
                <a:gdLst/>
                <a:ahLst/>
                <a:rect l="l" t="t" r="r" b="b"/>
                <a:pathLst>
                  <a:path w="385" h="198">
                    <a:moveTo>
                      <a:pt x="385" y="103"/>
                    </a:moveTo>
                    <a:lnTo>
                      <a:pt x="371" y="121"/>
                    </a:lnTo>
                    <a:lnTo>
                      <a:pt x="357" y="138"/>
                    </a:lnTo>
                    <a:lnTo>
                      <a:pt x="339" y="154"/>
                    </a:lnTo>
                    <a:lnTo>
                      <a:pt x="322" y="168"/>
                    </a:lnTo>
                    <a:lnTo>
                      <a:pt x="299" y="177"/>
                    </a:lnTo>
                    <a:lnTo>
                      <a:pt x="278" y="187"/>
                    </a:lnTo>
                    <a:lnTo>
                      <a:pt x="255" y="193"/>
                    </a:lnTo>
                    <a:lnTo>
                      <a:pt x="233" y="198"/>
                    </a:lnTo>
                    <a:lnTo>
                      <a:pt x="203" y="196"/>
                    </a:lnTo>
                    <a:lnTo>
                      <a:pt x="173" y="193"/>
                    </a:lnTo>
                    <a:lnTo>
                      <a:pt x="142" y="186"/>
                    </a:lnTo>
                    <a:lnTo>
                      <a:pt x="114" y="179"/>
                    </a:lnTo>
                    <a:lnTo>
                      <a:pt x="84" y="166"/>
                    </a:lnTo>
                    <a:lnTo>
                      <a:pt x="59" y="152"/>
                    </a:lnTo>
                    <a:lnTo>
                      <a:pt x="35" y="135"/>
                    </a:lnTo>
                    <a:lnTo>
                      <a:pt x="16" y="114"/>
                    </a:lnTo>
                    <a:lnTo>
                      <a:pt x="0" y="86"/>
                    </a:lnTo>
                    <a:lnTo>
                      <a:pt x="12" y="91"/>
                    </a:lnTo>
                    <a:lnTo>
                      <a:pt x="28" y="96"/>
                    </a:lnTo>
                    <a:lnTo>
                      <a:pt x="44" y="98"/>
                    </a:lnTo>
                    <a:lnTo>
                      <a:pt x="59" y="100"/>
                    </a:lnTo>
                    <a:lnTo>
                      <a:pt x="75" y="96"/>
                    </a:lnTo>
                    <a:lnTo>
                      <a:pt x="91" y="93"/>
                    </a:lnTo>
                    <a:lnTo>
                      <a:pt x="107" y="86"/>
                    </a:lnTo>
                    <a:lnTo>
                      <a:pt x="122" y="81"/>
                    </a:lnTo>
                    <a:lnTo>
                      <a:pt x="133" y="72"/>
                    </a:lnTo>
                    <a:lnTo>
                      <a:pt x="143" y="65"/>
                    </a:lnTo>
                    <a:lnTo>
                      <a:pt x="152" y="54"/>
                    </a:lnTo>
                    <a:lnTo>
                      <a:pt x="161" y="46"/>
                    </a:lnTo>
                    <a:lnTo>
                      <a:pt x="166" y="33"/>
                    </a:lnTo>
                    <a:lnTo>
                      <a:pt x="171" y="23"/>
                    </a:lnTo>
                    <a:lnTo>
                      <a:pt x="173" y="11"/>
                    </a:lnTo>
                    <a:lnTo>
                      <a:pt x="177" y="0"/>
                    </a:lnTo>
                    <a:lnTo>
                      <a:pt x="203" y="5"/>
                    </a:lnTo>
                    <a:lnTo>
                      <a:pt x="231" y="16"/>
                    </a:lnTo>
                    <a:lnTo>
                      <a:pt x="257" y="28"/>
                    </a:lnTo>
                    <a:lnTo>
                      <a:pt x="283" y="44"/>
                    </a:lnTo>
                    <a:lnTo>
                      <a:pt x="308" y="58"/>
                    </a:lnTo>
                    <a:lnTo>
                      <a:pt x="332" y="74"/>
                    </a:lnTo>
                    <a:lnTo>
                      <a:pt x="359" y="88"/>
                    </a:lnTo>
                    <a:lnTo>
                      <a:pt x="385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56240" y="4469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1" h="47">
                    <a:moveTo>
                      <a:pt x="21" y="47"/>
                    </a:moveTo>
                    <a:lnTo>
                      <a:pt x="19" y="47"/>
                    </a:lnTo>
                    <a:lnTo>
                      <a:pt x="9" y="37"/>
                    </a:lnTo>
                    <a:lnTo>
                      <a:pt x="4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2"/>
                    </a:lnTo>
                    <a:lnTo>
                      <a:pt x="16" y="16"/>
                    </a:lnTo>
                    <a:lnTo>
                      <a:pt x="16" y="31"/>
                    </a:lnTo>
                    <a:lnTo>
                      <a:pt x="21" y="47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32000" y="448344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34" y="11"/>
                    </a:moveTo>
                    <a:lnTo>
                      <a:pt x="6" y="30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2" y="18"/>
                    </a:lnTo>
                    <a:lnTo>
                      <a:pt x="9" y="11"/>
                    </a:lnTo>
                    <a:lnTo>
                      <a:pt x="16" y="4"/>
                    </a:lnTo>
                    <a:lnTo>
                      <a:pt x="25" y="0"/>
                    </a:lnTo>
                    <a:lnTo>
                      <a:pt x="32" y="2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522760" y="450252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8" y="26"/>
                    </a:moveTo>
                    <a:lnTo>
                      <a:pt x="11" y="1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10"/>
                    </a:lnTo>
                    <a:lnTo>
                      <a:pt x="21" y="17"/>
                    </a:lnTo>
                    <a:lnTo>
                      <a:pt x="28" y="26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30640" y="4502520"/>
                <a:ext cx="195120" cy="61560"/>
              </a:xfrm>
              <a:custGeom>
                <a:avLst/>
                <a:gdLst/>
                <a:ahLst/>
                <a:rect l="l" t="t" r="r" b="b"/>
                <a:pathLst>
                  <a:path w="247" h="77">
                    <a:moveTo>
                      <a:pt x="77" y="37"/>
                    </a:moveTo>
                    <a:lnTo>
                      <a:pt x="88" y="40"/>
                    </a:lnTo>
                    <a:lnTo>
                      <a:pt x="98" y="45"/>
                    </a:lnTo>
                    <a:lnTo>
                      <a:pt x="110" y="49"/>
                    </a:lnTo>
                    <a:lnTo>
                      <a:pt x="124" y="54"/>
                    </a:lnTo>
                    <a:lnTo>
                      <a:pt x="135" y="54"/>
                    </a:lnTo>
                    <a:lnTo>
                      <a:pt x="149" y="54"/>
                    </a:lnTo>
                    <a:lnTo>
                      <a:pt x="161" y="51"/>
                    </a:lnTo>
                    <a:lnTo>
                      <a:pt x="175" y="45"/>
                    </a:lnTo>
                    <a:lnTo>
                      <a:pt x="184" y="42"/>
                    </a:lnTo>
                    <a:lnTo>
                      <a:pt x="194" y="40"/>
                    </a:lnTo>
                    <a:lnTo>
                      <a:pt x="203" y="35"/>
                    </a:lnTo>
                    <a:lnTo>
                      <a:pt x="214" y="31"/>
                    </a:lnTo>
                    <a:lnTo>
                      <a:pt x="229" y="19"/>
                    </a:lnTo>
                    <a:lnTo>
                      <a:pt x="247" y="7"/>
                    </a:lnTo>
                    <a:lnTo>
                      <a:pt x="236" y="17"/>
                    </a:lnTo>
                    <a:lnTo>
                      <a:pt x="226" y="28"/>
                    </a:lnTo>
                    <a:lnTo>
                      <a:pt x="212" y="38"/>
                    </a:lnTo>
                    <a:lnTo>
                      <a:pt x="198" y="51"/>
                    </a:lnTo>
                    <a:lnTo>
                      <a:pt x="180" y="59"/>
                    </a:lnTo>
                    <a:lnTo>
                      <a:pt x="163" y="66"/>
                    </a:lnTo>
                    <a:lnTo>
                      <a:pt x="145" y="72"/>
                    </a:lnTo>
                    <a:lnTo>
                      <a:pt x="128" y="75"/>
                    </a:lnTo>
                    <a:lnTo>
                      <a:pt x="116" y="75"/>
                    </a:lnTo>
                    <a:lnTo>
                      <a:pt x="103" y="77"/>
                    </a:lnTo>
                    <a:lnTo>
                      <a:pt x="93" y="75"/>
                    </a:lnTo>
                    <a:lnTo>
                      <a:pt x="82" y="75"/>
                    </a:lnTo>
                    <a:lnTo>
                      <a:pt x="70" y="72"/>
                    </a:lnTo>
                    <a:lnTo>
                      <a:pt x="60" y="70"/>
                    </a:lnTo>
                    <a:lnTo>
                      <a:pt x="49" y="65"/>
                    </a:lnTo>
                    <a:lnTo>
                      <a:pt x="39" y="59"/>
                    </a:lnTo>
                    <a:lnTo>
                      <a:pt x="0" y="12"/>
                    </a:lnTo>
                    <a:lnTo>
                      <a:pt x="16" y="3"/>
                    </a:lnTo>
                    <a:lnTo>
                      <a:pt x="33" y="0"/>
                    </a:lnTo>
                    <a:lnTo>
                      <a:pt x="39" y="10"/>
                    </a:lnTo>
                    <a:lnTo>
                      <a:pt x="49" y="21"/>
                    </a:lnTo>
                    <a:lnTo>
                      <a:pt x="63" y="30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22560" y="45057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47" y="2"/>
                    </a:moveTo>
                    <a:lnTo>
                      <a:pt x="37" y="11"/>
                    </a:lnTo>
                    <a:lnTo>
                      <a:pt x="26" y="14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9" y="4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30760" y="4513680"/>
                <a:ext cx="49320" cy="14040"/>
              </a:xfrm>
              <a:custGeom>
                <a:avLst/>
                <a:gdLst/>
                <a:ahLst/>
                <a:rect l="l" t="t" r="r" b="b"/>
                <a:pathLst>
                  <a:path w="61" h="19">
                    <a:moveTo>
                      <a:pt x="61" y="5"/>
                    </a:moveTo>
                    <a:lnTo>
                      <a:pt x="47" y="9"/>
                    </a:lnTo>
                    <a:lnTo>
                      <a:pt x="33" y="12"/>
                    </a:lnTo>
                    <a:lnTo>
                      <a:pt x="19" y="14"/>
                    </a:lnTo>
                    <a:lnTo>
                      <a:pt x="5" y="19"/>
                    </a:lnTo>
                    <a:lnTo>
                      <a:pt x="0" y="14"/>
                    </a:lnTo>
                    <a:lnTo>
                      <a:pt x="14" y="5"/>
                    </a:lnTo>
                    <a:lnTo>
                      <a:pt x="29" y="2"/>
                    </a:lnTo>
                    <a:lnTo>
                      <a:pt x="45" y="0"/>
                    </a:lnTo>
                    <a:lnTo>
                      <a:pt x="61" y="5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22640" y="4523400"/>
                <a:ext cx="31680" cy="266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2"/>
                    </a:moveTo>
                    <a:lnTo>
                      <a:pt x="33" y="35"/>
                    </a:lnTo>
                    <a:lnTo>
                      <a:pt x="24" y="28"/>
                    </a:lnTo>
                    <a:lnTo>
                      <a:pt x="16" y="23"/>
                    </a:lnTo>
                    <a:lnTo>
                      <a:pt x="5" y="1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" y="4"/>
                    </a:lnTo>
                    <a:lnTo>
                      <a:pt x="24" y="11"/>
                    </a:lnTo>
                    <a:lnTo>
                      <a:pt x="33" y="18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6320" y="4534560"/>
                <a:ext cx="33480" cy="2016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42" y="2"/>
                    </a:moveTo>
                    <a:lnTo>
                      <a:pt x="33" y="9"/>
                    </a:lnTo>
                    <a:lnTo>
                      <a:pt x="24" y="16"/>
                    </a:lnTo>
                    <a:lnTo>
                      <a:pt x="14" y="21"/>
                    </a:lnTo>
                    <a:lnTo>
                      <a:pt x="5" y="27"/>
                    </a:lnTo>
                    <a:lnTo>
                      <a:pt x="0" y="21"/>
                    </a:lnTo>
                    <a:lnTo>
                      <a:pt x="8" y="13"/>
                    </a:lnTo>
                    <a:lnTo>
                      <a:pt x="19" y="6"/>
                    </a:lnTo>
                    <a:lnTo>
                      <a:pt x="29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97080" y="4539240"/>
                <a:ext cx="24120" cy="34560"/>
              </a:xfrm>
              <a:custGeom>
                <a:avLst/>
                <a:gdLst/>
                <a:ahLst/>
                <a:rect l="l" t="t" r="r" b="b"/>
                <a:pathLst>
                  <a:path w="29" h="44">
                    <a:moveTo>
                      <a:pt x="29" y="44"/>
                    </a:moveTo>
                    <a:lnTo>
                      <a:pt x="21" y="42"/>
                    </a:lnTo>
                    <a:lnTo>
                      <a:pt x="14" y="39"/>
                    </a:lnTo>
                    <a:lnTo>
                      <a:pt x="5" y="28"/>
                    </a:lnTo>
                    <a:lnTo>
                      <a:pt x="3" y="2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7" y="18"/>
                    </a:lnTo>
                    <a:lnTo>
                      <a:pt x="22" y="30"/>
                    </a:lnTo>
                    <a:lnTo>
                      <a:pt x="29" y="4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10160" y="4547160"/>
                <a:ext cx="20520" cy="201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7" y="5"/>
                    </a:moveTo>
                    <a:lnTo>
                      <a:pt x="23" y="12"/>
                    </a:lnTo>
                    <a:lnTo>
                      <a:pt x="16" y="18"/>
                    </a:lnTo>
                    <a:lnTo>
                      <a:pt x="9" y="21"/>
                    </a:lnTo>
                    <a:lnTo>
                      <a:pt x="2" y="26"/>
                    </a:lnTo>
                    <a:lnTo>
                      <a:pt x="0" y="18"/>
                    </a:lnTo>
                    <a:lnTo>
                      <a:pt x="4" y="12"/>
                    </a:lnTo>
                    <a:lnTo>
                      <a:pt x="13" y="7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19600" y="4550400"/>
                <a:ext cx="44640" cy="3600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56" y="39"/>
                    </a:moveTo>
                    <a:lnTo>
                      <a:pt x="52" y="46"/>
                    </a:lnTo>
                    <a:lnTo>
                      <a:pt x="42" y="32"/>
                    </a:lnTo>
                    <a:lnTo>
                      <a:pt x="28" y="23"/>
                    </a:lnTo>
                    <a:lnTo>
                      <a:pt x="14" y="14"/>
                    </a:lnTo>
                    <a:lnTo>
                      <a:pt x="0" y="11"/>
                    </a:lnTo>
                    <a:lnTo>
                      <a:pt x="7" y="0"/>
                    </a:lnTo>
                    <a:lnTo>
                      <a:pt x="21" y="6"/>
                    </a:lnTo>
                    <a:lnTo>
                      <a:pt x="35" y="14"/>
                    </a:lnTo>
                    <a:lnTo>
                      <a:pt x="45" y="25"/>
                    </a:lnTo>
                    <a:lnTo>
                      <a:pt x="56" y="39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46640" y="4575600"/>
                <a:ext cx="239400" cy="363240"/>
              </a:xfrm>
              <a:custGeom>
                <a:avLst/>
                <a:gdLst/>
                <a:ahLst/>
                <a:rect l="l" t="t" r="r" b="b"/>
                <a:pathLst>
                  <a:path w="301" h="458">
                    <a:moveTo>
                      <a:pt x="265" y="44"/>
                    </a:moveTo>
                    <a:lnTo>
                      <a:pt x="256" y="58"/>
                    </a:lnTo>
                    <a:lnTo>
                      <a:pt x="254" y="73"/>
                    </a:lnTo>
                    <a:lnTo>
                      <a:pt x="252" y="79"/>
                    </a:lnTo>
                    <a:lnTo>
                      <a:pt x="252" y="86"/>
                    </a:lnTo>
                    <a:lnTo>
                      <a:pt x="247" y="93"/>
                    </a:lnTo>
                    <a:lnTo>
                      <a:pt x="240" y="100"/>
                    </a:lnTo>
                    <a:lnTo>
                      <a:pt x="249" y="112"/>
                    </a:lnTo>
                    <a:lnTo>
                      <a:pt x="258" y="124"/>
                    </a:lnTo>
                    <a:lnTo>
                      <a:pt x="265" y="136"/>
                    </a:lnTo>
                    <a:lnTo>
                      <a:pt x="277" y="150"/>
                    </a:lnTo>
                    <a:lnTo>
                      <a:pt x="266" y="182"/>
                    </a:lnTo>
                    <a:lnTo>
                      <a:pt x="258" y="215"/>
                    </a:lnTo>
                    <a:lnTo>
                      <a:pt x="247" y="246"/>
                    </a:lnTo>
                    <a:lnTo>
                      <a:pt x="244" y="281"/>
                    </a:lnTo>
                    <a:lnTo>
                      <a:pt x="240" y="313"/>
                    </a:lnTo>
                    <a:lnTo>
                      <a:pt x="244" y="346"/>
                    </a:lnTo>
                    <a:lnTo>
                      <a:pt x="251" y="378"/>
                    </a:lnTo>
                    <a:lnTo>
                      <a:pt x="268" y="409"/>
                    </a:lnTo>
                    <a:lnTo>
                      <a:pt x="275" y="418"/>
                    </a:lnTo>
                    <a:lnTo>
                      <a:pt x="282" y="430"/>
                    </a:lnTo>
                    <a:lnTo>
                      <a:pt x="289" y="441"/>
                    </a:lnTo>
                    <a:lnTo>
                      <a:pt x="301" y="451"/>
                    </a:lnTo>
                    <a:lnTo>
                      <a:pt x="289" y="456"/>
                    </a:lnTo>
                    <a:lnTo>
                      <a:pt x="275" y="458"/>
                    </a:lnTo>
                    <a:lnTo>
                      <a:pt x="261" y="456"/>
                    </a:lnTo>
                    <a:lnTo>
                      <a:pt x="249" y="456"/>
                    </a:lnTo>
                    <a:lnTo>
                      <a:pt x="221" y="434"/>
                    </a:lnTo>
                    <a:lnTo>
                      <a:pt x="203" y="406"/>
                    </a:lnTo>
                    <a:lnTo>
                      <a:pt x="191" y="372"/>
                    </a:lnTo>
                    <a:lnTo>
                      <a:pt x="182" y="341"/>
                    </a:lnTo>
                    <a:lnTo>
                      <a:pt x="168" y="308"/>
                    </a:lnTo>
                    <a:lnTo>
                      <a:pt x="151" y="283"/>
                    </a:lnTo>
                    <a:lnTo>
                      <a:pt x="123" y="266"/>
                    </a:lnTo>
                    <a:lnTo>
                      <a:pt x="84" y="262"/>
                    </a:lnTo>
                    <a:lnTo>
                      <a:pt x="70" y="255"/>
                    </a:lnTo>
                    <a:lnTo>
                      <a:pt x="58" y="248"/>
                    </a:lnTo>
                    <a:lnTo>
                      <a:pt x="44" y="238"/>
                    </a:lnTo>
                    <a:lnTo>
                      <a:pt x="34" y="227"/>
                    </a:lnTo>
                    <a:lnTo>
                      <a:pt x="21" y="213"/>
                    </a:lnTo>
                    <a:lnTo>
                      <a:pt x="13" y="199"/>
                    </a:lnTo>
                    <a:lnTo>
                      <a:pt x="6" y="183"/>
                    </a:lnTo>
                    <a:lnTo>
                      <a:pt x="2" y="170"/>
                    </a:lnTo>
                    <a:lnTo>
                      <a:pt x="0" y="150"/>
                    </a:lnTo>
                    <a:lnTo>
                      <a:pt x="2" y="135"/>
                    </a:lnTo>
                    <a:lnTo>
                      <a:pt x="6" y="119"/>
                    </a:lnTo>
                    <a:lnTo>
                      <a:pt x="14" y="105"/>
                    </a:lnTo>
                    <a:lnTo>
                      <a:pt x="21" y="89"/>
                    </a:lnTo>
                    <a:lnTo>
                      <a:pt x="30" y="77"/>
                    </a:lnTo>
                    <a:lnTo>
                      <a:pt x="41" y="63"/>
                    </a:lnTo>
                    <a:lnTo>
                      <a:pt x="53" y="51"/>
                    </a:lnTo>
                    <a:lnTo>
                      <a:pt x="70" y="35"/>
                    </a:lnTo>
                    <a:lnTo>
                      <a:pt x="91" y="23"/>
                    </a:lnTo>
                    <a:lnTo>
                      <a:pt x="112" y="12"/>
                    </a:lnTo>
                    <a:lnTo>
                      <a:pt x="137" y="5"/>
                    </a:lnTo>
                    <a:lnTo>
                      <a:pt x="160" y="0"/>
                    </a:lnTo>
                    <a:lnTo>
                      <a:pt x="184" y="2"/>
                    </a:lnTo>
                    <a:lnTo>
                      <a:pt x="209" y="7"/>
                    </a:lnTo>
                    <a:lnTo>
                      <a:pt x="233" y="17"/>
                    </a:lnTo>
                    <a:lnTo>
                      <a:pt x="249" y="30"/>
                    </a:lnTo>
                    <a:lnTo>
                      <a:pt x="265" y="44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14840" y="457884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6"/>
                    </a:moveTo>
                    <a:lnTo>
                      <a:pt x="36" y="20"/>
                    </a:lnTo>
                    <a:lnTo>
                      <a:pt x="26" y="34"/>
                    </a:lnTo>
                    <a:lnTo>
                      <a:pt x="12" y="44"/>
                    </a:lnTo>
                    <a:lnTo>
                      <a:pt x="0" y="53"/>
                    </a:lnTo>
                    <a:lnTo>
                      <a:pt x="3" y="34"/>
                    </a:lnTo>
                    <a:lnTo>
                      <a:pt x="14" y="18"/>
                    </a:lnTo>
                    <a:lnTo>
                      <a:pt x="26" y="6"/>
                    </a:lnTo>
                    <a:lnTo>
                      <a:pt x="43" y="0"/>
                    </a:lnTo>
                    <a:lnTo>
                      <a:pt x="49" y="6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11680" y="45802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7" y="19"/>
                    </a:lnTo>
                    <a:lnTo>
                      <a:pt x="4" y="16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73880" y="4585320"/>
                <a:ext cx="10800" cy="295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0"/>
                    </a:moveTo>
                    <a:lnTo>
                      <a:pt x="14" y="11"/>
                    </a:lnTo>
                    <a:lnTo>
                      <a:pt x="14" y="21"/>
                    </a:lnTo>
                    <a:lnTo>
                      <a:pt x="14" y="30"/>
                    </a:lnTo>
                    <a:lnTo>
                      <a:pt x="14" y="39"/>
                    </a:lnTo>
                    <a:lnTo>
                      <a:pt x="5" y="32"/>
                    </a:lnTo>
                    <a:lnTo>
                      <a:pt x="2" y="25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46760" y="459936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6" y="17"/>
                    </a:moveTo>
                    <a:lnTo>
                      <a:pt x="12" y="21"/>
                    </a:lnTo>
                    <a:lnTo>
                      <a:pt x="5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12" y="3"/>
                    </a:lnTo>
                    <a:lnTo>
                      <a:pt x="14" y="8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73760" y="460584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6" y="9"/>
                    </a:moveTo>
                    <a:lnTo>
                      <a:pt x="23" y="18"/>
                    </a:lnTo>
                    <a:lnTo>
                      <a:pt x="16" y="23"/>
                    </a:lnTo>
                    <a:lnTo>
                      <a:pt x="7" y="20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10" y="0"/>
                    </a:lnTo>
                    <a:lnTo>
                      <a:pt x="21" y="2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7160" y="4613760"/>
                <a:ext cx="176040" cy="196560"/>
              </a:xfrm>
              <a:custGeom>
                <a:avLst/>
                <a:gdLst/>
                <a:ahLst/>
                <a:rect l="l" t="t" r="r" b="b"/>
                <a:pathLst>
                  <a:path w="222" h="248">
                    <a:moveTo>
                      <a:pt x="194" y="72"/>
                    </a:moveTo>
                    <a:lnTo>
                      <a:pt x="201" y="84"/>
                    </a:lnTo>
                    <a:lnTo>
                      <a:pt x="210" y="98"/>
                    </a:lnTo>
                    <a:lnTo>
                      <a:pt x="217" y="114"/>
                    </a:lnTo>
                    <a:lnTo>
                      <a:pt x="222" y="131"/>
                    </a:lnTo>
                    <a:lnTo>
                      <a:pt x="213" y="128"/>
                    </a:lnTo>
                    <a:lnTo>
                      <a:pt x="208" y="129"/>
                    </a:lnTo>
                    <a:lnTo>
                      <a:pt x="203" y="135"/>
                    </a:lnTo>
                    <a:lnTo>
                      <a:pt x="197" y="140"/>
                    </a:lnTo>
                    <a:lnTo>
                      <a:pt x="185" y="133"/>
                    </a:lnTo>
                    <a:lnTo>
                      <a:pt x="180" y="123"/>
                    </a:lnTo>
                    <a:lnTo>
                      <a:pt x="175" y="112"/>
                    </a:lnTo>
                    <a:lnTo>
                      <a:pt x="162" y="112"/>
                    </a:lnTo>
                    <a:lnTo>
                      <a:pt x="155" y="119"/>
                    </a:lnTo>
                    <a:lnTo>
                      <a:pt x="152" y="129"/>
                    </a:lnTo>
                    <a:lnTo>
                      <a:pt x="150" y="140"/>
                    </a:lnTo>
                    <a:lnTo>
                      <a:pt x="150" y="152"/>
                    </a:lnTo>
                    <a:lnTo>
                      <a:pt x="150" y="163"/>
                    </a:lnTo>
                    <a:lnTo>
                      <a:pt x="154" y="175"/>
                    </a:lnTo>
                    <a:lnTo>
                      <a:pt x="157" y="185"/>
                    </a:lnTo>
                    <a:lnTo>
                      <a:pt x="162" y="196"/>
                    </a:lnTo>
                    <a:lnTo>
                      <a:pt x="201" y="233"/>
                    </a:lnTo>
                    <a:lnTo>
                      <a:pt x="204" y="227"/>
                    </a:lnTo>
                    <a:lnTo>
                      <a:pt x="211" y="229"/>
                    </a:lnTo>
                    <a:lnTo>
                      <a:pt x="211" y="238"/>
                    </a:lnTo>
                    <a:lnTo>
                      <a:pt x="206" y="248"/>
                    </a:lnTo>
                    <a:lnTo>
                      <a:pt x="190" y="245"/>
                    </a:lnTo>
                    <a:lnTo>
                      <a:pt x="180" y="241"/>
                    </a:lnTo>
                    <a:lnTo>
                      <a:pt x="168" y="234"/>
                    </a:lnTo>
                    <a:lnTo>
                      <a:pt x="161" y="226"/>
                    </a:lnTo>
                    <a:lnTo>
                      <a:pt x="150" y="213"/>
                    </a:lnTo>
                    <a:lnTo>
                      <a:pt x="145" y="203"/>
                    </a:lnTo>
                    <a:lnTo>
                      <a:pt x="140" y="192"/>
                    </a:lnTo>
                    <a:lnTo>
                      <a:pt x="134" y="182"/>
                    </a:lnTo>
                    <a:lnTo>
                      <a:pt x="131" y="170"/>
                    </a:lnTo>
                    <a:lnTo>
                      <a:pt x="129" y="157"/>
                    </a:lnTo>
                    <a:lnTo>
                      <a:pt x="127" y="145"/>
                    </a:lnTo>
                    <a:lnTo>
                      <a:pt x="127" y="135"/>
                    </a:lnTo>
                    <a:lnTo>
                      <a:pt x="127" y="123"/>
                    </a:lnTo>
                    <a:lnTo>
                      <a:pt x="129" y="112"/>
                    </a:lnTo>
                    <a:lnTo>
                      <a:pt x="134" y="102"/>
                    </a:lnTo>
                    <a:lnTo>
                      <a:pt x="143" y="93"/>
                    </a:lnTo>
                    <a:lnTo>
                      <a:pt x="148" y="88"/>
                    </a:lnTo>
                    <a:lnTo>
                      <a:pt x="157" y="86"/>
                    </a:lnTo>
                    <a:lnTo>
                      <a:pt x="166" y="84"/>
                    </a:lnTo>
                    <a:lnTo>
                      <a:pt x="175" y="88"/>
                    </a:lnTo>
                    <a:lnTo>
                      <a:pt x="164" y="70"/>
                    </a:lnTo>
                    <a:lnTo>
                      <a:pt x="150" y="56"/>
                    </a:lnTo>
                    <a:lnTo>
                      <a:pt x="141" y="49"/>
                    </a:lnTo>
                    <a:lnTo>
                      <a:pt x="133" y="44"/>
                    </a:lnTo>
                    <a:lnTo>
                      <a:pt x="122" y="39"/>
                    </a:lnTo>
                    <a:lnTo>
                      <a:pt x="115" y="33"/>
                    </a:lnTo>
                    <a:lnTo>
                      <a:pt x="103" y="30"/>
                    </a:lnTo>
                    <a:lnTo>
                      <a:pt x="92" y="30"/>
                    </a:lnTo>
                    <a:lnTo>
                      <a:pt x="80" y="30"/>
                    </a:lnTo>
                    <a:lnTo>
                      <a:pt x="70" y="33"/>
                    </a:lnTo>
                    <a:lnTo>
                      <a:pt x="59" y="37"/>
                    </a:lnTo>
                    <a:lnTo>
                      <a:pt x="50" y="44"/>
                    </a:lnTo>
                    <a:lnTo>
                      <a:pt x="43" y="49"/>
                    </a:lnTo>
                    <a:lnTo>
                      <a:pt x="40" y="60"/>
                    </a:lnTo>
                    <a:lnTo>
                      <a:pt x="35" y="67"/>
                    </a:lnTo>
                    <a:lnTo>
                      <a:pt x="31" y="77"/>
                    </a:lnTo>
                    <a:lnTo>
                      <a:pt x="28" y="86"/>
                    </a:lnTo>
                    <a:lnTo>
                      <a:pt x="28" y="96"/>
                    </a:lnTo>
                    <a:lnTo>
                      <a:pt x="17" y="96"/>
                    </a:lnTo>
                    <a:lnTo>
                      <a:pt x="10" y="96"/>
                    </a:lnTo>
                    <a:lnTo>
                      <a:pt x="5" y="91"/>
                    </a:lnTo>
                    <a:lnTo>
                      <a:pt x="0" y="84"/>
                    </a:lnTo>
                    <a:lnTo>
                      <a:pt x="5" y="70"/>
                    </a:lnTo>
                    <a:lnTo>
                      <a:pt x="10" y="58"/>
                    </a:lnTo>
                    <a:lnTo>
                      <a:pt x="17" y="44"/>
                    </a:lnTo>
                    <a:lnTo>
                      <a:pt x="28" y="32"/>
                    </a:lnTo>
                    <a:lnTo>
                      <a:pt x="38" y="18"/>
                    </a:lnTo>
                    <a:lnTo>
                      <a:pt x="50" y="9"/>
                    </a:lnTo>
                    <a:lnTo>
                      <a:pt x="64" y="2"/>
                    </a:lnTo>
                    <a:lnTo>
                      <a:pt x="82" y="0"/>
                    </a:lnTo>
                    <a:lnTo>
                      <a:pt x="98" y="2"/>
                    </a:lnTo>
                    <a:lnTo>
                      <a:pt x="113" y="7"/>
                    </a:lnTo>
                    <a:lnTo>
                      <a:pt x="129" y="12"/>
                    </a:lnTo>
                    <a:lnTo>
                      <a:pt x="145" y="23"/>
                    </a:lnTo>
                    <a:lnTo>
                      <a:pt x="157" y="33"/>
                    </a:lnTo>
                    <a:lnTo>
                      <a:pt x="171" y="44"/>
                    </a:lnTo>
                    <a:lnTo>
                      <a:pt x="182" y="56"/>
                    </a:lnTo>
                    <a:lnTo>
                      <a:pt x="194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25960" y="46314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2" y="7"/>
                    </a:moveTo>
                    <a:lnTo>
                      <a:pt x="19" y="17"/>
                    </a:lnTo>
                    <a:lnTo>
                      <a:pt x="12" y="24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94320" y="4640760"/>
                <a:ext cx="1344600" cy="1267200"/>
              </a:xfrm>
              <a:custGeom>
                <a:avLst/>
                <a:gdLst/>
                <a:ahLst/>
                <a:rect l="l" t="t" r="r" b="b"/>
                <a:pathLst>
                  <a:path w="1695" h="1599">
                    <a:moveTo>
                      <a:pt x="1097" y="408"/>
                    </a:moveTo>
                    <a:lnTo>
                      <a:pt x="1135" y="443"/>
                    </a:lnTo>
                    <a:lnTo>
                      <a:pt x="1175" y="481"/>
                    </a:lnTo>
                    <a:lnTo>
                      <a:pt x="1216" y="521"/>
                    </a:lnTo>
                    <a:lnTo>
                      <a:pt x="1256" y="561"/>
                    </a:lnTo>
                    <a:lnTo>
                      <a:pt x="1296" y="600"/>
                    </a:lnTo>
                    <a:lnTo>
                      <a:pt x="1336" y="640"/>
                    </a:lnTo>
                    <a:lnTo>
                      <a:pt x="1378" y="675"/>
                    </a:lnTo>
                    <a:lnTo>
                      <a:pt x="1424" y="710"/>
                    </a:lnTo>
                    <a:lnTo>
                      <a:pt x="1387" y="708"/>
                    </a:lnTo>
                    <a:lnTo>
                      <a:pt x="1350" y="714"/>
                    </a:lnTo>
                    <a:lnTo>
                      <a:pt x="1314" y="721"/>
                    </a:lnTo>
                    <a:lnTo>
                      <a:pt x="1280" y="733"/>
                    </a:lnTo>
                    <a:lnTo>
                      <a:pt x="1245" y="745"/>
                    </a:lnTo>
                    <a:lnTo>
                      <a:pt x="1212" y="763"/>
                    </a:lnTo>
                    <a:lnTo>
                      <a:pt x="1181" y="780"/>
                    </a:lnTo>
                    <a:lnTo>
                      <a:pt x="1151" y="803"/>
                    </a:lnTo>
                    <a:lnTo>
                      <a:pt x="1160" y="798"/>
                    </a:lnTo>
                    <a:lnTo>
                      <a:pt x="1168" y="796"/>
                    </a:lnTo>
                    <a:lnTo>
                      <a:pt x="1179" y="791"/>
                    </a:lnTo>
                    <a:lnTo>
                      <a:pt x="1189" y="789"/>
                    </a:lnTo>
                    <a:lnTo>
                      <a:pt x="1198" y="784"/>
                    </a:lnTo>
                    <a:lnTo>
                      <a:pt x="1209" y="778"/>
                    </a:lnTo>
                    <a:lnTo>
                      <a:pt x="1217" y="771"/>
                    </a:lnTo>
                    <a:lnTo>
                      <a:pt x="1228" y="764"/>
                    </a:lnTo>
                    <a:lnTo>
                      <a:pt x="1275" y="743"/>
                    </a:lnTo>
                    <a:lnTo>
                      <a:pt x="1324" y="735"/>
                    </a:lnTo>
                    <a:lnTo>
                      <a:pt x="1373" y="731"/>
                    </a:lnTo>
                    <a:lnTo>
                      <a:pt x="1424" y="736"/>
                    </a:lnTo>
                    <a:lnTo>
                      <a:pt x="1471" y="745"/>
                    </a:lnTo>
                    <a:lnTo>
                      <a:pt x="1520" y="761"/>
                    </a:lnTo>
                    <a:lnTo>
                      <a:pt x="1565" y="782"/>
                    </a:lnTo>
                    <a:lnTo>
                      <a:pt x="1611" y="808"/>
                    </a:lnTo>
                    <a:lnTo>
                      <a:pt x="1621" y="815"/>
                    </a:lnTo>
                    <a:lnTo>
                      <a:pt x="1632" y="824"/>
                    </a:lnTo>
                    <a:lnTo>
                      <a:pt x="1641" y="831"/>
                    </a:lnTo>
                    <a:lnTo>
                      <a:pt x="1651" y="840"/>
                    </a:lnTo>
                    <a:lnTo>
                      <a:pt x="1660" y="847"/>
                    </a:lnTo>
                    <a:lnTo>
                      <a:pt x="1670" y="855"/>
                    </a:lnTo>
                    <a:lnTo>
                      <a:pt x="1681" y="862"/>
                    </a:lnTo>
                    <a:lnTo>
                      <a:pt x="1695" y="873"/>
                    </a:lnTo>
                    <a:lnTo>
                      <a:pt x="1642" y="868"/>
                    </a:lnTo>
                    <a:lnTo>
                      <a:pt x="1593" y="869"/>
                    </a:lnTo>
                    <a:lnTo>
                      <a:pt x="1546" y="876"/>
                    </a:lnTo>
                    <a:lnTo>
                      <a:pt x="1501" y="890"/>
                    </a:lnTo>
                    <a:lnTo>
                      <a:pt x="1455" y="908"/>
                    </a:lnTo>
                    <a:lnTo>
                      <a:pt x="1413" y="931"/>
                    </a:lnTo>
                    <a:lnTo>
                      <a:pt x="1375" y="957"/>
                    </a:lnTo>
                    <a:lnTo>
                      <a:pt x="1340" y="990"/>
                    </a:lnTo>
                    <a:lnTo>
                      <a:pt x="1312" y="1016"/>
                    </a:lnTo>
                    <a:lnTo>
                      <a:pt x="1291" y="1048"/>
                    </a:lnTo>
                    <a:lnTo>
                      <a:pt x="1272" y="1079"/>
                    </a:lnTo>
                    <a:lnTo>
                      <a:pt x="1256" y="1114"/>
                    </a:lnTo>
                    <a:lnTo>
                      <a:pt x="1242" y="1147"/>
                    </a:lnTo>
                    <a:lnTo>
                      <a:pt x="1231" y="1184"/>
                    </a:lnTo>
                    <a:lnTo>
                      <a:pt x="1223" y="1221"/>
                    </a:lnTo>
                    <a:lnTo>
                      <a:pt x="1219" y="1258"/>
                    </a:lnTo>
                    <a:lnTo>
                      <a:pt x="1188" y="1272"/>
                    </a:lnTo>
                    <a:lnTo>
                      <a:pt x="1175" y="1244"/>
                    </a:lnTo>
                    <a:lnTo>
                      <a:pt x="1168" y="1217"/>
                    </a:lnTo>
                    <a:lnTo>
                      <a:pt x="1165" y="1188"/>
                    </a:lnTo>
                    <a:lnTo>
                      <a:pt x="1167" y="1158"/>
                    </a:lnTo>
                    <a:lnTo>
                      <a:pt x="1168" y="1128"/>
                    </a:lnTo>
                    <a:lnTo>
                      <a:pt x="1172" y="1100"/>
                    </a:lnTo>
                    <a:lnTo>
                      <a:pt x="1175" y="1072"/>
                    </a:lnTo>
                    <a:lnTo>
                      <a:pt x="1181" y="1048"/>
                    </a:lnTo>
                    <a:lnTo>
                      <a:pt x="1188" y="1011"/>
                    </a:lnTo>
                    <a:lnTo>
                      <a:pt x="1198" y="979"/>
                    </a:lnTo>
                    <a:lnTo>
                      <a:pt x="1210" y="946"/>
                    </a:lnTo>
                    <a:lnTo>
                      <a:pt x="1226" y="917"/>
                    </a:lnTo>
                    <a:lnTo>
                      <a:pt x="1242" y="885"/>
                    </a:lnTo>
                    <a:lnTo>
                      <a:pt x="1263" y="859"/>
                    </a:lnTo>
                    <a:lnTo>
                      <a:pt x="1286" y="831"/>
                    </a:lnTo>
                    <a:lnTo>
                      <a:pt x="1312" y="808"/>
                    </a:lnTo>
                    <a:lnTo>
                      <a:pt x="1307" y="803"/>
                    </a:lnTo>
                    <a:lnTo>
                      <a:pt x="1256" y="843"/>
                    </a:lnTo>
                    <a:lnTo>
                      <a:pt x="1217" y="890"/>
                    </a:lnTo>
                    <a:lnTo>
                      <a:pt x="1186" y="943"/>
                    </a:lnTo>
                    <a:lnTo>
                      <a:pt x="1167" y="1000"/>
                    </a:lnTo>
                    <a:lnTo>
                      <a:pt x="1153" y="1060"/>
                    </a:lnTo>
                    <a:lnTo>
                      <a:pt x="1146" y="1125"/>
                    </a:lnTo>
                    <a:lnTo>
                      <a:pt x="1144" y="1188"/>
                    </a:lnTo>
                    <a:lnTo>
                      <a:pt x="1149" y="1254"/>
                    </a:lnTo>
                    <a:lnTo>
                      <a:pt x="1160" y="1279"/>
                    </a:lnTo>
                    <a:lnTo>
                      <a:pt x="1100" y="1308"/>
                    </a:lnTo>
                    <a:lnTo>
                      <a:pt x="1063" y="1284"/>
                    </a:lnTo>
                    <a:lnTo>
                      <a:pt x="1039" y="1256"/>
                    </a:lnTo>
                    <a:lnTo>
                      <a:pt x="1021" y="1221"/>
                    </a:lnTo>
                    <a:lnTo>
                      <a:pt x="1014" y="1184"/>
                    </a:lnTo>
                    <a:lnTo>
                      <a:pt x="1011" y="1142"/>
                    </a:lnTo>
                    <a:lnTo>
                      <a:pt x="1011" y="1102"/>
                    </a:lnTo>
                    <a:lnTo>
                      <a:pt x="1014" y="1060"/>
                    </a:lnTo>
                    <a:lnTo>
                      <a:pt x="1018" y="1020"/>
                    </a:lnTo>
                    <a:lnTo>
                      <a:pt x="1018" y="1006"/>
                    </a:lnTo>
                    <a:lnTo>
                      <a:pt x="1021" y="992"/>
                    </a:lnTo>
                    <a:lnTo>
                      <a:pt x="1025" y="978"/>
                    </a:lnTo>
                    <a:lnTo>
                      <a:pt x="1028" y="966"/>
                    </a:lnTo>
                    <a:lnTo>
                      <a:pt x="1030" y="950"/>
                    </a:lnTo>
                    <a:lnTo>
                      <a:pt x="1034" y="938"/>
                    </a:lnTo>
                    <a:lnTo>
                      <a:pt x="1035" y="924"/>
                    </a:lnTo>
                    <a:lnTo>
                      <a:pt x="1037" y="911"/>
                    </a:lnTo>
                    <a:lnTo>
                      <a:pt x="1030" y="911"/>
                    </a:lnTo>
                    <a:lnTo>
                      <a:pt x="1013" y="953"/>
                    </a:lnTo>
                    <a:lnTo>
                      <a:pt x="999" y="999"/>
                    </a:lnTo>
                    <a:lnTo>
                      <a:pt x="988" y="1044"/>
                    </a:lnTo>
                    <a:lnTo>
                      <a:pt x="985" y="1091"/>
                    </a:lnTo>
                    <a:lnTo>
                      <a:pt x="983" y="1137"/>
                    </a:lnTo>
                    <a:lnTo>
                      <a:pt x="988" y="1184"/>
                    </a:lnTo>
                    <a:lnTo>
                      <a:pt x="999" y="1228"/>
                    </a:lnTo>
                    <a:lnTo>
                      <a:pt x="1018" y="1273"/>
                    </a:lnTo>
                    <a:lnTo>
                      <a:pt x="1006" y="1272"/>
                    </a:lnTo>
                    <a:lnTo>
                      <a:pt x="995" y="1266"/>
                    </a:lnTo>
                    <a:lnTo>
                      <a:pt x="985" y="1259"/>
                    </a:lnTo>
                    <a:lnTo>
                      <a:pt x="974" y="1251"/>
                    </a:lnTo>
                    <a:lnTo>
                      <a:pt x="964" y="1237"/>
                    </a:lnTo>
                    <a:lnTo>
                      <a:pt x="955" y="1224"/>
                    </a:lnTo>
                    <a:lnTo>
                      <a:pt x="946" y="1210"/>
                    </a:lnTo>
                    <a:lnTo>
                      <a:pt x="941" y="1200"/>
                    </a:lnTo>
                    <a:lnTo>
                      <a:pt x="929" y="1172"/>
                    </a:lnTo>
                    <a:lnTo>
                      <a:pt x="922" y="1146"/>
                    </a:lnTo>
                    <a:lnTo>
                      <a:pt x="918" y="1118"/>
                    </a:lnTo>
                    <a:lnTo>
                      <a:pt x="918" y="1090"/>
                    </a:lnTo>
                    <a:lnTo>
                      <a:pt x="918" y="1060"/>
                    </a:lnTo>
                    <a:lnTo>
                      <a:pt x="922" y="1032"/>
                    </a:lnTo>
                    <a:lnTo>
                      <a:pt x="923" y="1004"/>
                    </a:lnTo>
                    <a:lnTo>
                      <a:pt x="925" y="979"/>
                    </a:lnTo>
                    <a:lnTo>
                      <a:pt x="936" y="934"/>
                    </a:lnTo>
                    <a:lnTo>
                      <a:pt x="951" y="892"/>
                    </a:lnTo>
                    <a:lnTo>
                      <a:pt x="971" y="850"/>
                    </a:lnTo>
                    <a:lnTo>
                      <a:pt x="993" y="812"/>
                    </a:lnTo>
                    <a:lnTo>
                      <a:pt x="1018" y="771"/>
                    </a:lnTo>
                    <a:lnTo>
                      <a:pt x="1046" y="736"/>
                    </a:lnTo>
                    <a:lnTo>
                      <a:pt x="1076" y="701"/>
                    </a:lnTo>
                    <a:lnTo>
                      <a:pt x="1111" y="672"/>
                    </a:lnTo>
                    <a:lnTo>
                      <a:pt x="1097" y="673"/>
                    </a:lnTo>
                    <a:lnTo>
                      <a:pt x="1084" y="679"/>
                    </a:lnTo>
                    <a:lnTo>
                      <a:pt x="1072" y="687"/>
                    </a:lnTo>
                    <a:lnTo>
                      <a:pt x="1062" y="698"/>
                    </a:lnTo>
                    <a:lnTo>
                      <a:pt x="1049" y="708"/>
                    </a:lnTo>
                    <a:lnTo>
                      <a:pt x="1039" y="722"/>
                    </a:lnTo>
                    <a:lnTo>
                      <a:pt x="1028" y="733"/>
                    </a:lnTo>
                    <a:lnTo>
                      <a:pt x="1020" y="747"/>
                    </a:lnTo>
                    <a:lnTo>
                      <a:pt x="985" y="791"/>
                    </a:lnTo>
                    <a:lnTo>
                      <a:pt x="955" y="840"/>
                    </a:lnTo>
                    <a:lnTo>
                      <a:pt x="930" y="890"/>
                    </a:lnTo>
                    <a:lnTo>
                      <a:pt x="913" y="946"/>
                    </a:lnTo>
                    <a:lnTo>
                      <a:pt x="899" y="999"/>
                    </a:lnTo>
                    <a:lnTo>
                      <a:pt x="895" y="1056"/>
                    </a:lnTo>
                    <a:lnTo>
                      <a:pt x="899" y="1114"/>
                    </a:lnTo>
                    <a:lnTo>
                      <a:pt x="913" y="1172"/>
                    </a:lnTo>
                    <a:lnTo>
                      <a:pt x="916" y="1181"/>
                    </a:lnTo>
                    <a:lnTo>
                      <a:pt x="920" y="1191"/>
                    </a:lnTo>
                    <a:lnTo>
                      <a:pt x="925" y="1202"/>
                    </a:lnTo>
                    <a:lnTo>
                      <a:pt x="930" y="1212"/>
                    </a:lnTo>
                    <a:lnTo>
                      <a:pt x="936" y="1223"/>
                    </a:lnTo>
                    <a:lnTo>
                      <a:pt x="941" y="1233"/>
                    </a:lnTo>
                    <a:lnTo>
                      <a:pt x="946" y="1244"/>
                    </a:lnTo>
                    <a:lnTo>
                      <a:pt x="955" y="1254"/>
                    </a:lnTo>
                    <a:lnTo>
                      <a:pt x="936" y="1247"/>
                    </a:lnTo>
                    <a:lnTo>
                      <a:pt x="920" y="1238"/>
                    </a:lnTo>
                    <a:lnTo>
                      <a:pt x="904" y="1224"/>
                    </a:lnTo>
                    <a:lnTo>
                      <a:pt x="892" y="1214"/>
                    </a:lnTo>
                    <a:lnTo>
                      <a:pt x="876" y="1200"/>
                    </a:lnTo>
                    <a:lnTo>
                      <a:pt x="860" y="1193"/>
                    </a:lnTo>
                    <a:lnTo>
                      <a:pt x="843" y="1188"/>
                    </a:lnTo>
                    <a:lnTo>
                      <a:pt x="824" y="1195"/>
                    </a:lnTo>
                    <a:lnTo>
                      <a:pt x="771" y="1175"/>
                    </a:lnTo>
                    <a:lnTo>
                      <a:pt x="776" y="1156"/>
                    </a:lnTo>
                    <a:lnTo>
                      <a:pt x="785" y="1139"/>
                    </a:lnTo>
                    <a:lnTo>
                      <a:pt x="796" y="1121"/>
                    </a:lnTo>
                    <a:lnTo>
                      <a:pt x="806" y="1105"/>
                    </a:lnTo>
                    <a:lnTo>
                      <a:pt x="815" y="1090"/>
                    </a:lnTo>
                    <a:lnTo>
                      <a:pt x="825" y="1074"/>
                    </a:lnTo>
                    <a:lnTo>
                      <a:pt x="834" y="1058"/>
                    </a:lnTo>
                    <a:lnTo>
                      <a:pt x="843" y="1042"/>
                    </a:lnTo>
                    <a:lnTo>
                      <a:pt x="831" y="1044"/>
                    </a:lnTo>
                    <a:lnTo>
                      <a:pt x="822" y="1051"/>
                    </a:lnTo>
                    <a:lnTo>
                      <a:pt x="811" y="1058"/>
                    </a:lnTo>
                    <a:lnTo>
                      <a:pt x="806" y="1069"/>
                    </a:lnTo>
                    <a:lnTo>
                      <a:pt x="799" y="1079"/>
                    </a:lnTo>
                    <a:lnTo>
                      <a:pt x="794" y="1090"/>
                    </a:lnTo>
                    <a:lnTo>
                      <a:pt x="787" y="1100"/>
                    </a:lnTo>
                    <a:lnTo>
                      <a:pt x="782" y="1112"/>
                    </a:lnTo>
                    <a:lnTo>
                      <a:pt x="773" y="1126"/>
                    </a:lnTo>
                    <a:lnTo>
                      <a:pt x="766" y="1142"/>
                    </a:lnTo>
                    <a:lnTo>
                      <a:pt x="755" y="1156"/>
                    </a:lnTo>
                    <a:lnTo>
                      <a:pt x="747" y="1172"/>
                    </a:lnTo>
                    <a:lnTo>
                      <a:pt x="736" y="1168"/>
                    </a:lnTo>
                    <a:lnTo>
                      <a:pt x="731" y="1161"/>
                    </a:lnTo>
                    <a:lnTo>
                      <a:pt x="748" y="1133"/>
                    </a:lnTo>
                    <a:lnTo>
                      <a:pt x="766" y="1107"/>
                    </a:lnTo>
                    <a:lnTo>
                      <a:pt x="782" y="1081"/>
                    </a:lnTo>
                    <a:lnTo>
                      <a:pt x="799" y="1055"/>
                    </a:lnTo>
                    <a:lnTo>
                      <a:pt x="813" y="1027"/>
                    </a:lnTo>
                    <a:lnTo>
                      <a:pt x="829" y="999"/>
                    </a:lnTo>
                    <a:lnTo>
                      <a:pt x="841" y="971"/>
                    </a:lnTo>
                    <a:lnTo>
                      <a:pt x="853" y="945"/>
                    </a:lnTo>
                    <a:lnTo>
                      <a:pt x="857" y="934"/>
                    </a:lnTo>
                    <a:lnTo>
                      <a:pt x="862" y="924"/>
                    </a:lnTo>
                    <a:lnTo>
                      <a:pt x="867" y="915"/>
                    </a:lnTo>
                    <a:lnTo>
                      <a:pt x="873" y="906"/>
                    </a:lnTo>
                    <a:lnTo>
                      <a:pt x="876" y="896"/>
                    </a:lnTo>
                    <a:lnTo>
                      <a:pt x="881" y="887"/>
                    </a:lnTo>
                    <a:lnTo>
                      <a:pt x="885" y="876"/>
                    </a:lnTo>
                    <a:lnTo>
                      <a:pt x="887" y="868"/>
                    </a:lnTo>
                    <a:lnTo>
                      <a:pt x="859" y="903"/>
                    </a:lnTo>
                    <a:lnTo>
                      <a:pt x="834" y="939"/>
                    </a:lnTo>
                    <a:lnTo>
                      <a:pt x="811" y="978"/>
                    </a:lnTo>
                    <a:lnTo>
                      <a:pt x="789" y="1016"/>
                    </a:lnTo>
                    <a:lnTo>
                      <a:pt x="766" y="1053"/>
                    </a:lnTo>
                    <a:lnTo>
                      <a:pt x="743" y="1091"/>
                    </a:lnTo>
                    <a:lnTo>
                      <a:pt x="717" y="1128"/>
                    </a:lnTo>
                    <a:lnTo>
                      <a:pt x="692" y="1167"/>
                    </a:lnTo>
                    <a:lnTo>
                      <a:pt x="710" y="1100"/>
                    </a:lnTo>
                    <a:lnTo>
                      <a:pt x="729" y="1035"/>
                    </a:lnTo>
                    <a:lnTo>
                      <a:pt x="748" y="971"/>
                    </a:lnTo>
                    <a:lnTo>
                      <a:pt x="768" y="906"/>
                    </a:lnTo>
                    <a:lnTo>
                      <a:pt x="782" y="838"/>
                    </a:lnTo>
                    <a:lnTo>
                      <a:pt x="796" y="770"/>
                    </a:lnTo>
                    <a:lnTo>
                      <a:pt x="804" y="700"/>
                    </a:lnTo>
                    <a:lnTo>
                      <a:pt x="810" y="630"/>
                    </a:lnTo>
                    <a:lnTo>
                      <a:pt x="810" y="619"/>
                    </a:lnTo>
                    <a:lnTo>
                      <a:pt x="811" y="610"/>
                    </a:lnTo>
                    <a:lnTo>
                      <a:pt x="813" y="600"/>
                    </a:lnTo>
                    <a:lnTo>
                      <a:pt x="815" y="589"/>
                    </a:lnTo>
                    <a:lnTo>
                      <a:pt x="815" y="577"/>
                    </a:lnTo>
                    <a:lnTo>
                      <a:pt x="815" y="567"/>
                    </a:lnTo>
                    <a:lnTo>
                      <a:pt x="815" y="556"/>
                    </a:lnTo>
                    <a:lnTo>
                      <a:pt x="815" y="546"/>
                    </a:lnTo>
                    <a:lnTo>
                      <a:pt x="803" y="586"/>
                    </a:lnTo>
                    <a:lnTo>
                      <a:pt x="794" y="628"/>
                    </a:lnTo>
                    <a:lnTo>
                      <a:pt x="785" y="670"/>
                    </a:lnTo>
                    <a:lnTo>
                      <a:pt x="780" y="714"/>
                    </a:lnTo>
                    <a:lnTo>
                      <a:pt x="773" y="756"/>
                    </a:lnTo>
                    <a:lnTo>
                      <a:pt x="766" y="798"/>
                    </a:lnTo>
                    <a:lnTo>
                      <a:pt x="757" y="838"/>
                    </a:lnTo>
                    <a:lnTo>
                      <a:pt x="750" y="878"/>
                    </a:lnTo>
                    <a:lnTo>
                      <a:pt x="738" y="910"/>
                    </a:lnTo>
                    <a:lnTo>
                      <a:pt x="727" y="941"/>
                    </a:lnTo>
                    <a:lnTo>
                      <a:pt x="719" y="973"/>
                    </a:lnTo>
                    <a:lnTo>
                      <a:pt x="712" y="1004"/>
                    </a:lnTo>
                    <a:lnTo>
                      <a:pt x="701" y="1035"/>
                    </a:lnTo>
                    <a:lnTo>
                      <a:pt x="692" y="1067"/>
                    </a:lnTo>
                    <a:lnTo>
                      <a:pt x="680" y="1098"/>
                    </a:lnTo>
                    <a:lnTo>
                      <a:pt x="670" y="1130"/>
                    </a:lnTo>
                    <a:lnTo>
                      <a:pt x="675" y="1070"/>
                    </a:lnTo>
                    <a:lnTo>
                      <a:pt x="684" y="1013"/>
                    </a:lnTo>
                    <a:lnTo>
                      <a:pt x="692" y="955"/>
                    </a:lnTo>
                    <a:lnTo>
                      <a:pt x="703" y="897"/>
                    </a:lnTo>
                    <a:lnTo>
                      <a:pt x="712" y="840"/>
                    </a:lnTo>
                    <a:lnTo>
                      <a:pt x="720" y="782"/>
                    </a:lnTo>
                    <a:lnTo>
                      <a:pt x="727" y="724"/>
                    </a:lnTo>
                    <a:lnTo>
                      <a:pt x="733" y="668"/>
                    </a:lnTo>
                    <a:lnTo>
                      <a:pt x="712" y="691"/>
                    </a:lnTo>
                    <a:lnTo>
                      <a:pt x="699" y="761"/>
                    </a:lnTo>
                    <a:lnTo>
                      <a:pt x="689" y="833"/>
                    </a:lnTo>
                    <a:lnTo>
                      <a:pt x="677" y="904"/>
                    </a:lnTo>
                    <a:lnTo>
                      <a:pt x="666" y="976"/>
                    </a:lnTo>
                    <a:lnTo>
                      <a:pt x="652" y="1046"/>
                    </a:lnTo>
                    <a:lnTo>
                      <a:pt x="642" y="1118"/>
                    </a:lnTo>
                    <a:lnTo>
                      <a:pt x="631" y="1191"/>
                    </a:lnTo>
                    <a:lnTo>
                      <a:pt x="626" y="1265"/>
                    </a:lnTo>
                    <a:lnTo>
                      <a:pt x="622" y="1272"/>
                    </a:lnTo>
                    <a:lnTo>
                      <a:pt x="619" y="1279"/>
                    </a:lnTo>
                    <a:lnTo>
                      <a:pt x="612" y="1282"/>
                    </a:lnTo>
                    <a:lnTo>
                      <a:pt x="607" y="1287"/>
                    </a:lnTo>
                    <a:lnTo>
                      <a:pt x="589" y="1291"/>
                    </a:lnTo>
                    <a:lnTo>
                      <a:pt x="577" y="1296"/>
                    </a:lnTo>
                    <a:lnTo>
                      <a:pt x="530" y="1293"/>
                    </a:lnTo>
                    <a:lnTo>
                      <a:pt x="482" y="1293"/>
                    </a:lnTo>
                    <a:lnTo>
                      <a:pt x="435" y="1294"/>
                    </a:lnTo>
                    <a:lnTo>
                      <a:pt x="393" y="1301"/>
                    </a:lnTo>
                    <a:lnTo>
                      <a:pt x="348" y="1308"/>
                    </a:lnTo>
                    <a:lnTo>
                      <a:pt x="306" y="1322"/>
                    </a:lnTo>
                    <a:lnTo>
                      <a:pt x="264" y="1338"/>
                    </a:lnTo>
                    <a:lnTo>
                      <a:pt x="227" y="1364"/>
                    </a:lnTo>
                    <a:lnTo>
                      <a:pt x="197" y="1384"/>
                    </a:lnTo>
                    <a:lnTo>
                      <a:pt x="168" y="1406"/>
                    </a:lnTo>
                    <a:lnTo>
                      <a:pt x="138" y="1432"/>
                    </a:lnTo>
                    <a:lnTo>
                      <a:pt x="115" y="1460"/>
                    </a:lnTo>
                    <a:lnTo>
                      <a:pt x="92" y="1488"/>
                    </a:lnTo>
                    <a:lnTo>
                      <a:pt x="78" y="1522"/>
                    </a:lnTo>
                    <a:lnTo>
                      <a:pt x="70" y="1555"/>
                    </a:lnTo>
                    <a:lnTo>
                      <a:pt x="71" y="1593"/>
                    </a:lnTo>
                    <a:lnTo>
                      <a:pt x="64" y="1597"/>
                    </a:lnTo>
                    <a:lnTo>
                      <a:pt x="56" y="1599"/>
                    </a:lnTo>
                    <a:lnTo>
                      <a:pt x="56" y="1530"/>
                    </a:lnTo>
                    <a:lnTo>
                      <a:pt x="61" y="1466"/>
                    </a:lnTo>
                    <a:lnTo>
                      <a:pt x="64" y="1401"/>
                    </a:lnTo>
                    <a:lnTo>
                      <a:pt x="71" y="1338"/>
                    </a:lnTo>
                    <a:lnTo>
                      <a:pt x="77" y="1275"/>
                    </a:lnTo>
                    <a:lnTo>
                      <a:pt x="87" y="1212"/>
                    </a:lnTo>
                    <a:lnTo>
                      <a:pt x="96" y="1149"/>
                    </a:lnTo>
                    <a:lnTo>
                      <a:pt x="110" y="1088"/>
                    </a:lnTo>
                    <a:lnTo>
                      <a:pt x="99" y="1076"/>
                    </a:lnTo>
                    <a:lnTo>
                      <a:pt x="87" y="1069"/>
                    </a:lnTo>
                    <a:lnTo>
                      <a:pt x="82" y="1058"/>
                    </a:lnTo>
                    <a:lnTo>
                      <a:pt x="73" y="1053"/>
                    </a:lnTo>
                    <a:lnTo>
                      <a:pt x="63" y="1048"/>
                    </a:lnTo>
                    <a:lnTo>
                      <a:pt x="56" y="1042"/>
                    </a:lnTo>
                    <a:lnTo>
                      <a:pt x="40" y="1042"/>
                    </a:lnTo>
                    <a:lnTo>
                      <a:pt x="28" y="1039"/>
                    </a:lnTo>
                    <a:lnTo>
                      <a:pt x="12" y="1035"/>
                    </a:lnTo>
                    <a:lnTo>
                      <a:pt x="0" y="1034"/>
                    </a:lnTo>
                    <a:lnTo>
                      <a:pt x="19" y="999"/>
                    </a:lnTo>
                    <a:lnTo>
                      <a:pt x="43" y="973"/>
                    </a:lnTo>
                    <a:lnTo>
                      <a:pt x="70" y="948"/>
                    </a:lnTo>
                    <a:lnTo>
                      <a:pt x="94" y="922"/>
                    </a:lnTo>
                    <a:lnTo>
                      <a:pt x="120" y="896"/>
                    </a:lnTo>
                    <a:lnTo>
                      <a:pt x="145" y="869"/>
                    </a:lnTo>
                    <a:lnTo>
                      <a:pt x="173" y="848"/>
                    </a:lnTo>
                    <a:lnTo>
                      <a:pt x="203" y="829"/>
                    </a:lnTo>
                    <a:lnTo>
                      <a:pt x="238" y="815"/>
                    </a:lnTo>
                    <a:lnTo>
                      <a:pt x="264" y="820"/>
                    </a:lnTo>
                    <a:lnTo>
                      <a:pt x="290" y="829"/>
                    </a:lnTo>
                    <a:lnTo>
                      <a:pt x="315" y="840"/>
                    </a:lnTo>
                    <a:lnTo>
                      <a:pt x="341" y="854"/>
                    </a:lnTo>
                    <a:lnTo>
                      <a:pt x="364" y="866"/>
                    </a:lnTo>
                    <a:lnTo>
                      <a:pt x="386" y="883"/>
                    </a:lnTo>
                    <a:lnTo>
                      <a:pt x="409" y="899"/>
                    </a:lnTo>
                    <a:lnTo>
                      <a:pt x="432" y="920"/>
                    </a:lnTo>
                    <a:lnTo>
                      <a:pt x="440" y="906"/>
                    </a:lnTo>
                    <a:lnTo>
                      <a:pt x="453" y="892"/>
                    </a:lnTo>
                    <a:lnTo>
                      <a:pt x="463" y="876"/>
                    </a:lnTo>
                    <a:lnTo>
                      <a:pt x="474" y="862"/>
                    </a:lnTo>
                    <a:lnTo>
                      <a:pt x="498" y="805"/>
                    </a:lnTo>
                    <a:lnTo>
                      <a:pt x="524" y="749"/>
                    </a:lnTo>
                    <a:lnTo>
                      <a:pt x="545" y="689"/>
                    </a:lnTo>
                    <a:lnTo>
                      <a:pt x="566" y="630"/>
                    </a:lnTo>
                    <a:lnTo>
                      <a:pt x="579" y="567"/>
                    </a:lnTo>
                    <a:lnTo>
                      <a:pt x="589" y="504"/>
                    </a:lnTo>
                    <a:lnTo>
                      <a:pt x="593" y="439"/>
                    </a:lnTo>
                    <a:lnTo>
                      <a:pt x="591" y="376"/>
                    </a:lnTo>
                    <a:lnTo>
                      <a:pt x="586" y="364"/>
                    </a:lnTo>
                    <a:lnTo>
                      <a:pt x="582" y="353"/>
                    </a:lnTo>
                    <a:lnTo>
                      <a:pt x="579" y="341"/>
                    </a:lnTo>
                    <a:lnTo>
                      <a:pt x="577" y="331"/>
                    </a:lnTo>
                    <a:lnTo>
                      <a:pt x="573" y="318"/>
                    </a:lnTo>
                    <a:lnTo>
                      <a:pt x="573" y="308"/>
                    </a:lnTo>
                    <a:lnTo>
                      <a:pt x="572" y="297"/>
                    </a:lnTo>
                    <a:lnTo>
                      <a:pt x="575" y="290"/>
                    </a:lnTo>
                    <a:lnTo>
                      <a:pt x="593" y="261"/>
                    </a:lnTo>
                    <a:lnTo>
                      <a:pt x="610" y="233"/>
                    </a:lnTo>
                    <a:lnTo>
                      <a:pt x="624" y="203"/>
                    </a:lnTo>
                    <a:lnTo>
                      <a:pt x="638" y="173"/>
                    </a:lnTo>
                    <a:lnTo>
                      <a:pt x="647" y="142"/>
                    </a:lnTo>
                    <a:lnTo>
                      <a:pt x="652" y="110"/>
                    </a:lnTo>
                    <a:lnTo>
                      <a:pt x="650" y="75"/>
                    </a:lnTo>
                    <a:lnTo>
                      <a:pt x="645" y="42"/>
                    </a:lnTo>
                    <a:lnTo>
                      <a:pt x="642" y="30"/>
                    </a:lnTo>
                    <a:lnTo>
                      <a:pt x="643" y="19"/>
                    </a:lnTo>
                    <a:lnTo>
                      <a:pt x="645" y="9"/>
                    </a:lnTo>
                    <a:lnTo>
                      <a:pt x="650" y="0"/>
                    </a:lnTo>
                    <a:lnTo>
                      <a:pt x="708" y="40"/>
                    </a:lnTo>
                    <a:lnTo>
                      <a:pt x="766" y="88"/>
                    </a:lnTo>
                    <a:lnTo>
                      <a:pt x="824" y="136"/>
                    </a:lnTo>
                    <a:lnTo>
                      <a:pt x="881" y="191"/>
                    </a:lnTo>
                    <a:lnTo>
                      <a:pt x="936" y="243"/>
                    </a:lnTo>
                    <a:lnTo>
                      <a:pt x="992" y="299"/>
                    </a:lnTo>
                    <a:lnTo>
                      <a:pt x="1044" y="353"/>
                    </a:lnTo>
                    <a:lnTo>
                      <a:pt x="1097" y="408"/>
                    </a:lnTo>
                    <a:close/>
                  </a:path>
                </a:pathLst>
              </a:cu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13280" y="464544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6" y="23"/>
                    </a:moveTo>
                    <a:lnTo>
                      <a:pt x="9" y="25"/>
                    </a:lnTo>
                    <a:lnTo>
                      <a:pt x="0" y="25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4" y="9"/>
                    </a:ln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84920" y="4648680"/>
                <a:ext cx="29880" cy="3456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19" y="1"/>
                    </a:moveTo>
                    <a:lnTo>
                      <a:pt x="16" y="15"/>
                    </a:lnTo>
                    <a:lnTo>
                      <a:pt x="30" y="28"/>
                    </a:lnTo>
                    <a:lnTo>
                      <a:pt x="33" y="31"/>
                    </a:lnTo>
                    <a:lnTo>
                      <a:pt x="37" y="36"/>
                    </a:lnTo>
                    <a:lnTo>
                      <a:pt x="31" y="40"/>
                    </a:lnTo>
                    <a:lnTo>
                      <a:pt x="19" y="43"/>
                    </a:lnTo>
                    <a:lnTo>
                      <a:pt x="12" y="33"/>
                    </a:lnTo>
                    <a:lnTo>
                      <a:pt x="10" y="24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40280" y="46501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28" y="16"/>
                    </a:moveTo>
                    <a:lnTo>
                      <a:pt x="19" y="18"/>
                    </a:lnTo>
                    <a:lnTo>
                      <a:pt x="17" y="27"/>
                    </a:lnTo>
                    <a:lnTo>
                      <a:pt x="12" y="34"/>
                    </a:lnTo>
                    <a:lnTo>
                      <a:pt x="3" y="37"/>
                    </a:lnTo>
                    <a:lnTo>
                      <a:pt x="0" y="23"/>
                    </a:lnTo>
                    <a:lnTo>
                      <a:pt x="5" y="16"/>
                    </a:lnTo>
                    <a:lnTo>
                      <a:pt x="12" y="9"/>
                    </a:lnTo>
                    <a:lnTo>
                      <a:pt x="17" y="2"/>
                    </a:lnTo>
                    <a:lnTo>
                      <a:pt x="24" y="0"/>
                    </a:lnTo>
                    <a:lnTo>
                      <a:pt x="26" y="4"/>
                    </a:lnTo>
                    <a:lnTo>
                      <a:pt x="26" y="9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26000" y="4655160"/>
                <a:ext cx="19080" cy="201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5" y="10"/>
                    </a:moveTo>
                    <a:lnTo>
                      <a:pt x="23" y="19"/>
                    </a:lnTo>
                    <a:lnTo>
                      <a:pt x="19" y="26"/>
                    </a:lnTo>
                    <a:lnTo>
                      <a:pt x="12" y="19"/>
                    </a:lnTo>
                    <a:lnTo>
                      <a:pt x="5" y="14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8" y="0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29200" y="468036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9"/>
                    </a:moveTo>
                    <a:lnTo>
                      <a:pt x="21" y="18"/>
                    </a:lnTo>
                    <a:lnTo>
                      <a:pt x="14" y="25"/>
                    </a:lnTo>
                    <a:lnTo>
                      <a:pt x="9" y="21"/>
                    </a:lnTo>
                    <a:lnTo>
                      <a:pt x="3" y="23"/>
                    </a:lnTo>
                    <a:lnTo>
                      <a:pt x="0" y="14"/>
                    </a:lnTo>
                    <a:lnTo>
                      <a:pt x="2" y="5"/>
                    </a:lnTo>
                    <a:lnTo>
                      <a:pt x="9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94040" y="468216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24" y="10"/>
                    </a:moveTo>
                    <a:lnTo>
                      <a:pt x="21" y="15"/>
                    </a:lnTo>
                    <a:lnTo>
                      <a:pt x="19" y="21"/>
                    </a:lnTo>
                    <a:lnTo>
                      <a:pt x="9" y="17"/>
                    </a:lnTo>
                    <a:lnTo>
                      <a:pt x="0" y="14"/>
                    </a:lnTo>
                    <a:lnTo>
                      <a:pt x="10" y="0"/>
                    </a:lnTo>
                    <a:lnTo>
                      <a:pt x="17" y="1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86360" y="46994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0"/>
                    </a:moveTo>
                    <a:lnTo>
                      <a:pt x="17" y="8"/>
                    </a:lnTo>
                    <a:lnTo>
                      <a:pt x="10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716280" y="470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7"/>
                    </a:lnTo>
                    <a:lnTo>
                      <a:pt x="7" y="12"/>
                    </a:lnTo>
                    <a:lnTo>
                      <a:pt x="3" y="10"/>
                    </a:lnTo>
                    <a:lnTo>
                      <a:pt x="0" y="9"/>
                    </a:lnTo>
                    <a:lnTo>
                      <a:pt x="3" y="0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002200" y="472032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10"/>
                    </a:moveTo>
                    <a:lnTo>
                      <a:pt x="21" y="15"/>
                    </a:lnTo>
                    <a:lnTo>
                      <a:pt x="14" y="21"/>
                    </a:lnTo>
                    <a:lnTo>
                      <a:pt x="3" y="1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10" y="0"/>
                    </a:lnTo>
                    <a:lnTo>
                      <a:pt x="17" y="1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53000" y="472320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"/>
                    </a:moveTo>
                    <a:lnTo>
                      <a:pt x="28" y="7"/>
                    </a:lnTo>
                    <a:lnTo>
                      <a:pt x="25" y="12"/>
                    </a:lnTo>
                    <a:lnTo>
                      <a:pt x="18" y="16"/>
                    </a:lnTo>
                    <a:lnTo>
                      <a:pt x="14" y="21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2" y="2"/>
                    </a:lnTo>
                    <a:lnTo>
                      <a:pt x="9" y="0"/>
                    </a:lnTo>
                    <a:lnTo>
                      <a:pt x="1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43360" y="472320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2"/>
                    </a:moveTo>
                    <a:lnTo>
                      <a:pt x="23" y="9"/>
                    </a:lnTo>
                    <a:lnTo>
                      <a:pt x="17" y="14"/>
                    </a:lnTo>
                    <a:lnTo>
                      <a:pt x="10" y="17"/>
                    </a:lnTo>
                    <a:lnTo>
                      <a:pt x="5" y="21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12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08360" y="47311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8" y="1"/>
                    </a:moveTo>
                    <a:lnTo>
                      <a:pt x="18" y="10"/>
                    </a:lnTo>
                    <a:lnTo>
                      <a:pt x="13" y="21"/>
                    </a:lnTo>
                    <a:lnTo>
                      <a:pt x="4" y="21"/>
                    </a:lnTo>
                    <a:lnTo>
                      <a:pt x="0" y="12"/>
                    </a:lnTo>
                    <a:lnTo>
                      <a:pt x="4" y="5"/>
                    </a:lnTo>
                    <a:lnTo>
                      <a:pt x="9" y="0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8720" y="47376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7"/>
                    </a:moveTo>
                    <a:lnTo>
                      <a:pt x="19" y="13"/>
                    </a:lnTo>
                    <a:lnTo>
                      <a:pt x="14" y="18"/>
                    </a:lnTo>
                    <a:lnTo>
                      <a:pt x="5" y="18"/>
                    </a:lnTo>
                    <a:lnTo>
                      <a:pt x="0" y="14"/>
                    </a:lnTo>
                    <a:lnTo>
                      <a:pt x="2" y="4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798640" y="4748760"/>
                <a:ext cx="1478160" cy="1046880"/>
              </a:xfrm>
              <a:custGeom>
                <a:avLst/>
                <a:gdLst/>
                <a:ahLst/>
                <a:rect l="l" t="t" r="r" b="b"/>
                <a:pathLst>
                  <a:path w="1864" h="1321">
                    <a:moveTo>
                      <a:pt x="945" y="88"/>
                    </a:moveTo>
                    <a:lnTo>
                      <a:pt x="963" y="112"/>
                    </a:lnTo>
                    <a:lnTo>
                      <a:pt x="975" y="142"/>
                    </a:lnTo>
                    <a:lnTo>
                      <a:pt x="984" y="172"/>
                    </a:lnTo>
                    <a:lnTo>
                      <a:pt x="996" y="203"/>
                    </a:lnTo>
                    <a:lnTo>
                      <a:pt x="1008" y="230"/>
                    </a:lnTo>
                    <a:lnTo>
                      <a:pt x="1027" y="254"/>
                    </a:lnTo>
                    <a:lnTo>
                      <a:pt x="1054" y="268"/>
                    </a:lnTo>
                    <a:lnTo>
                      <a:pt x="1090" y="273"/>
                    </a:lnTo>
                    <a:lnTo>
                      <a:pt x="1108" y="265"/>
                    </a:lnTo>
                    <a:lnTo>
                      <a:pt x="1127" y="259"/>
                    </a:lnTo>
                    <a:lnTo>
                      <a:pt x="1134" y="258"/>
                    </a:lnTo>
                    <a:lnTo>
                      <a:pt x="1143" y="259"/>
                    </a:lnTo>
                    <a:lnTo>
                      <a:pt x="1150" y="266"/>
                    </a:lnTo>
                    <a:lnTo>
                      <a:pt x="1157" y="279"/>
                    </a:lnTo>
                    <a:lnTo>
                      <a:pt x="1155" y="310"/>
                    </a:lnTo>
                    <a:lnTo>
                      <a:pt x="1155" y="342"/>
                    </a:lnTo>
                    <a:lnTo>
                      <a:pt x="1155" y="371"/>
                    </a:lnTo>
                    <a:lnTo>
                      <a:pt x="1159" y="403"/>
                    </a:lnTo>
                    <a:lnTo>
                      <a:pt x="1160" y="431"/>
                    </a:lnTo>
                    <a:lnTo>
                      <a:pt x="1167" y="460"/>
                    </a:lnTo>
                    <a:lnTo>
                      <a:pt x="1176" y="488"/>
                    </a:lnTo>
                    <a:lnTo>
                      <a:pt x="1188" y="518"/>
                    </a:lnTo>
                    <a:lnTo>
                      <a:pt x="1204" y="560"/>
                    </a:lnTo>
                    <a:lnTo>
                      <a:pt x="1220" y="604"/>
                    </a:lnTo>
                    <a:lnTo>
                      <a:pt x="1234" y="648"/>
                    </a:lnTo>
                    <a:lnTo>
                      <a:pt x="1248" y="693"/>
                    </a:lnTo>
                    <a:lnTo>
                      <a:pt x="1257" y="737"/>
                    </a:lnTo>
                    <a:lnTo>
                      <a:pt x="1264" y="782"/>
                    </a:lnTo>
                    <a:lnTo>
                      <a:pt x="1267" y="830"/>
                    </a:lnTo>
                    <a:lnTo>
                      <a:pt x="1265" y="877"/>
                    </a:lnTo>
                    <a:lnTo>
                      <a:pt x="1258" y="885"/>
                    </a:lnTo>
                    <a:lnTo>
                      <a:pt x="1255" y="896"/>
                    </a:lnTo>
                    <a:lnTo>
                      <a:pt x="1251" y="908"/>
                    </a:lnTo>
                    <a:lnTo>
                      <a:pt x="1251" y="922"/>
                    </a:lnTo>
                    <a:lnTo>
                      <a:pt x="1250" y="933"/>
                    </a:lnTo>
                    <a:lnTo>
                      <a:pt x="1248" y="947"/>
                    </a:lnTo>
                    <a:lnTo>
                      <a:pt x="1246" y="957"/>
                    </a:lnTo>
                    <a:lnTo>
                      <a:pt x="1244" y="971"/>
                    </a:lnTo>
                    <a:lnTo>
                      <a:pt x="1244" y="982"/>
                    </a:lnTo>
                    <a:lnTo>
                      <a:pt x="1248" y="992"/>
                    </a:lnTo>
                    <a:lnTo>
                      <a:pt x="1253" y="1001"/>
                    </a:lnTo>
                    <a:lnTo>
                      <a:pt x="1264" y="1010"/>
                    </a:lnTo>
                    <a:lnTo>
                      <a:pt x="1306" y="994"/>
                    </a:lnTo>
                    <a:lnTo>
                      <a:pt x="1348" y="975"/>
                    </a:lnTo>
                    <a:lnTo>
                      <a:pt x="1388" y="952"/>
                    </a:lnTo>
                    <a:lnTo>
                      <a:pt x="1428" y="929"/>
                    </a:lnTo>
                    <a:lnTo>
                      <a:pt x="1468" y="905"/>
                    </a:lnTo>
                    <a:lnTo>
                      <a:pt x="1509" y="882"/>
                    </a:lnTo>
                    <a:lnTo>
                      <a:pt x="1551" y="859"/>
                    </a:lnTo>
                    <a:lnTo>
                      <a:pt x="1594" y="843"/>
                    </a:lnTo>
                    <a:lnTo>
                      <a:pt x="1613" y="837"/>
                    </a:lnTo>
                    <a:lnTo>
                      <a:pt x="1634" y="835"/>
                    </a:lnTo>
                    <a:lnTo>
                      <a:pt x="1654" y="833"/>
                    </a:lnTo>
                    <a:lnTo>
                      <a:pt x="1675" y="837"/>
                    </a:lnTo>
                    <a:lnTo>
                      <a:pt x="1694" y="840"/>
                    </a:lnTo>
                    <a:lnTo>
                      <a:pt x="1715" y="845"/>
                    </a:lnTo>
                    <a:lnTo>
                      <a:pt x="1736" y="850"/>
                    </a:lnTo>
                    <a:lnTo>
                      <a:pt x="1757" y="857"/>
                    </a:lnTo>
                    <a:lnTo>
                      <a:pt x="1767" y="863"/>
                    </a:lnTo>
                    <a:lnTo>
                      <a:pt x="1781" y="868"/>
                    </a:lnTo>
                    <a:lnTo>
                      <a:pt x="1794" y="871"/>
                    </a:lnTo>
                    <a:lnTo>
                      <a:pt x="1809" y="875"/>
                    </a:lnTo>
                    <a:lnTo>
                      <a:pt x="1823" y="877"/>
                    </a:lnTo>
                    <a:lnTo>
                      <a:pt x="1837" y="880"/>
                    </a:lnTo>
                    <a:lnTo>
                      <a:pt x="1850" y="885"/>
                    </a:lnTo>
                    <a:lnTo>
                      <a:pt x="1864" y="892"/>
                    </a:lnTo>
                    <a:lnTo>
                      <a:pt x="1834" y="896"/>
                    </a:lnTo>
                    <a:lnTo>
                      <a:pt x="1806" y="901"/>
                    </a:lnTo>
                    <a:lnTo>
                      <a:pt x="1776" y="906"/>
                    </a:lnTo>
                    <a:lnTo>
                      <a:pt x="1748" y="913"/>
                    </a:lnTo>
                    <a:lnTo>
                      <a:pt x="1718" y="919"/>
                    </a:lnTo>
                    <a:lnTo>
                      <a:pt x="1690" y="927"/>
                    </a:lnTo>
                    <a:lnTo>
                      <a:pt x="1664" y="936"/>
                    </a:lnTo>
                    <a:lnTo>
                      <a:pt x="1640" y="947"/>
                    </a:lnTo>
                    <a:lnTo>
                      <a:pt x="1624" y="947"/>
                    </a:lnTo>
                    <a:lnTo>
                      <a:pt x="1613" y="950"/>
                    </a:lnTo>
                    <a:lnTo>
                      <a:pt x="1603" y="955"/>
                    </a:lnTo>
                    <a:lnTo>
                      <a:pt x="1592" y="964"/>
                    </a:lnTo>
                    <a:lnTo>
                      <a:pt x="1582" y="969"/>
                    </a:lnTo>
                    <a:lnTo>
                      <a:pt x="1572" y="976"/>
                    </a:lnTo>
                    <a:lnTo>
                      <a:pt x="1559" y="982"/>
                    </a:lnTo>
                    <a:lnTo>
                      <a:pt x="1547" y="987"/>
                    </a:lnTo>
                    <a:lnTo>
                      <a:pt x="1542" y="982"/>
                    </a:lnTo>
                    <a:lnTo>
                      <a:pt x="1531" y="996"/>
                    </a:lnTo>
                    <a:lnTo>
                      <a:pt x="1526" y="1011"/>
                    </a:lnTo>
                    <a:lnTo>
                      <a:pt x="1523" y="1029"/>
                    </a:lnTo>
                    <a:lnTo>
                      <a:pt x="1526" y="1046"/>
                    </a:lnTo>
                    <a:lnTo>
                      <a:pt x="1528" y="1064"/>
                    </a:lnTo>
                    <a:lnTo>
                      <a:pt x="1531" y="1081"/>
                    </a:lnTo>
                    <a:lnTo>
                      <a:pt x="1533" y="1099"/>
                    </a:lnTo>
                    <a:lnTo>
                      <a:pt x="1537" y="1118"/>
                    </a:lnTo>
                    <a:lnTo>
                      <a:pt x="1544" y="1129"/>
                    </a:lnTo>
                    <a:lnTo>
                      <a:pt x="1530" y="1118"/>
                    </a:lnTo>
                    <a:lnTo>
                      <a:pt x="1517" y="1108"/>
                    </a:lnTo>
                    <a:lnTo>
                      <a:pt x="1503" y="1099"/>
                    </a:lnTo>
                    <a:lnTo>
                      <a:pt x="1491" y="1094"/>
                    </a:lnTo>
                    <a:lnTo>
                      <a:pt x="1477" y="1085"/>
                    </a:lnTo>
                    <a:lnTo>
                      <a:pt x="1463" y="1080"/>
                    </a:lnTo>
                    <a:lnTo>
                      <a:pt x="1446" y="1074"/>
                    </a:lnTo>
                    <a:lnTo>
                      <a:pt x="1430" y="1074"/>
                    </a:lnTo>
                    <a:lnTo>
                      <a:pt x="1390" y="1094"/>
                    </a:lnTo>
                    <a:lnTo>
                      <a:pt x="1344" y="1106"/>
                    </a:lnTo>
                    <a:lnTo>
                      <a:pt x="1295" y="1113"/>
                    </a:lnTo>
                    <a:lnTo>
                      <a:pt x="1248" y="1120"/>
                    </a:lnTo>
                    <a:lnTo>
                      <a:pt x="1202" y="1129"/>
                    </a:lnTo>
                    <a:lnTo>
                      <a:pt x="1164" y="1148"/>
                    </a:lnTo>
                    <a:lnTo>
                      <a:pt x="1134" y="1181"/>
                    </a:lnTo>
                    <a:lnTo>
                      <a:pt x="1115" y="1234"/>
                    </a:lnTo>
                    <a:lnTo>
                      <a:pt x="1110" y="1244"/>
                    </a:lnTo>
                    <a:lnTo>
                      <a:pt x="1104" y="1260"/>
                    </a:lnTo>
                    <a:lnTo>
                      <a:pt x="1099" y="1274"/>
                    </a:lnTo>
                    <a:lnTo>
                      <a:pt x="1094" y="1288"/>
                    </a:lnTo>
                    <a:lnTo>
                      <a:pt x="1085" y="1298"/>
                    </a:lnTo>
                    <a:lnTo>
                      <a:pt x="1076" y="1309"/>
                    </a:lnTo>
                    <a:lnTo>
                      <a:pt x="1064" y="1316"/>
                    </a:lnTo>
                    <a:lnTo>
                      <a:pt x="1050" y="1321"/>
                    </a:lnTo>
                    <a:lnTo>
                      <a:pt x="1038" y="1296"/>
                    </a:lnTo>
                    <a:lnTo>
                      <a:pt x="1027" y="1272"/>
                    </a:lnTo>
                    <a:lnTo>
                      <a:pt x="1019" y="1248"/>
                    </a:lnTo>
                    <a:lnTo>
                      <a:pt x="1012" y="1223"/>
                    </a:lnTo>
                    <a:lnTo>
                      <a:pt x="1003" y="1197"/>
                    </a:lnTo>
                    <a:lnTo>
                      <a:pt x="994" y="1172"/>
                    </a:lnTo>
                    <a:lnTo>
                      <a:pt x="982" y="1150"/>
                    </a:lnTo>
                    <a:lnTo>
                      <a:pt x="970" y="1129"/>
                    </a:lnTo>
                    <a:lnTo>
                      <a:pt x="936" y="1055"/>
                    </a:lnTo>
                    <a:lnTo>
                      <a:pt x="905" y="983"/>
                    </a:lnTo>
                    <a:lnTo>
                      <a:pt x="875" y="910"/>
                    </a:lnTo>
                    <a:lnTo>
                      <a:pt x="847" y="837"/>
                    </a:lnTo>
                    <a:lnTo>
                      <a:pt x="821" y="760"/>
                    </a:lnTo>
                    <a:lnTo>
                      <a:pt x="800" y="683"/>
                    </a:lnTo>
                    <a:lnTo>
                      <a:pt x="784" y="604"/>
                    </a:lnTo>
                    <a:lnTo>
                      <a:pt x="775" y="523"/>
                    </a:lnTo>
                    <a:lnTo>
                      <a:pt x="767" y="513"/>
                    </a:lnTo>
                    <a:lnTo>
                      <a:pt x="760" y="502"/>
                    </a:lnTo>
                    <a:lnTo>
                      <a:pt x="754" y="490"/>
                    </a:lnTo>
                    <a:lnTo>
                      <a:pt x="749" y="481"/>
                    </a:lnTo>
                    <a:lnTo>
                      <a:pt x="753" y="522"/>
                    </a:lnTo>
                    <a:lnTo>
                      <a:pt x="756" y="564"/>
                    </a:lnTo>
                    <a:lnTo>
                      <a:pt x="761" y="606"/>
                    </a:lnTo>
                    <a:lnTo>
                      <a:pt x="768" y="649"/>
                    </a:lnTo>
                    <a:lnTo>
                      <a:pt x="774" y="691"/>
                    </a:lnTo>
                    <a:lnTo>
                      <a:pt x="786" y="733"/>
                    </a:lnTo>
                    <a:lnTo>
                      <a:pt x="796" y="774"/>
                    </a:lnTo>
                    <a:lnTo>
                      <a:pt x="814" y="814"/>
                    </a:lnTo>
                    <a:lnTo>
                      <a:pt x="793" y="775"/>
                    </a:lnTo>
                    <a:lnTo>
                      <a:pt x="775" y="735"/>
                    </a:lnTo>
                    <a:lnTo>
                      <a:pt x="758" y="691"/>
                    </a:lnTo>
                    <a:lnTo>
                      <a:pt x="742" y="649"/>
                    </a:lnTo>
                    <a:lnTo>
                      <a:pt x="726" y="604"/>
                    </a:lnTo>
                    <a:lnTo>
                      <a:pt x="712" y="562"/>
                    </a:lnTo>
                    <a:lnTo>
                      <a:pt x="697" y="516"/>
                    </a:lnTo>
                    <a:lnTo>
                      <a:pt x="683" y="474"/>
                    </a:lnTo>
                    <a:lnTo>
                      <a:pt x="683" y="459"/>
                    </a:lnTo>
                    <a:lnTo>
                      <a:pt x="677" y="445"/>
                    </a:lnTo>
                    <a:lnTo>
                      <a:pt x="672" y="481"/>
                    </a:lnTo>
                    <a:lnTo>
                      <a:pt x="676" y="520"/>
                    </a:lnTo>
                    <a:lnTo>
                      <a:pt x="683" y="555"/>
                    </a:lnTo>
                    <a:lnTo>
                      <a:pt x="695" y="592"/>
                    </a:lnTo>
                    <a:lnTo>
                      <a:pt x="705" y="625"/>
                    </a:lnTo>
                    <a:lnTo>
                      <a:pt x="719" y="660"/>
                    </a:lnTo>
                    <a:lnTo>
                      <a:pt x="732" y="695"/>
                    </a:lnTo>
                    <a:lnTo>
                      <a:pt x="744" y="732"/>
                    </a:lnTo>
                    <a:lnTo>
                      <a:pt x="754" y="761"/>
                    </a:lnTo>
                    <a:lnTo>
                      <a:pt x="770" y="791"/>
                    </a:lnTo>
                    <a:lnTo>
                      <a:pt x="786" y="821"/>
                    </a:lnTo>
                    <a:lnTo>
                      <a:pt x="803" y="852"/>
                    </a:lnTo>
                    <a:lnTo>
                      <a:pt x="819" y="882"/>
                    </a:lnTo>
                    <a:lnTo>
                      <a:pt x="837" y="913"/>
                    </a:lnTo>
                    <a:lnTo>
                      <a:pt x="852" y="945"/>
                    </a:lnTo>
                    <a:lnTo>
                      <a:pt x="870" y="976"/>
                    </a:lnTo>
                    <a:lnTo>
                      <a:pt x="872" y="987"/>
                    </a:lnTo>
                    <a:lnTo>
                      <a:pt x="877" y="997"/>
                    </a:lnTo>
                    <a:lnTo>
                      <a:pt x="882" y="1008"/>
                    </a:lnTo>
                    <a:lnTo>
                      <a:pt x="887" y="1020"/>
                    </a:lnTo>
                    <a:lnTo>
                      <a:pt x="889" y="1031"/>
                    </a:lnTo>
                    <a:lnTo>
                      <a:pt x="893" y="1041"/>
                    </a:lnTo>
                    <a:lnTo>
                      <a:pt x="891" y="1052"/>
                    </a:lnTo>
                    <a:lnTo>
                      <a:pt x="887" y="1064"/>
                    </a:lnTo>
                    <a:lnTo>
                      <a:pt x="861" y="1129"/>
                    </a:lnTo>
                    <a:lnTo>
                      <a:pt x="858" y="1099"/>
                    </a:lnTo>
                    <a:lnTo>
                      <a:pt x="854" y="1073"/>
                    </a:lnTo>
                    <a:lnTo>
                      <a:pt x="849" y="1043"/>
                    </a:lnTo>
                    <a:lnTo>
                      <a:pt x="845" y="1017"/>
                    </a:lnTo>
                    <a:lnTo>
                      <a:pt x="838" y="989"/>
                    </a:lnTo>
                    <a:lnTo>
                      <a:pt x="833" y="961"/>
                    </a:lnTo>
                    <a:lnTo>
                      <a:pt x="826" y="934"/>
                    </a:lnTo>
                    <a:lnTo>
                      <a:pt x="819" y="908"/>
                    </a:lnTo>
                    <a:lnTo>
                      <a:pt x="809" y="898"/>
                    </a:lnTo>
                    <a:lnTo>
                      <a:pt x="812" y="933"/>
                    </a:lnTo>
                    <a:lnTo>
                      <a:pt x="817" y="971"/>
                    </a:lnTo>
                    <a:lnTo>
                      <a:pt x="821" y="1010"/>
                    </a:lnTo>
                    <a:lnTo>
                      <a:pt x="826" y="1050"/>
                    </a:lnTo>
                    <a:lnTo>
                      <a:pt x="828" y="1088"/>
                    </a:lnTo>
                    <a:lnTo>
                      <a:pt x="830" y="1127"/>
                    </a:lnTo>
                    <a:lnTo>
                      <a:pt x="826" y="1164"/>
                    </a:lnTo>
                    <a:lnTo>
                      <a:pt x="819" y="1200"/>
                    </a:lnTo>
                    <a:lnTo>
                      <a:pt x="812" y="1137"/>
                    </a:lnTo>
                    <a:lnTo>
                      <a:pt x="798" y="1076"/>
                    </a:lnTo>
                    <a:lnTo>
                      <a:pt x="777" y="1018"/>
                    </a:lnTo>
                    <a:lnTo>
                      <a:pt x="751" y="964"/>
                    </a:lnTo>
                    <a:lnTo>
                      <a:pt x="716" y="912"/>
                    </a:lnTo>
                    <a:lnTo>
                      <a:pt x="676" y="864"/>
                    </a:lnTo>
                    <a:lnTo>
                      <a:pt x="630" y="823"/>
                    </a:lnTo>
                    <a:lnTo>
                      <a:pt x="579" y="786"/>
                    </a:lnTo>
                    <a:lnTo>
                      <a:pt x="576" y="795"/>
                    </a:lnTo>
                    <a:lnTo>
                      <a:pt x="581" y="802"/>
                    </a:lnTo>
                    <a:lnTo>
                      <a:pt x="590" y="810"/>
                    </a:lnTo>
                    <a:lnTo>
                      <a:pt x="599" y="821"/>
                    </a:lnTo>
                    <a:lnTo>
                      <a:pt x="620" y="837"/>
                    </a:lnTo>
                    <a:lnTo>
                      <a:pt x="642" y="857"/>
                    </a:lnTo>
                    <a:lnTo>
                      <a:pt x="660" y="878"/>
                    </a:lnTo>
                    <a:lnTo>
                      <a:pt x="677" y="905"/>
                    </a:lnTo>
                    <a:lnTo>
                      <a:pt x="693" y="929"/>
                    </a:lnTo>
                    <a:lnTo>
                      <a:pt x="709" y="954"/>
                    </a:lnTo>
                    <a:lnTo>
                      <a:pt x="723" y="978"/>
                    </a:lnTo>
                    <a:lnTo>
                      <a:pt x="740" y="1004"/>
                    </a:lnTo>
                    <a:lnTo>
                      <a:pt x="744" y="1018"/>
                    </a:lnTo>
                    <a:lnTo>
                      <a:pt x="751" y="1034"/>
                    </a:lnTo>
                    <a:lnTo>
                      <a:pt x="756" y="1048"/>
                    </a:lnTo>
                    <a:lnTo>
                      <a:pt x="765" y="1064"/>
                    </a:lnTo>
                    <a:lnTo>
                      <a:pt x="770" y="1087"/>
                    </a:lnTo>
                    <a:lnTo>
                      <a:pt x="777" y="1111"/>
                    </a:lnTo>
                    <a:lnTo>
                      <a:pt x="781" y="1134"/>
                    </a:lnTo>
                    <a:lnTo>
                      <a:pt x="786" y="1160"/>
                    </a:lnTo>
                    <a:lnTo>
                      <a:pt x="788" y="1183"/>
                    </a:lnTo>
                    <a:lnTo>
                      <a:pt x="789" y="1207"/>
                    </a:lnTo>
                    <a:lnTo>
                      <a:pt x="789" y="1234"/>
                    </a:lnTo>
                    <a:lnTo>
                      <a:pt x="789" y="1260"/>
                    </a:lnTo>
                    <a:lnTo>
                      <a:pt x="779" y="1263"/>
                    </a:lnTo>
                    <a:lnTo>
                      <a:pt x="772" y="1260"/>
                    </a:lnTo>
                    <a:lnTo>
                      <a:pt x="763" y="1253"/>
                    </a:lnTo>
                    <a:lnTo>
                      <a:pt x="754" y="1253"/>
                    </a:lnTo>
                    <a:lnTo>
                      <a:pt x="756" y="1227"/>
                    </a:lnTo>
                    <a:lnTo>
                      <a:pt x="754" y="1204"/>
                    </a:lnTo>
                    <a:lnTo>
                      <a:pt x="749" y="1181"/>
                    </a:lnTo>
                    <a:lnTo>
                      <a:pt x="742" y="1160"/>
                    </a:lnTo>
                    <a:lnTo>
                      <a:pt x="732" y="1137"/>
                    </a:lnTo>
                    <a:lnTo>
                      <a:pt x="721" y="1116"/>
                    </a:lnTo>
                    <a:lnTo>
                      <a:pt x="711" y="1097"/>
                    </a:lnTo>
                    <a:lnTo>
                      <a:pt x="700" y="1078"/>
                    </a:lnTo>
                    <a:lnTo>
                      <a:pt x="669" y="1038"/>
                    </a:lnTo>
                    <a:lnTo>
                      <a:pt x="637" y="1003"/>
                    </a:lnTo>
                    <a:lnTo>
                      <a:pt x="604" y="969"/>
                    </a:lnTo>
                    <a:lnTo>
                      <a:pt x="571" y="940"/>
                    </a:lnTo>
                    <a:lnTo>
                      <a:pt x="534" y="910"/>
                    </a:lnTo>
                    <a:lnTo>
                      <a:pt x="497" y="885"/>
                    </a:lnTo>
                    <a:lnTo>
                      <a:pt x="459" y="859"/>
                    </a:lnTo>
                    <a:lnTo>
                      <a:pt x="420" y="838"/>
                    </a:lnTo>
                    <a:lnTo>
                      <a:pt x="420" y="843"/>
                    </a:lnTo>
                    <a:lnTo>
                      <a:pt x="461" y="868"/>
                    </a:lnTo>
                    <a:lnTo>
                      <a:pt x="501" y="898"/>
                    </a:lnTo>
                    <a:lnTo>
                      <a:pt x="537" y="927"/>
                    </a:lnTo>
                    <a:lnTo>
                      <a:pt x="576" y="961"/>
                    </a:lnTo>
                    <a:lnTo>
                      <a:pt x="609" y="994"/>
                    </a:lnTo>
                    <a:lnTo>
                      <a:pt x="641" y="1032"/>
                    </a:lnTo>
                    <a:lnTo>
                      <a:pt x="670" y="1071"/>
                    </a:lnTo>
                    <a:lnTo>
                      <a:pt x="697" y="1113"/>
                    </a:lnTo>
                    <a:lnTo>
                      <a:pt x="581" y="1004"/>
                    </a:lnTo>
                    <a:lnTo>
                      <a:pt x="564" y="999"/>
                    </a:lnTo>
                    <a:lnTo>
                      <a:pt x="565" y="999"/>
                    </a:lnTo>
                    <a:lnTo>
                      <a:pt x="569" y="999"/>
                    </a:lnTo>
                    <a:lnTo>
                      <a:pt x="560" y="989"/>
                    </a:lnTo>
                    <a:lnTo>
                      <a:pt x="551" y="982"/>
                    </a:lnTo>
                    <a:lnTo>
                      <a:pt x="541" y="973"/>
                    </a:lnTo>
                    <a:lnTo>
                      <a:pt x="532" y="969"/>
                    </a:lnTo>
                    <a:lnTo>
                      <a:pt x="529" y="966"/>
                    </a:lnTo>
                    <a:lnTo>
                      <a:pt x="520" y="959"/>
                    </a:lnTo>
                    <a:lnTo>
                      <a:pt x="506" y="950"/>
                    </a:lnTo>
                    <a:lnTo>
                      <a:pt x="497" y="945"/>
                    </a:lnTo>
                    <a:lnTo>
                      <a:pt x="494" y="945"/>
                    </a:lnTo>
                    <a:lnTo>
                      <a:pt x="490" y="940"/>
                    </a:lnTo>
                    <a:lnTo>
                      <a:pt x="483" y="934"/>
                    </a:lnTo>
                    <a:lnTo>
                      <a:pt x="473" y="929"/>
                    </a:lnTo>
                    <a:lnTo>
                      <a:pt x="462" y="927"/>
                    </a:lnTo>
                    <a:lnTo>
                      <a:pt x="447" y="915"/>
                    </a:lnTo>
                    <a:lnTo>
                      <a:pt x="431" y="905"/>
                    </a:lnTo>
                    <a:lnTo>
                      <a:pt x="415" y="896"/>
                    </a:lnTo>
                    <a:lnTo>
                      <a:pt x="399" y="894"/>
                    </a:lnTo>
                    <a:lnTo>
                      <a:pt x="445" y="927"/>
                    </a:lnTo>
                    <a:lnTo>
                      <a:pt x="497" y="962"/>
                    </a:lnTo>
                    <a:lnTo>
                      <a:pt x="548" y="997"/>
                    </a:lnTo>
                    <a:lnTo>
                      <a:pt x="599" y="1036"/>
                    </a:lnTo>
                    <a:lnTo>
                      <a:pt x="642" y="1076"/>
                    </a:lnTo>
                    <a:lnTo>
                      <a:pt x="683" y="1123"/>
                    </a:lnTo>
                    <a:lnTo>
                      <a:pt x="714" y="1176"/>
                    </a:lnTo>
                    <a:lnTo>
                      <a:pt x="735" y="1235"/>
                    </a:lnTo>
                    <a:lnTo>
                      <a:pt x="719" y="1228"/>
                    </a:lnTo>
                    <a:lnTo>
                      <a:pt x="705" y="1220"/>
                    </a:lnTo>
                    <a:lnTo>
                      <a:pt x="690" y="1209"/>
                    </a:lnTo>
                    <a:lnTo>
                      <a:pt x="677" y="1200"/>
                    </a:lnTo>
                    <a:lnTo>
                      <a:pt x="663" y="1158"/>
                    </a:lnTo>
                    <a:lnTo>
                      <a:pt x="644" y="1122"/>
                    </a:lnTo>
                    <a:lnTo>
                      <a:pt x="618" y="1090"/>
                    </a:lnTo>
                    <a:lnTo>
                      <a:pt x="588" y="1064"/>
                    </a:lnTo>
                    <a:lnTo>
                      <a:pt x="553" y="1039"/>
                    </a:lnTo>
                    <a:lnTo>
                      <a:pt x="518" y="1018"/>
                    </a:lnTo>
                    <a:lnTo>
                      <a:pt x="483" y="997"/>
                    </a:lnTo>
                    <a:lnTo>
                      <a:pt x="448" y="982"/>
                    </a:lnTo>
                    <a:lnTo>
                      <a:pt x="410" y="969"/>
                    </a:lnTo>
                    <a:lnTo>
                      <a:pt x="373" y="961"/>
                    </a:lnTo>
                    <a:lnTo>
                      <a:pt x="336" y="952"/>
                    </a:lnTo>
                    <a:lnTo>
                      <a:pt x="300" y="947"/>
                    </a:lnTo>
                    <a:lnTo>
                      <a:pt x="261" y="941"/>
                    </a:lnTo>
                    <a:lnTo>
                      <a:pt x="224" y="941"/>
                    </a:lnTo>
                    <a:lnTo>
                      <a:pt x="188" y="941"/>
                    </a:lnTo>
                    <a:lnTo>
                      <a:pt x="151" y="947"/>
                    </a:lnTo>
                    <a:lnTo>
                      <a:pt x="132" y="941"/>
                    </a:lnTo>
                    <a:lnTo>
                      <a:pt x="112" y="940"/>
                    </a:lnTo>
                    <a:lnTo>
                      <a:pt x="93" y="940"/>
                    </a:lnTo>
                    <a:lnTo>
                      <a:pt x="74" y="943"/>
                    </a:lnTo>
                    <a:lnTo>
                      <a:pt x="53" y="947"/>
                    </a:lnTo>
                    <a:lnTo>
                      <a:pt x="34" y="955"/>
                    </a:lnTo>
                    <a:lnTo>
                      <a:pt x="16" y="964"/>
                    </a:lnTo>
                    <a:lnTo>
                      <a:pt x="0" y="976"/>
                    </a:lnTo>
                    <a:lnTo>
                      <a:pt x="6" y="959"/>
                    </a:lnTo>
                    <a:lnTo>
                      <a:pt x="16" y="943"/>
                    </a:lnTo>
                    <a:lnTo>
                      <a:pt x="30" y="929"/>
                    </a:lnTo>
                    <a:lnTo>
                      <a:pt x="46" y="919"/>
                    </a:lnTo>
                    <a:lnTo>
                      <a:pt x="62" y="906"/>
                    </a:lnTo>
                    <a:lnTo>
                      <a:pt x="77" y="896"/>
                    </a:lnTo>
                    <a:lnTo>
                      <a:pt x="93" y="884"/>
                    </a:lnTo>
                    <a:lnTo>
                      <a:pt x="109" y="873"/>
                    </a:lnTo>
                    <a:lnTo>
                      <a:pt x="126" y="861"/>
                    </a:lnTo>
                    <a:lnTo>
                      <a:pt x="146" y="849"/>
                    </a:lnTo>
                    <a:lnTo>
                      <a:pt x="165" y="837"/>
                    </a:lnTo>
                    <a:lnTo>
                      <a:pt x="184" y="826"/>
                    </a:lnTo>
                    <a:lnTo>
                      <a:pt x="202" y="814"/>
                    </a:lnTo>
                    <a:lnTo>
                      <a:pt x="219" y="803"/>
                    </a:lnTo>
                    <a:lnTo>
                      <a:pt x="235" y="793"/>
                    </a:lnTo>
                    <a:lnTo>
                      <a:pt x="251" y="784"/>
                    </a:lnTo>
                    <a:lnTo>
                      <a:pt x="233" y="781"/>
                    </a:lnTo>
                    <a:lnTo>
                      <a:pt x="216" y="782"/>
                    </a:lnTo>
                    <a:lnTo>
                      <a:pt x="198" y="786"/>
                    </a:lnTo>
                    <a:lnTo>
                      <a:pt x="182" y="793"/>
                    </a:lnTo>
                    <a:lnTo>
                      <a:pt x="167" y="798"/>
                    </a:lnTo>
                    <a:lnTo>
                      <a:pt x="151" y="809"/>
                    </a:lnTo>
                    <a:lnTo>
                      <a:pt x="135" y="817"/>
                    </a:lnTo>
                    <a:lnTo>
                      <a:pt x="119" y="826"/>
                    </a:lnTo>
                    <a:lnTo>
                      <a:pt x="139" y="781"/>
                    </a:lnTo>
                    <a:lnTo>
                      <a:pt x="165" y="739"/>
                    </a:lnTo>
                    <a:lnTo>
                      <a:pt x="193" y="697"/>
                    </a:lnTo>
                    <a:lnTo>
                      <a:pt x="226" y="660"/>
                    </a:lnTo>
                    <a:lnTo>
                      <a:pt x="261" y="623"/>
                    </a:lnTo>
                    <a:lnTo>
                      <a:pt x="300" y="592"/>
                    </a:lnTo>
                    <a:lnTo>
                      <a:pt x="340" y="564"/>
                    </a:lnTo>
                    <a:lnTo>
                      <a:pt x="385" y="541"/>
                    </a:lnTo>
                    <a:lnTo>
                      <a:pt x="398" y="525"/>
                    </a:lnTo>
                    <a:lnTo>
                      <a:pt x="413" y="515"/>
                    </a:lnTo>
                    <a:lnTo>
                      <a:pt x="429" y="506"/>
                    </a:lnTo>
                    <a:lnTo>
                      <a:pt x="448" y="499"/>
                    </a:lnTo>
                    <a:lnTo>
                      <a:pt x="448" y="497"/>
                    </a:lnTo>
                    <a:lnTo>
                      <a:pt x="450" y="494"/>
                    </a:lnTo>
                    <a:lnTo>
                      <a:pt x="413" y="492"/>
                    </a:lnTo>
                    <a:lnTo>
                      <a:pt x="433" y="446"/>
                    </a:lnTo>
                    <a:lnTo>
                      <a:pt x="455" y="404"/>
                    </a:lnTo>
                    <a:lnTo>
                      <a:pt x="480" y="363"/>
                    </a:lnTo>
                    <a:lnTo>
                      <a:pt x="506" y="322"/>
                    </a:lnTo>
                    <a:lnTo>
                      <a:pt x="530" y="280"/>
                    </a:lnTo>
                    <a:lnTo>
                      <a:pt x="555" y="238"/>
                    </a:lnTo>
                    <a:lnTo>
                      <a:pt x="579" y="196"/>
                    </a:lnTo>
                    <a:lnTo>
                      <a:pt x="604" y="154"/>
                    </a:lnTo>
                    <a:lnTo>
                      <a:pt x="620" y="133"/>
                    </a:lnTo>
                    <a:lnTo>
                      <a:pt x="637" y="114"/>
                    </a:lnTo>
                    <a:lnTo>
                      <a:pt x="655" y="93"/>
                    </a:lnTo>
                    <a:lnTo>
                      <a:pt x="676" y="74"/>
                    </a:lnTo>
                    <a:lnTo>
                      <a:pt x="695" y="55"/>
                    </a:lnTo>
                    <a:lnTo>
                      <a:pt x="716" y="41"/>
                    </a:lnTo>
                    <a:lnTo>
                      <a:pt x="739" y="28"/>
                    </a:lnTo>
                    <a:lnTo>
                      <a:pt x="763" y="23"/>
                    </a:lnTo>
                    <a:lnTo>
                      <a:pt x="772" y="14"/>
                    </a:lnTo>
                    <a:lnTo>
                      <a:pt x="782" y="7"/>
                    </a:lnTo>
                    <a:lnTo>
                      <a:pt x="793" y="4"/>
                    </a:lnTo>
                    <a:lnTo>
                      <a:pt x="807" y="9"/>
                    </a:lnTo>
                    <a:lnTo>
                      <a:pt x="809" y="0"/>
                    </a:lnTo>
                    <a:lnTo>
                      <a:pt x="819" y="18"/>
                    </a:lnTo>
                    <a:lnTo>
                      <a:pt x="833" y="34"/>
                    </a:lnTo>
                    <a:lnTo>
                      <a:pt x="849" y="48"/>
                    </a:lnTo>
                    <a:lnTo>
                      <a:pt x="866" y="60"/>
                    </a:lnTo>
                    <a:lnTo>
                      <a:pt x="884" y="69"/>
                    </a:lnTo>
                    <a:lnTo>
                      <a:pt x="903" y="76"/>
                    </a:lnTo>
                    <a:lnTo>
                      <a:pt x="924" y="81"/>
                    </a:lnTo>
                    <a:lnTo>
                      <a:pt x="945" y="88"/>
                    </a:lnTo>
                    <a:close/>
                  </a:path>
                </a:pathLst>
              </a:cu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75240" y="47487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1" y="9"/>
                    </a:moveTo>
                    <a:lnTo>
                      <a:pt x="14" y="16"/>
                    </a:lnTo>
                    <a:lnTo>
                      <a:pt x="2" y="18"/>
                    </a:lnTo>
                    <a:lnTo>
                      <a:pt x="0" y="7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95720" y="4748760"/>
                <a:ext cx="11160" cy="187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4" y="23"/>
                    </a:moveTo>
                    <a:lnTo>
                      <a:pt x="2" y="18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16" y="13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52720" y="47534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12"/>
                    </a:moveTo>
                    <a:lnTo>
                      <a:pt x="18" y="17"/>
                    </a:lnTo>
                    <a:lnTo>
                      <a:pt x="11" y="22"/>
                    </a:lnTo>
                    <a:lnTo>
                      <a:pt x="4" y="19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49720" y="475344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5"/>
                    </a:moveTo>
                    <a:lnTo>
                      <a:pt x="13" y="28"/>
                    </a:lnTo>
                    <a:lnTo>
                      <a:pt x="2" y="24"/>
                    </a:lnTo>
                    <a:lnTo>
                      <a:pt x="0" y="15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759120" y="475668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4"/>
                    </a:moveTo>
                    <a:lnTo>
                      <a:pt x="12" y="19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4" y="5"/>
                    </a:lnTo>
                    <a:lnTo>
                      <a:pt x="9" y="2"/>
                    </a:lnTo>
                    <a:lnTo>
                      <a:pt x="16" y="0"/>
                    </a:lnTo>
                    <a:lnTo>
                      <a:pt x="23" y="4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97360" y="475524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4"/>
                    </a:moveTo>
                    <a:lnTo>
                      <a:pt x="17" y="14"/>
                    </a:lnTo>
                    <a:lnTo>
                      <a:pt x="12" y="21"/>
                    </a:lnTo>
                    <a:lnTo>
                      <a:pt x="3" y="20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79720" y="476136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2"/>
                    </a:moveTo>
                    <a:lnTo>
                      <a:pt x="20" y="9"/>
                    </a:lnTo>
                    <a:lnTo>
                      <a:pt x="14" y="14"/>
                    </a:lnTo>
                    <a:lnTo>
                      <a:pt x="6" y="14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93960" y="476460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8"/>
                    </a:moveTo>
                    <a:lnTo>
                      <a:pt x="16" y="15"/>
                    </a:lnTo>
                    <a:lnTo>
                      <a:pt x="14" y="22"/>
                    </a:lnTo>
                    <a:lnTo>
                      <a:pt x="7" y="21"/>
                    </a:lnTo>
                    <a:lnTo>
                      <a:pt x="3" y="15"/>
                    </a:lnTo>
                    <a:lnTo>
                      <a:pt x="0" y="7"/>
                    </a:lnTo>
                    <a:lnTo>
                      <a:pt x="5" y="1"/>
                    </a:lnTo>
                    <a:lnTo>
                      <a:pt x="12" y="0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21120" y="476784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4" y="0"/>
                    </a:moveTo>
                    <a:lnTo>
                      <a:pt x="12" y="4"/>
                    </a:lnTo>
                    <a:lnTo>
                      <a:pt x="10" y="11"/>
                    </a:lnTo>
                    <a:lnTo>
                      <a:pt x="7" y="16"/>
                    </a:lnTo>
                    <a:lnTo>
                      <a:pt x="3" y="19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92600" y="4767840"/>
                <a:ext cx="25200" cy="20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9"/>
                    </a:moveTo>
                    <a:lnTo>
                      <a:pt x="25" y="23"/>
                    </a:lnTo>
                    <a:lnTo>
                      <a:pt x="19" y="24"/>
                    </a:lnTo>
                    <a:lnTo>
                      <a:pt x="11" y="23"/>
                    </a:lnTo>
                    <a:lnTo>
                      <a:pt x="7" y="23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16" y="5"/>
                    </a:lnTo>
                    <a:lnTo>
                      <a:pt x="23" y="9"/>
                    </a:lnTo>
                    <a:lnTo>
                      <a:pt x="30" y="12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19600" y="47678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5"/>
                    </a:move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51280" y="47757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0"/>
                    </a:moveTo>
                    <a:lnTo>
                      <a:pt x="16" y="10"/>
                    </a:lnTo>
                    <a:lnTo>
                      <a:pt x="9" y="15"/>
                    </a:lnTo>
                    <a:lnTo>
                      <a:pt x="4" y="14"/>
                    </a:lnTo>
                    <a:lnTo>
                      <a:pt x="0" y="10"/>
                    </a:lnTo>
                    <a:lnTo>
                      <a:pt x="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51440" y="47790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3"/>
                    </a:moveTo>
                    <a:lnTo>
                      <a:pt x="16" y="19"/>
                    </a:lnTo>
                    <a:lnTo>
                      <a:pt x="5" y="16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9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17960" y="478368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14"/>
                    </a:moveTo>
                    <a:lnTo>
                      <a:pt x="12" y="23"/>
                    </a:lnTo>
                    <a:lnTo>
                      <a:pt x="4" y="1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4" y="5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32120" y="478692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15"/>
                    </a:moveTo>
                    <a:lnTo>
                      <a:pt x="12" y="22"/>
                    </a:lnTo>
                    <a:lnTo>
                      <a:pt x="5" y="24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5" y="1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75040" y="4786920"/>
                <a:ext cx="14400" cy="1224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0"/>
                    </a:moveTo>
                    <a:lnTo>
                      <a:pt x="19" y="7"/>
                    </a:lnTo>
                    <a:lnTo>
                      <a:pt x="14" y="15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03760" y="47883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9"/>
                    </a:moveTo>
                    <a:lnTo>
                      <a:pt x="7" y="11"/>
                    </a:lnTo>
                    <a:lnTo>
                      <a:pt x="0" y="13"/>
                    </a:lnTo>
                    <a:lnTo>
                      <a:pt x="2" y="0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000760" y="4790160"/>
                <a:ext cx="15840" cy="169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5"/>
                    </a:moveTo>
                    <a:lnTo>
                      <a:pt x="19" y="12"/>
                    </a:lnTo>
                    <a:lnTo>
                      <a:pt x="16" y="19"/>
                    </a:lnTo>
                    <a:lnTo>
                      <a:pt x="7" y="21"/>
                    </a:lnTo>
                    <a:lnTo>
                      <a:pt x="2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35440" y="47948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9" y="19"/>
                    </a:moveTo>
                    <a:lnTo>
                      <a:pt x="4" y="19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95720" y="480276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3" y="8"/>
                    </a:moveTo>
                    <a:lnTo>
                      <a:pt x="21" y="14"/>
                    </a:lnTo>
                    <a:lnTo>
                      <a:pt x="16" y="19"/>
                    </a:lnTo>
                    <a:lnTo>
                      <a:pt x="6" y="1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3" y="3"/>
                    </a:lnTo>
                    <a:lnTo>
                      <a:pt x="2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025960" y="480744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9"/>
                    </a:moveTo>
                    <a:lnTo>
                      <a:pt x="17" y="14"/>
                    </a:lnTo>
                    <a:lnTo>
                      <a:pt x="14" y="19"/>
                    </a:lnTo>
                    <a:lnTo>
                      <a:pt x="5" y="17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60800" y="481068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20"/>
                    </a:moveTo>
                    <a:lnTo>
                      <a:pt x="11" y="20"/>
                    </a:lnTo>
                    <a:lnTo>
                      <a:pt x="4" y="16"/>
                    </a:lnTo>
                    <a:lnTo>
                      <a:pt x="0" y="9"/>
                    </a:lnTo>
                    <a:lnTo>
                      <a:pt x="7" y="0"/>
                    </a:lnTo>
                    <a:lnTo>
                      <a:pt x="20" y="0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18040" y="48182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13" y="5"/>
                    </a:moveTo>
                    <a:lnTo>
                      <a:pt x="11" y="14"/>
                    </a:lnTo>
                    <a:lnTo>
                      <a:pt x="6" y="19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00440" y="482148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13"/>
                    </a:moveTo>
                    <a:lnTo>
                      <a:pt x="12" y="18"/>
                    </a:lnTo>
                    <a:lnTo>
                      <a:pt x="5" y="20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14" y="6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49640" y="48229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9"/>
                    </a:moveTo>
                    <a:lnTo>
                      <a:pt x="24" y="17"/>
                    </a:lnTo>
                    <a:lnTo>
                      <a:pt x="10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2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97440" y="4822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5"/>
                    </a:moveTo>
                    <a:lnTo>
                      <a:pt x="17" y="16"/>
                    </a:lnTo>
                    <a:lnTo>
                      <a:pt x="1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2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72080" y="4830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22"/>
                    </a:moveTo>
                    <a:lnTo>
                      <a:pt x="9" y="22"/>
                    </a:lnTo>
                    <a:lnTo>
                      <a:pt x="0" y="14"/>
                    </a:lnTo>
                    <a:lnTo>
                      <a:pt x="10" y="0"/>
                    </a:lnTo>
                    <a:lnTo>
                      <a:pt x="19" y="8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28880" y="4842000"/>
                <a:ext cx="12960" cy="187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4" y="22"/>
                    </a:moveTo>
                    <a:lnTo>
                      <a:pt x="8" y="21"/>
                    </a:lnTo>
                    <a:lnTo>
                      <a:pt x="8" y="24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10" y="0"/>
                    </a:lnTo>
                    <a:lnTo>
                      <a:pt x="15" y="8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73400" y="48420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3"/>
                    </a:moveTo>
                    <a:lnTo>
                      <a:pt x="18" y="12"/>
                    </a:lnTo>
                    <a:lnTo>
                      <a:pt x="9" y="19"/>
                    </a:lnTo>
                    <a:lnTo>
                      <a:pt x="2" y="15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44880" y="484524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9"/>
                    </a:moveTo>
                    <a:lnTo>
                      <a:pt x="10" y="16"/>
                    </a:lnTo>
                    <a:lnTo>
                      <a:pt x="3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4" y="3"/>
                    </a:lnTo>
                    <a:lnTo>
                      <a:pt x="17" y="10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08320" y="484848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16"/>
                    </a:moveTo>
                    <a:lnTo>
                      <a:pt x="14" y="20"/>
                    </a:lnTo>
                    <a:lnTo>
                      <a:pt x="7" y="21"/>
                    </a:lnTo>
                    <a:lnTo>
                      <a:pt x="4" y="16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19" y="7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49920" y="484992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4"/>
                    </a:moveTo>
                    <a:lnTo>
                      <a:pt x="10" y="16"/>
                    </a:lnTo>
                    <a:lnTo>
                      <a:pt x="5" y="16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7" y="0"/>
                    </a:lnTo>
                    <a:lnTo>
                      <a:pt x="17" y="0"/>
                    </a:lnTo>
                    <a:lnTo>
                      <a:pt x="1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59080" y="48531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10"/>
                    </a:moveTo>
                    <a:lnTo>
                      <a:pt x="17" y="19"/>
                    </a:lnTo>
                    <a:lnTo>
                      <a:pt x="12" y="28"/>
                    </a:lnTo>
                    <a:lnTo>
                      <a:pt x="3" y="24"/>
                    </a:lnTo>
                    <a:lnTo>
                      <a:pt x="2" y="15"/>
                    </a:lnTo>
                    <a:lnTo>
                      <a:pt x="0" y="8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02120" y="48564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4" y="17"/>
                    </a:moveTo>
                    <a:lnTo>
                      <a:pt x="7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43360" y="485964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1" y="14"/>
                    </a:moveTo>
                    <a:lnTo>
                      <a:pt x="16" y="20"/>
                    </a:lnTo>
                    <a:lnTo>
                      <a:pt x="5" y="20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5" y="2"/>
                    </a:lnTo>
                    <a:lnTo>
                      <a:pt x="14" y="0"/>
                    </a:lnTo>
                    <a:lnTo>
                      <a:pt x="19" y="2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30560" y="48578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20" y="1"/>
                    </a:moveTo>
                    <a:lnTo>
                      <a:pt x="20" y="10"/>
                    </a:lnTo>
                    <a:lnTo>
                      <a:pt x="14" y="17"/>
                    </a:lnTo>
                    <a:lnTo>
                      <a:pt x="2" y="1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70360" y="485964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1" y="7"/>
                    </a:moveTo>
                    <a:lnTo>
                      <a:pt x="18" y="14"/>
                    </a:lnTo>
                    <a:lnTo>
                      <a:pt x="11" y="16"/>
                    </a:lnTo>
                    <a:lnTo>
                      <a:pt x="2" y="16"/>
                    </a:lnTo>
                    <a:lnTo>
                      <a:pt x="0" y="2"/>
                    </a:lnTo>
                    <a:lnTo>
                      <a:pt x="11" y="0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84480" y="486108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2"/>
                    </a:moveTo>
                    <a:lnTo>
                      <a:pt x="14" y="18"/>
                    </a:lnTo>
                    <a:lnTo>
                      <a:pt x="5" y="18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15" y="4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00520" y="4865760"/>
                <a:ext cx="1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40280" y="486432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8"/>
                    </a:moveTo>
                    <a:lnTo>
                      <a:pt x="16" y="12"/>
                    </a:lnTo>
                    <a:lnTo>
                      <a:pt x="14" y="19"/>
                    </a:lnTo>
                    <a:lnTo>
                      <a:pt x="4" y="17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2" y="1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00440" y="48704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6"/>
                    </a:moveTo>
                    <a:lnTo>
                      <a:pt x="15" y="11"/>
                    </a:lnTo>
                    <a:lnTo>
                      <a:pt x="12" y="14"/>
                    </a:lnTo>
                    <a:lnTo>
                      <a:pt x="5" y="16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075200" y="487044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6"/>
                    </a:moveTo>
                    <a:lnTo>
                      <a:pt x="23" y="13"/>
                    </a:lnTo>
                    <a:lnTo>
                      <a:pt x="16" y="18"/>
                    </a:lnTo>
                    <a:lnTo>
                      <a:pt x="0" y="18"/>
                    </a:lnTo>
                    <a:lnTo>
                      <a:pt x="3" y="6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94120" y="48704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7"/>
                    </a:moveTo>
                    <a:lnTo>
                      <a:pt x="15" y="14"/>
                    </a:lnTo>
                    <a:lnTo>
                      <a:pt x="10" y="21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0" y="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53000" y="487548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7"/>
                    </a:moveTo>
                    <a:lnTo>
                      <a:pt x="21" y="15"/>
                    </a:lnTo>
                    <a:lnTo>
                      <a:pt x="14" y="24"/>
                    </a:lnTo>
                    <a:lnTo>
                      <a:pt x="0" y="10"/>
                    </a:lnTo>
                    <a:lnTo>
                      <a:pt x="4" y="3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822920" y="48816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4"/>
                    </a:moveTo>
                    <a:lnTo>
                      <a:pt x="21" y="14"/>
                    </a:lnTo>
                    <a:lnTo>
                      <a:pt x="13" y="21"/>
                    </a:lnTo>
                    <a:lnTo>
                      <a:pt x="6" y="21"/>
                    </a:lnTo>
                    <a:lnTo>
                      <a:pt x="0" y="11"/>
                    </a:lnTo>
                    <a:lnTo>
                      <a:pt x="7" y="4"/>
                    </a:lnTo>
                    <a:lnTo>
                      <a:pt x="16" y="0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60720" y="488484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9"/>
                    </a:moveTo>
                    <a:lnTo>
                      <a:pt x="17" y="16"/>
                    </a:lnTo>
                    <a:lnTo>
                      <a:pt x="10" y="19"/>
                    </a:lnTo>
                    <a:lnTo>
                      <a:pt x="2" y="16"/>
                    </a:lnTo>
                    <a:lnTo>
                      <a:pt x="0" y="9"/>
                    </a:lnTo>
                    <a:lnTo>
                      <a:pt x="2" y="2"/>
                    </a:lnTo>
                    <a:lnTo>
                      <a:pt x="9" y="0"/>
                    </a:lnTo>
                    <a:lnTo>
                      <a:pt x="16" y="2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624560" y="4884840"/>
                <a:ext cx="56880" cy="3780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5" y="49"/>
                    </a:moveTo>
                    <a:lnTo>
                      <a:pt x="0" y="47"/>
                    </a:lnTo>
                    <a:lnTo>
                      <a:pt x="72" y="0"/>
                    </a:lnTo>
                    <a:lnTo>
                      <a:pt x="65" y="7"/>
                    </a:lnTo>
                    <a:lnTo>
                      <a:pt x="58" y="14"/>
                    </a:lnTo>
                    <a:lnTo>
                      <a:pt x="49" y="19"/>
                    </a:lnTo>
                    <a:lnTo>
                      <a:pt x="40" y="24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1" y="40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037040" y="4889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9"/>
                    </a:moveTo>
                    <a:lnTo>
                      <a:pt x="21" y="16"/>
                    </a:lnTo>
                    <a:lnTo>
                      <a:pt x="16" y="19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9" y="0"/>
                    </a:lnTo>
                    <a:lnTo>
                      <a:pt x="19" y="2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65560" y="48895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28" y="7"/>
                    </a:moveTo>
                    <a:lnTo>
                      <a:pt x="21" y="16"/>
                    </a:lnTo>
                    <a:lnTo>
                      <a:pt x="19" y="26"/>
                    </a:lnTo>
                    <a:lnTo>
                      <a:pt x="14" y="33"/>
                    </a:lnTo>
                    <a:lnTo>
                      <a:pt x="3" y="37"/>
                    </a:lnTo>
                    <a:lnTo>
                      <a:pt x="0" y="32"/>
                    </a:lnTo>
                    <a:lnTo>
                      <a:pt x="1" y="26"/>
                    </a:lnTo>
                    <a:lnTo>
                      <a:pt x="10" y="19"/>
                    </a:lnTo>
                    <a:lnTo>
                      <a:pt x="14" y="9"/>
                    </a:lnTo>
                    <a:lnTo>
                      <a:pt x="17" y="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749840" y="489132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10"/>
                    </a:moveTo>
                    <a:lnTo>
                      <a:pt x="14" y="19"/>
                    </a:lnTo>
                    <a:lnTo>
                      <a:pt x="7" y="24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0" y="7"/>
                    </a:lnTo>
                    <a:lnTo>
                      <a:pt x="7" y="1"/>
                    </a:lnTo>
                    <a:lnTo>
                      <a:pt x="14" y="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2640" y="4894560"/>
                <a:ext cx="477720" cy="561240"/>
              </a:xfrm>
              <a:custGeom>
                <a:avLst/>
                <a:gdLst/>
                <a:ahLst/>
                <a:rect l="l" t="t" r="r" b="b"/>
                <a:pathLst>
                  <a:path w="604" h="708">
                    <a:moveTo>
                      <a:pt x="467" y="562"/>
                    </a:moveTo>
                    <a:lnTo>
                      <a:pt x="446" y="541"/>
                    </a:lnTo>
                    <a:lnTo>
                      <a:pt x="425" y="523"/>
                    </a:lnTo>
                    <a:lnTo>
                      <a:pt x="403" y="507"/>
                    </a:lnTo>
                    <a:lnTo>
                      <a:pt x="380" y="497"/>
                    </a:lnTo>
                    <a:lnTo>
                      <a:pt x="354" y="486"/>
                    </a:lnTo>
                    <a:lnTo>
                      <a:pt x="329" y="478"/>
                    </a:lnTo>
                    <a:lnTo>
                      <a:pt x="303" y="471"/>
                    </a:lnTo>
                    <a:lnTo>
                      <a:pt x="277" y="465"/>
                    </a:lnTo>
                    <a:lnTo>
                      <a:pt x="256" y="471"/>
                    </a:lnTo>
                    <a:lnTo>
                      <a:pt x="237" y="481"/>
                    </a:lnTo>
                    <a:lnTo>
                      <a:pt x="219" y="492"/>
                    </a:lnTo>
                    <a:lnTo>
                      <a:pt x="203" y="507"/>
                    </a:lnTo>
                    <a:lnTo>
                      <a:pt x="186" y="520"/>
                    </a:lnTo>
                    <a:lnTo>
                      <a:pt x="170" y="534"/>
                    </a:lnTo>
                    <a:lnTo>
                      <a:pt x="154" y="548"/>
                    </a:lnTo>
                    <a:lnTo>
                      <a:pt x="140" y="562"/>
                    </a:lnTo>
                    <a:lnTo>
                      <a:pt x="14" y="708"/>
                    </a:lnTo>
                    <a:lnTo>
                      <a:pt x="0" y="705"/>
                    </a:lnTo>
                    <a:lnTo>
                      <a:pt x="37" y="647"/>
                    </a:lnTo>
                    <a:lnTo>
                      <a:pt x="83" y="598"/>
                    </a:lnTo>
                    <a:lnTo>
                      <a:pt x="132" y="555"/>
                    </a:lnTo>
                    <a:lnTo>
                      <a:pt x="184" y="513"/>
                    </a:lnTo>
                    <a:lnTo>
                      <a:pt x="231" y="469"/>
                    </a:lnTo>
                    <a:lnTo>
                      <a:pt x="275" y="420"/>
                    </a:lnTo>
                    <a:lnTo>
                      <a:pt x="310" y="364"/>
                    </a:lnTo>
                    <a:lnTo>
                      <a:pt x="335" y="297"/>
                    </a:lnTo>
                    <a:lnTo>
                      <a:pt x="345" y="287"/>
                    </a:lnTo>
                    <a:lnTo>
                      <a:pt x="357" y="278"/>
                    </a:lnTo>
                    <a:lnTo>
                      <a:pt x="366" y="266"/>
                    </a:lnTo>
                    <a:lnTo>
                      <a:pt x="377" y="255"/>
                    </a:lnTo>
                    <a:lnTo>
                      <a:pt x="385" y="243"/>
                    </a:lnTo>
                    <a:lnTo>
                      <a:pt x="396" y="233"/>
                    </a:lnTo>
                    <a:lnTo>
                      <a:pt x="408" y="222"/>
                    </a:lnTo>
                    <a:lnTo>
                      <a:pt x="422" y="215"/>
                    </a:lnTo>
                    <a:lnTo>
                      <a:pt x="429" y="201"/>
                    </a:lnTo>
                    <a:lnTo>
                      <a:pt x="436" y="187"/>
                    </a:lnTo>
                    <a:lnTo>
                      <a:pt x="441" y="173"/>
                    </a:lnTo>
                    <a:lnTo>
                      <a:pt x="448" y="161"/>
                    </a:lnTo>
                    <a:lnTo>
                      <a:pt x="453" y="145"/>
                    </a:lnTo>
                    <a:lnTo>
                      <a:pt x="460" y="131"/>
                    </a:lnTo>
                    <a:lnTo>
                      <a:pt x="466" y="117"/>
                    </a:lnTo>
                    <a:lnTo>
                      <a:pt x="476" y="105"/>
                    </a:lnTo>
                    <a:lnTo>
                      <a:pt x="467" y="142"/>
                    </a:lnTo>
                    <a:lnTo>
                      <a:pt x="457" y="180"/>
                    </a:lnTo>
                    <a:lnTo>
                      <a:pt x="443" y="217"/>
                    </a:lnTo>
                    <a:lnTo>
                      <a:pt x="429" y="254"/>
                    </a:lnTo>
                    <a:lnTo>
                      <a:pt x="412" y="287"/>
                    </a:lnTo>
                    <a:lnTo>
                      <a:pt x="394" y="322"/>
                    </a:lnTo>
                    <a:lnTo>
                      <a:pt x="375" y="355"/>
                    </a:lnTo>
                    <a:lnTo>
                      <a:pt x="356" y="390"/>
                    </a:lnTo>
                    <a:lnTo>
                      <a:pt x="370" y="390"/>
                    </a:lnTo>
                    <a:lnTo>
                      <a:pt x="392" y="352"/>
                    </a:lnTo>
                    <a:lnTo>
                      <a:pt x="415" y="313"/>
                    </a:lnTo>
                    <a:lnTo>
                      <a:pt x="436" y="273"/>
                    </a:lnTo>
                    <a:lnTo>
                      <a:pt x="457" y="234"/>
                    </a:lnTo>
                    <a:lnTo>
                      <a:pt x="473" y="193"/>
                    </a:lnTo>
                    <a:lnTo>
                      <a:pt x="485" y="152"/>
                    </a:lnTo>
                    <a:lnTo>
                      <a:pt x="492" y="109"/>
                    </a:lnTo>
                    <a:lnTo>
                      <a:pt x="495" y="65"/>
                    </a:lnTo>
                    <a:lnTo>
                      <a:pt x="508" y="56"/>
                    </a:lnTo>
                    <a:lnTo>
                      <a:pt x="522" y="60"/>
                    </a:lnTo>
                    <a:lnTo>
                      <a:pt x="520" y="107"/>
                    </a:lnTo>
                    <a:lnTo>
                      <a:pt x="515" y="156"/>
                    </a:lnTo>
                    <a:lnTo>
                      <a:pt x="504" y="201"/>
                    </a:lnTo>
                    <a:lnTo>
                      <a:pt x="492" y="247"/>
                    </a:lnTo>
                    <a:lnTo>
                      <a:pt x="476" y="290"/>
                    </a:lnTo>
                    <a:lnTo>
                      <a:pt x="462" y="336"/>
                    </a:lnTo>
                    <a:lnTo>
                      <a:pt x="446" y="380"/>
                    </a:lnTo>
                    <a:lnTo>
                      <a:pt x="438" y="427"/>
                    </a:lnTo>
                    <a:lnTo>
                      <a:pt x="446" y="420"/>
                    </a:lnTo>
                    <a:lnTo>
                      <a:pt x="453" y="411"/>
                    </a:lnTo>
                    <a:lnTo>
                      <a:pt x="459" y="397"/>
                    </a:lnTo>
                    <a:lnTo>
                      <a:pt x="466" y="387"/>
                    </a:lnTo>
                    <a:lnTo>
                      <a:pt x="476" y="345"/>
                    </a:lnTo>
                    <a:lnTo>
                      <a:pt x="490" y="303"/>
                    </a:lnTo>
                    <a:lnTo>
                      <a:pt x="504" y="259"/>
                    </a:lnTo>
                    <a:lnTo>
                      <a:pt x="520" y="217"/>
                    </a:lnTo>
                    <a:lnTo>
                      <a:pt x="532" y="172"/>
                    </a:lnTo>
                    <a:lnTo>
                      <a:pt x="541" y="128"/>
                    </a:lnTo>
                    <a:lnTo>
                      <a:pt x="544" y="81"/>
                    </a:lnTo>
                    <a:lnTo>
                      <a:pt x="544" y="35"/>
                    </a:lnTo>
                    <a:lnTo>
                      <a:pt x="585" y="0"/>
                    </a:lnTo>
                    <a:lnTo>
                      <a:pt x="599" y="70"/>
                    </a:lnTo>
                    <a:lnTo>
                      <a:pt x="604" y="144"/>
                    </a:lnTo>
                    <a:lnTo>
                      <a:pt x="595" y="217"/>
                    </a:lnTo>
                    <a:lnTo>
                      <a:pt x="581" y="290"/>
                    </a:lnTo>
                    <a:lnTo>
                      <a:pt x="557" y="360"/>
                    </a:lnTo>
                    <a:lnTo>
                      <a:pt x="530" y="430"/>
                    </a:lnTo>
                    <a:lnTo>
                      <a:pt x="499" y="497"/>
                    </a:lnTo>
                    <a:lnTo>
                      <a:pt x="467" y="562"/>
                    </a:lnTo>
                    <a:close/>
                  </a:path>
                </a:pathLst>
              </a:cu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08320" y="489456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8" y="5"/>
                    </a:moveTo>
                    <a:lnTo>
                      <a:pt x="14" y="14"/>
                    </a:lnTo>
                    <a:lnTo>
                      <a:pt x="7" y="21"/>
                    </a:lnTo>
                    <a:lnTo>
                      <a:pt x="4" y="21"/>
                    </a:lnTo>
                    <a:lnTo>
                      <a:pt x="0" y="11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830760" y="49006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4"/>
                    </a:moveTo>
                    <a:lnTo>
                      <a:pt x="16" y="11"/>
                    </a:lnTo>
                    <a:lnTo>
                      <a:pt x="13" y="18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6" y="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87920" y="490248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19"/>
                    </a:moveTo>
                    <a:lnTo>
                      <a:pt x="12" y="24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14"/>
                    </a:lnTo>
                    <a:lnTo>
                      <a:pt x="2" y="7"/>
                    </a:lnTo>
                    <a:lnTo>
                      <a:pt x="7" y="1"/>
                    </a:lnTo>
                    <a:lnTo>
                      <a:pt x="16" y="0"/>
                    </a:lnTo>
                    <a:lnTo>
                      <a:pt x="21" y="7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55960" y="49024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2" y="19"/>
                    </a:moveTo>
                    <a:lnTo>
                      <a:pt x="14" y="22"/>
                    </a:lnTo>
                    <a:lnTo>
                      <a:pt x="5" y="19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15" y="7"/>
                    </a:lnTo>
                    <a:lnTo>
                      <a:pt x="2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98880" y="49006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3"/>
                    </a:moveTo>
                    <a:lnTo>
                      <a:pt x="17" y="12"/>
                    </a:lnTo>
                    <a:lnTo>
                      <a:pt x="12" y="21"/>
                    </a:lnTo>
                    <a:lnTo>
                      <a:pt x="3" y="17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7" y="2"/>
                    </a:lnTo>
                    <a:lnTo>
                      <a:pt x="14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81480" y="490248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1"/>
                    </a:moveTo>
                    <a:lnTo>
                      <a:pt x="10" y="7"/>
                    </a:lnTo>
                    <a:lnTo>
                      <a:pt x="7" y="14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38720" y="49006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4" y="7"/>
                    </a:moveTo>
                    <a:lnTo>
                      <a:pt x="14" y="16"/>
                    </a:lnTo>
                    <a:lnTo>
                      <a:pt x="0" y="16"/>
                    </a:lnTo>
                    <a:lnTo>
                      <a:pt x="1" y="7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18080" y="49024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29" y="1"/>
                    </a:moveTo>
                    <a:lnTo>
                      <a:pt x="28" y="8"/>
                    </a:lnTo>
                    <a:lnTo>
                      <a:pt x="22" y="14"/>
                    </a:lnTo>
                    <a:lnTo>
                      <a:pt x="15" y="17"/>
                    </a:lnTo>
                    <a:lnTo>
                      <a:pt x="8" y="19"/>
                    </a:lnTo>
                    <a:lnTo>
                      <a:pt x="3" y="14"/>
                    </a:lnTo>
                    <a:lnTo>
                      <a:pt x="0" y="10"/>
                    </a:lnTo>
                    <a:lnTo>
                      <a:pt x="3" y="3"/>
                    </a:lnTo>
                    <a:lnTo>
                      <a:pt x="12" y="1"/>
                    </a:lnTo>
                    <a:lnTo>
                      <a:pt x="21" y="0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21000" y="490392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5" y="18"/>
                    </a:moveTo>
                    <a:lnTo>
                      <a:pt x="7" y="20"/>
                    </a:lnTo>
                    <a:lnTo>
                      <a:pt x="0" y="13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9" y="7"/>
                    </a:lnTo>
                    <a:lnTo>
                      <a:pt x="21" y="11"/>
                    </a:lnTo>
                    <a:lnTo>
                      <a:pt x="1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437000" y="490392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18"/>
                    </a:moveTo>
                    <a:lnTo>
                      <a:pt x="9" y="21"/>
                    </a:lnTo>
                    <a:lnTo>
                      <a:pt x="2" y="18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7" y="6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70440" y="49086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7"/>
                    </a:moveTo>
                    <a:lnTo>
                      <a:pt x="16" y="17"/>
                    </a:lnTo>
                    <a:lnTo>
                      <a:pt x="2" y="17"/>
                    </a:lnTo>
                    <a:lnTo>
                      <a:pt x="0" y="8"/>
                    </a:lnTo>
                    <a:lnTo>
                      <a:pt x="5" y="3"/>
                    </a:lnTo>
                    <a:lnTo>
                      <a:pt x="10" y="0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02120" y="491040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6"/>
                    </a:moveTo>
                    <a:lnTo>
                      <a:pt x="9" y="20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9" y="0"/>
                    </a:lnTo>
                    <a:lnTo>
                      <a:pt x="16" y="2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08320" y="492300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33" y="11"/>
                    </a:moveTo>
                    <a:lnTo>
                      <a:pt x="25" y="14"/>
                    </a:lnTo>
                    <a:lnTo>
                      <a:pt x="16" y="19"/>
                    </a:lnTo>
                    <a:lnTo>
                      <a:pt x="5" y="19"/>
                    </a:lnTo>
                    <a:lnTo>
                      <a:pt x="0" y="14"/>
                    </a:lnTo>
                    <a:lnTo>
                      <a:pt x="2" y="2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2"/>
                    </a:lnTo>
                    <a:lnTo>
                      <a:pt x="32" y="5"/>
                    </a:lnTo>
                    <a:lnTo>
                      <a:pt x="3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22920" y="492156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5" y="11"/>
                    </a:moveTo>
                    <a:lnTo>
                      <a:pt x="20" y="14"/>
                    </a:lnTo>
                    <a:lnTo>
                      <a:pt x="16" y="21"/>
                    </a:lnTo>
                    <a:lnTo>
                      <a:pt x="13" y="23"/>
                    </a:lnTo>
                    <a:lnTo>
                      <a:pt x="7" y="21"/>
                    </a:lnTo>
                    <a:lnTo>
                      <a:pt x="0" y="11"/>
                    </a:lnTo>
                    <a:lnTo>
                      <a:pt x="6" y="2"/>
                    </a:lnTo>
                    <a:lnTo>
                      <a:pt x="16" y="0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59120" y="49276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7"/>
                    </a:moveTo>
                    <a:lnTo>
                      <a:pt x="21" y="14"/>
                    </a:lnTo>
                    <a:lnTo>
                      <a:pt x="14" y="18"/>
                    </a:lnTo>
                    <a:lnTo>
                      <a:pt x="9" y="18"/>
                    </a:lnTo>
                    <a:lnTo>
                      <a:pt x="5" y="21"/>
                    </a:lnTo>
                    <a:lnTo>
                      <a:pt x="0" y="11"/>
                    </a:lnTo>
                    <a:lnTo>
                      <a:pt x="2" y="2"/>
                    </a:lnTo>
                    <a:lnTo>
                      <a:pt x="12" y="0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81520" y="492624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16"/>
                    </a:moveTo>
                    <a:lnTo>
                      <a:pt x="21" y="25"/>
                    </a:lnTo>
                    <a:lnTo>
                      <a:pt x="12" y="25"/>
                    </a:lnTo>
                    <a:lnTo>
                      <a:pt x="7" y="21"/>
                    </a:lnTo>
                    <a:lnTo>
                      <a:pt x="3" y="14"/>
                    </a:lnTo>
                    <a:lnTo>
                      <a:pt x="0" y="11"/>
                    </a:lnTo>
                    <a:lnTo>
                      <a:pt x="3" y="0"/>
                    </a:lnTo>
                    <a:lnTo>
                      <a:pt x="12" y="0"/>
                    </a:lnTo>
                    <a:lnTo>
                      <a:pt x="19" y="7"/>
                    </a:lnTo>
                    <a:lnTo>
                      <a:pt x="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010040" y="492768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2"/>
                    </a:moveTo>
                    <a:lnTo>
                      <a:pt x="18" y="4"/>
                    </a:lnTo>
                    <a:lnTo>
                      <a:pt x="18" y="9"/>
                    </a:lnTo>
                    <a:lnTo>
                      <a:pt x="16" y="14"/>
                    </a:lnTo>
                    <a:lnTo>
                      <a:pt x="11" y="18"/>
                    </a:lnTo>
                    <a:lnTo>
                      <a:pt x="2" y="18"/>
                    </a:lnTo>
                    <a:lnTo>
                      <a:pt x="0" y="7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00720" y="4929480"/>
                <a:ext cx="110880" cy="61560"/>
              </a:xfrm>
              <a:custGeom>
                <a:avLst/>
                <a:gdLst/>
                <a:ahLst/>
                <a:rect l="l" t="t" r="r" b="b"/>
                <a:pathLst>
                  <a:path w="140" h="79">
                    <a:moveTo>
                      <a:pt x="91" y="61"/>
                    </a:moveTo>
                    <a:lnTo>
                      <a:pt x="79" y="65"/>
                    </a:lnTo>
                    <a:lnTo>
                      <a:pt x="69" y="70"/>
                    </a:lnTo>
                    <a:lnTo>
                      <a:pt x="58" y="72"/>
                    </a:lnTo>
                    <a:lnTo>
                      <a:pt x="49" y="75"/>
                    </a:lnTo>
                    <a:lnTo>
                      <a:pt x="39" y="75"/>
                    </a:lnTo>
                    <a:lnTo>
                      <a:pt x="28" y="77"/>
                    </a:lnTo>
                    <a:lnTo>
                      <a:pt x="18" y="77"/>
                    </a:lnTo>
                    <a:lnTo>
                      <a:pt x="9" y="79"/>
                    </a:lnTo>
                    <a:lnTo>
                      <a:pt x="0" y="70"/>
                    </a:lnTo>
                    <a:lnTo>
                      <a:pt x="4" y="65"/>
                    </a:lnTo>
                    <a:lnTo>
                      <a:pt x="4" y="59"/>
                    </a:lnTo>
                    <a:lnTo>
                      <a:pt x="21" y="52"/>
                    </a:lnTo>
                    <a:lnTo>
                      <a:pt x="39" y="47"/>
                    </a:lnTo>
                    <a:lnTo>
                      <a:pt x="56" y="42"/>
                    </a:lnTo>
                    <a:lnTo>
                      <a:pt x="76" y="37"/>
                    </a:lnTo>
                    <a:lnTo>
                      <a:pt x="91" y="30"/>
                    </a:lnTo>
                    <a:lnTo>
                      <a:pt x="109" y="21"/>
                    </a:lnTo>
                    <a:lnTo>
                      <a:pt x="125" y="10"/>
                    </a:lnTo>
                    <a:lnTo>
                      <a:pt x="140" y="0"/>
                    </a:lnTo>
                    <a:lnTo>
                      <a:pt x="139" y="10"/>
                    </a:lnTo>
                    <a:lnTo>
                      <a:pt x="135" y="21"/>
                    </a:lnTo>
                    <a:lnTo>
                      <a:pt x="128" y="28"/>
                    </a:lnTo>
                    <a:lnTo>
                      <a:pt x="123" y="37"/>
                    </a:lnTo>
                    <a:lnTo>
                      <a:pt x="114" y="42"/>
                    </a:lnTo>
                    <a:lnTo>
                      <a:pt x="105" y="49"/>
                    </a:lnTo>
                    <a:lnTo>
                      <a:pt x="97" y="54"/>
                    </a:lnTo>
                    <a:lnTo>
                      <a:pt x="91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75040" y="49309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5" y="0"/>
                    </a:moveTo>
                    <a:lnTo>
                      <a:pt x="20" y="14"/>
                    </a:lnTo>
                    <a:lnTo>
                      <a:pt x="11" y="22"/>
                    </a:lnTo>
                    <a:lnTo>
                      <a:pt x="2" y="17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64040" y="493092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0"/>
                    </a:moveTo>
                    <a:lnTo>
                      <a:pt x="16" y="7"/>
                    </a:lnTo>
                    <a:lnTo>
                      <a:pt x="16" y="14"/>
                    </a:lnTo>
                    <a:lnTo>
                      <a:pt x="12" y="19"/>
                    </a:lnTo>
                    <a:lnTo>
                      <a:pt x="7" y="19"/>
                    </a:lnTo>
                    <a:lnTo>
                      <a:pt x="2" y="17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2200" y="493092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17" y="5"/>
                    </a:moveTo>
                    <a:lnTo>
                      <a:pt x="17" y="14"/>
                    </a:lnTo>
                    <a:lnTo>
                      <a:pt x="12" y="22"/>
                    </a:lnTo>
                    <a:lnTo>
                      <a:pt x="5" y="21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965400" y="493740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9" y="2"/>
                    </a:moveTo>
                    <a:lnTo>
                      <a:pt x="23" y="6"/>
                    </a:lnTo>
                    <a:lnTo>
                      <a:pt x="23" y="16"/>
                    </a:lnTo>
                    <a:lnTo>
                      <a:pt x="11" y="21"/>
                    </a:lnTo>
                    <a:lnTo>
                      <a:pt x="0" y="20"/>
                    </a:lnTo>
                    <a:lnTo>
                      <a:pt x="4" y="7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11680" y="494532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5"/>
                    </a:moveTo>
                    <a:lnTo>
                      <a:pt x="17" y="14"/>
                    </a:lnTo>
                    <a:lnTo>
                      <a:pt x="7" y="25"/>
                    </a:lnTo>
                    <a:lnTo>
                      <a:pt x="0" y="12"/>
                    </a:lnTo>
                    <a:lnTo>
                      <a:pt x="3" y="2"/>
                    </a:lnTo>
                    <a:lnTo>
                      <a:pt x="12" y="0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08440" y="494856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17" y="6"/>
                    </a:lnTo>
                    <a:lnTo>
                      <a:pt x="17" y="13"/>
                    </a:lnTo>
                    <a:lnTo>
                      <a:pt x="14" y="18"/>
                    </a:lnTo>
                    <a:lnTo>
                      <a:pt x="9" y="21"/>
                    </a:lnTo>
                    <a:lnTo>
                      <a:pt x="0" y="14"/>
                    </a:lnTo>
                    <a:lnTo>
                      <a:pt x="2" y="7"/>
                    </a:lnTo>
                    <a:lnTo>
                      <a:pt x="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76920" y="495324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15"/>
                    </a:moveTo>
                    <a:lnTo>
                      <a:pt x="7" y="21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4" y="5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33800" y="4956480"/>
                <a:ext cx="19080" cy="122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2" y="7"/>
                    </a:moveTo>
                    <a:lnTo>
                      <a:pt x="15" y="14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10" y="0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0200" y="495648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10"/>
                    </a:lnTo>
                    <a:lnTo>
                      <a:pt x="9" y="21"/>
                    </a:lnTo>
                    <a:lnTo>
                      <a:pt x="4" y="21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78200" y="495792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3" y="14"/>
                    </a:moveTo>
                    <a:lnTo>
                      <a:pt x="24" y="15"/>
                    </a:lnTo>
                    <a:lnTo>
                      <a:pt x="19" y="19"/>
                    </a:lnTo>
                    <a:lnTo>
                      <a:pt x="14" y="22"/>
                    </a:lnTo>
                    <a:lnTo>
                      <a:pt x="8" y="22"/>
                    </a:lnTo>
                    <a:lnTo>
                      <a:pt x="3" y="15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12" y="5"/>
                    </a:lnTo>
                    <a:lnTo>
                      <a:pt x="24" y="3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5"/>
                    </a:lnTo>
                    <a:lnTo>
                      <a:pt x="3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75040" y="496116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4"/>
                    </a:moveTo>
                    <a:lnTo>
                      <a:pt x="21" y="9"/>
                    </a:lnTo>
                    <a:lnTo>
                      <a:pt x="21" y="14"/>
                    </a:lnTo>
                    <a:lnTo>
                      <a:pt x="20" y="19"/>
                    </a:lnTo>
                    <a:lnTo>
                      <a:pt x="13" y="25"/>
                    </a:lnTo>
                    <a:lnTo>
                      <a:pt x="6" y="19"/>
                    </a:lnTo>
                    <a:lnTo>
                      <a:pt x="0" y="11"/>
                    </a:lnTo>
                    <a:lnTo>
                      <a:pt x="2" y="2"/>
                    </a:lnTo>
                    <a:lnTo>
                      <a:pt x="11" y="0"/>
                    </a:lnTo>
                    <a:lnTo>
                      <a:pt x="16" y="2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13120" y="4969080"/>
                <a:ext cx="25560" cy="154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0" y="17"/>
                    </a:moveTo>
                    <a:lnTo>
                      <a:pt x="21" y="15"/>
                    </a:lnTo>
                    <a:lnTo>
                      <a:pt x="13" y="19"/>
                    </a:lnTo>
                    <a:lnTo>
                      <a:pt x="4" y="17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5" y="3"/>
                    </a:lnTo>
                    <a:lnTo>
                      <a:pt x="32" y="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08560" y="4969080"/>
                <a:ext cx="71280" cy="39240"/>
              </a:xfrm>
              <a:custGeom>
                <a:avLst/>
                <a:gdLst/>
                <a:ahLst/>
                <a:rect l="l" t="t" r="r" b="b"/>
                <a:pathLst>
                  <a:path w="91" h="49">
                    <a:moveTo>
                      <a:pt x="88" y="8"/>
                    </a:moveTo>
                    <a:lnTo>
                      <a:pt x="89" y="17"/>
                    </a:lnTo>
                    <a:lnTo>
                      <a:pt x="91" y="29"/>
                    </a:lnTo>
                    <a:lnTo>
                      <a:pt x="77" y="29"/>
                    </a:lnTo>
                    <a:lnTo>
                      <a:pt x="65" y="29"/>
                    </a:lnTo>
                    <a:lnTo>
                      <a:pt x="54" y="31"/>
                    </a:lnTo>
                    <a:lnTo>
                      <a:pt x="44" y="35"/>
                    </a:lnTo>
                    <a:lnTo>
                      <a:pt x="33" y="36"/>
                    </a:lnTo>
                    <a:lnTo>
                      <a:pt x="23" y="40"/>
                    </a:lnTo>
                    <a:lnTo>
                      <a:pt x="12" y="43"/>
                    </a:lnTo>
                    <a:lnTo>
                      <a:pt x="4" y="49"/>
                    </a:lnTo>
                    <a:lnTo>
                      <a:pt x="0" y="0"/>
                    </a:lnTo>
                    <a:lnTo>
                      <a:pt x="8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99040" y="4973760"/>
                <a:ext cx="96840" cy="37800"/>
              </a:xfrm>
              <a:custGeom>
                <a:avLst/>
                <a:gdLst/>
                <a:ahLst/>
                <a:rect l="l" t="t" r="r" b="b"/>
                <a:pathLst>
                  <a:path w="120" h="47">
                    <a:moveTo>
                      <a:pt x="120" y="47"/>
                    </a:moveTo>
                    <a:lnTo>
                      <a:pt x="105" y="42"/>
                    </a:lnTo>
                    <a:lnTo>
                      <a:pt x="89" y="40"/>
                    </a:lnTo>
                    <a:lnTo>
                      <a:pt x="73" y="38"/>
                    </a:lnTo>
                    <a:lnTo>
                      <a:pt x="57" y="38"/>
                    </a:lnTo>
                    <a:lnTo>
                      <a:pt x="42" y="37"/>
                    </a:lnTo>
                    <a:lnTo>
                      <a:pt x="26" y="35"/>
                    </a:lnTo>
                    <a:lnTo>
                      <a:pt x="12" y="33"/>
                    </a:lnTo>
                    <a:lnTo>
                      <a:pt x="0" y="33"/>
                    </a:lnTo>
                    <a:lnTo>
                      <a:pt x="10" y="26"/>
                    </a:lnTo>
                    <a:lnTo>
                      <a:pt x="21" y="21"/>
                    </a:lnTo>
                    <a:lnTo>
                      <a:pt x="31" y="17"/>
                    </a:lnTo>
                    <a:lnTo>
                      <a:pt x="43" y="14"/>
                    </a:lnTo>
                    <a:lnTo>
                      <a:pt x="56" y="10"/>
                    </a:lnTo>
                    <a:lnTo>
                      <a:pt x="70" y="7"/>
                    </a:lnTo>
                    <a:lnTo>
                      <a:pt x="82" y="3"/>
                    </a:lnTo>
                    <a:lnTo>
                      <a:pt x="98" y="0"/>
                    </a:lnTo>
                    <a:lnTo>
                      <a:pt x="105" y="9"/>
                    </a:lnTo>
                    <a:lnTo>
                      <a:pt x="110" y="23"/>
                    </a:lnTo>
                    <a:lnTo>
                      <a:pt x="113" y="35"/>
                    </a:lnTo>
                    <a:lnTo>
                      <a:pt x="12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76840" y="497700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6"/>
                    </a:moveTo>
                    <a:lnTo>
                      <a:pt x="15" y="13"/>
                    </a:lnTo>
                    <a:lnTo>
                      <a:pt x="12" y="20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7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78200" y="49784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5" y="5"/>
                    </a:moveTo>
                    <a:lnTo>
                      <a:pt x="23" y="10"/>
                    </a:lnTo>
                    <a:lnTo>
                      <a:pt x="20" y="17"/>
                    </a:lnTo>
                    <a:lnTo>
                      <a:pt x="13" y="21"/>
                    </a:lnTo>
                    <a:lnTo>
                      <a:pt x="9" y="23"/>
                    </a:lnTo>
                    <a:lnTo>
                      <a:pt x="2" y="14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746600" y="4977000"/>
                <a:ext cx="17640" cy="2016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19" y="20"/>
                    </a:moveTo>
                    <a:lnTo>
                      <a:pt x="11" y="27"/>
                    </a:lnTo>
                    <a:lnTo>
                      <a:pt x="4" y="21"/>
                    </a:lnTo>
                    <a:lnTo>
                      <a:pt x="0" y="16"/>
                    </a:lnTo>
                    <a:lnTo>
                      <a:pt x="0" y="7"/>
                    </a:lnTo>
                    <a:lnTo>
                      <a:pt x="5" y="2"/>
                    </a:lnTo>
                    <a:lnTo>
                      <a:pt x="11" y="0"/>
                    </a:lnTo>
                    <a:lnTo>
                      <a:pt x="18" y="6"/>
                    </a:lnTo>
                    <a:lnTo>
                      <a:pt x="21" y="11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4991400"/>
                <a:ext cx="603360" cy="531360"/>
              </a:xfrm>
              <a:custGeom>
                <a:avLst/>
                <a:gdLst/>
                <a:ahLst/>
                <a:rect l="l" t="t" r="r" b="b"/>
                <a:pathLst>
                  <a:path w="760" h="669">
                    <a:moveTo>
                      <a:pt x="16" y="1"/>
                    </a:moveTo>
                    <a:lnTo>
                      <a:pt x="14" y="29"/>
                    </a:lnTo>
                    <a:lnTo>
                      <a:pt x="20" y="59"/>
                    </a:lnTo>
                    <a:lnTo>
                      <a:pt x="27" y="85"/>
                    </a:lnTo>
                    <a:lnTo>
                      <a:pt x="39" y="111"/>
                    </a:lnTo>
                    <a:lnTo>
                      <a:pt x="49" y="136"/>
                    </a:lnTo>
                    <a:lnTo>
                      <a:pt x="65" y="160"/>
                    </a:lnTo>
                    <a:lnTo>
                      <a:pt x="81" y="185"/>
                    </a:lnTo>
                    <a:lnTo>
                      <a:pt x="98" y="209"/>
                    </a:lnTo>
                    <a:lnTo>
                      <a:pt x="98" y="220"/>
                    </a:lnTo>
                    <a:lnTo>
                      <a:pt x="105" y="230"/>
                    </a:lnTo>
                    <a:lnTo>
                      <a:pt x="112" y="241"/>
                    </a:lnTo>
                    <a:lnTo>
                      <a:pt x="119" y="251"/>
                    </a:lnTo>
                    <a:lnTo>
                      <a:pt x="128" y="264"/>
                    </a:lnTo>
                    <a:lnTo>
                      <a:pt x="135" y="272"/>
                    </a:lnTo>
                    <a:lnTo>
                      <a:pt x="144" y="283"/>
                    </a:lnTo>
                    <a:lnTo>
                      <a:pt x="153" y="293"/>
                    </a:lnTo>
                    <a:lnTo>
                      <a:pt x="163" y="304"/>
                    </a:lnTo>
                    <a:lnTo>
                      <a:pt x="163" y="293"/>
                    </a:lnTo>
                    <a:lnTo>
                      <a:pt x="142" y="260"/>
                    </a:lnTo>
                    <a:lnTo>
                      <a:pt x="121" y="227"/>
                    </a:lnTo>
                    <a:lnTo>
                      <a:pt x="100" y="192"/>
                    </a:lnTo>
                    <a:lnTo>
                      <a:pt x="83" y="159"/>
                    </a:lnTo>
                    <a:lnTo>
                      <a:pt x="65" y="124"/>
                    </a:lnTo>
                    <a:lnTo>
                      <a:pt x="53" y="89"/>
                    </a:lnTo>
                    <a:lnTo>
                      <a:pt x="41" y="50"/>
                    </a:lnTo>
                    <a:lnTo>
                      <a:pt x="35" y="14"/>
                    </a:lnTo>
                    <a:lnTo>
                      <a:pt x="48" y="19"/>
                    </a:lnTo>
                    <a:lnTo>
                      <a:pt x="55" y="31"/>
                    </a:lnTo>
                    <a:lnTo>
                      <a:pt x="58" y="45"/>
                    </a:lnTo>
                    <a:lnTo>
                      <a:pt x="69" y="59"/>
                    </a:lnTo>
                    <a:lnTo>
                      <a:pt x="81" y="80"/>
                    </a:lnTo>
                    <a:lnTo>
                      <a:pt x="93" y="103"/>
                    </a:lnTo>
                    <a:lnTo>
                      <a:pt x="105" y="124"/>
                    </a:lnTo>
                    <a:lnTo>
                      <a:pt x="119" y="146"/>
                    </a:lnTo>
                    <a:lnTo>
                      <a:pt x="132" y="167"/>
                    </a:lnTo>
                    <a:lnTo>
                      <a:pt x="147" y="188"/>
                    </a:lnTo>
                    <a:lnTo>
                      <a:pt x="161" y="208"/>
                    </a:lnTo>
                    <a:lnTo>
                      <a:pt x="181" y="229"/>
                    </a:lnTo>
                    <a:lnTo>
                      <a:pt x="188" y="241"/>
                    </a:lnTo>
                    <a:lnTo>
                      <a:pt x="198" y="257"/>
                    </a:lnTo>
                    <a:lnTo>
                      <a:pt x="209" y="269"/>
                    </a:lnTo>
                    <a:lnTo>
                      <a:pt x="221" y="285"/>
                    </a:lnTo>
                    <a:lnTo>
                      <a:pt x="231" y="297"/>
                    </a:lnTo>
                    <a:lnTo>
                      <a:pt x="245" y="313"/>
                    </a:lnTo>
                    <a:lnTo>
                      <a:pt x="259" y="325"/>
                    </a:lnTo>
                    <a:lnTo>
                      <a:pt x="273" y="341"/>
                    </a:lnTo>
                    <a:lnTo>
                      <a:pt x="275" y="337"/>
                    </a:lnTo>
                    <a:lnTo>
                      <a:pt x="258" y="314"/>
                    </a:lnTo>
                    <a:lnTo>
                      <a:pt x="242" y="293"/>
                    </a:lnTo>
                    <a:lnTo>
                      <a:pt x="228" y="271"/>
                    </a:lnTo>
                    <a:lnTo>
                      <a:pt x="214" y="250"/>
                    </a:lnTo>
                    <a:lnTo>
                      <a:pt x="198" y="227"/>
                    </a:lnTo>
                    <a:lnTo>
                      <a:pt x="186" y="204"/>
                    </a:lnTo>
                    <a:lnTo>
                      <a:pt x="170" y="183"/>
                    </a:lnTo>
                    <a:lnTo>
                      <a:pt x="158" y="162"/>
                    </a:lnTo>
                    <a:lnTo>
                      <a:pt x="170" y="178"/>
                    </a:lnTo>
                    <a:lnTo>
                      <a:pt x="189" y="194"/>
                    </a:lnTo>
                    <a:lnTo>
                      <a:pt x="210" y="206"/>
                    </a:lnTo>
                    <a:lnTo>
                      <a:pt x="233" y="220"/>
                    </a:lnTo>
                    <a:lnTo>
                      <a:pt x="252" y="234"/>
                    </a:lnTo>
                    <a:lnTo>
                      <a:pt x="273" y="251"/>
                    </a:lnTo>
                    <a:lnTo>
                      <a:pt x="289" y="272"/>
                    </a:lnTo>
                    <a:lnTo>
                      <a:pt x="303" y="299"/>
                    </a:lnTo>
                    <a:lnTo>
                      <a:pt x="333" y="330"/>
                    </a:lnTo>
                    <a:lnTo>
                      <a:pt x="368" y="362"/>
                    </a:lnTo>
                    <a:lnTo>
                      <a:pt x="403" y="388"/>
                    </a:lnTo>
                    <a:lnTo>
                      <a:pt x="439" y="414"/>
                    </a:lnTo>
                    <a:lnTo>
                      <a:pt x="476" y="433"/>
                    </a:lnTo>
                    <a:lnTo>
                      <a:pt x="516" y="453"/>
                    </a:lnTo>
                    <a:lnTo>
                      <a:pt x="558" y="468"/>
                    </a:lnTo>
                    <a:lnTo>
                      <a:pt x="600" y="482"/>
                    </a:lnTo>
                    <a:lnTo>
                      <a:pt x="620" y="488"/>
                    </a:lnTo>
                    <a:lnTo>
                      <a:pt x="639" y="498"/>
                    </a:lnTo>
                    <a:lnTo>
                      <a:pt x="656" y="509"/>
                    </a:lnTo>
                    <a:lnTo>
                      <a:pt x="674" y="521"/>
                    </a:lnTo>
                    <a:lnTo>
                      <a:pt x="691" y="531"/>
                    </a:lnTo>
                    <a:lnTo>
                      <a:pt x="709" y="543"/>
                    </a:lnTo>
                    <a:lnTo>
                      <a:pt x="728" y="554"/>
                    </a:lnTo>
                    <a:lnTo>
                      <a:pt x="749" y="566"/>
                    </a:lnTo>
                    <a:lnTo>
                      <a:pt x="753" y="573"/>
                    </a:lnTo>
                    <a:lnTo>
                      <a:pt x="760" y="580"/>
                    </a:lnTo>
                    <a:lnTo>
                      <a:pt x="749" y="584"/>
                    </a:lnTo>
                    <a:lnTo>
                      <a:pt x="739" y="585"/>
                    </a:lnTo>
                    <a:lnTo>
                      <a:pt x="725" y="584"/>
                    </a:lnTo>
                    <a:lnTo>
                      <a:pt x="712" y="585"/>
                    </a:lnTo>
                    <a:lnTo>
                      <a:pt x="711" y="566"/>
                    </a:lnTo>
                    <a:lnTo>
                      <a:pt x="662" y="549"/>
                    </a:lnTo>
                    <a:lnTo>
                      <a:pt x="611" y="531"/>
                    </a:lnTo>
                    <a:lnTo>
                      <a:pt x="558" y="514"/>
                    </a:lnTo>
                    <a:lnTo>
                      <a:pt x="506" y="503"/>
                    </a:lnTo>
                    <a:lnTo>
                      <a:pt x="453" y="498"/>
                    </a:lnTo>
                    <a:lnTo>
                      <a:pt x="401" y="503"/>
                    </a:lnTo>
                    <a:lnTo>
                      <a:pt x="352" y="521"/>
                    </a:lnTo>
                    <a:lnTo>
                      <a:pt x="308" y="556"/>
                    </a:lnTo>
                    <a:lnTo>
                      <a:pt x="280" y="566"/>
                    </a:lnTo>
                    <a:lnTo>
                      <a:pt x="254" y="582"/>
                    </a:lnTo>
                    <a:lnTo>
                      <a:pt x="228" y="598"/>
                    </a:lnTo>
                    <a:lnTo>
                      <a:pt x="202" y="613"/>
                    </a:lnTo>
                    <a:lnTo>
                      <a:pt x="174" y="627"/>
                    </a:lnTo>
                    <a:lnTo>
                      <a:pt x="147" y="643"/>
                    </a:lnTo>
                    <a:lnTo>
                      <a:pt x="119" y="657"/>
                    </a:lnTo>
                    <a:lnTo>
                      <a:pt x="93" y="669"/>
                    </a:lnTo>
                    <a:lnTo>
                      <a:pt x="97" y="652"/>
                    </a:lnTo>
                    <a:lnTo>
                      <a:pt x="100" y="634"/>
                    </a:lnTo>
                    <a:lnTo>
                      <a:pt x="104" y="617"/>
                    </a:lnTo>
                    <a:lnTo>
                      <a:pt x="109" y="601"/>
                    </a:lnTo>
                    <a:lnTo>
                      <a:pt x="111" y="582"/>
                    </a:lnTo>
                    <a:lnTo>
                      <a:pt x="114" y="564"/>
                    </a:lnTo>
                    <a:lnTo>
                      <a:pt x="118" y="549"/>
                    </a:lnTo>
                    <a:lnTo>
                      <a:pt x="123" y="533"/>
                    </a:lnTo>
                    <a:lnTo>
                      <a:pt x="118" y="460"/>
                    </a:lnTo>
                    <a:lnTo>
                      <a:pt x="102" y="393"/>
                    </a:lnTo>
                    <a:lnTo>
                      <a:pt x="79" y="328"/>
                    </a:lnTo>
                    <a:lnTo>
                      <a:pt x="55" y="265"/>
                    </a:lnTo>
                    <a:lnTo>
                      <a:pt x="28" y="201"/>
                    </a:lnTo>
                    <a:lnTo>
                      <a:pt x="9" y="138"/>
                    </a:lnTo>
                    <a:lnTo>
                      <a:pt x="0" y="70"/>
                    </a:lnTo>
                    <a:lnTo>
                      <a:pt x="6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7840" y="499140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7"/>
                    </a:moveTo>
                    <a:lnTo>
                      <a:pt x="19" y="15"/>
                    </a:lnTo>
                    <a:lnTo>
                      <a:pt x="11" y="19"/>
                    </a:lnTo>
                    <a:lnTo>
                      <a:pt x="2" y="19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16" y="1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92680" y="4996080"/>
                <a:ext cx="20520" cy="1692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6" y="19"/>
                    </a:moveTo>
                    <a:lnTo>
                      <a:pt x="19" y="21"/>
                    </a:lnTo>
                    <a:lnTo>
                      <a:pt x="14" y="23"/>
                    </a:lnTo>
                    <a:lnTo>
                      <a:pt x="5" y="21"/>
                    </a:lnTo>
                    <a:lnTo>
                      <a:pt x="2" y="21"/>
                    </a:lnTo>
                    <a:lnTo>
                      <a:pt x="0" y="9"/>
                    </a:lnTo>
                    <a:lnTo>
                      <a:pt x="7" y="0"/>
                    </a:lnTo>
                    <a:lnTo>
                      <a:pt x="18" y="7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33640" y="5000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22" y="7"/>
                    </a:moveTo>
                    <a:lnTo>
                      <a:pt x="19" y="14"/>
                    </a:lnTo>
                    <a:lnTo>
                      <a:pt x="14" y="19"/>
                    </a:lnTo>
                    <a:lnTo>
                      <a:pt x="5" y="17"/>
                    </a:lnTo>
                    <a:lnTo>
                      <a:pt x="1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4" y="0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21000" y="5004000"/>
                <a:ext cx="425520" cy="139320"/>
              </a:xfrm>
              <a:custGeom>
                <a:avLst/>
                <a:gdLst/>
                <a:ahLst/>
                <a:rect l="l" t="t" r="r" b="b"/>
                <a:pathLst>
                  <a:path w="535" h="175">
                    <a:moveTo>
                      <a:pt x="458" y="102"/>
                    </a:moveTo>
                    <a:lnTo>
                      <a:pt x="437" y="107"/>
                    </a:lnTo>
                    <a:lnTo>
                      <a:pt x="416" y="114"/>
                    </a:lnTo>
                    <a:lnTo>
                      <a:pt x="395" y="121"/>
                    </a:lnTo>
                    <a:lnTo>
                      <a:pt x="376" y="128"/>
                    </a:lnTo>
                    <a:lnTo>
                      <a:pt x="355" y="133"/>
                    </a:lnTo>
                    <a:lnTo>
                      <a:pt x="334" y="138"/>
                    </a:lnTo>
                    <a:lnTo>
                      <a:pt x="313" y="142"/>
                    </a:lnTo>
                    <a:lnTo>
                      <a:pt x="292" y="147"/>
                    </a:lnTo>
                    <a:lnTo>
                      <a:pt x="273" y="154"/>
                    </a:lnTo>
                    <a:lnTo>
                      <a:pt x="253" y="161"/>
                    </a:lnTo>
                    <a:lnTo>
                      <a:pt x="234" y="163"/>
                    </a:lnTo>
                    <a:lnTo>
                      <a:pt x="215" y="166"/>
                    </a:lnTo>
                    <a:lnTo>
                      <a:pt x="194" y="166"/>
                    </a:lnTo>
                    <a:lnTo>
                      <a:pt x="176" y="166"/>
                    </a:lnTo>
                    <a:lnTo>
                      <a:pt x="157" y="168"/>
                    </a:lnTo>
                    <a:lnTo>
                      <a:pt x="141" y="175"/>
                    </a:lnTo>
                    <a:lnTo>
                      <a:pt x="133" y="168"/>
                    </a:lnTo>
                    <a:lnTo>
                      <a:pt x="126" y="159"/>
                    </a:lnTo>
                    <a:lnTo>
                      <a:pt x="119" y="152"/>
                    </a:lnTo>
                    <a:lnTo>
                      <a:pt x="108" y="159"/>
                    </a:lnTo>
                    <a:lnTo>
                      <a:pt x="92" y="156"/>
                    </a:lnTo>
                    <a:lnTo>
                      <a:pt x="78" y="152"/>
                    </a:lnTo>
                    <a:lnTo>
                      <a:pt x="63" y="147"/>
                    </a:lnTo>
                    <a:lnTo>
                      <a:pt x="50" y="144"/>
                    </a:lnTo>
                    <a:lnTo>
                      <a:pt x="35" y="138"/>
                    </a:lnTo>
                    <a:lnTo>
                      <a:pt x="22" y="133"/>
                    </a:lnTo>
                    <a:lnTo>
                      <a:pt x="10" y="124"/>
                    </a:lnTo>
                    <a:lnTo>
                      <a:pt x="0" y="117"/>
                    </a:lnTo>
                    <a:lnTo>
                      <a:pt x="0" y="103"/>
                    </a:lnTo>
                    <a:lnTo>
                      <a:pt x="10" y="96"/>
                    </a:lnTo>
                    <a:lnTo>
                      <a:pt x="19" y="100"/>
                    </a:lnTo>
                    <a:lnTo>
                      <a:pt x="29" y="109"/>
                    </a:lnTo>
                    <a:lnTo>
                      <a:pt x="38" y="117"/>
                    </a:lnTo>
                    <a:lnTo>
                      <a:pt x="50" y="126"/>
                    </a:lnTo>
                    <a:lnTo>
                      <a:pt x="68" y="130"/>
                    </a:lnTo>
                    <a:lnTo>
                      <a:pt x="87" y="131"/>
                    </a:lnTo>
                    <a:lnTo>
                      <a:pt x="106" y="131"/>
                    </a:lnTo>
                    <a:lnTo>
                      <a:pt x="126" y="131"/>
                    </a:lnTo>
                    <a:lnTo>
                      <a:pt x="143" y="128"/>
                    </a:lnTo>
                    <a:lnTo>
                      <a:pt x="162" y="126"/>
                    </a:lnTo>
                    <a:lnTo>
                      <a:pt x="182" y="126"/>
                    </a:lnTo>
                    <a:lnTo>
                      <a:pt x="201" y="128"/>
                    </a:lnTo>
                    <a:lnTo>
                      <a:pt x="225" y="110"/>
                    </a:lnTo>
                    <a:lnTo>
                      <a:pt x="252" y="102"/>
                    </a:lnTo>
                    <a:lnTo>
                      <a:pt x="280" y="98"/>
                    </a:lnTo>
                    <a:lnTo>
                      <a:pt x="309" y="98"/>
                    </a:lnTo>
                    <a:lnTo>
                      <a:pt x="337" y="98"/>
                    </a:lnTo>
                    <a:lnTo>
                      <a:pt x="365" y="98"/>
                    </a:lnTo>
                    <a:lnTo>
                      <a:pt x="393" y="95"/>
                    </a:lnTo>
                    <a:lnTo>
                      <a:pt x="423" y="88"/>
                    </a:lnTo>
                    <a:lnTo>
                      <a:pt x="439" y="81"/>
                    </a:lnTo>
                    <a:lnTo>
                      <a:pt x="455" y="74"/>
                    </a:lnTo>
                    <a:lnTo>
                      <a:pt x="469" y="62"/>
                    </a:lnTo>
                    <a:lnTo>
                      <a:pt x="483" y="51"/>
                    </a:lnTo>
                    <a:lnTo>
                      <a:pt x="495" y="37"/>
                    </a:lnTo>
                    <a:lnTo>
                      <a:pt x="509" y="25"/>
                    </a:lnTo>
                    <a:lnTo>
                      <a:pt x="521" y="11"/>
                    </a:lnTo>
                    <a:lnTo>
                      <a:pt x="535" y="0"/>
                    </a:lnTo>
                    <a:lnTo>
                      <a:pt x="532" y="14"/>
                    </a:lnTo>
                    <a:lnTo>
                      <a:pt x="528" y="30"/>
                    </a:lnTo>
                    <a:lnTo>
                      <a:pt x="519" y="44"/>
                    </a:lnTo>
                    <a:lnTo>
                      <a:pt x="511" y="58"/>
                    </a:lnTo>
                    <a:lnTo>
                      <a:pt x="498" y="69"/>
                    </a:lnTo>
                    <a:lnTo>
                      <a:pt x="486" y="81"/>
                    </a:lnTo>
                    <a:lnTo>
                      <a:pt x="472" y="91"/>
                    </a:lnTo>
                    <a:lnTo>
                      <a:pt x="458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18160" y="50086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7"/>
                    </a:moveTo>
                    <a:lnTo>
                      <a:pt x="11" y="22"/>
                    </a:lnTo>
                    <a:lnTo>
                      <a:pt x="7" y="22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14" y="3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30480" y="501012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8" y="9"/>
                    </a:moveTo>
                    <a:lnTo>
                      <a:pt x="18" y="14"/>
                    </a:lnTo>
                    <a:lnTo>
                      <a:pt x="14" y="21"/>
                    </a:lnTo>
                    <a:lnTo>
                      <a:pt x="6" y="18"/>
                    </a:lnTo>
                    <a:lnTo>
                      <a:pt x="0" y="16"/>
                    </a:lnTo>
                    <a:lnTo>
                      <a:pt x="2" y="6"/>
                    </a:lnTo>
                    <a:lnTo>
                      <a:pt x="9" y="2"/>
                    </a:lnTo>
                    <a:lnTo>
                      <a:pt x="14" y="0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42000" y="50277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4"/>
                    </a:moveTo>
                    <a:lnTo>
                      <a:pt x="14" y="14"/>
                    </a:lnTo>
                    <a:lnTo>
                      <a:pt x="5" y="23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10" y="2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55960" y="5031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10"/>
                    </a:moveTo>
                    <a:lnTo>
                      <a:pt x="21" y="17"/>
                    </a:lnTo>
                    <a:lnTo>
                      <a:pt x="14" y="21"/>
                    </a:lnTo>
                    <a:lnTo>
                      <a:pt x="3" y="17"/>
                    </a:lnTo>
                    <a:lnTo>
                      <a:pt x="0" y="8"/>
                    </a:lnTo>
                    <a:lnTo>
                      <a:pt x="5" y="1"/>
                    </a:lnTo>
                    <a:lnTo>
                      <a:pt x="14" y="0"/>
                    </a:lnTo>
                    <a:lnTo>
                      <a:pt x="17" y="5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87720" y="5045400"/>
                <a:ext cx="22320" cy="169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19"/>
                    </a:moveTo>
                    <a:lnTo>
                      <a:pt x="16" y="21"/>
                    </a:lnTo>
                    <a:lnTo>
                      <a:pt x="9" y="19"/>
                    </a:lnTo>
                    <a:lnTo>
                      <a:pt x="0" y="9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21" y="3"/>
                    </a:lnTo>
                    <a:lnTo>
                      <a:pt x="26" y="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89360" y="505008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28" y="0"/>
                    </a:moveTo>
                    <a:lnTo>
                      <a:pt x="28" y="5"/>
                    </a:lnTo>
                    <a:lnTo>
                      <a:pt x="25" y="11"/>
                    </a:lnTo>
                    <a:lnTo>
                      <a:pt x="18" y="14"/>
                    </a:lnTo>
                    <a:lnTo>
                      <a:pt x="14" y="19"/>
                    </a:lnTo>
                    <a:lnTo>
                      <a:pt x="6" y="16"/>
                    </a:lnTo>
                    <a:lnTo>
                      <a:pt x="0" y="11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68720" y="50515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10"/>
                    </a:lnTo>
                    <a:lnTo>
                      <a:pt x="9" y="14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9" y="3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57760" y="505152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32" y="12"/>
                    </a:moveTo>
                    <a:lnTo>
                      <a:pt x="30" y="22"/>
                    </a:lnTo>
                    <a:lnTo>
                      <a:pt x="18" y="21"/>
                    </a:lnTo>
                    <a:lnTo>
                      <a:pt x="7" y="17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18" y="3"/>
                    </a:lnTo>
                    <a:lnTo>
                      <a:pt x="25" y="5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38480" y="50562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5"/>
                    </a:moveTo>
                    <a:lnTo>
                      <a:pt x="17" y="14"/>
                    </a:lnTo>
                    <a:lnTo>
                      <a:pt x="7" y="15"/>
                    </a:lnTo>
                    <a:lnTo>
                      <a:pt x="0" y="8"/>
                    </a:lnTo>
                    <a:lnTo>
                      <a:pt x="3" y="3"/>
                    </a:lnTo>
                    <a:lnTo>
                      <a:pt x="10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19680" y="506592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5"/>
                    </a:moveTo>
                    <a:lnTo>
                      <a:pt x="21" y="11"/>
                    </a:lnTo>
                    <a:lnTo>
                      <a:pt x="18" y="16"/>
                    </a:lnTo>
                    <a:lnTo>
                      <a:pt x="9" y="16"/>
                    </a:lnTo>
                    <a:lnTo>
                      <a:pt x="0" y="11"/>
                    </a:lnTo>
                    <a:lnTo>
                      <a:pt x="4" y="2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22920" y="50673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"/>
                    </a:moveTo>
                    <a:lnTo>
                      <a:pt x="11" y="7"/>
                    </a:lnTo>
                    <a:lnTo>
                      <a:pt x="6" y="12"/>
                    </a:lnTo>
                    <a:lnTo>
                      <a:pt x="0" y="8"/>
                    </a:lnTo>
                    <a:lnTo>
                      <a:pt x="2" y="5"/>
                    </a:lnTo>
                    <a:lnTo>
                      <a:pt x="6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59280" y="507528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7"/>
                    </a:moveTo>
                    <a:lnTo>
                      <a:pt x="16" y="14"/>
                    </a:lnTo>
                    <a:lnTo>
                      <a:pt x="12" y="20"/>
                    </a:lnTo>
                    <a:lnTo>
                      <a:pt x="4" y="18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87640" y="50770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5" y="23"/>
                    </a:moveTo>
                    <a:lnTo>
                      <a:pt x="11" y="17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23" y="1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9240" y="5080320"/>
                <a:ext cx="17280" cy="183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11"/>
                    </a:moveTo>
                    <a:lnTo>
                      <a:pt x="20" y="20"/>
                    </a:lnTo>
                    <a:lnTo>
                      <a:pt x="13" y="25"/>
                    </a:lnTo>
                    <a:lnTo>
                      <a:pt x="6" y="18"/>
                    </a:lnTo>
                    <a:lnTo>
                      <a:pt x="2" y="11"/>
                    </a:lnTo>
                    <a:lnTo>
                      <a:pt x="0" y="2"/>
                    </a:lnTo>
                    <a:lnTo>
                      <a:pt x="9" y="0"/>
                    </a:lnTo>
                    <a:lnTo>
                      <a:pt x="14" y="4"/>
                    </a:lnTo>
                    <a:lnTo>
                      <a:pt x="2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33880" y="50832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9"/>
                    </a:moveTo>
                    <a:lnTo>
                      <a:pt x="20" y="16"/>
                    </a:lnTo>
                    <a:lnTo>
                      <a:pt x="14" y="23"/>
                    </a:lnTo>
                    <a:lnTo>
                      <a:pt x="4" y="17"/>
                    </a:lnTo>
                    <a:lnTo>
                      <a:pt x="0" y="9"/>
                    </a:lnTo>
                    <a:lnTo>
                      <a:pt x="2" y="2"/>
                    </a:lnTo>
                    <a:lnTo>
                      <a:pt x="11" y="0"/>
                    </a:lnTo>
                    <a:lnTo>
                      <a:pt x="20" y="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97280" y="508824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14"/>
                    </a:moveTo>
                    <a:lnTo>
                      <a:pt x="16" y="21"/>
                    </a:lnTo>
                    <a:lnTo>
                      <a:pt x="12" y="24"/>
                    </a:lnTo>
                    <a:lnTo>
                      <a:pt x="3" y="21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16" y="2"/>
                    </a:lnTo>
                    <a:lnTo>
                      <a:pt x="1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5160" y="5088240"/>
                <a:ext cx="19080" cy="20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19"/>
                    </a:moveTo>
                    <a:lnTo>
                      <a:pt x="16" y="21"/>
                    </a:lnTo>
                    <a:lnTo>
                      <a:pt x="7" y="24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9" y="0"/>
                    </a:lnTo>
                    <a:lnTo>
                      <a:pt x="18" y="7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983040" y="5092920"/>
                <a:ext cx="7920" cy="1548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10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7"/>
                    </a:lnTo>
                    <a:lnTo>
                      <a:pt x="7" y="12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33800" y="510228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4" y="11"/>
                    </a:moveTo>
                    <a:lnTo>
                      <a:pt x="14" y="14"/>
                    </a:lnTo>
                    <a:lnTo>
                      <a:pt x="0" y="13"/>
                    </a:lnTo>
                    <a:lnTo>
                      <a:pt x="3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92480" y="510408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2"/>
                    </a:moveTo>
                    <a:lnTo>
                      <a:pt x="17" y="12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16280" y="510696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3" y="5"/>
                    </a:moveTo>
                    <a:lnTo>
                      <a:pt x="29" y="10"/>
                    </a:lnTo>
                    <a:lnTo>
                      <a:pt x="22" y="15"/>
                    </a:lnTo>
                    <a:lnTo>
                      <a:pt x="14" y="17"/>
                    </a:lnTo>
                    <a:lnTo>
                      <a:pt x="8" y="22"/>
                    </a:lnTo>
                    <a:lnTo>
                      <a:pt x="0" y="12"/>
                    </a:lnTo>
                    <a:lnTo>
                      <a:pt x="3" y="1"/>
                    </a:lnTo>
                    <a:lnTo>
                      <a:pt x="10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44880" y="51120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14" y="8"/>
                    </a:lnTo>
                    <a:lnTo>
                      <a:pt x="10" y="15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03720" y="51120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15"/>
                    </a:moveTo>
                    <a:lnTo>
                      <a:pt x="26" y="19"/>
                    </a:lnTo>
                    <a:lnTo>
                      <a:pt x="28" y="22"/>
                    </a:lnTo>
                    <a:lnTo>
                      <a:pt x="16" y="24"/>
                    </a:lnTo>
                    <a:lnTo>
                      <a:pt x="9" y="19"/>
                    </a:lnTo>
                    <a:lnTo>
                      <a:pt x="2" y="10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7" y="0"/>
                    </a:lnTo>
                    <a:lnTo>
                      <a:pt x="21" y="7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18040" y="5119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2"/>
                    </a:moveTo>
                    <a:lnTo>
                      <a:pt x="11" y="7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0680" y="5131080"/>
                <a:ext cx="20520" cy="122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7"/>
                    </a:moveTo>
                    <a:lnTo>
                      <a:pt x="23" y="14"/>
                    </a:lnTo>
                    <a:lnTo>
                      <a:pt x="19" y="18"/>
                    </a:lnTo>
                    <a:lnTo>
                      <a:pt x="5" y="18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16" y="4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084560" y="5134320"/>
              <a:ext cx="22320" cy="172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8" y="10"/>
                  </a:moveTo>
                  <a:lnTo>
                    <a:pt x="18" y="19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9" y="1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48280" y="5144040"/>
              <a:ext cx="15840" cy="20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7" y="24"/>
                  </a:moveTo>
                  <a:lnTo>
                    <a:pt x="0" y="14"/>
                  </a:lnTo>
                  <a:lnTo>
                    <a:pt x="7" y="3"/>
                  </a:lnTo>
                  <a:lnTo>
                    <a:pt x="21" y="0"/>
                  </a:lnTo>
                  <a:lnTo>
                    <a:pt x="19" y="7"/>
                  </a:lnTo>
                  <a:lnTo>
                    <a:pt x="19" y="16"/>
                  </a:lnTo>
                  <a:lnTo>
                    <a:pt x="14" y="2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60840" y="5144040"/>
              <a:ext cx="27000" cy="2988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1" y="16"/>
                  </a:moveTo>
                  <a:lnTo>
                    <a:pt x="35" y="26"/>
                  </a:lnTo>
                  <a:lnTo>
                    <a:pt x="29" y="39"/>
                  </a:lnTo>
                  <a:lnTo>
                    <a:pt x="24" y="37"/>
                  </a:lnTo>
                  <a:lnTo>
                    <a:pt x="17" y="39"/>
                  </a:lnTo>
                  <a:lnTo>
                    <a:pt x="10" y="39"/>
                  </a:lnTo>
                  <a:lnTo>
                    <a:pt x="7" y="33"/>
                  </a:lnTo>
                  <a:lnTo>
                    <a:pt x="5" y="23"/>
                  </a:lnTo>
                  <a:lnTo>
                    <a:pt x="3" y="14"/>
                  </a:lnTo>
                  <a:lnTo>
                    <a:pt x="0" y="7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1" y="5"/>
                  </a:lnTo>
                  <a:lnTo>
                    <a:pt x="24" y="11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13120" y="5144040"/>
              <a:ext cx="22320" cy="20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8" y="3"/>
                  </a:moveTo>
                  <a:lnTo>
                    <a:pt x="26" y="12"/>
                  </a:lnTo>
                  <a:lnTo>
                    <a:pt x="19" y="23"/>
                  </a:lnTo>
                  <a:lnTo>
                    <a:pt x="14" y="24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2" y="3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05360" y="5147280"/>
              <a:ext cx="15840" cy="136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14"/>
                  </a:moveTo>
                  <a:lnTo>
                    <a:pt x="10" y="18"/>
                  </a:lnTo>
                  <a:lnTo>
                    <a:pt x="2" y="16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68640" y="5150520"/>
              <a:ext cx="828720" cy="306000"/>
            </a:xfrm>
            <a:custGeom>
              <a:avLst/>
              <a:gdLst/>
              <a:ahLst/>
              <a:rect l="l" t="t" r="r" b="b"/>
              <a:pathLst>
                <a:path w="1045" h="386">
                  <a:moveTo>
                    <a:pt x="816" y="254"/>
                  </a:moveTo>
                  <a:lnTo>
                    <a:pt x="803" y="266"/>
                  </a:lnTo>
                  <a:lnTo>
                    <a:pt x="788" y="280"/>
                  </a:lnTo>
                  <a:lnTo>
                    <a:pt x="772" y="296"/>
                  </a:lnTo>
                  <a:lnTo>
                    <a:pt x="761" y="313"/>
                  </a:lnTo>
                  <a:lnTo>
                    <a:pt x="747" y="324"/>
                  </a:lnTo>
                  <a:lnTo>
                    <a:pt x="739" y="337"/>
                  </a:lnTo>
                  <a:lnTo>
                    <a:pt x="730" y="353"/>
                  </a:lnTo>
                  <a:lnTo>
                    <a:pt x="723" y="369"/>
                  </a:lnTo>
                  <a:lnTo>
                    <a:pt x="712" y="379"/>
                  </a:lnTo>
                  <a:lnTo>
                    <a:pt x="700" y="386"/>
                  </a:lnTo>
                  <a:lnTo>
                    <a:pt x="684" y="385"/>
                  </a:lnTo>
                  <a:lnTo>
                    <a:pt x="663" y="378"/>
                  </a:lnTo>
                  <a:lnTo>
                    <a:pt x="662" y="371"/>
                  </a:lnTo>
                  <a:lnTo>
                    <a:pt x="656" y="362"/>
                  </a:lnTo>
                  <a:lnTo>
                    <a:pt x="648" y="365"/>
                  </a:lnTo>
                  <a:lnTo>
                    <a:pt x="646" y="371"/>
                  </a:lnTo>
                  <a:lnTo>
                    <a:pt x="646" y="378"/>
                  </a:lnTo>
                  <a:lnTo>
                    <a:pt x="607" y="376"/>
                  </a:lnTo>
                  <a:lnTo>
                    <a:pt x="613" y="371"/>
                  </a:lnTo>
                  <a:lnTo>
                    <a:pt x="613" y="362"/>
                  </a:lnTo>
                  <a:lnTo>
                    <a:pt x="607" y="357"/>
                  </a:lnTo>
                  <a:lnTo>
                    <a:pt x="600" y="357"/>
                  </a:lnTo>
                  <a:lnTo>
                    <a:pt x="593" y="362"/>
                  </a:lnTo>
                  <a:lnTo>
                    <a:pt x="592" y="371"/>
                  </a:lnTo>
                  <a:lnTo>
                    <a:pt x="593" y="372"/>
                  </a:lnTo>
                  <a:lnTo>
                    <a:pt x="586" y="376"/>
                  </a:lnTo>
                  <a:lnTo>
                    <a:pt x="578" y="376"/>
                  </a:lnTo>
                  <a:lnTo>
                    <a:pt x="579" y="371"/>
                  </a:lnTo>
                  <a:lnTo>
                    <a:pt x="581" y="367"/>
                  </a:lnTo>
                  <a:lnTo>
                    <a:pt x="572" y="360"/>
                  </a:lnTo>
                  <a:lnTo>
                    <a:pt x="567" y="362"/>
                  </a:lnTo>
                  <a:lnTo>
                    <a:pt x="560" y="371"/>
                  </a:lnTo>
                  <a:lnTo>
                    <a:pt x="555" y="376"/>
                  </a:lnTo>
                  <a:lnTo>
                    <a:pt x="546" y="379"/>
                  </a:lnTo>
                  <a:lnTo>
                    <a:pt x="537" y="381"/>
                  </a:lnTo>
                  <a:lnTo>
                    <a:pt x="527" y="379"/>
                  </a:lnTo>
                  <a:lnTo>
                    <a:pt x="516" y="379"/>
                  </a:lnTo>
                  <a:lnTo>
                    <a:pt x="506" y="379"/>
                  </a:lnTo>
                  <a:lnTo>
                    <a:pt x="495" y="381"/>
                  </a:lnTo>
                  <a:lnTo>
                    <a:pt x="483" y="364"/>
                  </a:lnTo>
                  <a:lnTo>
                    <a:pt x="471" y="348"/>
                  </a:lnTo>
                  <a:lnTo>
                    <a:pt x="457" y="332"/>
                  </a:lnTo>
                  <a:lnTo>
                    <a:pt x="443" y="322"/>
                  </a:lnTo>
                  <a:lnTo>
                    <a:pt x="425" y="308"/>
                  </a:lnTo>
                  <a:lnTo>
                    <a:pt x="410" y="297"/>
                  </a:lnTo>
                  <a:lnTo>
                    <a:pt x="394" y="289"/>
                  </a:lnTo>
                  <a:lnTo>
                    <a:pt x="378" y="283"/>
                  </a:lnTo>
                  <a:lnTo>
                    <a:pt x="345" y="264"/>
                  </a:lnTo>
                  <a:lnTo>
                    <a:pt x="313" y="250"/>
                  </a:lnTo>
                  <a:lnTo>
                    <a:pt x="280" y="238"/>
                  </a:lnTo>
                  <a:lnTo>
                    <a:pt x="247" y="229"/>
                  </a:lnTo>
                  <a:lnTo>
                    <a:pt x="212" y="217"/>
                  </a:lnTo>
                  <a:lnTo>
                    <a:pt x="180" y="205"/>
                  </a:lnTo>
                  <a:lnTo>
                    <a:pt x="149" y="187"/>
                  </a:lnTo>
                  <a:lnTo>
                    <a:pt x="121" y="166"/>
                  </a:lnTo>
                  <a:lnTo>
                    <a:pt x="103" y="152"/>
                  </a:lnTo>
                  <a:lnTo>
                    <a:pt x="88" y="140"/>
                  </a:lnTo>
                  <a:lnTo>
                    <a:pt x="72" y="126"/>
                  </a:lnTo>
                  <a:lnTo>
                    <a:pt x="56" y="114"/>
                  </a:lnTo>
                  <a:lnTo>
                    <a:pt x="39" y="98"/>
                  </a:lnTo>
                  <a:lnTo>
                    <a:pt x="25" y="82"/>
                  </a:lnTo>
                  <a:lnTo>
                    <a:pt x="11" y="66"/>
                  </a:lnTo>
                  <a:lnTo>
                    <a:pt x="0" y="51"/>
                  </a:lnTo>
                  <a:lnTo>
                    <a:pt x="20" y="59"/>
                  </a:lnTo>
                  <a:lnTo>
                    <a:pt x="41" y="68"/>
                  </a:lnTo>
                  <a:lnTo>
                    <a:pt x="62" y="75"/>
                  </a:lnTo>
                  <a:lnTo>
                    <a:pt x="83" y="82"/>
                  </a:lnTo>
                  <a:lnTo>
                    <a:pt x="102" y="87"/>
                  </a:lnTo>
                  <a:lnTo>
                    <a:pt x="121" y="98"/>
                  </a:lnTo>
                  <a:lnTo>
                    <a:pt x="138" y="110"/>
                  </a:lnTo>
                  <a:lnTo>
                    <a:pt x="156" y="128"/>
                  </a:lnTo>
                  <a:lnTo>
                    <a:pt x="173" y="133"/>
                  </a:lnTo>
                  <a:lnTo>
                    <a:pt x="193" y="138"/>
                  </a:lnTo>
                  <a:lnTo>
                    <a:pt x="214" y="140"/>
                  </a:lnTo>
                  <a:lnTo>
                    <a:pt x="235" y="142"/>
                  </a:lnTo>
                  <a:lnTo>
                    <a:pt x="254" y="143"/>
                  </a:lnTo>
                  <a:lnTo>
                    <a:pt x="273" y="149"/>
                  </a:lnTo>
                  <a:lnTo>
                    <a:pt x="289" y="157"/>
                  </a:lnTo>
                  <a:lnTo>
                    <a:pt x="305" y="173"/>
                  </a:lnTo>
                  <a:lnTo>
                    <a:pt x="340" y="191"/>
                  </a:lnTo>
                  <a:lnTo>
                    <a:pt x="376" y="206"/>
                  </a:lnTo>
                  <a:lnTo>
                    <a:pt x="413" y="219"/>
                  </a:lnTo>
                  <a:lnTo>
                    <a:pt x="452" y="229"/>
                  </a:lnTo>
                  <a:lnTo>
                    <a:pt x="488" y="236"/>
                  </a:lnTo>
                  <a:lnTo>
                    <a:pt x="529" y="241"/>
                  </a:lnTo>
                  <a:lnTo>
                    <a:pt x="569" y="243"/>
                  </a:lnTo>
                  <a:lnTo>
                    <a:pt x="611" y="245"/>
                  </a:lnTo>
                  <a:lnTo>
                    <a:pt x="667" y="243"/>
                  </a:lnTo>
                  <a:lnTo>
                    <a:pt x="725" y="234"/>
                  </a:lnTo>
                  <a:lnTo>
                    <a:pt x="779" y="219"/>
                  </a:lnTo>
                  <a:lnTo>
                    <a:pt x="831" y="199"/>
                  </a:lnTo>
                  <a:lnTo>
                    <a:pt x="879" y="170"/>
                  </a:lnTo>
                  <a:lnTo>
                    <a:pt x="922" y="136"/>
                  </a:lnTo>
                  <a:lnTo>
                    <a:pt x="961" y="94"/>
                  </a:lnTo>
                  <a:lnTo>
                    <a:pt x="994" y="49"/>
                  </a:lnTo>
                  <a:lnTo>
                    <a:pt x="1045" y="0"/>
                  </a:lnTo>
                  <a:lnTo>
                    <a:pt x="1029" y="37"/>
                  </a:lnTo>
                  <a:lnTo>
                    <a:pt x="1008" y="73"/>
                  </a:lnTo>
                  <a:lnTo>
                    <a:pt x="982" y="107"/>
                  </a:lnTo>
                  <a:lnTo>
                    <a:pt x="952" y="142"/>
                  </a:lnTo>
                  <a:lnTo>
                    <a:pt x="917" y="171"/>
                  </a:lnTo>
                  <a:lnTo>
                    <a:pt x="884" y="201"/>
                  </a:lnTo>
                  <a:lnTo>
                    <a:pt x="849" y="227"/>
                  </a:lnTo>
                  <a:lnTo>
                    <a:pt x="816" y="25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2880" y="5151960"/>
              <a:ext cx="11160" cy="16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8"/>
                  </a:moveTo>
                  <a:lnTo>
                    <a:pt x="16" y="15"/>
                  </a:lnTo>
                  <a:lnTo>
                    <a:pt x="11" y="22"/>
                  </a:lnTo>
                  <a:lnTo>
                    <a:pt x="2" y="15"/>
                  </a:lnTo>
                  <a:lnTo>
                    <a:pt x="0" y="8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67440" y="5151960"/>
              <a:ext cx="118800" cy="350640"/>
            </a:xfrm>
            <a:custGeom>
              <a:avLst/>
              <a:gdLst/>
              <a:ahLst/>
              <a:rect l="l" t="t" r="r" b="b"/>
              <a:pathLst>
                <a:path w="151" h="442">
                  <a:moveTo>
                    <a:pt x="131" y="103"/>
                  </a:moveTo>
                  <a:lnTo>
                    <a:pt x="117" y="145"/>
                  </a:lnTo>
                  <a:lnTo>
                    <a:pt x="105" y="190"/>
                  </a:lnTo>
                  <a:lnTo>
                    <a:pt x="91" y="234"/>
                  </a:lnTo>
                  <a:lnTo>
                    <a:pt x="79" y="280"/>
                  </a:lnTo>
                  <a:lnTo>
                    <a:pt x="61" y="322"/>
                  </a:lnTo>
                  <a:lnTo>
                    <a:pt x="44" y="363"/>
                  </a:lnTo>
                  <a:lnTo>
                    <a:pt x="21" y="404"/>
                  </a:lnTo>
                  <a:lnTo>
                    <a:pt x="0" y="442"/>
                  </a:lnTo>
                  <a:lnTo>
                    <a:pt x="26" y="391"/>
                  </a:lnTo>
                  <a:lnTo>
                    <a:pt x="49" y="341"/>
                  </a:lnTo>
                  <a:lnTo>
                    <a:pt x="68" y="285"/>
                  </a:lnTo>
                  <a:lnTo>
                    <a:pt x="88" y="229"/>
                  </a:lnTo>
                  <a:lnTo>
                    <a:pt x="103" y="171"/>
                  </a:lnTo>
                  <a:lnTo>
                    <a:pt x="119" y="113"/>
                  </a:lnTo>
                  <a:lnTo>
                    <a:pt x="133" y="5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6"/>
                  </a:lnTo>
                  <a:lnTo>
                    <a:pt x="147" y="38"/>
                  </a:lnTo>
                  <a:lnTo>
                    <a:pt x="144" y="52"/>
                  </a:lnTo>
                  <a:lnTo>
                    <a:pt x="138" y="63"/>
                  </a:lnTo>
                  <a:lnTo>
                    <a:pt x="135" y="77"/>
                  </a:lnTo>
                  <a:lnTo>
                    <a:pt x="131" y="89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75320" y="5155200"/>
              <a:ext cx="14040" cy="16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19"/>
                  </a:moveTo>
                  <a:lnTo>
                    <a:pt x="12" y="21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2" y="2"/>
                  </a:lnTo>
                  <a:lnTo>
                    <a:pt x="19" y="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90840" y="5158440"/>
              <a:ext cx="11160" cy="234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2" y="0"/>
                  </a:moveTo>
                  <a:lnTo>
                    <a:pt x="14" y="6"/>
                  </a:lnTo>
                  <a:lnTo>
                    <a:pt x="14" y="14"/>
                  </a:lnTo>
                  <a:lnTo>
                    <a:pt x="11" y="21"/>
                  </a:lnTo>
                  <a:lnTo>
                    <a:pt x="7" y="30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2" y="9"/>
                  </a:lnTo>
                  <a:lnTo>
                    <a:pt x="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5400" y="5158440"/>
              <a:ext cx="25200" cy="187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11"/>
                  </a:moveTo>
                  <a:lnTo>
                    <a:pt x="26" y="18"/>
                  </a:lnTo>
                  <a:lnTo>
                    <a:pt x="17" y="25"/>
                  </a:lnTo>
                  <a:lnTo>
                    <a:pt x="5" y="23"/>
                  </a:lnTo>
                  <a:lnTo>
                    <a:pt x="0" y="16"/>
                  </a:lnTo>
                  <a:lnTo>
                    <a:pt x="0" y="4"/>
                  </a:lnTo>
                  <a:lnTo>
                    <a:pt x="8" y="0"/>
                  </a:lnTo>
                  <a:lnTo>
                    <a:pt x="19" y="2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46880" y="5163120"/>
              <a:ext cx="98280" cy="14040"/>
            </a:xfrm>
            <a:custGeom>
              <a:avLst/>
              <a:gdLst/>
              <a:ahLst/>
              <a:rect l="l" t="t" r="r" b="b"/>
              <a:pathLst>
                <a:path w="124" h="19">
                  <a:moveTo>
                    <a:pt x="124" y="10"/>
                  </a:moveTo>
                  <a:lnTo>
                    <a:pt x="108" y="12"/>
                  </a:lnTo>
                  <a:lnTo>
                    <a:pt x="93" y="14"/>
                  </a:lnTo>
                  <a:lnTo>
                    <a:pt x="77" y="14"/>
                  </a:lnTo>
                  <a:lnTo>
                    <a:pt x="61" y="14"/>
                  </a:lnTo>
                  <a:lnTo>
                    <a:pt x="45" y="14"/>
                  </a:lnTo>
                  <a:lnTo>
                    <a:pt x="30" y="14"/>
                  </a:lnTo>
                  <a:lnTo>
                    <a:pt x="14" y="14"/>
                  </a:lnTo>
                  <a:lnTo>
                    <a:pt x="0" y="19"/>
                  </a:lnTo>
                  <a:lnTo>
                    <a:pt x="7" y="8"/>
                  </a:lnTo>
                  <a:lnTo>
                    <a:pt x="19" y="7"/>
                  </a:lnTo>
                  <a:lnTo>
                    <a:pt x="33" y="3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4" y="1"/>
                  </a:lnTo>
                  <a:lnTo>
                    <a:pt x="93" y="1"/>
                  </a:lnTo>
                  <a:lnTo>
                    <a:pt x="103" y="3"/>
                  </a:lnTo>
                  <a:lnTo>
                    <a:pt x="114" y="5"/>
                  </a:lnTo>
                  <a:lnTo>
                    <a:pt x="1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76880" y="5166360"/>
              <a:ext cx="2700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5"/>
                  </a:moveTo>
                  <a:lnTo>
                    <a:pt x="33" y="9"/>
                  </a:lnTo>
                  <a:lnTo>
                    <a:pt x="29" y="12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5" y="16"/>
                  </a:lnTo>
                  <a:lnTo>
                    <a:pt x="0" y="9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00440" y="516780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7"/>
                  </a:moveTo>
                  <a:lnTo>
                    <a:pt x="25" y="28"/>
                  </a:lnTo>
                  <a:lnTo>
                    <a:pt x="11" y="26"/>
                  </a:lnTo>
                  <a:lnTo>
                    <a:pt x="4" y="17"/>
                  </a:lnTo>
                  <a:lnTo>
                    <a:pt x="0" y="7"/>
                  </a:lnTo>
                  <a:lnTo>
                    <a:pt x="2" y="3"/>
                  </a:lnTo>
                  <a:lnTo>
                    <a:pt x="6" y="0"/>
                  </a:lnTo>
                  <a:lnTo>
                    <a:pt x="11" y="1"/>
                  </a:lnTo>
                  <a:lnTo>
                    <a:pt x="21" y="8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83200" y="5174280"/>
              <a:ext cx="20520" cy="15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5"/>
                  </a:moveTo>
                  <a:lnTo>
                    <a:pt x="26" y="14"/>
                  </a:lnTo>
                  <a:lnTo>
                    <a:pt x="15" y="21"/>
                  </a:lnTo>
                  <a:lnTo>
                    <a:pt x="7" y="19"/>
                  </a:lnTo>
                  <a:lnTo>
                    <a:pt x="0" y="14"/>
                  </a:lnTo>
                  <a:lnTo>
                    <a:pt x="0" y="3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30720" y="5185440"/>
              <a:ext cx="25200" cy="248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5"/>
                  </a:moveTo>
                  <a:lnTo>
                    <a:pt x="28" y="15"/>
                  </a:lnTo>
                  <a:lnTo>
                    <a:pt x="23" y="22"/>
                  </a:lnTo>
                  <a:lnTo>
                    <a:pt x="14" y="26"/>
                  </a:lnTo>
                  <a:lnTo>
                    <a:pt x="7" y="31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3" y="17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3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59320" y="5185440"/>
              <a:ext cx="20520" cy="183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5"/>
                  </a:moveTo>
                  <a:lnTo>
                    <a:pt x="19" y="15"/>
                  </a:lnTo>
                  <a:lnTo>
                    <a:pt x="12" y="24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92720" y="5186880"/>
              <a:ext cx="38160" cy="34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35" y="34"/>
                  </a:moveTo>
                  <a:lnTo>
                    <a:pt x="47" y="30"/>
                  </a:lnTo>
                  <a:lnTo>
                    <a:pt x="47" y="44"/>
                  </a:lnTo>
                  <a:lnTo>
                    <a:pt x="33" y="44"/>
                  </a:lnTo>
                  <a:lnTo>
                    <a:pt x="21" y="41"/>
                  </a:lnTo>
                  <a:lnTo>
                    <a:pt x="10" y="34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5" y="0"/>
                  </a:lnTo>
                  <a:lnTo>
                    <a:pt x="9" y="9"/>
                  </a:lnTo>
                  <a:lnTo>
                    <a:pt x="16" y="20"/>
                  </a:lnTo>
                  <a:lnTo>
                    <a:pt x="24" y="2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05400" y="5186880"/>
              <a:ext cx="9360" cy="2196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12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1" y="4"/>
                  </a:lnTo>
                  <a:lnTo>
                    <a:pt x="12" y="0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75080" y="5199480"/>
              <a:ext cx="6480" cy="1728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7" y="23"/>
                  </a:moveTo>
                  <a:lnTo>
                    <a:pt x="2" y="19"/>
                  </a:lnTo>
                  <a:lnTo>
                    <a:pt x="0" y="18"/>
                  </a:lnTo>
                  <a:lnTo>
                    <a:pt x="2" y="0"/>
                  </a:lnTo>
                  <a:lnTo>
                    <a:pt x="7" y="9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08360" y="5201280"/>
              <a:ext cx="38160" cy="39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4" y="45"/>
                  </a:moveTo>
                  <a:lnTo>
                    <a:pt x="4" y="49"/>
                  </a:lnTo>
                  <a:lnTo>
                    <a:pt x="0" y="43"/>
                  </a:lnTo>
                  <a:lnTo>
                    <a:pt x="11" y="15"/>
                  </a:lnTo>
                  <a:lnTo>
                    <a:pt x="19" y="12"/>
                  </a:lnTo>
                  <a:lnTo>
                    <a:pt x="30" y="8"/>
                  </a:lnTo>
                  <a:lnTo>
                    <a:pt x="39" y="3"/>
                  </a:lnTo>
                  <a:lnTo>
                    <a:pt x="49" y="0"/>
                  </a:lnTo>
                  <a:lnTo>
                    <a:pt x="46" y="10"/>
                  </a:lnTo>
                  <a:lnTo>
                    <a:pt x="35" y="22"/>
                  </a:lnTo>
                  <a:lnTo>
                    <a:pt x="21" y="33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86320" y="5209200"/>
              <a:ext cx="30240" cy="3132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18" y="27"/>
                  </a:moveTo>
                  <a:lnTo>
                    <a:pt x="21" y="20"/>
                  </a:lnTo>
                  <a:lnTo>
                    <a:pt x="25" y="16"/>
                  </a:lnTo>
                  <a:lnTo>
                    <a:pt x="32" y="14"/>
                  </a:lnTo>
                  <a:lnTo>
                    <a:pt x="35" y="20"/>
                  </a:lnTo>
                  <a:lnTo>
                    <a:pt x="33" y="27"/>
                  </a:lnTo>
                  <a:lnTo>
                    <a:pt x="39" y="35"/>
                  </a:lnTo>
                  <a:lnTo>
                    <a:pt x="33" y="39"/>
                  </a:lnTo>
                  <a:lnTo>
                    <a:pt x="28" y="41"/>
                  </a:lnTo>
                  <a:lnTo>
                    <a:pt x="19" y="27"/>
                  </a:lnTo>
                  <a:lnTo>
                    <a:pt x="14" y="34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6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64160" y="5215320"/>
              <a:ext cx="12600" cy="1728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8" y="7"/>
                  </a:moveTo>
                  <a:lnTo>
                    <a:pt x="16" y="16"/>
                  </a:lnTo>
                  <a:lnTo>
                    <a:pt x="9" y="23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53040" y="5218560"/>
              <a:ext cx="34920" cy="298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8" y="19"/>
                  </a:moveTo>
                  <a:lnTo>
                    <a:pt x="46" y="7"/>
                  </a:lnTo>
                  <a:lnTo>
                    <a:pt x="40" y="15"/>
                  </a:lnTo>
                  <a:lnTo>
                    <a:pt x="35" y="24"/>
                  </a:lnTo>
                  <a:lnTo>
                    <a:pt x="26" y="33"/>
                  </a:lnTo>
                  <a:lnTo>
                    <a:pt x="18" y="38"/>
                  </a:lnTo>
                  <a:lnTo>
                    <a:pt x="16" y="22"/>
                  </a:lnTo>
                  <a:lnTo>
                    <a:pt x="9" y="22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8"/>
                  </a:lnTo>
                  <a:lnTo>
                    <a:pt x="5" y="0"/>
                  </a:lnTo>
                  <a:lnTo>
                    <a:pt x="14" y="8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52920" y="5221800"/>
              <a:ext cx="23760" cy="3780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30" y="3"/>
                  </a:moveTo>
                  <a:lnTo>
                    <a:pt x="24" y="16"/>
                  </a:lnTo>
                  <a:lnTo>
                    <a:pt x="23" y="30"/>
                  </a:lnTo>
                  <a:lnTo>
                    <a:pt x="17" y="42"/>
                  </a:lnTo>
                  <a:lnTo>
                    <a:pt x="5" y="47"/>
                  </a:lnTo>
                  <a:lnTo>
                    <a:pt x="2" y="38"/>
                  </a:lnTo>
                  <a:lnTo>
                    <a:pt x="2" y="31"/>
                  </a:lnTo>
                  <a:lnTo>
                    <a:pt x="14" y="19"/>
                  </a:lnTo>
                  <a:lnTo>
                    <a:pt x="9" y="16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2" y="3"/>
                  </a:lnTo>
                  <a:lnTo>
                    <a:pt x="16" y="0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56080" y="5232960"/>
              <a:ext cx="12600" cy="20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4" y="7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0800" y="5239080"/>
              <a:ext cx="21960" cy="15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16"/>
                  </a:moveTo>
                  <a:lnTo>
                    <a:pt x="21" y="19"/>
                  </a:lnTo>
                  <a:lnTo>
                    <a:pt x="12" y="21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4" y="2"/>
                  </a:lnTo>
                  <a:lnTo>
                    <a:pt x="23" y="9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37160" y="5240880"/>
              <a:ext cx="1404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10"/>
                  </a:moveTo>
                  <a:lnTo>
                    <a:pt x="9" y="17"/>
                  </a:lnTo>
                  <a:lnTo>
                    <a:pt x="2" y="15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3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75080" y="5244120"/>
              <a:ext cx="15840" cy="122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7"/>
                  </a:moveTo>
                  <a:lnTo>
                    <a:pt x="12" y="14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0" y="7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87960" y="5244120"/>
              <a:ext cx="11160" cy="154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9"/>
                  </a:moveTo>
                  <a:lnTo>
                    <a:pt x="14" y="12"/>
                  </a:lnTo>
                  <a:lnTo>
                    <a:pt x="10" y="19"/>
                  </a:lnTo>
                  <a:lnTo>
                    <a:pt x="3" y="19"/>
                  </a:lnTo>
                  <a:lnTo>
                    <a:pt x="1" y="16"/>
                  </a:lnTo>
                  <a:lnTo>
                    <a:pt x="0" y="9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97560" y="5248800"/>
              <a:ext cx="18720" cy="16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25" y="9"/>
                  </a:lnTo>
                  <a:lnTo>
                    <a:pt x="19" y="18"/>
                  </a:lnTo>
                  <a:lnTo>
                    <a:pt x="14" y="21"/>
                  </a:lnTo>
                  <a:lnTo>
                    <a:pt x="11" y="21"/>
                  </a:lnTo>
                  <a:lnTo>
                    <a:pt x="5" y="18"/>
                  </a:lnTo>
                  <a:lnTo>
                    <a:pt x="0" y="19"/>
                  </a:lnTo>
                  <a:lnTo>
                    <a:pt x="0" y="7"/>
                  </a:lnTo>
                  <a:lnTo>
                    <a:pt x="7" y="4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30800" y="5266080"/>
              <a:ext cx="11160" cy="158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1" y="19"/>
                  </a:moveTo>
                  <a:lnTo>
                    <a:pt x="5" y="19"/>
                  </a:lnTo>
                  <a:lnTo>
                    <a:pt x="0" y="14"/>
                  </a:lnTo>
                  <a:lnTo>
                    <a:pt x="2" y="3"/>
                  </a:lnTo>
                  <a:lnTo>
                    <a:pt x="11" y="0"/>
                  </a:lnTo>
                  <a:lnTo>
                    <a:pt x="14" y="9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00720" y="5266080"/>
              <a:ext cx="29880" cy="2052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39" y="4"/>
                  </a:moveTo>
                  <a:lnTo>
                    <a:pt x="28" y="18"/>
                  </a:lnTo>
                  <a:lnTo>
                    <a:pt x="14" y="26"/>
                  </a:lnTo>
                  <a:lnTo>
                    <a:pt x="4" y="21"/>
                  </a:lnTo>
                  <a:lnTo>
                    <a:pt x="0" y="12"/>
                  </a:lnTo>
                  <a:lnTo>
                    <a:pt x="9" y="7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76880" y="5271120"/>
              <a:ext cx="9360" cy="108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2"/>
                  </a:moveTo>
                  <a:lnTo>
                    <a:pt x="7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61040" y="5275800"/>
              <a:ext cx="12600" cy="108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2" y="14"/>
                  </a:lnTo>
                  <a:lnTo>
                    <a:pt x="10" y="14"/>
                  </a:lnTo>
                  <a:lnTo>
                    <a:pt x="1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4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49600" y="5277240"/>
              <a:ext cx="19080" cy="219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4" y="7"/>
                  </a:moveTo>
                  <a:lnTo>
                    <a:pt x="19" y="18"/>
                  </a:lnTo>
                  <a:lnTo>
                    <a:pt x="1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84680" y="5353200"/>
              <a:ext cx="596880" cy="274320"/>
            </a:xfrm>
            <a:custGeom>
              <a:avLst/>
              <a:gdLst/>
              <a:ahLst/>
              <a:rect l="l" t="t" r="r" b="b"/>
              <a:pathLst>
                <a:path w="752" h="347">
                  <a:moveTo>
                    <a:pt x="598" y="63"/>
                  </a:moveTo>
                  <a:lnTo>
                    <a:pt x="581" y="60"/>
                  </a:lnTo>
                  <a:lnTo>
                    <a:pt x="565" y="58"/>
                  </a:lnTo>
                  <a:lnTo>
                    <a:pt x="551" y="56"/>
                  </a:lnTo>
                  <a:lnTo>
                    <a:pt x="537" y="55"/>
                  </a:lnTo>
                  <a:lnTo>
                    <a:pt x="521" y="53"/>
                  </a:lnTo>
                  <a:lnTo>
                    <a:pt x="506" y="51"/>
                  </a:lnTo>
                  <a:lnTo>
                    <a:pt x="490" y="51"/>
                  </a:lnTo>
                  <a:lnTo>
                    <a:pt x="476" y="53"/>
                  </a:lnTo>
                  <a:lnTo>
                    <a:pt x="465" y="58"/>
                  </a:lnTo>
                  <a:lnTo>
                    <a:pt x="455" y="65"/>
                  </a:lnTo>
                  <a:lnTo>
                    <a:pt x="443" y="69"/>
                  </a:lnTo>
                  <a:lnTo>
                    <a:pt x="430" y="72"/>
                  </a:lnTo>
                  <a:lnTo>
                    <a:pt x="416" y="74"/>
                  </a:lnTo>
                  <a:lnTo>
                    <a:pt x="406" y="79"/>
                  </a:lnTo>
                  <a:lnTo>
                    <a:pt x="394" y="82"/>
                  </a:lnTo>
                  <a:lnTo>
                    <a:pt x="383" y="88"/>
                  </a:lnTo>
                  <a:lnTo>
                    <a:pt x="418" y="86"/>
                  </a:lnTo>
                  <a:lnTo>
                    <a:pt x="458" y="86"/>
                  </a:lnTo>
                  <a:lnTo>
                    <a:pt x="500" y="86"/>
                  </a:lnTo>
                  <a:lnTo>
                    <a:pt x="544" y="88"/>
                  </a:lnTo>
                  <a:lnTo>
                    <a:pt x="584" y="93"/>
                  </a:lnTo>
                  <a:lnTo>
                    <a:pt x="626" y="103"/>
                  </a:lnTo>
                  <a:lnTo>
                    <a:pt x="663" y="123"/>
                  </a:lnTo>
                  <a:lnTo>
                    <a:pt x="696" y="152"/>
                  </a:lnTo>
                  <a:lnTo>
                    <a:pt x="710" y="166"/>
                  </a:lnTo>
                  <a:lnTo>
                    <a:pt x="726" y="184"/>
                  </a:lnTo>
                  <a:lnTo>
                    <a:pt x="731" y="191"/>
                  </a:lnTo>
                  <a:lnTo>
                    <a:pt x="738" y="200"/>
                  </a:lnTo>
                  <a:lnTo>
                    <a:pt x="745" y="210"/>
                  </a:lnTo>
                  <a:lnTo>
                    <a:pt x="752" y="221"/>
                  </a:lnTo>
                  <a:lnTo>
                    <a:pt x="740" y="210"/>
                  </a:lnTo>
                  <a:lnTo>
                    <a:pt x="730" y="201"/>
                  </a:lnTo>
                  <a:lnTo>
                    <a:pt x="717" y="193"/>
                  </a:lnTo>
                  <a:lnTo>
                    <a:pt x="705" y="184"/>
                  </a:lnTo>
                  <a:lnTo>
                    <a:pt x="691" y="175"/>
                  </a:lnTo>
                  <a:lnTo>
                    <a:pt x="679" y="170"/>
                  </a:lnTo>
                  <a:lnTo>
                    <a:pt x="665" y="165"/>
                  </a:lnTo>
                  <a:lnTo>
                    <a:pt x="651" y="165"/>
                  </a:lnTo>
                  <a:lnTo>
                    <a:pt x="633" y="159"/>
                  </a:lnTo>
                  <a:lnTo>
                    <a:pt x="616" y="154"/>
                  </a:lnTo>
                  <a:lnTo>
                    <a:pt x="598" y="149"/>
                  </a:lnTo>
                  <a:lnTo>
                    <a:pt x="583" y="149"/>
                  </a:lnTo>
                  <a:lnTo>
                    <a:pt x="565" y="145"/>
                  </a:lnTo>
                  <a:lnTo>
                    <a:pt x="548" y="145"/>
                  </a:lnTo>
                  <a:lnTo>
                    <a:pt x="530" y="145"/>
                  </a:lnTo>
                  <a:lnTo>
                    <a:pt x="514" y="151"/>
                  </a:lnTo>
                  <a:lnTo>
                    <a:pt x="546" y="154"/>
                  </a:lnTo>
                  <a:lnTo>
                    <a:pt x="579" y="161"/>
                  </a:lnTo>
                  <a:lnTo>
                    <a:pt x="611" y="170"/>
                  </a:lnTo>
                  <a:lnTo>
                    <a:pt x="642" y="184"/>
                  </a:lnTo>
                  <a:lnTo>
                    <a:pt x="670" y="198"/>
                  </a:lnTo>
                  <a:lnTo>
                    <a:pt x="698" y="217"/>
                  </a:lnTo>
                  <a:lnTo>
                    <a:pt x="723" y="240"/>
                  </a:lnTo>
                  <a:lnTo>
                    <a:pt x="745" y="270"/>
                  </a:lnTo>
                  <a:lnTo>
                    <a:pt x="681" y="228"/>
                  </a:lnTo>
                  <a:lnTo>
                    <a:pt x="611" y="201"/>
                  </a:lnTo>
                  <a:lnTo>
                    <a:pt x="532" y="186"/>
                  </a:lnTo>
                  <a:lnTo>
                    <a:pt x="455" y="182"/>
                  </a:lnTo>
                  <a:lnTo>
                    <a:pt x="374" y="187"/>
                  </a:lnTo>
                  <a:lnTo>
                    <a:pt x="299" y="203"/>
                  </a:lnTo>
                  <a:lnTo>
                    <a:pt x="226" y="228"/>
                  </a:lnTo>
                  <a:lnTo>
                    <a:pt x="159" y="263"/>
                  </a:lnTo>
                  <a:lnTo>
                    <a:pt x="121" y="284"/>
                  </a:lnTo>
                  <a:lnTo>
                    <a:pt x="133" y="264"/>
                  </a:lnTo>
                  <a:lnTo>
                    <a:pt x="149" y="249"/>
                  </a:lnTo>
                  <a:lnTo>
                    <a:pt x="166" y="235"/>
                  </a:lnTo>
                  <a:lnTo>
                    <a:pt x="187" y="222"/>
                  </a:lnTo>
                  <a:lnTo>
                    <a:pt x="206" y="208"/>
                  </a:lnTo>
                  <a:lnTo>
                    <a:pt x="226" y="196"/>
                  </a:lnTo>
                  <a:lnTo>
                    <a:pt x="245" y="184"/>
                  </a:lnTo>
                  <a:lnTo>
                    <a:pt x="264" y="172"/>
                  </a:lnTo>
                  <a:lnTo>
                    <a:pt x="296" y="156"/>
                  </a:lnTo>
                  <a:lnTo>
                    <a:pt x="332" y="147"/>
                  </a:lnTo>
                  <a:lnTo>
                    <a:pt x="367" y="140"/>
                  </a:lnTo>
                  <a:lnTo>
                    <a:pt x="406" y="138"/>
                  </a:lnTo>
                  <a:lnTo>
                    <a:pt x="443" y="135"/>
                  </a:lnTo>
                  <a:lnTo>
                    <a:pt x="483" y="135"/>
                  </a:lnTo>
                  <a:lnTo>
                    <a:pt x="523" y="135"/>
                  </a:lnTo>
                  <a:lnTo>
                    <a:pt x="563" y="137"/>
                  </a:lnTo>
                  <a:lnTo>
                    <a:pt x="569" y="131"/>
                  </a:lnTo>
                  <a:lnTo>
                    <a:pt x="502" y="119"/>
                  </a:lnTo>
                  <a:lnTo>
                    <a:pt x="436" y="116"/>
                  </a:lnTo>
                  <a:lnTo>
                    <a:pt x="371" y="119"/>
                  </a:lnTo>
                  <a:lnTo>
                    <a:pt x="310" y="133"/>
                  </a:lnTo>
                  <a:lnTo>
                    <a:pt x="248" y="152"/>
                  </a:lnTo>
                  <a:lnTo>
                    <a:pt x="194" y="182"/>
                  </a:lnTo>
                  <a:lnTo>
                    <a:pt x="142" y="219"/>
                  </a:lnTo>
                  <a:lnTo>
                    <a:pt x="96" y="268"/>
                  </a:lnTo>
                  <a:lnTo>
                    <a:pt x="116" y="233"/>
                  </a:lnTo>
                  <a:lnTo>
                    <a:pt x="142" y="203"/>
                  </a:lnTo>
                  <a:lnTo>
                    <a:pt x="172" y="177"/>
                  </a:lnTo>
                  <a:lnTo>
                    <a:pt x="203" y="156"/>
                  </a:lnTo>
                  <a:lnTo>
                    <a:pt x="234" y="135"/>
                  </a:lnTo>
                  <a:lnTo>
                    <a:pt x="269" y="117"/>
                  </a:lnTo>
                  <a:lnTo>
                    <a:pt x="303" y="100"/>
                  </a:lnTo>
                  <a:lnTo>
                    <a:pt x="336" y="82"/>
                  </a:lnTo>
                  <a:lnTo>
                    <a:pt x="346" y="79"/>
                  </a:lnTo>
                  <a:lnTo>
                    <a:pt x="357" y="74"/>
                  </a:lnTo>
                  <a:lnTo>
                    <a:pt x="367" y="67"/>
                  </a:lnTo>
                  <a:lnTo>
                    <a:pt x="378" y="63"/>
                  </a:lnTo>
                  <a:lnTo>
                    <a:pt x="322" y="69"/>
                  </a:lnTo>
                  <a:lnTo>
                    <a:pt x="269" y="86"/>
                  </a:lnTo>
                  <a:lnTo>
                    <a:pt x="217" y="110"/>
                  </a:lnTo>
                  <a:lnTo>
                    <a:pt x="172" y="142"/>
                  </a:lnTo>
                  <a:lnTo>
                    <a:pt x="128" y="179"/>
                  </a:lnTo>
                  <a:lnTo>
                    <a:pt x="93" y="221"/>
                  </a:lnTo>
                  <a:lnTo>
                    <a:pt x="63" y="268"/>
                  </a:lnTo>
                  <a:lnTo>
                    <a:pt x="44" y="322"/>
                  </a:lnTo>
                  <a:lnTo>
                    <a:pt x="35" y="327"/>
                  </a:lnTo>
                  <a:lnTo>
                    <a:pt x="42" y="289"/>
                  </a:lnTo>
                  <a:lnTo>
                    <a:pt x="58" y="254"/>
                  </a:lnTo>
                  <a:lnTo>
                    <a:pt x="77" y="221"/>
                  </a:lnTo>
                  <a:lnTo>
                    <a:pt x="103" y="191"/>
                  </a:lnTo>
                  <a:lnTo>
                    <a:pt x="130" y="159"/>
                  </a:lnTo>
                  <a:lnTo>
                    <a:pt x="159" y="131"/>
                  </a:lnTo>
                  <a:lnTo>
                    <a:pt x="189" y="105"/>
                  </a:lnTo>
                  <a:lnTo>
                    <a:pt x="220" y="79"/>
                  </a:lnTo>
                  <a:lnTo>
                    <a:pt x="210" y="79"/>
                  </a:lnTo>
                  <a:lnTo>
                    <a:pt x="175" y="102"/>
                  </a:lnTo>
                  <a:lnTo>
                    <a:pt x="140" y="130"/>
                  </a:lnTo>
                  <a:lnTo>
                    <a:pt x="105" y="158"/>
                  </a:lnTo>
                  <a:lnTo>
                    <a:pt x="75" y="191"/>
                  </a:lnTo>
                  <a:lnTo>
                    <a:pt x="47" y="224"/>
                  </a:lnTo>
                  <a:lnTo>
                    <a:pt x="26" y="261"/>
                  </a:lnTo>
                  <a:lnTo>
                    <a:pt x="11" y="299"/>
                  </a:lnTo>
                  <a:lnTo>
                    <a:pt x="5" y="343"/>
                  </a:lnTo>
                  <a:lnTo>
                    <a:pt x="0" y="347"/>
                  </a:lnTo>
                  <a:lnTo>
                    <a:pt x="9" y="296"/>
                  </a:lnTo>
                  <a:lnTo>
                    <a:pt x="25" y="245"/>
                  </a:lnTo>
                  <a:lnTo>
                    <a:pt x="47" y="194"/>
                  </a:lnTo>
                  <a:lnTo>
                    <a:pt x="77" y="149"/>
                  </a:lnTo>
                  <a:lnTo>
                    <a:pt x="112" y="107"/>
                  </a:lnTo>
                  <a:lnTo>
                    <a:pt x="154" y="72"/>
                  </a:lnTo>
                  <a:lnTo>
                    <a:pt x="199" y="42"/>
                  </a:lnTo>
                  <a:lnTo>
                    <a:pt x="252" y="25"/>
                  </a:lnTo>
                  <a:lnTo>
                    <a:pt x="292" y="11"/>
                  </a:lnTo>
                  <a:lnTo>
                    <a:pt x="338" y="4"/>
                  </a:lnTo>
                  <a:lnTo>
                    <a:pt x="383" y="0"/>
                  </a:lnTo>
                  <a:lnTo>
                    <a:pt x="430" y="4"/>
                  </a:lnTo>
                  <a:lnTo>
                    <a:pt x="474" y="11"/>
                  </a:lnTo>
                  <a:lnTo>
                    <a:pt x="520" y="23"/>
                  </a:lnTo>
                  <a:lnTo>
                    <a:pt x="560" y="41"/>
                  </a:lnTo>
                  <a:lnTo>
                    <a:pt x="598" y="63"/>
                  </a:lnTo>
                  <a:close/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87680" y="5432400"/>
              <a:ext cx="12960" cy="126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lnTo>
                    <a:pt x="14" y="12"/>
                  </a:lnTo>
                  <a:lnTo>
                    <a:pt x="14" y="15"/>
                  </a:lnTo>
                  <a:lnTo>
                    <a:pt x="1" y="1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7560" y="5442120"/>
              <a:ext cx="4680" cy="75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7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48120" y="5472360"/>
              <a:ext cx="704880" cy="878760"/>
            </a:xfrm>
            <a:custGeom>
              <a:avLst/>
              <a:gdLst/>
              <a:ahLst/>
              <a:rect l="l" t="t" r="r" b="b"/>
              <a:pathLst>
                <a:path w="887" h="1109">
                  <a:moveTo>
                    <a:pt x="875" y="33"/>
                  </a:moveTo>
                  <a:lnTo>
                    <a:pt x="882" y="40"/>
                  </a:lnTo>
                  <a:lnTo>
                    <a:pt x="887" y="50"/>
                  </a:lnTo>
                  <a:lnTo>
                    <a:pt x="887" y="61"/>
                  </a:lnTo>
                  <a:lnTo>
                    <a:pt x="887" y="71"/>
                  </a:lnTo>
                  <a:lnTo>
                    <a:pt x="884" y="82"/>
                  </a:lnTo>
                  <a:lnTo>
                    <a:pt x="882" y="96"/>
                  </a:lnTo>
                  <a:lnTo>
                    <a:pt x="880" y="108"/>
                  </a:lnTo>
                  <a:lnTo>
                    <a:pt x="880" y="122"/>
                  </a:lnTo>
                  <a:lnTo>
                    <a:pt x="866" y="215"/>
                  </a:lnTo>
                  <a:lnTo>
                    <a:pt x="856" y="313"/>
                  </a:lnTo>
                  <a:lnTo>
                    <a:pt x="845" y="412"/>
                  </a:lnTo>
                  <a:lnTo>
                    <a:pt x="840" y="516"/>
                  </a:lnTo>
                  <a:lnTo>
                    <a:pt x="835" y="617"/>
                  </a:lnTo>
                  <a:lnTo>
                    <a:pt x="836" y="717"/>
                  </a:lnTo>
                  <a:lnTo>
                    <a:pt x="843" y="815"/>
                  </a:lnTo>
                  <a:lnTo>
                    <a:pt x="857" y="909"/>
                  </a:lnTo>
                  <a:lnTo>
                    <a:pt x="864" y="920"/>
                  </a:lnTo>
                  <a:lnTo>
                    <a:pt x="870" y="934"/>
                  </a:lnTo>
                  <a:lnTo>
                    <a:pt x="873" y="949"/>
                  </a:lnTo>
                  <a:lnTo>
                    <a:pt x="875" y="965"/>
                  </a:lnTo>
                  <a:lnTo>
                    <a:pt x="873" y="979"/>
                  </a:lnTo>
                  <a:lnTo>
                    <a:pt x="870" y="993"/>
                  </a:lnTo>
                  <a:lnTo>
                    <a:pt x="864" y="1007"/>
                  </a:lnTo>
                  <a:lnTo>
                    <a:pt x="861" y="1021"/>
                  </a:lnTo>
                  <a:lnTo>
                    <a:pt x="840" y="1037"/>
                  </a:lnTo>
                  <a:lnTo>
                    <a:pt x="819" y="1047"/>
                  </a:lnTo>
                  <a:lnTo>
                    <a:pt x="796" y="1056"/>
                  </a:lnTo>
                  <a:lnTo>
                    <a:pt x="775" y="1065"/>
                  </a:lnTo>
                  <a:lnTo>
                    <a:pt x="752" y="1068"/>
                  </a:lnTo>
                  <a:lnTo>
                    <a:pt x="730" y="1074"/>
                  </a:lnTo>
                  <a:lnTo>
                    <a:pt x="707" y="1077"/>
                  </a:lnTo>
                  <a:lnTo>
                    <a:pt x="686" y="1084"/>
                  </a:lnTo>
                  <a:lnTo>
                    <a:pt x="674" y="1082"/>
                  </a:lnTo>
                  <a:lnTo>
                    <a:pt x="663" y="1086"/>
                  </a:lnTo>
                  <a:lnTo>
                    <a:pt x="651" y="1089"/>
                  </a:lnTo>
                  <a:lnTo>
                    <a:pt x="639" y="1095"/>
                  </a:lnTo>
                  <a:lnTo>
                    <a:pt x="583" y="1100"/>
                  </a:lnTo>
                  <a:lnTo>
                    <a:pt x="528" y="1105"/>
                  </a:lnTo>
                  <a:lnTo>
                    <a:pt x="472" y="1107"/>
                  </a:lnTo>
                  <a:lnTo>
                    <a:pt x="420" y="1109"/>
                  </a:lnTo>
                  <a:lnTo>
                    <a:pt x="364" y="1105"/>
                  </a:lnTo>
                  <a:lnTo>
                    <a:pt x="310" y="1100"/>
                  </a:lnTo>
                  <a:lnTo>
                    <a:pt x="254" y="1089"/>
                  </a:lnTo>
                  <a:lnTo>
                    <a:pt x="199" y="1079"/>
                  </a:lnTo>
                  <a:lnTo>
                    <a:pt x="185" y="1072"/>
                  </a:lnTo>
                  <a:lnTo>
                    <a:pt x="173" y="1065"/>
                  </a:lnTo>
                  <a:lnTo>
                    <a:pt x="161" y="1056"/>
                  </a:lnTo>
                  <a:lnTo>
                    <a:pt x="157" y="1044"/>
                  </a:lnTo>
                  <a:lnTo>
                    <a:pt x="150" y="1037"/>
                  </a:lnTo>
                  <a:lnTo>
                    <a:pt x="150" y="1028"/>
                  </a:lnTo>
                  <a:lnTo>
                    <a:pt x="149" y="1016"/>
                  </a:lnTo>
                  <a:lnTo>
                    <a:pt x="147" y="1007"/>
                  </a:lnTo>
                  <a:lnTo>
                    <a:pt x="161" y="998"/>
                  </a:lnTo>
                  <a:lnTo>
                    <a:pt x="180" y="993"/>
                  </a:lnTo>
                  <a:lnTo>
                    <a:pt x="198" y="986"/>
                  </a:lnTo>
                  <a:lnTo>
                    <a:pt x="213" y="976"/>
                  </a:lnTo>
                  <a:lnTo>
                    <a:pt x="194" y="976"/>
                  </a:lnTo>
                  <a:lnTo>
                    <a:pt x="175" y="977"/>
                  </a:lnTo>
                  <a:lnTo>
                    <a:pt x="156" y="976"/>
                  </a:lnTo>
                  <a:lnTo>
                    <a:pt x="138" y="974"/>
                  </a:lnTo>
                  <a:lnTo>
                    <a:pt x="119" y="969"/>
                  </a:lnTo>
                  <a:lnTo>
                    <a:pt x="103" y="963"/>
                  </a:lnTo>
                  <a:lnTo>
                    <a:pt x="86" y="956"/>
                  </a:lnTo>
                  <a:lnTo>
                    <a:pt x="74" y="948"/>
                  </a:lnTo>
                  <a:lnTo>
                    <a:pt x="86" y="941"/>
                  </a:lnTo>
                  <a:lnTo>
                    <a:pt x="98" y="935"/>
                  </a:lnTo>
                  <a:lnTo>
                    <a:pt x="110" y="928"/>
                  </a:lnTo>
                  <a:lnTo>
                    <a:pt x="124" y="923"/>
                  </a:lnTo>
                  <a:lnTo>
                    <a:pt x="135" y="918"/>
                  </a:lnTo>
                  <a:lnTo>
                    <a:pt x="149" y="918"/>
                  </a:lnTo>
                  <a:lnTo>
                    <a:pt x="164" y="920"/>
                  </a:lnTo>
                  <a:lnTo>
                    <a:pt x="180" y="927"/>
                  </a:lnTo>
                  <a:lnTo>
                    <a:pt x="189" y="913"/>
                  </a:lnTo>
                  <a:lnTo>
                    <a:pt x="199" y="899"/>
                  </a:lnTo>
                  <a:lnTo>
                    <a:pt x="191" y="888"/>
                  </a:lnTo>
                  <a:lnTo>
                    <a:pt x="191" y="879"/>
                  </a:lnTo>
                  <a:lnTo>
                    <a:pt x="194" y="872"/>
                  </a:lnTo>
                  <a:lnTo>
                    <a:pt x="201" y="865"/>
                  </a:lnTo>
                  <a:lnTo>
                    <a:pt x="206" y="857"/>
                  </a:lnTo>
                  <a:lnTo>
                    <a:pt x="212" y="848"/>
                  </a:lnTo>
                  <a:lnTo>
                    <a:pt x="212" y="837"/>
                  </a:lnTo>
                  <a:lnTo>
                    <a:pt x="208" y="829"/>
                  </a:lnTo>
                  <a:lnTo>
                    <a:pt x="203" y="815"/>
                  </a:lnTo>
                  <a:lnTo>
                    <a:pt x="198" y="804"/>
                  </a:lnTo>
                  <a:lnTo>
                    <a:pt x="191" y="792"/>
                  </a:lnTo>
                  <a:lnTo>
                    <a:pt x="194" y="782"/>
                  </a:lnTo>
                  <a:lnTo>
                    <a:pt x="203" y="766"/>
                  </a:lnTo>
                  <a:lnTo>
                    <a:pt x="212" y="750"/>
                  </a:lnTo>
                  <a:lnTo>
                    <a:pt x="215" y="733"/>
                  </a:lnTo>
                  <a:lnTo>
                    <a:pt x="219" y="717"/>
                  </a:lnTo>
                  <a:lnTo>
                    <a:pt x="213" y="705"/>
                  </a:lnTo>
                  <a:lnTo>
                    <a:pt x="205" y="694"/>
                  </a:lnTo>
                  <a:lnTo>
                    <a:pt x="194" y="685"/>
                  </a:lnTo>
                  <a:lnTo>
                    <a:pt x="185" y="678"/>
                  </a:lnTo>
                  <a:lnTo>
                    <a:pt x="175" y="670"/>
                  </a:lnTo>
                  <a:lnTo>
                    <a:pt x="170" y="661"/>
                  </a:lnTo>
                  <a:lnTo>
                    <a:pt x="170" y="650"/>
                  </a:lnTo>
                  <a:lnTo>
                    <a:pt x="177" y="640"/>
                  </a:lnTo>
                  <a:lnTo>
                    <a:pt x="178" y="628"/>
                  </a:lnTo>
                  <a:lnTo>
                    <a:pt x="175" y="615"/>
                  </a:lnTo>
                  <a:lnTo>
                    <a:pt x="170" y="605"/>
                  </a:lnTo>
                  <a:lnTo>
                    <a:pt x="164" y="594"/>
                  </a:lnTo>
                  <a:lnTo>
                    <a:pt x="159" y="584"/>
                  </a:lnTo>
                  <a:lnTo>
                    <a:pt x="161" y="577"/>
                  </a:lnTo>
                  <a:lnTo>
                    <a:pt x="168" y="570"/>
                  </a:lnTo>
                  <a:lnTo>
                    <a:pt x="185" y="566"/>
                  </a:lnTo>
                  <a:lnTo>
                    <a:pt x="196" y="565"/>
                  </a:lnTo>
                  <a:lnTo>
                    <a:pt x="206" y="561"/>
                  </a:lnTo>
                  <a:lnTo>
                    <a:pt x="215" y="554"/>
                  </a:lnTo>
                  <a:lnTo>
                    <a:pt x="226" y="547"/>
                  </a:lnTo>
                  <a:lnTo>
                    <a:pt x="233" y="537"/>
                  </a:lnTo>
                  <a:lnTo>
                    <a:pt x="241" y="526"/>
                  </a:lnTo>
                  <a:lnTo>
                    <a:pt x="248" y="516"/>
                  </a:lnTo>
                  <a:lnTo>
                    <a:pt x="257" y="509"/>
                  </a:lnTo>
                  <a:lnTo>
                    <a:pt x="259" y="489"/>
                  </a:lnTo>
                  <a:lnTo>
                    <a:pt x="262" y="551"/>
                  </a:lnTo>
                  <a:lnTo>
                    <a:pt x="264" y="612"/>
                  </a:lnTo>
                  <a:lnTo>
                    <a:pt x="264" y="675"/>
                  </a:lnTo>
                  <a:lnTo>
                    <a:pt x="266" y="738"/>
                  </a:lnTo>
                  <a:lnTo>
                    <a:pt x="266" y="801"/>
                  </a:lnTo>
                  <a:lnTo>
                    <a:pt x="269" y="864"/>
                  </a:lnTo>
                  <a:lnTo>
                    <a:pt x="275" y="928"/>
                  </a:lnTo>
                  <a:lnTo>
                    <a:pt x="283" y="997"/>
                  </a:lnTo>
                  <a:lnTo>
                    <a:pt x="283" y="1004"/>
                  </a:lnTo>
                  <a:lnTo>
                    <a:pt x="289" y="1007"/>
                  </a:lnTo>
                  <a:lnTo>
                    <a:pt x="294" y="1007"/>
                  </a:lnTo>
                  <a:lnTo>
                    <a:pt x="299" y="1009"/>
                  </a:lnTo>
                  <a:lnTo>
                    <a:pt x="310" y="1004"/>
                  </a:lnTo>
                  <a:lnTo>
                    <a:pt x="322" y="1002"/>
                  </a:lnTo>
                  <a:lnTo>
                    <a:pt x="327" y="991"/>
                  </a:lnTo>
                  <a:lnTo>
                    <a:pt x="332" y="983"/>
                  </a:lnTo>
                  <a:lnTo>
                    <a:pt x="334" y="972"/>
                  </a:lnTo>
                  <a:lnTo>
                    <a:pt x="338" y="963"/>
                  </a:lnTo>
                  <a:lnTo>
                    <a:pt x="338" y="951"/>
                  </a:lnTo>
                  <a:lnTo>
                    <a:pt x="338" y="941"/>
                  </a:lnTo>
                  <a:lnTo>
                    <a:pt x="338" y="930"/>
                  </a:lnTo>
                  <a:lnTo>
                    <a:pt x="339" y="921"/>
                  </a:lnTo>
                  <a:lnTo>
                    <a:pt x="334" y="881"/>
                  </a:lnTo>
                  <a:lnTo>
                    <a:pt x="331" y="841"/>
                  </a:lnTo>
                  <a:lnTo>
                    <a:pt x="327" y="799"/>
                  </a:lnTo>
                  <a:lnTo>
                    <a:pt x="327" y="759"/>
                  </a:lnTo>
                  <a:lnTo>
                    <a:pt x="324" y="717"/>
                  </a:lnTo>
                  <a:lnTo>
                    <a:pt x="322" y="677"/>
                  </a:lnTo>
                  <a:lnTo>
                    <a:pt x="320" y="635"/>
                  </a:lnTo>
                  <a:lnTo>
                    <a:pt x="320" y="594"/>
                  </a:lnTo>
                  <a:lnTo>
                    <a:pt x="325" y="582"/>
                  </a:lnTo>
                  <a:lnTo>
                    <a:pt x="324" y="542"/>
                  </a:lnTo>
                  <a:lnTo>
                    <a:pt x="324" y="503"/>
                  </a:lnTo>
                  <a:lnTo>
                    <a:pt x="322" y="465"/>
                  </a:lnTo>
                  <a:lnTo>
                    <a:pt x="320" y="426"/>
                  </a:lnTo>
                  <a:lnTo>
                    <a:pt x="315" y="386"/>
                  </a:lnTo>
                  <a:lnTo>
                    <a:pt x="311" y="350"/>
                  </a:lnTo>
                  <a:lnTo>
                    <a:pt x="304" y="311"/>
                  </a:lnTo>
                  <a:lnTo>
                    <a:pt x="297" y="278"/>
                  </a:lnTo>
                  <a:lnTo>
                    <a:pt x="289" y="262"/>
                  </a:lnTo>
                  <a:lnTo>
                    <a:pt x="280" y="250"/>
                  </a:lnTo>
                  <a:lnTo>
                    <a:pt x="269" y="239"/>
                  </a:lnTo>
                  <a:lnTo>
                    <a:pt x="257" y="236"/>
                  </a:lnTo>
                  <a:lnTo>
                    <a:pt x="248" y="238"/>
                  </a:lnTo>
                  <a:lnTo>
                    <a:pt x="247" y="245"/>
                  </a:lnTo>
                  <a:lnTo>
                    <a:pt x="245" y="252"/>
                  </a:lnTo>
                  <a:lnTo>
                    <a:pt x="240" y="259"/>
                  </a:lnTo>
                  <a:lnTo>
                    <a:pt x="238" y="287"/>
                  </a:lnTo>
                  <a:lnTo>
                    <a:pt x="240" y="315"/>
                  </a:lnTo>
                  <a:lnTo>
                    <a:pt x="243" y="341"/>
                  </a:lnTo>
                  <a:lnTo>
                    <a:pt x="248" y="369"/>
                  </a:lnTo>
                  <a:lnTo>
                    <a:pt x="252" y="395"/>
                  </a:lnTo>
                  <a:lnTo>
                    <a:pt x="255" y="421"/>
                  </a:lnTo>
                  <a:lnTo>
                    <a:pt x="255" y="447"/>
                  </a:lnTo>
                  <a:lnTo>
                    <a:pt x="257" y="479"/>
                  </a:lnTo>
                  <a:lnTo>
                    <a:pt x="248" y="465"/>
                  </a:lnTo>
                  <a:lnTo>
                    <a:pt x="241" y="453"/>
                  </a:lnTo>
                  <a:lnTo>
                    <a:pt x="231" y="442"/>
                  </a:lnTo>
                  <a:lnTo>
                    <a:pt x="222" y="433"/>
                  </a:lnTo>
                  <a:lnTo>
                    <a:pt x="212" y="423"/>
                  </a:lnTo>
                  <a:lnTo>
                    <a:pt x="201" y="416"/>
                  </a:lnTo>
                  <a:lnTo>
                    <a:pt x="191" y="409"/>
                  </a:lnTo>
                  <a:lnTo>
                    <a:pt x="182" y="405"/>
                  </a:lnTo>
                  <a:lnTo>
                    <a:pt x="175" y="404"/>
                  </a:lnTo>
                  <a:lnTo>
                    <a:pt x="166" y="402"/>
                  </a:lnTo>
                  <a:lnTo>
                    <a:pt x="156" y="400"/>
                  </a:lnTo>
                  <a:lnTo>
                    <a:pt x="147" y="400"/>
                  </a:lnTo>
                  <a:lnTo>
                    <a:pt x="142" y="384"/>
                  </a:lnTo>
                  <a:lnTo>
                    <a:pt x="138" y="372"/>
                  </a:lnTo>
                  <a:lnTo>
                    <a:pt x="131" y="360"/>
                  </a:lnTo>
                  <a:lnTo>
                    <a:pt x="121" y="353"/>
                  </a:lnTo>
                  <a:lnTo>
                    <a:pt x="107" y="351"/>
                  </a:lnTo>
                  <a:lnTo>
                    <a:pt x="96" y="357"/>
                  </a:lnTo>
                  <a:lnTo>
                    <a:pt x="88" y="364"/>
                  </a:lnTo>
                  <a:lnTo>
                    <a:pt x="82" y="374"/>
                  </a:lnTo>
                  <a:lnTo>
                    <a:pt x="74" y="381"/>
                  </a:lnTo>
                  <a:lnTo>
                    <a:pt x="67" y="390"/>
                  </a:lnTo>
                  <a:lnTo>
                    <a:pt x="56" y="393"/>
                  </a:lnTo>
                  <a:lnTo>
                    <a:pt x="46" y="395"/>
                  </a:lnTo>
                  <a:lnTo>
                    <a:pt x="32" y="391"/>
                  </a:lnTo>
                  <a:lnTo>
                    <a:pt x="21" y="388"/>
                  </a:lnTo>
                  <a:lnTo>
                    <a:pt x="9" y="383"/>
                  </a:lnTo>
                  <a:lnTo>
                    <a:pt x="2" y="376"/>
                  </a:lnTo>
                  <a:lnTo>
                    <a:pt x="0" y="360"/>
                  </a:lnTo>
                  <a:lnTo>
                    <a:pt x="2" y="346"/>
                  </a:lnTo>
                  <a:lnTo>
                    <a:pt x="5" y="330"/>
                  </a:lnTo>
                  <a:lnTo>
                    <a:pt x="16" y="318"/>
                  </a:lnTo>
                  <a:lnTo>
                    <a:pt x="32" y="308"/>
                  </a:lnTo>
                  <a:lnTo>
                    <a:pt x="49" y="301"/>
                  </a:lnTo>
                  <a:lnTo>
                    <a:pt x="65" y="295"/>
                  </a:lnTo>
                  <a:lnTo>
                    <a:pt x="84" y="290"/>
                  </a:lnTo>
                  <a:lnTo>
                    <a:pt x="102" y="283"/>
                  </a:lnTo>
                  <a:lnTo>
                    <a:pt x="119" y="276"/>
                  </a:lnTo>
                  <a:lnTo>
                    <a:pt x="135" y="267"/>
                  </a:lnTo>
                  <a:lnTo>
                    <a:pt x="152" y="259"/>
                  </a:lnTo>
                  <a:lnTo>
                    <a:pt x="149" y="250"/>
                  </a:lnTo>
                  <a:lnTo>
                    <a:pt x="145" y="245"/>
                  </a:lnTo>
                  <a:lnTo>
                    <a:pt x="128" y="248"/>
                  </a:lnTo>
                  <a:lnTo>
                    <a:pt x="124" y="229"/>
                  </a:lnTo>
                  <a:lnTo>
                    <a:pt x="121" y="211"/>
                  </a:lnTo>
                  <a:lnTo>
                    <a:pt x="117" y="194"/>
                  </a:lnTo>
                  <a:lnTo>
                    <a:pt x="114" y="178"/>
                  </a:lnTo>
                  <a:lnTo>
                    <a:pt x="109" y="161"/>
                  </a:lnTo>
                  <a:lnTo>
                    <a:pt x="105" y="143"/>
                  </a:lnTo>
                  <a:lnTo>
                    <a:pt x="102" y="126"/>
                  </a:lnTo>
                  <a:lnTo>
                    <a:pt x="102" y="108"/>
                  </a:lnTo>
                  <a:lnTo>
                    <a:pt x="110" y="99"/>
                  </a:lnTo>
                  <a:lnTo>
                    <a:pt x="121" y="94"/>
                  </a:lnTo>
                  <a:lnTo>
                    <a:pt x="131" y="89"/>
                  </a:lnTo>
                  <a:lnTo>
                    <a:pt x="142" y="85"/>
                  </a:lnTo>
                  <a:lnTo>
                    <a:pt x="152" y="80"/>
                  </a:lnTo>
                  <a:lnTo>
                    <a:pt x="163" y="77"/>
                  </a:lnTo>
                  <a:lnTo>
                    <a:pt x="173" y="71"/>
                  </a:lnTo>
                  <a:lnTo>
                    <a:pt x="185" y="68"/>
                  </a:lnTo>
                  <a:lnTo>
                    <a:pt x="213" y="59"/>
                  </a:lnTo>
                  <a:lnTo>
                    <a:pt x="243" y="52"/>
                  </a:lnTo>
                  <a:lnTo>
                    <a:pt x="271" y="42"/>
                  </a:lnTo>
                  <a:lnTo>
                    <a:pt x="301" y="33"/>
                  </a:lnTo>
                  <a:lnTo>
                    <a:pt x="329" y="22"/>
                  </a:lnTo>
                  <a:lnTo>
                    <a:pt x="359" y="17"/>
                  </a:lnTo>
                  <a:lnTo>
                    <a:pt x="388" y="14"/>
                  </a:lnTo>
                  <a:lnTo>
                    <a:pt x="420" y="15"/>
                  </a:lnTo>
                  <a:lnTo>
                    <a:pt x="474" y="7"/>
                  </a:lnTo>
                  <a:lnTo>
                    <a:pt x="532" y="3"/>
                  </a:lnTo>
                  <a:lnTo>
                    <a:pt x="590" y="0"/>
                  </a:lnTo>
                  <a:lnTo>
                    <a:pt x="651" y="1"/>
                  </a:lnTo>
                  <a:lnTo>
                    <a:pt x="709" y="3"/>
                  </a:lnTo>
                  <a:lnTo>
                    <a:pt x="766" y="10"/>
                  </a:lnTo>
                  <a:lnTo>
                    <a:pt x="821" y="19"/>
                  </a:lnTo>
                  <a:lnTo>
                    <a:pt x="87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89360" y="5499360"/>
              <a:ext cx="317520" cy="117000"/>
            </a:xfrm>
            <a:custGeom>
              <a:avLst/>
              <a:gdLst/>
              <a:ahLst/>
              <a:rect l="l" t="t" r="r" b="b"/>
              <a:pathLst>
                <a:path w="399" h="147">
                  <a:moveTo>
                    <a:pt x="399" y="19"/>
                  </a:moveTo>
                  <a:lnTo>
                    <a:pt x="394" y="78"/>
                  </a:lnTo>
                  <a:lnTo>
                    <a:pt x="369" y="84"/>
                  </a:lnTo>
                  <a:lnTo>
                    <a:pt x="347" y="92"/>
                  </a:lnTo>
                  <a:lnTo>
                    <a:pt x="326" y="98"/>
                  </a:lnTo>
                  <a:lnTo>
                    <a:pt x="305" y="106"/>
                  </a:lnTo>
                  <a:lnTo>
                    <a:pt x="282" y="112"/>
                  </a:lnTo>
                  <a:lnTo>
                    <a:pt x="259" y="119"/>
                  </a:lnTo>
                  <a:lnTo>
                    <a:pt x="237" y="124"/>
                  </a:lnTo>
                  <a:lnTo>
                    <a:pt x="214" y="131"/>
                  </a:lnTo>
                  <a:lnTo>
                    <a:pt x="191" y="136"/>
                  </a:lnTo>
                  <a:lnTo>
                    <a:pt x="168" y="140"/>
                  </a:lnTo>
                  <a:lnTo>
                    <a:pt x="144" y="140"/>
                  </a:lnTo>
                  <a:lnTo>
                    <a:pt x="119" y="141"/>
                  </a:lnTo>
                  <a:lnTo>
                    <a:pt x="93" y="140"/>
                  </a:lnTo>
                  <a:lnTo>
                    <a:pt x="69" y="140"/>
                  </a:lnTo>
                  <a:lnTo>
                    <a:pt x="44" y="141"/>
                  </a:lnTo>
                  <a:lnTo>
                    <a:pt x="23" y="147"/>
                  </a:lnTo>
                  <a:lnTo>
                    <a:pt x="0" y="141"/>
                  </a:lnTo>
                  <a:lnTo>
                    <a:pt x="4" y="129"/>
                  </a:lnTo>
                  <a:lnTo>
                    <a:pt x="9" y="117"/>
                  </a:lnTo>
                  <a:lnTo>
                    <a:pt x="11" y="105"/>
                  </a:lnTo>
                  <a:lnTo>
                    <a:pt x="14" y="94"/>
                  </a:lnTo>
                  <a:lnTo>
                    <a:pt x="14" y="80"/>
                  </a:lnTo>
                  <a:lnTo>
                    <a:pt x="16" y="68"/>
                  </a:lnTo>
                  <a:lnTo>
                    <a:pt x="14" y="57"/>
                  </a:lnTo>
                  <a:lnTo>
                    <a:pt x="14" y="47"/>
                  </a:lnTo>
                  <a:lnTo>
                    <a:pt x="20" y="40"/>
                  </a:lnTo>
                  <a:lnTo>
                    <a:pt x="27" y="38"/>
                  </a:lnTo>
                  <a:lnTo>
                    <a:pt x="32" y="42"/>
                  </a:lnTo>
                  <a:lnTo>
                    <a:pt x="42" y="47"/>
                  </a:lnTo>
                  <a:lnTo>
                    <a:pt x="88" y="45"/>
                  </a:lnTo>
                  <a:lnTo>
                    <a:pt x="133" y="43"/>
                  </a:lnTo>
                  <a:lnTo>
                    <a:pt x="177" y="38"/>
                  </a:lnTo>
                  <a:lnTo>
                    <a:pt x="223" y="35"/>
                  </a:lnTo>
                  <a:lnTo>
                    <a:pt x="264" y="26"/>
                  </a:lnTo>
                  <a:lnTo>
                    <a:pt x="308" y="19"/>
                  </a:lnTo>
                  <a:lnTo>
                    <a:pt x="350" y="8"/>
                  </a:lnTo>
                  <a:lnTo>
                    <a:pt x="394" y="0"/>
                  </a:lnTo>
                  <a:lnTo>
                    <a:pt x="39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16360" y="5510520"/>
              <a:ext cx="273240" cy="86760"/>
            </a:xfrm>
            <a:custGeom>
              <a:avLst/>
              <a:gdLst/>
              <a:ahLst/>
              <a:rect l="l" t="t" r="r" b="b"/>
              <a:pathLst>
                <a:path w="344" h="108">
                  <a:moveTo>
                    <a:pt x="344" y="59"/>
                  </a:moveTo>
                  <a:lnTo>
                    <a:pt x="316" y="61"/>
                  </a:lnTo>
                  <a:lnTo>
                    <a:pt x="290" y="66"/>
                  </a:lnTo>
                  <a:lnTo>
                    <a:pt x="264" y="73"/>
                  </a:lnTo>
                  <a:lnTo>
                    <a:pt x="237" y="80"/>
                  </a:lnTo>
                  <a:lnTo>
                    <a:pt x="210" y="87"/>
                  </a:lnTo>
                  <a:lnTo>
                    <a:pt x="183" y="94"/>
                  </a:lnTo>
                  <a:lnTo>
                    <a:pt x="157" y="101"/>
                  </a:lnTo>
                  <a:lnTo>
                    <a:pt x="131" y="108"/>
                  </a:lnTo>
                  <a:lnTo>
                    <a:pt x="0" y="108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0" y="61"/>
                  </a:lnTo>
                  <a:lnTo>
                    <a:pt x="1" y="45"/>
                  </a:lnTo>
                  <a:lnTo>
                    <a:pt x="36" y="45"/>
                  </a:lnTo>
                  <a:lnTo>
                    <a:pt x="71" y="47"/>
                  </a:lnTo>
                  <a:lnTo>
                    <a:pt x="106" y="47"/>
                  </a:lnTo>
                  <a:lnTo>
                    <a:pt x="141" y="45"/>
                  </a:lnTo>
                  <a:lnTo>
                    <a:pt x="175" y="40"/>
                  </a:lnTo>
                  <a:lnTo>
                    <a:pt x="208" y="35"/>
                  </a:lnTo>
                  <a:lnTo>
                    <a:pt x="241" y="24"/>
                  </a:lnTo>
                  <a:lnTo>
                    <a:pt x="276" y="15"/>
                  </a:lnTo>
                  <a:lnTo>
                    <a:pt x="341" y="0"/>
                  </a:lnTo>
                  <a:lnTo>
                    <a:pt x="344" y="14"/>
                  </a:lnTo>
                  <a:lnTo>
                    <a:pt x="344" y="29"/>
                  </a:lnTo>
                  <a:lnTo>
                    <a:pt x="342" y="43"/>
                  </a:lnTo>
                  <a:lnTo>
                    <a:pt x="344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76640" y="5518440"/>
              <a:ext cx="561960" cy="75600"/>
            </a:xfrm>
            <a:custGeom>
              <a:avLst/>
              <a:gdLst/>
              <a:ahLst/>
              <a:rect l="l" t="t" r="r" b="b"/>
              <a:pathLst>
                <a:path w="707" h="97">
                  <a:moveTo>
                    <a:pt x="238" y="6"/>
                  </a:moveTo>
                  <a:lnTo>
                    <a:pt x="211" y="9"/>
                  </a:lnTo>
                  <a:lnTo>
                    <a:pt x="187" y="13"/>
                  </a:lnTo>
                  <a:lnTo>
                    <a:pt x="161" y="18"/>
                  </a:lnTo>
                  <a:lnTo>
                    <a:pt x="136" y="23"/>
                  </a:lnTo>
                  <a:lnTo>
                    <a:pt x="110" y="28"/>
                  </a:lnTo>
                  <a:lnTo>
                    <a:pt x="87" y="37"/>
                  </a:lnTo>
                  <a:lnTo>
                    <a:pt x="63" y="44"/>
                  </a:lnTo>
                  <a:lnTo>
                    <a:pt x="42" y="56"/>
                  </a:lnTo>
                  <a:lnTo>
                    <a:pt x="49" y="63"/>
                  </a:lnTo>
                  <a:lnTo>
                    <a:pt x="57" y="67"/>
                  </a:lnTo>
                  <a:lnTo>
                    <a:pt x="64" y="65"/>
                  </a:lnTo>
                  <a:lnTo>
                    <a:pt x="75" y="62"/>
                  </a:lnTo>
                  <a:lnTo>
                    <a:pt x="82" y="56"/>
                  </a:lnTo>
                  <a:lnTo>
                    <a:pt x="92" y="53"/>
                  </a:lnTo>
                  <a:lnTo>
                    <a:pt x="103" y="49"/>
                  </a:lnTo>
                  <a:lnTo>
                    <a:pt x="113" y="51"/>
                  </a:lnTo>
                  <a:lnTo>
                    <a:pt x="136" y="44"/>
                  </a:lnTo>
                  <a:lnTo>
                    <a:pt x="161" y="41"/>
                  </a:lnTo>
                  <a:lnTo>
                    <a:pt x="185" y="39"/>
                  </a:lnTo>
                  <a:lnTo>
                    <a:pt x="211" y="37"/>
                  </a:lnTo>
                  <a:lnTo>
                    <a:pt x="236" y="35"/>
                  </a:lnTo>
                  <a:lnTo>
                    <a:pt x="262" y="34"/>
                  </a:lnTo>
                  <a:lnTo>
                    <a:pt x="287" y="32"/>
                  </a:lnTo>
                  <a:lnTo>
                    <a:pt x="313" y="30"/>
                  </a:lnTo>
                  <a:lnTo>
                    <a:pt x="290" y="34"/>
                  </a:lnTo>
                  <a:lnTo>
                    <a:pt x="269" y="37"/>
                  </a:lnTo>
                  <a:lnTo>
                    <a:pt x="246" y="41"/>
                  </a:lnTo>
                  <a:lnTo>
                    <a:pt x="225" y="46"/>
                  </a:lnTo>
                  <a:lnTo>
                    <a:pt x="203" y="49"/>
                  </a:lnTo>
                  <a:lnTo>
                    <a:pt x="180" y="53"/>
                  </a:lnTo>
                  <a:lnTo>
                    <a:pt x="159" y="58"/>
                  </a:lnTo>
                  <a:lnTo>
                    <a:pt x="140" y="67"/>
                  </a:lnTo>
                  <a:lnTo>
                    <a:pt x="173" y="74"/>
                  </a:lnTo>
                  <a:lnTo>
                    <a:pt x="206" y="76"/>
                  </a:lnTo>
                  <a:lnTo>
                    <a:pt x="238" y="72"/>
                  </a:lnTo>
                  <a:lnTo>
                    <a:pt x="271" y="67"/>
                  </a:lnTo>
                  <a:lnTo>
                    <a:pt x="302" y="58"/>
                  </a:lnTo>
                  <a:lnTo>
                    <a:pt x="336" y="49"/>
                  </a:lnTo>
                  <a:lnTo>
                    <a:pt x="367" y="42"/>
                  </a:lnTo>
                  <a:lnTo>
                    <a:pt x="400" y="41"/>
                  </a:lnTo>
                  <a:lnTo>
                    <a:pt x="418" y="39"/>
                  </a:lnTo>
                  <a:lnTo>
                    <a:pt x="437" y="37"/>
                  </a:lnTo>
                  <a:lnTo>
                    <a:pt x="455" y="35"/>
                  </a:lnTo>
                  <a:lnTo>
                    <a:pt x="474" y="35"/>
                  </a:lnTo>
                  <a:lnTo>
                    <a:pt x="491" y="35"/>
                  </a:lnTo>
                  <a:lnTo>
                    <a:pt x="511" y="35"/>
                  </a:lnTo>
                  <a:lnTo>
                    <a:pt x="528" y="35"/>
                  </a:lnTo>
                  <a:lnTo>
                    <a:pt x="547" y="35"/>
                  </a:lnTo>
                  <a:lnTo>
                    <a:pt x="528" y="39"/>
                  </a:lnTo>
                  <a:lnTo>
                    <a:pt x="512" y="42"/>
                  </a:lnTo>
                  <a:lnTo>
                    <a:pt x="498" y="42"/>
                  </a:lnTo>
                  <a:lnTo>
                    <a:pt x="484" y="44"/>
                  </a:lnTo>
                  <a:lnTo>
                    <a:pt x="469" y="44"/>
                  </a:lnTo>
                  <a:lnTo>
                    <a:pt x="455" y="46"/>
                  </a:lnTo>
                  <a:lnTo>
                    <a:pt x="437" y="49"/>
                  </a:lnTo>
                  <a:lnTo>
                    <a:pt x="421" y="55"/>
                  </a:lnTo>
                  <a:lnTo>
                    <a:pt x="448" y="55"/>
                  </a:lnTo>
                  <a:lnTo>
                    <a:pt x="474" y="55"/>
                  </a:lnTo>
                  <a:lnTo>
                    <a:pt x="500" y="55"/>
                  </a:lnTo>
                  <a:lnTo>
                    <a:pt x="528" y="56"/>
                  </a:lnTo>
                  <a:lnTo>
                    <a:pt x="554" y="53"/>
                  </a:lnTo>
                  <a:lnTo>
                    <a:pt x="582" y="51"/>
                  </a:lnTo>
                  <a:lnTo>
                    <a:pt x="610" y="44"/>
                  </a:lnTo>
                  <a:lnTo>
                    <a:pt x="640" y="35"/>
                  </a:lnTo>
                  <a:lnTo>
                    <a:pt x="644" y="27"/>
                  </a:lnTo>
                  <a:lnTo>
                    <a:pt x="651" y="27"/>
                  </a:lnTo>
                  <a:lnTo>
                    <a:pt x="658" y="28"/>
                  </a:lnTo>
                  <a:lnTo>
                    <a:pt x="665" y="25"/>
                  </a:lnTo>
                  <a:lnTo>
                    <a:pt x="649" y="16"/>
                  </a:lnTo>
                  <a:lnTo>
                    <a:pt x="633" y="13"/>
                  </a:lnTo>
                  <a:lnTo>
                    <a:pt x="614" y="9"/>
                  </a:lnTo>
                  <a:lnTo>
                    <a:pt x="600" y="2"/>
                  </a:lnTo>
                  <a:lnTo>
                    <a:pt x="612" y="2"/>
                  </a:lnTo>
                  <a:lnTo>
                    <a:pt x="626" y="2"/>
                  </a:lnTo>
                  <a:lnTo>
                    <a:pt x="640" y="0"/>
                  </a:lnTo>
                  <a:lnTo>
                    <a:pt x="656" y="0"/>
                  </a:lnTo>
                  <a:lnTo>
                    <a:pt x="668" y="0"/>
                  </a:lnTo>
                  <a:lnTo>
                    <a:pt x="682" y="0"/>
                  </a:lnTo>
                  <a:lnTo>
                    <a:pt x="694" y="4"/>
                  </a:lnTo>
                  <a:lnTo>
                    <a:pt x="707" y="11"/>
                  </a:lnTo>
                  <a:lnTo>
                    <a:pt x="703" y="25"/>
                  </a:lnTo>
                  <a:lnTo>
                    <a:pt x="696" y="37"/>
                  </a:lnTo>
                  <a:lnTo>
                    <a:pt x="684" y="44"/>
                  </a:lnTo>
                  <a:lnTo>
                    <a:pt x="670" y="53"/>
                  </a:lnTo>
                  <a:lnTo>
                    <a:pt x="652" y="56"/>
                  </a:lnTo>
                  <a:lnTo>
                    <a:pt x="637" y="62"/>
                  </a:lnTo>
                  <a:lnTo>
                    <a:pt x="621" y="67"/>
                  </a:lnTo>
                  <a:lnTo>
                    <a:pt x="607" y="74"/>
                  </a:lnTo>
                  <a:lnTo>
                    <a:pt x="537" y="83"/>
                  </a:lnTo>
                  <a:lnTo>
                    <a:pt x="467" y="90"/>
                  </a:lnTo>
                  <a:lnTo>
                    <a:pt x="395" y="93"/>
                  </a:lnTo>
                  <a:lnTo>
                    <a:pt x="325" y="97"/>
                  </a:lnTo>
                  <a:lnTo>
                    <a:pt x="253" y="95"/>
                  </a:lnTo>
                  <a:lnTo>
                    <a:pt x="182" y="93"/>
                  </a:lnTo>
                  <a:lnTo>
                    <a:pt x="112" y="90"/>
                  </a:lnTo>
                  <a:lnTo>
                    <a:pt x="45" y="86"/>
                  </a:lnTo>
                  <a:lnTo>
                    <a:pt x="29" y="79"/>
                  </a:lnTo>
                  <a:lnTo>
                    <a:pt x="17" y="74"/>
                  </a:lnTo>
                  <a:lnTo>
                    <a:pt x="7" y="63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9"/>
                  </a:lnTo>
                  <a:lnTo>
                    <a:pt x="14" y="35"/>
                  </a:lnTo>
                  <a:lnTo>
                    <a:pt x="40" y="28"/>
                  </a:lnTo>
                  <a:lnTo>
                    <a:pt x="68" y="23"/>
                  </a:lnTo>
                  <a:lnTo>
                    <a:pt x="96" y="14"/>
                  </a:lnTo>
                  <a:lnTo>
                    <a:pt x="124" y="9"/>
                  </a:lnTo>
                  <a:lnTo>
                    <a:pt x="150" y="4"/>
                  </a:lnTo>
                  <a:lnTo>
                    <a:pt x="178" y="0"/>
                  </a:lnTo>
                  <a:lnTo>
                    <a:pt x="206" y="0"/>
                  </a:lnTo>
                  <a:lnTo>
                    <a:pt x="2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39880" y="5518440"/>
              <a:ext cx="669960" cy="532800"/>
            </a:xfrm>
            <a:custGeom>
              <a:avLst/>
              <a:gdLst/>
              <a:ahLst/>
              <a:rect l="l" t="t" r="r" b="b"/>
              <a:pathLst>
                <a:path w="843" h="674">
                  <a:moveTo>
                    <a:pt x="483" y="6"/>
                  </a:moveTo>
                  <a:lnTo>
                    <a:pt x="502" y="6"/>
                  </a:lnTo>
                  <a:lnTo>
                    <a:pt x="521" y="9"/>
                  </a:lnTo>
                  <a:lnTo>
                    <a:pt x="541" y="13"/>
                  </a:lnTo>
                  <a:lnTo>
                    <a:pt x="562" y="18"/>
                  </a:lnTo>
                  <a:lnTo>
                    <a:pt x="581" y="23"/>
                  </a:lnTo>
                  <a:lnTo>
                    <a:pt x="602" y="30"/>
                  </a:lnTo>
                  <a:lnTo>
                    <a:pt x="621" y="35"/>
                  </a:lnTo>
                  <a:lnTo>
                    <a:pt x="642" y="42"/>
                  </a:lnTo>
                  <a:lnTo>
                    <a:pt x="667" y="56"/>
                  </a:lnTo>
                  <a:lnTo>
                    <a:pt x="693" y="72"/>
                  </a:lnTo>
                  <a:lnTo>
                    <a:pt x="719" y="86"/>
                  </a:lnTo>
                  <a:lnTo>
                    <a:pt x="745" y="102"/>
                  </a:lnTo>
                  <a:lnTo>
                    <a:pt x="770" y="118"/>
                  </a:lnTo>
                  <a:lnTo>
                    <a:pt x="794" y="139"/>
                  </a:lnTo>
                  <a:lnTo>
                    <a:pt x="813" y="160"/>
                  </a:lnTo>
                  <a:lnTo>
                    <a:pt x="833" y="186"/>
                  </a:lnTo>
                  <a:lnTo>
                    <a:pt x="843" y="216"/>
                  </a:lnTo>
                  <a:lnTo>
                    <a:pt x="838" y="210"/>
                  </a:lnTo>
                  <a:lnTo>
                    <a:pt x="829" y="209"/>
                  </a:lnTo>
                  <a:lnTo>
                    <a:pt x="819" y="207"/>
                  </a:lnTo>
                  <a:lnTo>
                    <a:pt x="810" y="205"/>
                  </a:lnTo>
                  <a:lnTo>
                    <a:pt x="799" y="200"/>
                  </a:lnTo>
                  <a:lnTo>
                    <a:pt x="796" y="196"/>
                  </a:lnTo>
                  <a:lnTo>
                    <a:pt x="792" y="188"/>
                  </a:lnTo>
                  <a:lnTo>
                    <a:pt x="798" y="177"/>
                  </a:lnTo>
                  <a:lnTo>
                    <a:pt x="789" y="160"/>
                  </a:lnTo>
                  <a:lnTo>
                    <a:pt x="780" y="149"/>
                  </a:lnTo>
                  <a:lnTo>
                    <a:pt x="770" y="139"/>
                  </a:lnTo>
                  <a:lnTo>
                    <a:pt x="759" y="132"/>
                  </a:lnTo>
                  <a:lnTo>
                    <a:pt x="745" y="123"/>
                  </a:lnTo>
                  <a:lnTo>
                    <a:pt x="731" y="116"/>
                  </a:lnTo>
                  <a:lnTo>
                    <a:pt x="717" y="109"/>
                  </a:lnTo>
                  <a:lnTo>
                    <a:pt x="707" y="100"/>
                  </a:lnTo>
                  <a:lnTo>
                    <a:pt x="681" y="88"/>
                  </a:lnTo>
                  <a:lnTo>
                    <a:pt x="658" y="76"/>
                  </a:lnTo>
                  <a:lnTo>
                    <a:pt x="632" y="62"/>
                  </a:lnTo>
                  <a:lnTo>
                    <a:pt x="609" y="49"/>
                  </a:lnTo>
                  <a:lnTo>
                    <a:pt x="581" y="35"/>
                  </a:lnTo>
                  <a:lnTo>
                    <a:pt x="555" y="27"/>
                  </a:lnTo>
                  <a:lnTo>
                    <a:pt x="527" y="18"/>
                  </a:lnTo>
                  <a:lnTo>
                    <a:pt x="500" y="16"/>
                  </a:lnTo>
                  <a:lnTo>
                    <a:pt x="490" y="11"/>
                  </a:lnTo>
                  <a:lnTo>
                    <a:pt x="479" y="9"/>
                  </a:lnTo>
                  <a:lnTo>
                    <a:pt x="467" y="9"/>
                  </a:lnTo>
                  <a:lnTo>
                    <a:pt x="457" y="9"/>
                  </a:lnTo>
                  <a:lnTo>
                    <a:pt x="444" y="9"/>
                  </a:lnTo>
                  <a:lnTo>
                    <a:pt x="434" y="9"/>
                  </a:lnTo>
                  <a:lnTo>
                    <a:pt x="423" y="9"/>
                  </a:lnTo>
                  <a:lnTo>
                    <a:pt x="415" y="11"/>
                  </a:lnTo>
                  <a:lnTo>
                    <a:pt x="397" y="9"/>
                  </a:lnTo>
                  <a:lnTo>
                    <a:pt x="381" y="11"/>
                  </a:lnTo>
                  <a:lnTo>
                    <a:pt x="364" y="13"/>
                  </a:lnTo>
                  <a:lnTo>
                    <a:pt x="346" y="16"/>
                  </a:lnTo>
                  <a:lnTo>
                    <a:pt x="367" y="14"/>
                  </a:lnTo>
                  <a:lnTo>
                    <a:pt x="390" y="14"/>
                  </a:lnTo>
                  <a:lnTo>
                    <a:pt x="411" y="16"/>
                  </a:lnTo>
                  <a:lnTo>
                    <a:pt x="434" y="20"/>
                  </a:lnTo>
                  <a:lnTo>
                    <a:pt x="455" y="21"/>
                  </a:lnTo>
                  <a:lnTo>
                    <a:pt x="478" y="27"/>
                  </a:lnTo>
                  <a:lnTo>
                    <a:pt x="499" y="30"/>
                  </a:lnTo>
                  <a:lnTo>
                    <a:pt x="521" y="35"/>
                  </a:lnTo>
                  <a:lnTo>
                    <a:pt x="528" y="41"/>
                  </a:lnTo>
                  <a:lnTo>
                    <a:pt x="539" y="46"/>
                  </a:lnTo>
                  <a:lnTo>
                    <a:pt x="549" y="51"/>
                  </a:lnTo>
                  <a:lnTo>
                    <a:pt x="560" y="58"/>
                  </a:lnTo>
                  <a:lnTo>
                    <a:pt x="570" y="63"/>
                  </a:lnTo>
                  <a:lnTo>
                    <a:pt x="581" y="69"/>
                  </a:lnTo>
                  <a:lnTo>
                    <a:pt x="591" y="74"/>
                  </a:lnTo>
                  <a:lnTo>
                    <a:pt x="604" y="79"/>
                  </a:lnTo>
                  <a:lnTo>
                    <a:pt x="623" y="88"/>
                  </a:lnTo>
                  <a:lnTo>
                    <a:pt x="644" y="98"/>
                  </a:lnTo>
                  <a:lnTo>
                    <a:pt x="663" y="111"/>
                  </a:lnTo>
                  <a:lnTo>
                    <a:pt x="684" y="123"/>
                  </a:lnTo>
                  <a:lnTo>
                    <a:pt x="703" y="135"/>
                  </a:lnTo>
                  <a:lnTo>
                    <a:pt x="724" y="147"/>
                  </a:lnTo>
                  <a:lnTo>
                    <a:pt x="743" y="160"/>
                  </a:lnTo>
                  <a:lnTo>
                    <a:pt x="764" y="174"/>
                  </a:lnTo>
                  <a:lnTo>
                    <a:pt x="770" y="188"/>
                  </a:lnTo>
                  <a:lnTo>
                    <a:pt x="747" y="184"/>
                  </a:lnTo>
                  <a:lnTo>
                    <a:pt x="728" y="175"/>
                  </a:lnTo>
                  <a:lnTo>
                    <a:pt x="709" y="163"/>
                  </a:lnTo>
                  <a:lnTo>
                    <a:pt x="693" y="149"/>
                  </a:lnTo>
                  <a:lnTo>
                    <a:pt x="674" y="133"/>
                  </a:lnTo>
                  <a:lnTo>
                    <a:pt x="656" y="121"/>
                  </a:lnTo>
                  <a:lnTo>
                    <a:pt x="633" y="112"/>
                  </a:lnTo>
                  <a:lnTo>
                    <a:pt x="612" y="109"/>
                  </a:lnTo>
                  <a:lnTo>
                    <a:pt x="439" y="74"/>
                  </a:lnTo>
                  <a:lnTo>
                    <a:pt x="430" y="74"/>
                  </a:lnTo>
                  <a:lnTo>
                    <a:pt x="422" y="74"/>
                  </a:lnTo>
                  <a:lnTo>
                    <a:pt x="413" y="76"/>
                  </a:lnTo>
                  <a:lnTo>
                    <a:pt x="406" y="81"/>
                  </a:lnTo>
                  <a:lnTo>
                    <a:pt x="437" y="88"/>
                  </a:lnTo>
                  <a:lnTo>
                    <a:pt x="472" y="97"/>
                  </a:lnTo>
                  <a:lnTo>
                    <a:pt x="504" y="105"/>
                  </a:lnTo>
                  <a:lnTo>
                    <a:pt x="539" y="114"/>
                  </a:lnTo>
                  <a:lnTo>
                    <a:pt x="572" y="123"/>
                  </a:lnTo>
                  <a:lnTo>
                    <a:pt x="605" y="133"/>
                  </a:lnTo>
                  <a:lnTo>
                    <a:pt x="637" y="144"/>
                  </a:lnTo>
                  <a:lnTo>
                    <a:pt x="668" y="160"/>
                  </a:lnTo>
                  <a:lnTo>
                    <a:pt x="609" y="153"/>
                  </a:lnTo>
                  <a:lnTo>
                    <a:pt x="555" y="147"/>
                  </a:lnTo>
                  <a:lnTo>
                    <a:pt x="500" y="146"/>
                  </a:lnTo>
                  <a:lnTo>
                    <a:pt x="448" y="147"/>
                  </a:lnTo>
                  <a:lnTo>
                    <a:pt x="395" y="149"/>
                  </a:lnTo>
                  <a:lnTo>
                    <a:pt x="343" y="158"/>
                  </a:lnTo>
                  <a:lnTo>
                    <a:pt x="290" y="170"/>
                  </a:lnTo>
                  <a:lnTo>
                    <a:pt x="240" y="191"/>
                  </a:lnTo>
                  <a:lnTo>
                    <a:pt x="215" y="209"/>
                  </a:lnTo>
                  <a:lnTo>
                    <a:pt x="192" y="228"/>
                  </a:lnTo>
                  <a:lnTo>
                    <a:pt x="166" y="247"/>
                  </a:lnTo>
                  <a:lnTo>
                    <a:pt x="143" y="270"/>
                  </a:lnTo>
                  <a:lnTo>
                    <a:pt x="119" y="291"/>
                  </a:lnTo>
                  <a:lnTo>
                    <a:pt x="101" y="317"/>
                  </a:lnTo>
                  <a:lnTo>
                    <a:pt x="87" y="343"/>
                  </a:lnTo>
                  <a:lnTo>
                    <a:pt x="80" y="376"/>
                  </a:lnTo>
                  <a:lnTo>
                    <a:pt x="66" y="392"/>
                  </a:lnTo>
                  <a:lnTo>
                    <a:pt x="52" y="410"/>
                  </a:lnTo>
                  <a:lnTo>
                    <a:pt x="38" y="425"/>
                  </a:lnTo>
                  <a:lnTo>
                    <a:pt x="28" y="445"/>
                  </a:lnTo>
                  <a:lnTo>
                    <a:pt x="17" y="464"/>
                  </a:lnTo>
                  <a:lnTo>
                    <a:pt x="14" y="485"/>
                  </a:lnTo>
                  <a:lnTo>
                    <a:pt x="14" y="506"/>
                  </a:lnTo>
                  <a:lnTo>
                    <a:pt x="24" y="530"/>
                  </a:lnTo>
                  <a:lnTo>
                    <a:pt x="23" y="539"/>
                  </a:lnTo>
                  <a:lnTo>
                    <a:pt x="24" y="550"/>
                  </a:lnTo>
                  <a:lnTo>
                    <a:pt x="28" y="558"/>
                  </a:lnTo>
                  <a:lnTo>
                    <a:pt x="33" y="569"/>
                  </a:lnTo>
                  <a:lnTo>
                    <a:pt x="40" y="586"/>
                  </a:lnTo>
                  <a:lnTo>
                    <a:pt x="49" y="606"/>
                  </a:lnTo>
                  <a:lnTo>
                    <a:pt x="70" y="674"/>
                  </a:lnTo>
                  <a:lnTo>
                    <a:pt x="47" y="648"/>
                  </a:lnTo>
                  <a:lnTo>
                    <a:pt x="33" y="620"/>
                  </a:lnTo>
                  <a:lnTo>
                    <a:pt x="23" y="588"/>
                  </a:lnTo>
                  <a:lnTo>
                    <a:pt x="19" y="558"/>
                  </a:lnTo>
                  <a:lnTo>
                    <a:pt x="14" y="525"/>
                  </a:lnTo>
                  <a:lnTo>
                    <a:pt x="10" y="492"/>
                  </a:lnTo>
                  <a:lnTo>
                    <a:pt x="5" y="460"/>
                  </a:lnTo>
                  <a:lnTo>
                    <a:pt x="0" y="432"/>
                  </a:lnTo>
                  <a:lnTo>
                    <a:pt x="0" y="411"/>
                  </a:lnTo>
                  <a:lnTo>
                    <a:pt x="2" y="392"/>
                  </a:lnTo>
                  <a:lnTo>
                    <a:pt x="3" y="373"/>
                  </a:lnTo>
                  <a:lnTo>
                    <a:pt x="9" y="355"/>
                  </a:lnTo>
                  <a:lnTo>
                    <a:pt x="12" y="338"/>
                  </a:lnTo>
                  <a:lnTo>
                    <a:pt x="19" y="320"/>
                  </a:lnTo>
                  <a:lnTo>
                    <a:pt x="24" y="303"/>
                  </a:lnTo>
                  <a:lnTo>
                    <a:pt x="35" y="286"/>
                  </a:lnTo>
                  <a:lnTo>
                    <a:pt x="65" y="247"/>
                  </a:lnTo>
                  <a:lnTo>
                    <a:pt x="100" y="216"/>
                  </a:lnTo>
                  <a:lnTo>
                    <a:pt x="138" y="189"/>
                  </a:lnTo>
                  <a:lnTo>
                    <a:pt x="180" y="168"/>
                  </a:lnTo>
                  <a:lnTo>
                    <a:pt x="222" y="147"/>
                  </a:lnTo>
                  <a:lnTo>
                    <a:pt x="266" y="132"/>
                  </a:lnTo>
                  <a:lnTo>
                    <a:pt x="311" y="114"/>
                  </a:lnTo>
                  <a:lnTo>
                    <a:pt x="357" y="100"/>
                  </a:lnTo>
                  <a:lnTo>
                    <a:pt x="327" y="100"/>
                  </a:lnTo>
                  <a:lnTo>
                    <a:pt x="299" y="102"/>
                  </a:lnTo>
                  <a:lnTo>
                    <a:pt x="269" y="107"/>
                  </a:lnTo>
                  <a:lnTo>
                    <a:pt x="241" y="114"/>
                  </a:lnTo>
                  <a:lnTo>
                    <a:pt x="213" y="119"/>
                  </a:lnTo>
                  <a:lnTo>
                    <a:pt x="185" y="130"/>
                  </a:lnTo>
                  <a:lnTo>
                    <a:pt x="159" y="140"/>
                  </a:lnTo>
                  <a:lnTo>
                    <a:pt x="136" y="154"/>
                  </a:lnTo>
                  <a:lnTo>
                    <a:pt x="121" y="161"/>
                  </a:lnTo>
                  <a:lnTo>
                    <a:pt x="110" y="174"/>
                  </a:lnTo>
                  <a:lnTo>
                    <a:pt x="96" y="182"/>
                  </a:lnTo>
                  <a:lnTo>
                    <a:pt x="84" y="188"/>
                  </a:lnTo>
                  <a:lnTo>
                    <a:pt x="84" y="179"/>
                  </a:lnTo>
                  <a:lnTo>
                    <a:pt x="110" y="144"/>
                  </a:lnTo>
                  <a:lnTo>
                    <a:pt x="143" y="116"/>
                  </a:lnTo>
                  <a:lnTo>
                    <a:pt x="177" y="91"/>
                  </a:lnTo>
                  <a:lnTo>
                    <a:pt x="215" y="74"/>
                  </a:lnTo>
                  <a:lnTo>
                    <a:pt x="252" y="58"/>
                  </a:lnTo>
                  <a:lnTo>
                    <a:pt x="294" y="48"/>
                  </a:lnTo>
                  <a:lnTo>
                    <a:pt x="334" y="41"/>
                  </a:lnTo>
                  <a:lnTo>
                    <a:pt x="376" y="37"/>
                  </a:lnTo>
                  <a:lnTo>
                    <a:pt x="376" y="35"/>
                  </a:lnTo>
                  <a:lnTo>
                    <a:pt x="350" y="32"/>
                  </a:lnTo>
                  <a:lnTo>
                    <a:pt x="325" y="30"/>
                  </a:lnTo>
                  <a:lnTo>
                    <a:pt x="301" y="28"/>
                  </a:lnTo>
                  <a:lnTo>
                    <a:pt x="276" y="28"/>
                  </a:lnTo>
                  <a:lnTo>
                    <a:pt x="250" y="28"/>
                  </a:lnTo>
                  <a:lnTo>
                    <a:pt x="227" y="34"/>
                  </a:lnTo>
                  <a:lnTo>
                    <a:pt x="205" y="41"/>
                  </a:lnTo>
                  <a:lnTo>
                    <a:pt x="185" y="55"/>
                  </a:lnTo>
                  <a:lnTo>
                    <a:pt x="199" y="39"/>
                  </a:lnTo>
                  <a:lnTo>
                    <a:pt x="219" y="28"/>
                  </a:lnTo>
                  <a:lnTo>
                    <a:pt x="240" y="18"/>
                  </a:lnTo>
                  <a:lnTo>
                    <a:pt x="261" y="11"/>
                  </a:lnTo>
                  <a:lnTo>
                    <a:pt x="282" y="4"/>
                  </a:lnTo>
                  <a:lnTo>
                    <a:pt x="303" y="2"/>
                  </a:lnTo>
                  <a:lnTo>
                    <a:pt x="324" y="4"/>
                  </a:lnTo>
                  <a:lnTo>
                    <a:pt x="346" y="11"/>
                  </a:lnTo>
                  <a:lnTo>
                    <a:pt x="360" y="6"/>
                  </a:lnTo>
                  <a:lnTo>
                    <a:pt x="378" y="2"/>
                  </a:lnTo>
                  <a:lnTo>
                    <a:pt x="395" y="0"/>
                  </a:lnTo>
                  <a:lnTo>
                    <a:pt x="415" y="0"/>
                  </a:lnTo>
                  <a:lnTo>
                    <a:pt x="432" y="0"/>
                  </a:lnTo>
                  <a:lnTo>
                    <a:pt x="450" y="2"/>
                  </a:lnTo>
                  <a:lnTo>
                    <a:pt x="465" y="2"/>
                  </a:lnTo>
                  <a:lnTo>
                    <a:pt x="483" y="6"/>
                  </a:lnTo>
                  <a:close/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76760" y="5521320"/>
              <a:ext cx="1608120" cy="555480"/>
            </a:xfrm>
            <a:custGeom>
              <a:avLst/>
              <a:gdLst/>
              <a:ahLst/>
              <a:rect l="l" t="t" r="r" b="b"/>
              <a:pathLst>
                <a:path w="2026" h="699">
                  <a:moveTo>
                    <a:pt x="1949" y="182"/>
                  </a:moveTo>
                  <a:lnTo>
                    <a:pt x="1959" y="194"/>
                  </a:lnTo>
                  <a:lnTo>
                    <a:pt x="1971" y="206"/>
                  </a:lnTo>
                  <a:lnTo>
                    <a:pt x="1984" y="218"/>
                  </a:lnTo>
                  <a:lnTo>
                    <a:pt x="1998" y="232"/>
                  </a:lnTo>
                  <a:lnTo>
                    <a:pt x="2006" y="246"/>
                  </a:lnTo>
                  <a:lnTo>
                    <a:pt x="2017" y="262"/>
                  </a:lnTo>
                  <a:lnTo>
                    <a:pt x="2022" y="278"/>
                  </a:lnTo>
                  <a:lnTo>
                    <a:pt x="2026" y="299"/>
                  </a:lnTo>
                  <a:lnTo>
                    <a:pt x="2020" y="320"/>
                  </a:lnTo>
                  <a:lnTo>
                    <a:pt x="2012" y="337"/>
                  </a:lnTo>
                  <a:lnTo>
                    <a:pt x="1998" y="353"/>
                  </a:lnTo>
                  <a:lnTo>
                    <a:pt x="1984" y="367"/>
                  </a:lnTo>
                  <a:lnTo>
                    <a:pt x="1963" y="376"/>
                  </a:lnTo>
                  <a:lnTo>
                    <a:pt x="1943" y="386"/>
                  </a:lnTo>
                  <a:lnTo>
                    <a:pt x="1924" y="395"/>
                  </a:lnTo>
                  <a:lnTo>
                    <a:pt x="1910" y="405"/>
                  </a:lnTo>
                  <a:lnTo>
                    <a:pt x="1898" y="405"/>
                  </a:lnTo>
                  <a:lnTo>
                    <a:pt x="1887" y="407"/>
                  </a:lnTo>
                  <a:lnTo>
                    <a:pt x="1877" y="412"/>
                  </a:lnTo>
                  <a:lnTo>
                    <a:pt x="1870" y="421"/>
                  </a:lnTo>
                  <a:lnTo>
                    <a:pt x="1884" y="418"/>
                  </a:lnTo>
                  <a:lnTo>
                    <a:pt x="1900" y="416"/>
                  </a:lnTo>
                  <a:lnTo>
                    <a:pt x="1915" y="412"/>
                  </a:lnTo>
                  <a:lnTo>
                    <a:pt x="1933" y="411"/>
                  </a:lnTo>
                  <a:lnTo>
                    <a:pt x="1947" y="405"/>
                  </a:lnTo>
                  <a:lnTo>
                    <a:pt x="1963" y="402"/>
                  </a:lnTo>
                  <a:lnTo>
                    <a:pt x="1978" y="397"/>
                  </a:lnTo>
                  <a:lnTo>
                    <a:pt x="1994" y="391"/>
                  </a:lnTo>
                  <a:lnTo>
                    <a:pt x="1989" y="404"/>
                  </a:lnTo>
                  <a:lnTo>
                    <a:pt x="1985" y="418"/>
                  </a:lnTo>
                  <a:lnTo>
                    <a:pt x="1978" y="430"/>
                  </a:lnTo>
                  <a:lnTo>
                    <a:pt x="1973" y="446"/>
                  </a:lnTo>
                  <a:lnTo>
                    <a:pt x="1964" y="458"/>
                  </a:lnTo>
                  <a:lnTo>
                    <a:pt x="1959" y="472"/>
                  </a:lnTo>
                  <a:lnTo>
                    <a:pt x="1950" y="486"/>
                  </a:lnTo>
                  <a:lnTo>
                    <a:pt x="1945" y="500"/>
                  </a:lnTo>
                  <a:lnTo>
                    <a:pt x="1935" y="509"/>
                  </a:lnTo>
                  <a:lnTo>
                    <a:pt x="1931" y="523"/>
                  </a:lnTo>
                  <a:lnTo>
                    <a:pt x="1886" y="558"/>
                  </a:lnTo>
                  <a:lnTo>
                    <a:pt x="1837" y="584"/>
                  </a:lnTo>
                  <a:lnTo>
                    <a:pt x="1784" y="598"/>
                  </a:lnTo>
                  <a:lnTo>
                    <a:pt x="1730" y="608"/>
                  </a:lnTo>
                  <a:lnTo>
                    <a:pt x="1672" y="610"/>
                  </a:lnTo>
                  <a:lnTo>
                    <a:pt x="1614" y="614"/>
                  </a:lnTo>
                  <a:lnTo>
                    <a:pt x="1557" y="615"/>
                  </a:lnTo>
                  <a:lnTo>
                    <a:pt x="1502" y="624"/>
                  </a:lnTo>
                  <a:lnTo>
                    <a:pt x="1494" y="617"/>
                  </a:lnTo>
                  <a:lnTo>
                    <a:pt x="1439" y="614"/>
                  </a:lnTo>
                  <a:lnTo>
                    <a:pt x="1387" y="610"/>
                  </a:lnTo>
                  <a:lnTo>
                    <a:pt x="1334" y="605"/>
                  </a:lnTo>
                  <a:lnTo>
                    <a:pt x="1286" y="603"/>
                  </a:lnTo>
                  <a:lnTo>
                    <a:pt x="1233" y="598"/>
                  </a:lnTo>
                  <a:lnTo>
                    <a:pt x="1184" y="598"/>
                  </a:lnTo>
                  <a:lnTo>
                    <a:pt x="1133" y="596"/>
                  </a:lnTo>
                  <a:lnTo>
                    <a:pt x="1084" y="600"/>
                  </a:lnTo>
                  <a:lnTo>
                    <a:pt x="1088" y="589"/>
                  </a:lnTo>
                  <a:lnTo>
                    <a:pt x="1091" y="582"/>
                  </a:lnTo>
                  <a:lnTo>
                    <a:pt x="1095" y="575"/>
                  </a:lnTo>
                  <a:lnTo>
                    <a:pt x="1093" y="566"/>
                  </a:lnTo>
                  <a:lnTo>
                    <a:pt x="1069" y="579"/>
                  </a:lnTo>
                  <a:lnTo>
                    <a:pt x="1048" y="594"/>
                  </a:lnTo>
                  <a:lnTo>
                    <a:pt x="1027" y="614"/>
                  </a:lnTo>
                  <a:lnTo>
                    <a:pt x="1009" y="633"/>
                  </a:lnTo>
                  <a:lnTo>
                    <a:pt x="988" y="649"/>
                  </a:lnTo>
                  <a:lnTo>
                    <a:pt x="967" y="664"/>
                  </a:lnTo>
                  <a:lnTo>
                    <a:pt x="941" y="673"/>
                  </a:lnTo>
                  <a:lnTo>
                    <a:pt x="915" y="678"/>
                  </a:lnTo>
                  <a:lnTo>
                    <a:pt x="869" y="678"/>
                  </a:lnTo>
                  <a:lnTo>
                    <a:pt x="825" y="678"/>
                  </a:lnTo>
                  <a:lnTo>
                    <a:pt x="780" y="671"/>
                  </a:lnTo>
                  <a:lnTo>
                    <a:pt x="738" y="664"/>
                  </a:lnTo>
                  <a:lnTo>
                    <a:pt x="694" y="652"/>
                  </a:lnTo>
                  <a:lnTo>
                    <a:pt x="654" y="636"/>
                  </a:lnTo>
                  <a:lnTo>
                    <a:pt x="614" y="619"/>
                  </a:lnTo>
                  <a:lnTo>
                    <a:pt x="579" y="600"/>
                  </a:lnTo>
                  <a:lnTo>
                    <a:pt x="586" y="587"/>
                  </a:lnTo>
                  <a:lnTo>
                    <a:pt x="584" y="577"/>
                  </a:lnTo>
                  <a:lnTo>
                    <a:pt x="570" y="568"/>
                  </a:lnTo>
                  <a:lnTo>
                    <a:pt x="558" y="568"/>
                  </a:lnTo>
                  <a:lnTo>
                    <a:pt x="547" y="572"/>
                  </a:lnTo>
                  <a:lnTo>
                    <a:pt x="537" y="580"/>
                  </a:lnTo>
                  <a:lnTo>
                    <a:pt x="526" y="587"/>
                  </a:lnTo>
                  <a:lnTo>
                    <a:pt x="516" y="594"/>
                  </a:lnTo>
                  <a:lnTo>
                    <a:pt x="505" y="596"/>
                  </a:lnTo>
                  <a:lnTo>
                    <a:pt x="495" y="593"/>
                  </a:lnTo>
                  <a:lnTo>
                    <a:pt x="500" y="580"/>
                  </a:lnTo>
                  <a:lnTo>
                    <a:pt x="507" y="568"/>
                  </a:lnTo>
                  <a:lnTo>
                    <a:pt x="495" y="565"/>
                  </a:lnTo>
                  <a:lnTo>
                    <a:pt x="482" y="568"/>
                  </a:lnTo>
                  <a:lnTo>
                    <a:pt x="470" y="575"/>
                  </a:lnTo>
                  <a:lnTo>
                    <a:pt x="458" y="582"/>
                  </a:lnTo>
                  <a:lnTo>
                    <a:pt x="423" y="600"/>
                  </a:lnTo>
                  <a:lnTo>
                    <a:pt x="393" y="622"/>
                  </a:lnTo>
                  <a:lnTo>
                    <a:pt x="363" y="645"/>
                  </a:lnTo>
                  <a:lnTo>
                    <a:pt x="335" y="668"/>
                  </a:lnTo>
                  <a:lnTo>
                    <a:pt x="304" y="684"/>
                  </a:lnTo>
                  <a:lnTo>
                    <a:pt x="272" y="696"/>
                  </a:lnTo>
                  <a:lnTo>
                    <a:pt x="238" y="699"/>
                  </a:lnTo>
                  <a:lnTo>
                    <a:pt x="199" y="692"/>
                  </a:lnTo>
                  <a:lnTo>
                    <a:pt x="215" y="656"/>
                  </a:lnTo>
                  <a:lnTo>
                    <a:pt x="238" y="624"/>
                  </a:lnTo>
                  <a:lnTo>
                    <a:pt x="264" y="596"/>
                  </a:lnTo>
                  <a:lnTo>
                    <a:pt x="295" y="573"/>
                  </a:lnTo>
                  <a:lnTo>
                    <a:pt x="327" y="551"/>
                  </a:lnTo>
                  <a:lnTo>
                    <a:pt x="360" y="530"/>
                  </a:lnTo>
                  <a:lnTo>
                    <a:pt x="393" y="509"/>
                  </a:lnTo>
                  <a:lnTo>
                    <a:pt x="426" y="488"/>
                  </a:lnTo>
                  <a:lnTo>
                    <a:pt x="442" y="479"/>
                  </a:lnTo>
                  <a:lnTo>
                    <a:pt x="463" y="474"/>
                  </a:lnTo>
                  <a:lnTo>
                    <a:pt x="484" y="470"/>
                  </a:lnTo>
                  <a:lnTo>
                    <a:pt x="505" y="470"/>
                  </a:lnTo>
                  <a:lnTo>
                    <a:pt x="526" y="470"/>
                  </a:lnTo>
                  <a:lnTo>
                    <a:pt x="549" y="474"/>
                  </a:lnTo>
                  <a:lnTo>
                    <a:pt x="568" y="477"/>
                  </a:lnTo>
                  <a:lnTo>
                    <a:pt x="589" y="482"/>
                  </a:lnTo>
                  <a:lnTo>
                    <a:pt x="600" y="472"/>
                  </a:lnTo>
                  <a:lnTo>
                    <a:pt x="612" y="465"/>
                  </a:lnTo>
                  <a:lnTo>
                    <a:pt x="601" y="458"/>
                  </a:lnTo>
                  <a:lnTo>
                    <a:pt x="591" y="453"/>
                  </a:lnTo>
                  <a:lnTo>
                    <a:pt x="580" y="449"/>
                  </a:lnTo>
                  <a:lnTo>
                    <a:pt x="570" y="447"/>
                  </a:lnTo>
                  <a:lnTo>
                    <a:pt x="558" y="446"/>
                  </a:lnTo>
                  <a:lnTo>
                    <a:pt x="545" y="444"/>
                  </a:lnTo>
                  <a:lnTo>
                    <a:pt x="535" y="442"/>
                  </a:lnTo>
                  <a:lnTo>
                    <a:pt x="524" y="440"/>
                  </a:lnTo>
                  <a:lnTo>
                    <a:pt x="481" y="439"/>
                  </a:lnTo>
                  <a:lnTo>
                    <a:pt x="440" y="447"/>
                  </a:lnTo>
                  <a:lnTo>
                    <a:pt x="402" y="465"/>
                  </a:lnTo>
                  <a:lnTo>
                    <a:pt x="367" y="489"/>
                  </a:lnTo>
                  <a:lnTo>
                    <a:pt x="330" y="516"/>
                  </a:lnTo>
                  <a:lnTo>
                    <a:pt x="297" y="545"/>
                  </a:lnTo>
                  <a:lnTo>
                    <a:pt x="264" y="575"/>
                  </a:lnTo>
                  <a:lnTo>
                    <a:pt x="232" y="601"/>
                  </a:lnTo>
                  <a:lnTo>
                    <a:pt x="222" y="610"/>
                  </a:lnTo>
                  <a:lnTo>
                    <a:pt x="211" y="619"/>
                  </a:lnTo>
                  <a:lnTo>
                    <a:pt x="201" y="628"/>
                  </a:lnTo>
                  <a:lnTo>
                    <a:pt x="192" y="638"/>
                  </a:lnTo>
                  <a:lnTo>
                    <a:pt x="182" y="647"/>
                  </a:lnTo>
                  <a:lnTo>
                    <a:pt x="175" y="657"/>
                  </a:lnTo>
                  <a:lnTo>
                    <a:pt x="169" y="668"/>
                  </a:lnTo>
                  <a:lnTo>
                    <a:pt x="166" y="684"/>
                  </a:lnTo>
                  <a:lnTo>
                    <a:pt x="150" y="687"/>
                  </a:lnTo>
                  <a:lnTo>
                    <a:pt x="136" y="685"/>
                  </a:lnTo>
                  <a:lnTo>
                    <a:pt x="122" y="680"/>
                  </a:lnTo>
                  <a:lnTo>
                    <a:pt x="108" y="673"/>
                  </a:lnTo>
                  <a:lnTo>
                    <a:pt x="105" y="652"/>
                  </a:lnTo>
                  <a:lnTo>
                    <a:pt x="106" y="633"/>
                  </a:lnTo>
                  <a:lnTo>
                    <a:pt x="112" y="614"/>
                  </a:lnTo>
                  <a:lnTo>
                    <a:pt x="120" y="598"/>
                  </a:lnTo>
                  <a:lnTo>
                    <a:pt x="129" y="579"/>
                  </a:lnTo>
                  <a:lnTo>
                    <a:pt x="141" y="563"/>
                  </a:lnTo>
                  <a:lnTo>
                    <a:pt x="154" y="547"/>
                  </a:lnTo>
                  <a:lnTo>
                    <a:pt x="169" y="533"/>
                  </a:lnTo>
                  <a:lnTo>
                    <a:pt x="201" y="507"/>
                  </a:lnTo>
                  <a:lnTo>
                    <a:pt x="232" y="481"/>
                  </a:lnTo>
                  <a:lnTo>
                    <a:pt x="264" y="453"/>
                  </a:lnTo>
                  <a:lnTo>
                    <a:pt x="295" y="428"/>
                  </a:lnTo>
                  <a:lnTo>
                    <a:pt x="327" y="404"/>
                  </a:lnTo>
                  <a:lnTo>
                    <a:pt x="363" y="386"/>
                  </a:lnTo>
                  <a:lnTo>
                    <a:pt x="400" y="374"/>
                  </a:lnTo>
                  <a:lnTo>
                    <a:pt x="444" y="370"/>
                  </a:lnTo>
                  <a:lnTo>
                    <a:pt x="460" y="372"/>
                  </a:lnTo>
                  <a:lnTo>
                    <a:pt x="479" y="374"/>
                  </a:lnTo>
                  <a:lnTo>
                    <a:pt x="498" y="374"/>
                  </a:lnTo>
                  <a:lnTo>
                    <a:pt x="519" y="377"/>
                  </a:lnTo>
                  <a:lnTo>
                    <a:pt x="538" y="379"/>
                  </a:lnTo>
                  <a:lnTo>
                    <a:pt x="558" y="386"/>
                  </a:lnTo>
                  <a:lnTo>
                    <a:pt x="575" y="393"/>
                  </a:lnTo>
                  <a:lnTo>
                    <a:pt x="593" y="405"/>
                  </a:lnTo>
                  <a:lnTo>
                    <a:pt x="600" y="402"/>
                  </a:lnTo>
                  <a:lnTo>
                    <a:pt x="607" y="397"/>
                  </a:lnTo>
                  <a:lnTo>
                    <a:pt x="600" y="381"/>
                  </a:lnTo>
                  <a:lnTo>
                    <a:pt x="591" y="370"/>
                  </a:lnTo>
                  <a:lnTo>
                    <a:pt x="577" y="362"/>
                  </a:lnTo>
                  <a:lnTo>
                    <a:pt x="565" y="356"/>
                  </a:lnTo>
                  <a:lnTo>
                    <a:pt x="528" y="349"/>
                  </a:lnTo>
                  <a:lnTo>
                    <a:pt x="493" y="344"/>
                  </a:lnTo>
                  <a:lnTo>
                    <a:pt x="456" y="341"/>
                  </a:lnTo>
                  <a:lnTo>
                    <a:pt x="421" y="344"/>
                  </a:lnTo>
                  <a:lnTo>
                    <a:pt x="384" y="348"/>
                  </a:lnTo>
                  <a:lnTo>
                    <a:pt x="349" y="358"/>
                  </a:lnTo>
                  <a:lnTo>
                    <a:pt x="318" y="376"/>
                  </a:lnTo>
                  <a:lnTo>
                    <a:pt x="288" y="400"/>
                  </a:lnTo>
                  <a:lnTo>
                    <a:pt x="257" y="423"/>
                  </a:lnTo>
                  <a:lnTo>
                    <a:pt x="225" y="447"/>
                  </a:lnTo>
                  <a:lnTo>
                    <a:pt x="192" y="474"/>
                  </a:lnTo>
                  <a:lnTo>
                    <a:pt x="161" y="502"/>
                  </a:lnTo>
                  <a:lnTo>
                    <a:pt x="131" y="530"/>
                  </a:lnTo>
                  <a:lnTo>
                    <a:pt x="106" y="563"/>
                  </a:lnTo>
                  <a:lnTo>
                    <a:pt x="87" y="596"/>
                  </a:lnTo>
                  <a:lnTo>
                    <a:pt x="77" y="635"/>
                  </a:lnTo>
                  <a:lnTo>
                    <a:pt x="64" y="633"/>
                  </a:lnTo>
                  <a:lnTo>
                    <a:pt x="54" y="633"/>
                  </a:lnTo>
                  <a:lnTo>
                    <a:pt x="43" y="628"/>
                  </a:lnTo>
                  <a:lnTo>
                    <a:pt x="35" y="621"/>
                  </a:lnTo>
                  <a:lnTo>
                    <a:pt x="26" y="586"/>
                  </a:lnTo>
                  <a:lnTo>
                    <a:pt x="26" y="554"/>
                  </a:lnTo>
                  <a:lnTo>
                    <a:pt x="35" y="523"/>
                  </a:lnTo>
                  <a:lnTo>
                    <a:pt x="50" y="496"/>
                  </a:lnTo>
                  <a:lnTo>
                    <a:pt x="68" y="467"/>
                  </a:lnTo>
                  <a:lnTo>
                    <a:pt x="92" y="442"/>
                  </a:lnTo>
                  <a:lnTo>
                    <a:pt x="117" y="416"/>
                  </a:lnTo>
                  <a:lnTo>
                    <a:pt x="141" y="395"/>
                  </a:lnTo>
                  <a:lnTo>
                    <a:pt x="182" y="363"/>
                  </a:lnTo>
                  <a:lnTo>
                    <a:pt x="229" y="337"/>
                  </a:lnTo>
                  <a:lnTo>
                    <a:pt x="278" y="318"/>
                  </a:lnTo>
                  <a:lnTo>
                    <a:pt x="332" y="306"/>
                  </a:lnTo>
                  <a:lnTo>
                    <a:pt x="384" y="299"/>
                  </a:lnTo>
                  <a:lnTo>
                    <a:pt x="440" y="297"/>
                  </a:lnTo>
                  <a:lnTo>
                    <a:pt x="493" y="302"/>
                  </a:lnTo>
                  <a:lnTo>
                    <a:pt x="545" y="313"/>
                  </a:lnTo>
                  <a:lnTo>
                    <a:pt x="549" y="302"/>
                  </a:lnTo>
                  <a:lnTo>
                    <a:pt x="545" y="290"/>
                  </a:lnTo>
                  <a:lnTo>
                    <a:pt x="528" y="280"/>
                  </a:lnTo>
                  <a:lnTo>
                    <a:pt x="510" y="274"/>
                  </a:lnTo>
                  <a:lnTo>
                    <a:pt x="491" y="271"/>
                  </a:lnTo>
                  <a:lnTo>
                    <a:pt x="472" y="271"/>
                  </a:lnTo>
                  <a:lnTo>
                    <a:pt x="451" y="271"/>
                  </a:lnTo>
                  <a:lnTo>
                    <a:pt x="432" y="271"/>
                  </a:lnTo>
                  <a:lnTo>
                    <a:pt x="411" y="269"/>
                  </a:lnTo>
                  <a:lnTo>
                    <a:pt x="393" y="269"/>
                  </a:lnTo>
                  <a:lnTo>
                    <a:pt x="337" y="274"/>
                  </a:lnTo>
                  <a:lnTo>
                    <a:pt x="283" y="287"/>
                  </a:lnTo>
                  <a:lnTo>
                    <a:pt x="231" y="304"/>
                  </a:lnTo>
                  <a:lnTo>
                    <a:pt x="182" y="330"/>
                  </a:lnTo>
                  <a:lnTo>
                    <a:pt x="133" y="360"/>
                  </a:lnTo>
                  <a:lnTo>
                    <a:pt x="89" y="397"/>
                  </a:lnTo>
                  <a:lnTo>
                    <a:pt x="49" y="439"/>
                  </a:lnTo>
                  <a:lnTo>
                    <a:pt x="15" y="488"/>
                  </a:lnTo>
                  <a:lnTo>
                    <a:pt x="3" y="479"/>
                  </a:lnTo>
                  <a:lnTo>
                    <a:pt x="0" y="468"/>
                  </a:lnTo>
                  <a:lnTo>
                    <a:pt x="3" y="432"/>
                  </a:lnTo>
                  <a:lnTo>
                    <a:pt x="14" y="400"/>
                  </a:lnTo>
                  <a:lnTo>
                    <a:pt x="31" y="370"/>
                  </a:lnTo>
                  <a:lnTo>
                    <a:pt x="56" y="344"/>
                  </a:lnTo>
                  <a:lnTo>
                    <a:pt x="80" y="318"/>
                  </a:lnTo>
                  <a:lnTo>
                    <a:pt x="110" y="299"/>
                  </a:lnTo>
                  <a:lnTo>
                    <a:pt x="140" y="278"/>
                  </a:lnTo>
                  <a:lnTo>
                    <a:pt x="169" y="264"/>
                  </a:lnTo>
                  <a:lnTo>
                    <a:pt x="222" y="238"/>
                  </a:lnTo>
                  <a:lnTo>
                    <a:pt x="281" y="224"/>
                  </a:lnTo>
                  <a:lnTo>
                    <a:pt x="341" y="215"/>
                  </a:lnTo>
                  <a:lnTo>
                    <a:pt x="404" y="213"/>
                  </a:lnTo>
                  <a:lnTo>
                    <a:pt x="465" y="213"/>
                  </a:lnTo>
                  <a:lnTo>
                    <a:pt x="526" y="217"/>
                  </a:lnTo>
                  <a:lnTo>
                    <a:pt x="587" y="218"/>
                  </a:lnTo>
                  <a:lnTo>
                    <a:pt x="647" y="220"/>
                  </a:lnTo>
                  <a:lnTo>
                    <a:pt x="678" y="231"/>
                  </a:lnTo>
                  <a:lnTo>
                    <a:pt x="708" y="246"/>
                  </a:lnTo>
                  <a:lnTo>
                    <a:pt x="736" y="266"/>
                  </a:lnTo>
                  <a:lnTo>
                    <a:pt x="766" y="288"/>
                  </a:lnTo>
                  <a:lnTo>
                    <a:pt x="794" y="307"/>
                  </a:lnTo>
                  <a:lnTo>
                    <a:pt x="825" y="325"/>
                  </a:lnTo>
                  <a:lnTo>
                    <a:pt x="857" y="337"/>
                  </a:lnTo>
                  <a:lnTo>
                    <a:pt x="895" y="342"/>
                  </a:lnTo>
                  <a:lnTo>
                    <a:pt x="911" y="348"/>
                  </a:lnTo>
                  <a:lnTo>
                    <a:pt x="929" y="346"/>
                  </a:lnTo>
                  <a:lnTo>
                    <a:pt x="825" y="294"/>
                  </a:lnTo>
                  <a:lnTo>
                    <a:pt x="838" y="288"/>
                  </a:lnTo>
                  <a:lnTo>
                    <a:pt x="855" y="285"/>
                  </a:lnTo>
                  <a:lnTo>
                    <a:pt x="892" y="273"/>
                  </a:lnTo>
                  <a:lnTo>
                    <a:pt x="930" y="259"/>
                  </a:lnTo>
                  <a:lnTo>
                    <a:pt x="967" y="241"/>
                  </a:lnTo>
                  <a:lnTo>
                    <a:pt x="1006" y="225"/>
                  </a:lnTo>
                  <a:lnTo>
                    <a:pt x="1041" y="206"/>
                  </a:lnTo>
                  <a:lnTo>
                    <a:pt x="1077" y="190"/>
                  </a:lnTo>
                  <a:lnTo>
                    <a:pt x="1114" y="175"/>
                  </a:lnTo>
                  <a:lnTo>
                    <a:pt x="1153" y="161"/>
                  </a:lnTo>
                  <a:lnTo>
                    <a:pt x="1165" y="161"/>
                  </a:lnTo>
                  <a:lnTo>
                    <a:pt x="1174" y="150"/>
                  </a:lnTo>
                  <a:lnTo>
                    <a:pt x="1175" y="145"/>
                  </a:lnTo>
                  <a:lnTo>
                    <a:pt x="1181" y="141"/>
                  </a:lnTo>
                  <a:lnTo>
                    <a:pt x="1186" y="141"/>
                  </a:lnTo>
                  <a:lnTo>
                    <a:pt x="1196" y="147"/>
                  </a:lnTo>
                  <a:lnTo>
                    <a:pt x="1219" y="127"/>
                  </a:lnTo>
                  <a:lnTo>
                    <a:pt x="1244" y="112"/>
                  </a:lnTo>
                  <a:lnTo>
                    <a:pt x="1270" y="96"/>
                  </a:lnTo>
                  <a:lnTo>
                    <a:pt x="1296" y="84"/>
                  </a:lnTo>
                  <a:lnTo>
                    <a:pt x="1321" y="70"/>
                  </a:lnTo>
                  <a:lnTo>
                    <a:pt x="1347" y="57"/>
                  </a:lnTo>
                  <a:lnTo>
                    <a:pt x="1373" y="43"/>
                  </a:lnTo>
                  <a:lnTo>
                    <a:pt x="1399" y="31"/>
                  </a:lnTo>
                  <a:lnTo>
                    <a:pt x="1466" y="15"/>
                  </a:lnTo>
                  <a:lnTo>
                    <a:pt x="1537" y="5"/>
                  </a:lnTo>
                  <a:lnTo>
                    <a:pt x="1607" y="0"/>
                  </a:lnTo>
                  <a:lnTo>
                    <a:pt x="1679" y="7"/>
                  </a:lnTo>
                  <a:lnTo>
                    <a:pt x="1746" y="19"/>
                  </a:lnTo>
                  <a:lnTo>
                    <a:pt x="1809" y="45"/>
                  </a:lnTo>
                  <a:lnTo>
                    <a:pt x="1866" y="82"/>
                  </a:lnTo>
                  <a:lnTo>
                    <a:pt x="1919" y="136"/>
                  </a:lnTo>
                  <a:lnTo>
                    <a:pt x="1926" y="145"/>
                  </a:lnTo>
                  <a:lnTo>
                    <a:pt x="1935" y="157"/>
                  </a:lnTo>
                  <a:lnTo>
                    <a:pt x="1942" y="168"/>
                  </a:lnTo>
                  <a:lnTo>
                    <a:pt x="1949" y="18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83360" y="5534280"/>
              <a:ext cx="11160" cy="108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29360" y="5542200"/>
              <a:ext cx="21960" cy="313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25"/>
                  </a:moveTo>
                  <a:lnTo>
                    <a:pt x="23" y="33"/>
                  </a:lnTo>
                  <a:lnTo>
                    <a:pt x="14" y="40"/>
                  </a:lnTo>
                  <a:lnTo>
                    <a:pt x="3" y="39"/>
                  </a:lnTo>
                  <a:lnTo>
                    <a:pt x="0" y="32"/>
                  </a:lnTo>
                  <a:lnTo>
                    <a:pt x="2" y="23"/>
                  </a:lnTo>
                  <a:lnTo>
                    <a:pt x="7" y="14"/>
                  </a:lnTo>
                  <a:lnTo>
                    <a:pt x="10" y="5"/>
                  </a:lnTo>
                  <a:lnTo>
                    <a:pt x="19" y="0"/>
                  </a:lnTo>
                  <a:lnTo>
                    <a:pt x="28" y="11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00640" y="5565960"/>
              <a:ext cx="7920" cy="2196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10" y="28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66880" y="5631120"/>
              <a:ext cx="1459080" cy="594360"/>
            </a:xfrm>
            <a:custGeom>
              <a:avLst/>
              <a:gdLst/>
              <a:ahLst/>
              <a:rect l="l" t="t" r="r" b="b"/>
              <a:pathLst>
                <a:path w="1839" h="750">
                  <a:moveTo>
                    <a:pt x="1680" y="44"/>
                  </a:moveTo>
                  <a:lnTo>
                    <a:pt x="1687" y="49"/>
                  </a:lnTo>
                  <a:lnTo>
                    <a:pt x="1697" y="53"/>
                  </a:lnTo>
                  <a:lnTo>
                    <a:pt x="1706" y="54"/>
                  </a:lnTo>
                  <a:lnTo>
                    <a:pt x="1717" y="60"/>
                  </a:lnTo>
                  <a:lnTo>
                    <a:pt x="1696" y="58"/>
                  </a:lnTo>
                  <a:lnTo>
                    <a:pt x="1678" y="60"/>
                  </a:lnTo>
                  <a:lnTo>
                    <a:pt x="1659" y="65"/>
                  </a:lnTo>
                  <a:lnTo>
                    <a:pt x="1643" y="72"/>
                  </a:lnTo>
                  <a:lnTo>
                    <a:pt x="1627" y="79"/>
                  </a:lnTo>
                  <a:lnTo>
                    <a:pt x="1613" y="91"/>
                  </a:lnTo>
                  <a:lnTo>
                    <a:pt x="1599" y="103"/>
                  </a:lnTo>
                  <a:lnTo>
                    <a:pt x="1591" y="119"/>
                  </a:lnTo>
                  <a:lnTo>
                    <a:pt x="1582" y="158"/>
                  </a:lnTo>
                  <a:lnTo>
                    <a:pt x="1570" y="149"/>
                  </a:lnTo>
                  <a:lnTo>
                    <a:pt x="1557" y="149"/>
                  </a:lnTo>
                  <a:lnTo>
                    <a:pt x="1552" y="158"/>
                  </a:lnTo>
                  <a:lnTo>
                    <a:pt x="1554" y="168"/>
                  </a:lnTo>
                  <a:lnTo>
                    <a:pt x="1557" y="175"/>
                  </a:lnTo>
                  <a:lnTo>
                    <a:pt x="1566" y="182"/>
                  </a:lnTo>
                  <a:lnTo>
                    <a:pt x="1585" y="199"/>
                  </a:lnTo>
                  <a:lnTo>
                    <a:pt x="1612" y="212"/>
                  </a:lnTo>
                  <a:lnTo>
                    <a:pt x="1640" y="219"/>
                  </a:lnTo>
                  <a:lnTo>
                    <a:pt x="1669" y="222"/>
                  </a:lnTo>
                  <a:lnTo>
                    <a:pt x="1699" y="222"/>
                  </a:lnTo>
                  <a:lnTo>
                    <a:pt x="1731" y="222"/>
                  </a:lnTo>
                  <a:lnTo>
                    <a:pt x="1760" y="222"/>
                  </a:lnTo>
                  <a:lnTo>
                    <a:pt x="1790" y="226"/>
                  </a:lnTo>
                  <a:lnTo>
                    <a:pt x="1799" y="234"/>
                  </a:lnTo>
                  <a:lnTo>
                    <a:pt x="1807" y="243"/>
                  </a:lnTo>
                  <a:lnTo>
                    <a:pt x="1816" y="252"/>
                  </a:lnTo>
                  <a:lnTo>
                    <a:pt x="1827" y="262"/>
                  </a:lnTo>
                  <a:lnTo>
                    <a:pt x="1832" y="271"/>
                  </a:lnTo>
                  <a:lnTo>
                    <a:pt x="1837" y="282"/>
                  </a:lnTo>
                  <a:lnTo>
                    <a:pt x="1839" y="292"/>
                  </a:lnTo>
                  <a:lnTo>
                    <a:pt x="1839" y="308"/>
                  </a:lnTo>
                  <a:lnTo>
                    <a:pt x="1821" y="318"/>
                  </a:lnTo>
                  <a:lnTo>
                    <a:pt x="1806" y="331"/>
                  </a:lnTo>
                  <a:lnTo>
                    <a:pt x="1788" y="339"/>
                  </a:lnTo>
                  <a:lnTo>
                    <a:pt x="1772" y="348"/>
                  </a:lnTo>
                  <a:lnTo>
                    <a:pt x="1755" y="355"/>
                  </a:lnTo>
                  <a:lnTo>
                    <a:pt x="1738" y="364"/>
                  </a:lnTo>
                  <a:lnTo>
                    <a:pt x="1722" y="374"/>
                  </a:lnTo>
                  <a:lnTo>
                    <a:pt x="1710" y="388"/>
                  </a:lnTo>
                  <a:lnTo>
                    <a:pt x="1710" y="406"/>
                  </a:lnTo>
                  <a:lnTo>
                    <a:pt x="1718" y="402"/>
                  </a:lnTo>
                  <a:lnTo>
                    <a:pt x="1727" y="397"/>
                  </a:lnTo>
                  <a:lnTo>
                    <a:pt x="1734" y="392"/>
                  </a:lnTo>
                  <a:lnTo>
                    <a:pt x="1748" y="392"/>
                  </a:lnTo>
                  <a:lnTo>
                    <a:pt x="1751" y="401"/>
                  </a:lnTo>
                  <a:lnTo>
                    <a:pt x="1757" y="411"/>
                  </a:lnTo>
                  <a:lnTo>
                    <a:pt x="1757" y="422"/>
                  </a:lnTo>
                  <a:lnTo>
                    <a:pt x="1758" y="434"/>
                  </a:lnTo>
                  <a:lnTo>
                    <a:pt x="1757" y="444"/>
                  </a:lnTo>
                  <a:lnTo>
                    <a:pt x="1755" y="455"/>
                  </a:lnTo>
                  <a:lnTo>
                    <a:pt x="1750" y="465"/>
                  </a:lnTo>
                  <a:lnTo>
                    <a:pt x="1746" y="476"/>
                  </a:lnTo>
                  <a:lnTo>
                    <a:pt x="1734" y="488"/>
                  </a:lnTo>
                  <a:lnTo>
                    <a:pt x="1732" y="506"/>
                  </a:lnTo>
                  <a:lnTo>
                    <a:pt x="1744" y="507"/>
                  </a:lnTo>
                  <a:lnTo>
                    <a:pt x="1758" y="500"/>
                  </a:lnTo>
                  <a:lnTo>
                    <a:pt x="1771" y="492"/>
                  </a:lnTo>
                  <a:lnTo>
                    <a:pt x="1785" y="500"/>
                  </a:lnTo>
                  <a:lnTo>
                    <a:pt x="1792" y="511"/>
                  </a:lnTo>
                  <a:lnTo>
                    <a:pt x="1797" y="523"/>
                  </a:lnTo>
                  <a:lnTo>
                    <a:pt x="1799" y="537"/>
                  </a:lnTo>
                  <a:lnTo>
                    <a:pt x="1797" y="553"/>
                  </a:lnTo>
                  <a:lnTo>
                    <a:pt x="1793" y="565"/>
                  </a:lnTo>
                  <a:lnTo>
                    <a:pt x="1788" y="576"/>
                  </a:lnTo>
                  <a:lnTo>
                    <a:pt x="1778" y="584"/>
                  </a:lnTo>
                  <a:lnTo>
                    <a:pt x="1769" y="595"/>
                  </a:lnTo>
                  <a:lnTo>
                    <a:pt x="1757" y="602"/>
                  </a:lnTo>
                  <a:lnTo>
                    <a:pt x="1746" y="611"/>
                  </a:lnTo>
                  <a:lnTo>
                    <a:pt x="1736" y="619"/>
                  </a:lnTo>
                  <a:lnTo>
                    <a:pt x="1729" y="630"/>
                  </a:lnTo>
                  <a:lnTo>
                    <a:pt x="1741" y="630"/>
                  </a:lnTo>
                  <a:lnTo>
                    <a:pt x="1757" y="628"/>
                  </a:lnTo>
                  <a:lnTo>
                    <a:pt x="1771" y="624"/>
                  </a:lnTo>
                  <a:lnTo>
                    <a:pt x="1785" y="621"/>
                  </a:lnTo>
                  <a:lnTo>
                    <a:pt x="1790" y="635"/>
                  </a:lnTo>
                  <a:lnTo>
                    <a:pt x="1792" y="651"/>
                  </a:lnTo>
                  <a:lnTo>
                    <a:pt x="1760" y="673"/>
                  </a:lnTo>
                  <a:lnTo>
                    <a:pt x="1731" y="691"/>
                  </a:lnTo>
                  <a:lnTo>
                    <a:pt x="1696" y="705"/>
                  </a:lnTo>
                  <a:lnTo>
                    <a:pt x="1661" y="715"/>
                  </a:lnTo>
                  <a:lnTo>
                    <a:pt x="1622" y="722"/>
                  </a:lnTo>
                  <a:lnTo>
                    <a:pt x="1585" y="729"/>
                  </a:lnTo>
                  <a:lnTo>
                    <a:pt x="1549" y="735"/>
                  </a:lnTo>
                  <a:lnTo>
                    <a:pt x="1514" y="743"/>
                  </a:lnTo>
                  <a:lnTo>
                    <a:pt x="1491" y="747"/>
                  </a:lnTo>
                  <a:lnTo>
                    <a:pt x="1468" y="750"/>
                  </a:lnTo>
                  <a:lnTo>
                    <a:pt x="1445" y="750"/>
                  </a:lnTo>
                  <a:lnTo>
                    <a:pt x="1424" y="750"/>
                  </a:lnTo>
                  <a:lnTo>
                    <a:pt x="1400" y="747"/>
                  </a:lnTo>
                  <a:lnTo>
                    <a:pt x="1377" y="745"/>
                  </a:lnTo>
                  <a:lnTo>
                    <a:pt x="1353" y="743"/>
                  </a:lnTo>
                  <a:lnTo>
                    <a:pt x="1330" y="743"/>
                  </a:lnTo>
                  <a:lnTo>
                    <a:pt x="1307" y="735"/>
                  </a:lnTo>
                  <a:lnTo>
                    <a:pt x="1284" y="728"/>
                  </a:lnTo>
                  <a:lnTo>
                    <a:pt x="1263" y="717"/>
                  </a:lnTo>
                  <a:lnTo>
                    <a:pt x="1242" y="707"/>
                  </a:lnTo>
                  <a:lnTo>
                    <a:pt x="1220" y="694"/>
                  </a:lnTo>
                  <a:lnTo>
                    <a:pt x="1199" y="684"/>
                  </a:lnTo>
                  <a:lnTo>
                    <a:pt x="1179" y="672"/>
                  </a:lnTo>
                  <a:lnTo>
                    <a:pt x="1160" y="661"/>
                  </a:lnTo>
                  <a:lnTo>
                    <a:pt x="1146" y="659"/>
                  </a:lnTo>
                  <a:lnTo>
                    <a:pt x="1136" y="656"/>
                  </a:lnTo>
                  <a:lnTo>
                    <a:pt x="1127" y="651"/>
                  </a:lnTo>
                  <a:lnTo>
                    <a:pt x="1122" y="645"/>
                  </a:lnTo>
                  <a:lnTo>
                    <a:pt x="1113" y="640"/>
                  </a:lnTo>
                  <a:lnTo>
                    <a:pt x="1106" y="635"/>
                  </a:lnTo>
                  <a:lnTo>
                    <a:pt x="1095" y="633"/>
                  </a:lnTo>
                  <a:lnTo>
                    <a:pt x="1085" y="637"/>
                  </a:lnTo>
                  <a:lnTo>
                    <a:pt x="983" y="661"/>
                  </a:lnTo>
                  <a:lnTo>
                    <a:pt x="884" y="680"/>
                  </a:lnTo>
                  <a:lnTo>
                    <a:pt x="780" y="694"/>
                  </a:lnTo>
                  <a:lnTo>
                    <a:pt x="679" y="705"/>
                  </a:lnTo>
                  <a:lnTo>
                    <a:pt x="574" y="708"/>
                  </a:lnTo>
                  <a:lnTo>
                    <a:pt x="469" y="708"/>
                  </a:lnTo>
                  <a:lnTo>
                    <a:pt x="364" y="703"/>
                  </a:lnTo>
                  <a:lnTo>
                    <a:pt x="259" y="694"/>
                  </a:lnTo>
                  <a:lnTo>
                    <a:pt x="222" y="679"/>
                  </a:lnTo>
                  <a:lnTo>
                    <a:pt x="189" y="663"/>
                  </a:lnTo>
                  <a:lnTo>
                    <a:pt x="158" y="640"/>
                  </a:lnTo>
                  <a:lnTo>
                    <a:pt x="130" y="616"/>
                  </a:lnTo>
                  <a:lnTo>
                    <a:pt x="103" y="586"/>
                  </a:lnTo>
                  <a:lnTo>
                    <a:pt x="82" y="556"/>
                  </a:lnTo>
                  <a:lnTo>
                    <a:pt x="65" y="523"/>
                  </a:lnTo>
                  <a:lnTo>
                    <a:pt x="56" y="488"/>
                  </a:lnTo>
                  <a:lnTo>
                    <a:pt x="74" y="492"/>
                  </a:lnTo>
                  <a:lnTo>
                    <a:pt x="93" y="500"/>
                  </a:lnTo>
                  <a:lnTo>
                    <a:pt x="110" y="509"/>
                  </a:lnTo>
                  <a:lnTo>
                    <a:pt x="128" y="520"/>
                  </a:lnTo>
                  <a:lnTo>
                    <a:pt x="145" y="527"/>
                  </a:lnTo>
                  <a:lnTo>
                    <a:pt x="165" y="535"/>
                  </a:lnTo>
                  <a:lnTo>
                    <a:pt x="184" y="542"/>
                  </a:lnTo>
                  <a:lnTo>
                    <a:pt x="205" y="548"/>
                  </a:lnTo>
                  <a:lnTo>
                    <a:pt x="205" y="542"/>
                  </a:lnTo>
                  <a:lnTo>
                    <a:pt x="184" y="530"/>
                  </a:lnTo>
                  <a:lnTo>
                    <a:pt x="166" y="520"/>
                  </a:lnTo>
                  <a:lnTo>
                    <a:pt x="149" y="507"/>
                  </a:lnTo>
                  <a:lnTo>
                    <a:pt x="133" y="497"/>
                  </a:lnTo>
                  <a:lnTo>
                    <a:pt x="116" y="483"/>
                  </a:lnTo>
                  <a:lnTo>
                    <a:pt x="98" y="472"/>
                  </a:lnTo>
                  <a:lnTo>
                    <a:pt x="79" y="462"/>
                  </a:lnTo>
                  <a:lnTo>
                    <a:pt x="61" y="457"/>
                  </a:lnTo>
                  <a:lnTo>
                    <a:pt x="51" y="446"/>
                  </a:lnTo>
                  <a:lnTo>
                    <a:pt x="42" y="436"/>
                  </a:lnTo>
                  <a:lnTo>
                    <a:pt x="32" y="425"/>
                  </a:lnTo>
                  <a:lnTo>
                    <a:pt x="21" y="416"/>
                  </a:lnTo>
                  <a:lnTo>
                    <a:pt x="11" y="404"/>
                  </a:lnTo>
                  <a:lnTo>
                    <a:pt x="5" y="394"/>
                  </a:lnTo>
                  <a:lnTo>
                    <a:pt x="0" y="380"/>
                  </a:lnTo>
                  <a:lnTo>
                    <a:pt x="2" y="367"/>
                  </a:lnTo>
                  <a:lnTo>
                    <a:pt x="7" y="341"/>
                  </a:lnTo>
                  <a:lnTo>
                    <a:pt x="19" y="320"/>
                  </a:lnTo>
                  <a:lnTo>
                    <a:pt x="32" y="299"/>
                  </a:lnTo>
                  <a:lnTo>
                    <a:pt x="47" y="278"/>
                  </a:lnTo>
                  <a:lnTo>
                    <a:pt x="61" y="255"/>
                  </a:lnTo>
                  <a:lnTo>
                    <a:pt x="77" y="234"/>
                  </a:lnTo>
                  <a:lnTo>
                    <a:pt x="89" y="213"/>
                  </a:lnTo>
                  <a:lnTo>
                    <a:pt x="103" y="192"/>
                  </a:lnTo>
                  <a:lnTo>
                    <a:pt x="179" y="98"/>
                  </a:lnTo>
                  <a:lnTo>
                    <a:pt x="268" y="60"/>
                  </a:lnTo>
                  <a:lnTo>
                    <a:pt x="362" y="39"/>
                  </a:lnTo>
                  <a:lnTo>
                    <a:pt x="459" y="30"/>
                  </a:lnTo>
                  <a:lnTo>
                    <a:pt x="558" y="37"/>
                  </a:lnTo>
                  <a:lnTo>
                    <a:pt x="653" y="53"/>
                  </a:lnTo>
                  <a:lnTo>
                    <a:pt x="747" y="84"/>
                  </a:lnTo>
                  <a:lnTo>
                    <a:pt x="836" y="123"/>
                  </a:lnTo>
                  <a:lnTo>
                    <a:pt x="920" y="173"/>
                  </a:lnTo>
                  <a:lnTo>
                    <a:pt x="954" y="191"/>
                  </a:lnTo>
                  <a:lnTo>
                    <a:pt x="989" y="206"/>
                  </a:lnTo>
                  <a:lnTo>
                    <a:pt x="1025" y="219"/>
                  </a:lnTo>
                  <a:lnTo>
                    <a:pt x="1064" y="231"/>
                  </a:lnTo>
                  <a:lnTo>
                    <a:pt x="1101" y="238"/>
                  </a:lnTo>
                  <a:lnTo>
                    <a:pt x="1141" y="243"/>
                  </a:lnTo>
                  <a:lnTo>
                    <a:pt x="1181" y="243"/>
                  </a:lnTo>
                  <a:lnTo>
                    <a:pt x="1223" y="241"/>
                  </a:lnTo>
                  <a:lnTo>
                    <a:pt x="1255" y="227"/>
                  </a:lnTo>
                  <a:lnTo>
                    <a:pt x="1276" y="208"/>
                  </a:lnTo>
                  <a:lnTo>
                    <a:pt x="1291" y="182"/>
                  </a:lnTo>
                  <a:lnTo>
                    <a:pt x="1304" y="154"/>
                  </a:lnTo>
                  <a:lnTo>
                    <a:pt x="1314" y="124"/>
                  </a:lnTo>
                  <a:lnTo>
                    <a:pt x="1328" y="96"/>
                  </a:lnTo>
                  <a:lnTo>
                    <a:pt x="1346" y="72"/>
                  </a:lnTo>
                  <a:lnTo>
                    <a:pt x="1374" y="54"/>
                  </a:lnTo>
                  <a:lnTo>
                    <a:pt x="1400" y="42"/>
                  </a:lnTo>
                  <a:lnTo>
                    <a:pt x="1428" y="37"/>
                  </a:lnTo>
                  <a:lnTo>
                    <a:pt x="1456" y="33"/>
                  </a:lnTo>
                  <a:lnTo>
                    <a:pt x="1486" y="33"/>
                  </a:lnTo>
                  <a:lnTo>
                    <a:pt x="1512" y="30"/>
                  </a:lnTo>
                  <a:lnTo>
                    <a:pt x="1540" y="26"/>
                  </a:lnTo>
                  <a:lnTo>
                    <a:pt x="1564" y="16"/>
                  </a:lnTo>
                  <a:lnTo>
                    <a:pt x="1591" y="0"/>
                  </a:lnTo>
                  <a:lnTo>
                    <a:pt x="1599" y="2"/>
                  </a:lnTo>
                  <a:lnTo>
                    <a:pt x="1612" y="5"/>
                  </a:lnTo>
                  <a:lnTo>
                    <a:pt x="1622" y="9"/>
                  </a:lnTo>
                  <a:lnTo>
                    <a:pt x="1636" y="14"/>
                  </a:lnTo>
                  <a:lnTo>
                    <a:pt x="1648" y="19"/>
                  </a:lnTo>
                  <a:lnTo>
                    <a:pt x="1661" y="26"/>
                  </a:lnTo>
                  <a:lnTo>
                    <a:pt x="1669" y="33"/>
                  </a:lnTo>
                  <a:lnTo>
                    <a:pt x="1680" y="4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05400" y="5651640"/>
              <a:ext cx="58680" cy="610560"/>
            </a:xfrm>
            <a:custGeom>
              <a:avLst/>
              <a:gdLst/>
              <a:ahLst/>
              <a:rect l="l" t="t" r="r" b="b"/>
              <a:pathLst>
                <a:path w="75" h="772">
                  <a:moveTo>
                    <a:pt x="66" y="18"/>
                  </a:moveTo>
                  <a:lnTo>
                    <a:pt x="64" y="70"/>
                  </a:lnTo>
                  <a:lnTo>
                    <a:pt x="64" y="125"/>
                  </a:lnTo>
                  <a:lnTo>
                    <a:pt x="61" y="179"/>
                  </a:lnTo>
                  <a:lnTo>
                    <a:pt x="59" y="233"/>
                  </a:lnTo>
                  <a:lnTo>
                    <a:pt x="56" y="285"/>
                  </a:lnTo>
                  <a:lnTo>
                    <a:pt x="54" y="338"/>
                  </a:lnTo>
                  <a:lnTo>
                    <a:pt x="54" y="390"/>
                  </a:lnTo>
                  <a:lnTo>
                    <a:pt x="57" y="445"/>
                  </a:lnTo>
                  <a:lnTo>
                    <a:pt x="59" y="480"/>
                  </a:lnTo>
                  <a:lnTo>
                    <a:pt x="63" y="516"/>
                  </a:lnTo>
                  <a:lnTo>
                    <a:pt x="66" y="553"/>
                  </a:lnTo>
                  <a:lnTo>
                    <a:pt x="70" y="590"/>
                  </a:lnTo>
                  <a:lnTo>
                    <a:pt x="71" y="626"/>
                  </a:lnTo>
                  <a:lnTo>
                    <a:pt x="73" y="663"/>
                  </a:lnTo>
                  <a:lnTo>
                    <a:pt x="73" y="700"/>
                  </a:lnTo>
                  <a:lnTo>
                    <a:pt x="75" y="737"/>
                  </a:lnTo>
                  <a:lnTo>
                    <a:pt x="66" y="747"/>
                  </a:lnTo>
                  <a:lnTo>
                    <a:pt x="56" y="759"/>
                  </a:lnTo>
                  <a:lnTo>
                    <a:pt x="43" y="765"/>
                  </a:lnTo>
                  <a:lnTo>
                    <a:pt x="33" y="772"/>
                  </a:lnTo>
                  <a:lnTo>
                    <a:pt x="24" y="766"/>
                  </a:lnTo>
                  <a:lnTo>
                    <a:pt x="17" y="761"/>
                  </a:lnTo>
                  <a:lnTo>
                    <a:pt x="12" y="754"/>
                  </a:lnTo>
                  <a:lnTo>
                    <a:pt x="12" y="745"/>
                  </a:lnTo>
                  <a:lnTo>
                    <a:pt x="7" y="653"/>
                  </a:lnTo>
                  <a:lnTo>
                    <a:pt x="3" y="564"/>
                  </a:lnTo>
                  <a:lnTo>
                    <a:pt x="0" y="474"/>
                  </a:lnTo>
                  <a:lnTo>
                    <a:pt x="0" y="385"/>
                  </a:lnTo>
                  <a:lnTo>
                    <a:pt x="0" y="294"/>
                  </a:lnTo>
                  <a:lnTo>
                    <a:pt x="0" y="205"/>
                  </a:lnTo>
                  <a:lnTo>
                    <a:pt x="0" y="114"/>
                  </a:lnTo>
                  <a:lnTo>
                    <a:pt x="3" y="25"/>
                  </a:lnTo>
                  <a:lnTo>
                    <a:pt x="10" y="16"/>
                  </a:lnTo>
                  <a:lnTo>
                    <a:pt x="19" y="7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7" y="2"/>
                  </a:lnTo>
                  <a:lnTo>
                    <a:pt x="54" y="6"/>
                  </a:lnTo>
                  <a:lnTo>
                    <a:pt x="61" y="11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49600" y="5681880"/>
              <a:ext cx="122040" cy="191520"/>
            </a:xfrm>
            <a:custGeom>
              <a:avLst/>
              <a:gdLst/>
              <a:ahLst/>
              <a:rect l="l" t="t" r="r" b="b"/>
              <a:pathLst>
                <a:path w="154" h="243">
                  <a:moveTo>
                    <a:pt x="88" y="79"/>
                  </a:moveTo>
                  <a:lnTo>
                    <a:pt x="72" y="96"/>
                  </a:lnTo>
                  <a:lnTo>
                    <a:pt x="61" y="117"/>
                  </a:lnTo>
                  <a:lnTo>
                    <a:pt x="51" y="138"/>
                  </a:lnTo>
                  <a:lnTo>
                    <a:pt x="42" y="161"/>
                  </a:lnTo>
                  <a:lnTo>
                    <a:pt x="32" y="182"/>
                  </a:lnTo>
                  <a:lnTo>
                    <a:pt x="23" y="204"/>
                  </a:lnTo>
                  <a:lnTo>
                    <a:pt x="11" y="224"/>
                  </a:lnTo>
                  <a:lnTo>
                    <a:pt x="0" y="243"/>
                  </a:lnTo>
                  <a:lnTo>
                    <a:pt x="0" y="220"/>
                  </a:lnTo>
                  <a:lnTo>
                    <a:pt x="7" y="201"/>
                  </a:lnTo>
                  <a:lnTo>
                    <a:pt x="14" y="182"/>
                  </a:lnTo>
                  <a:lnTo>
                    <a:pt x="21" y="162"/>
                  </a:lnTo>
                  <a:lnTo>
                    <a:pt x="28" y="143"/>
                  </a:lnTo>
                  <a:lnTo>
                    <a:pt x="35" y="124"/>
                  </a:lnTo>
                  <a:lnTo>
                    <a:pt x="44" y="106"/>
                  </a:lnTo>
                  <a:lnTo>
                    <a:pt x="54" y="89"/>
                  </a:lnTo>
                  <a:lnTo>
                    <a:pt x="68" y="73"/>
                  </a:lnTo>
                  <a:lnTo>
                    <a:pt x="154" y="0"/>
                  </a:lnTo>
                  <a:lnTo>
                    <a:pt x="147" y="10"/>
                  </a:lnTo>
                  <a:lnTo>
                    <a:pt x="140" y="21"/>
                  </a:lnTo>
                  <a:lnTo>
                    <a:pt x="130" y="30"/>
                  </a:lnTo>
                  <a:lnTo>
                    <a:pt x="121" y="40"/>
                  </a:lnTo>
                  <a:lnTo>
                    <a:pt x="110" y="47"/>
                  </a:lnTo>
                  <a:lnTo>
                    <a:pt x="102" y="58"/>
                  </a:lnTo>
                  <a:lnTo>
                    <a:pt x="93" y="66"/>
                  </a:lnTo>
                  <a:lnTo>
                    <a:pt x="8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62200" y="5689800"/>
              <a:ext cx="47880" cy="110880"/>
            </a:xfrm>
            <a:custGeom>
              <a:avLst/>
              <a:gdLst/>
              <a:ahLst/>
              <a:rect l="l" t="t" r="r" b="b"/>
              <a:pathLst>
                <a:path w="59" h="140">
                  <a:moveTo>
                    <a:pt x="59" y="140"/>
                  </a:moveTo>
                  <a:lnTo>
                    <a:pt x="10" y="140"/>
                  </a:lnTo>
                  <a:lnTo>
                    <a:pt x="0" y="0"/>
                  </a:lnTo>
                  <a:lnTo>
                    <a:pt x="7" y="16"/>
                  </a:lnTo>
                  <a:lnTo>
                    <a:pt x="14" y="34"/>
                  </a:lnTo>
                  <a:lnTo>
                    <a:pt x="19" y="51"/>
                  </a:lnTo>
                  <a:lnTo>
                    <a:pt x="24" y="70"/>
                  </a:lnTo>
                  <a:lnTo>
                    <a:pt x="29" y="88"/>
                  </a:lnTo>
                  <a:lnTo>
                    <a:pt x="38" y="105"/>
                  </a:lnTo>
                  <a:lnTo>
                    <a:pt x="47" y="123"/>
                  </a:lnTo>
                  <a:lnTo>
                    <a:pt x="59" y="140"/>
                  </a:lnTo>
                  <a:close/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00640" y="5689800"/>
              <a:ext cx="42840" cy="3924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24" y="4"/>
                  </a:moveTo>
                  <a:lnTo>
                    <a:pt x="31" y="11"/>
                  </a:lnTo>
                  <a:lnTo>
                    <a:pt x="45" y="23"/>
                  </a:lnTo>
                  <a:lnTo>
                    <a:pt x="54" y="34"/>
                  </a:lnTo>
                  <a:lnTo>
                    <a:pt x="51" y="49"/>
                  </a:lnTo>
                  <a:lnTo>
                    <a:pt x="40" y="44"/>
                  </a:lnTo>
                  <a:lnTo>
                    <a:pt x="35" y="41"/>
                  </a:lnTo>
                  <a:lnTo>
                    <a:pt x="28" y="34"/>
                  </a:lnTo>
                  <a:lnTo>
                    <a:pt x="24" y="27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84800" y="5712120"/>
              <a:ext cx="36720" cy="2664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5" y="27"/>
                  </a:moveTo>
                  <a:lnTo>
                    <a:pt x="38" y="32"/>
                  </a:lnTo>
                  <a:lnTo>
                    <a:pt x="29" y="34"/>
                  </a:lnTo>
                  <a:lnTo>
                    <a:pt x="19" y="20"/>
                  </a:lnTo>
                  <a:lnTo>
                    <a:pt x="10" y="11"/>
                  </a:lnTo>
                  <a:lnTo>
                    <a:pt x="0" y="11"/>
                  </a:lnTo>
                  <a:lnTo>
                    <a:pt x="1" y="4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29" y="13"/>
                  </a:lnTo>
                  <a:lnTo>
                    <a:pt x="36" y="20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08280" y="5808960"/>
              <a:ext cx="58680" cy="6300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3" y="78"/>
                  </a:moveTo>
                  <a:lnTo>
                    <a:pt x="0" y="66"/>
                  </a:lnTo>
                  <a:lnTo>
                    <a:pt x="7" y="56"/>
                  </a:lnTo>
                  <a:lnTo>
                    <a:pt x="15" y="43"/>
                  </a:lnTo>
                  <a:lnTo>
                    <a:pt x="21" y="33"/>
                  </a:lnTo>
                  <a:lnTo>
                    <a:pt x="75" y="0"/>
                  </a:lnTo>
                  <a:lnTo>
                    <a:pt x="66" y="7"/>
                  </a:lnTo>
                  <a:lnTo>
                    <a:pt x="57" y="15"/>
                  </a:lnTo>
                  <a:lnTo>
                    <a:pt x="47" y="26"/>
                  </a:lnTo>
                  <a:lnTo>
                    <a:pt x="36" y="36"/>
                  </a:lnTo>
                  <a:lnTo>
                    <a:pt x="26" y="47"/>
                  </a:lnTo>
                  <a:lnTo>
                    <a:pt x="17" y="57"/>
                  </a:lnTo>
                  <a:lnTo>
                    <a:pt x="8" y="68"/>
                  </a:lnTo>
                  <a:lnTo>
                    <a:pt x="3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23040" y="5824800"/>
              <a:ext cx="10800" cy="108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38520" y="5829480"/>
              <a:ext cx="38160" cy="3132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4" y="40"/>
                  </a:moveTo>
                  <a:lnTo>
                    <a:pt x="0" y="32"/>
                  </a:lnTo>
                  <a:lnTo>
                    <a:pt x="7" y="23"/>
                  </a:lnTo>
                  <a:lnTo>
                    <a:pt x="16" y="12"/>
                  </a:lnTo>
                  <a:lnTo>
                    <a:pt x="26" y="5"/>
                  </a:lnTo>
                  <a:lnTo>
                    <a:pt x="37" y="4"/>
                  </a:lnTo>
                  <a:lnTo>
                    <a:pt x="47" y="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74880" y="5840640"/>
              <a:ext cx="28800" cy="266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0"/>
                  </a:moveTo>
                  <a:lnTo>
                    <a:pt x="26" y="3"/>
                  </a:lnTo>
                  <a:lnTo>
                    <a:pt x="15" y="12"/>
                  </a:lnTo>
                  <a:lnTo>
                    <a:pt x="5" y="21"/>
                  </a:lnTo>
                  <a:lnTo>
                    <a:pt x="1" y="33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12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1640" y="5894640"/>
              <a:ext cx="73080" cy="6156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91" y="51"/>
                  </a:moveTo>
                  <a:lnTo>
                    <a:pt x="81" y="58"/>
                  </a:lnTo>
                  <a:lnTo>
                    <a:pt x="72" y="65"/>
                  </a:lnTo>
                  <a:lnTo>
                    <a:pt x="60" y="69"/>
                  </a:lnTo>
                  <a:lnTo>
                    <a:pt x="49" y="72"/>
                  </a:lnTo>
                  <a:lnTo>
                    <a:pt x="35" y="74"/>
                  </a:lnTo>
                  <a:lnTo>
                    <a:pt x="23" y="76"/>
                  </a:lnTo>
                  <a:lnTo>
                    <a:pt x="11" y="76"/>
                  </a:lnTo>
                  <a:lnTo>
                    <a:pt x="0" y="79"/>
                  </a:lnTo>
                  <a:lnTo>
                    <a:pt x="11" y="69"/>
                  </a:lnTo>
                  <a:lnTo>
                    <a:pt x="27" y="63"/>
                  </a:lnTo>
                  <a:lnTo>
                    <a:pt x="41" y="56"/>
                  </a:lnTo>
                  <a:lnTo>
                    <a:pt x="56" y="49"/>
                  </a:lnTo>
                  <a:lnTo>
                    <a:pt x="69" y="39"/>
                  </a:lnTo>
                  <a:lnTo>
                    <a:pt x="79" y="30"/>
                  </a:lnTo>
                  <a:lnTo>
                    <a:pt x="83" y="16"/>
                  </a:lnTo>
                  <a:lnTo>
                    <a:pt x="83" y="0"/>
                  </a:lnTo>
                  <a:lnTo>
                    <a:pt x="90" y="7"/>
                  </a:lnTo>
                  <a:lnTo>
                    <a:pt x="93" y="21"/>
                  </a:lnTo>
                  <a:lnTo>
                    <a:pt x="93" y="35"/>
                  </a:lnTo>
                  <a:lnTo>
                    <a:pt x="9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36960" y="6003720"/>
              <a:ext cx="81000" cy="6012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102" y="24"/>
                  </a:moveTo>
                  <a:lnTo>
                    <a:pt x="91" y="38"/>
                  </a:lnTo>
                  <a:lnTo>
                    <a:pt x="82" y="52"/>
                  </a:lnTo>
                  <a:lnTo>
                    <a:pt x="70" y="66"/>
                  </a:lnTo>
                  <a:lnTo>
                    <a:pt x="58" y="77"/>
                  </a:lnTo>
                  <a:lnTo>
                    <a:pt x="40" y="77"/>
                  </a:lnTo>
                  <a:lnTo>
                    <a:pt x="26" y="75"/>
                  </a:lnTo>
                  <a:lnTo>
                    <a:pt x="11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4" y="56"/>
                  </a:lnTo>
                  <a:lnTo>
                    <a:pt x="28" y="57"/>
                  </a:lnTo>
                  <a:lnTo>
                    <a:pt x="42" y="57"/>
                  </a:lnTo>
                  <a:lnTo>
                    <a:pt x="58" y="52"/>
                  </a:lnTo>
                  <a:lnTo>
                    <a:pt x="63" y="43"/>
                  </a:lnTo>
                  <a:lnTo>
                    <a:pt x="72" y="33"/>
                  </a:lnTo>
                  <a:lnTo>
                    <a:pt x="77" y="21"/>
                  </a:lnTo>
                  <a:lnTo>
                    <a:pt x="86" y="10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7"/>
                  </a:lnTo>
                  <a:lnTo>
                    <a:pt x="10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67320" y="6018120"/>
              <a:ext cx="320760" cy="53640"/>
            </a:xfrm>
            <a:custGeom>
              <a:avLst/>
              <a:gdLst/>
              <a:ahLst/>
              <a:rect l="l" t="t" r="r" b="b"/>
              <a:pathLst>
                <a:path w="404" h="68">
                  <a:moveTo>
                    <a:pt x="404" y="18"/>
                  </a:moveTo>
                  <a:lnTo>
                    <a:pt x="352" y="26"/>
                  </a:lnTo>
                  <a:lnTo>
                    <a:pt x="301" y="35"/>
                  </a:lnTo>
                  <a:lnTo>
                    <a:pt x="249" y="40"/>
                  </a:lnTo>
                  <a:lnTo>
                    <a:pt x="196" y="47"/>
                  </a:lnTo>
                  <a:lnTo>
                    <a:pt x="144" y="53"/>
                  </a:lnTo>
                  <a:lnTo>
                    <a:pt x="95" y="58"/>
                  </a:lnTo>
                  <a:lnTo>
                    <a:pt x="46" y="63"/>
                  </a:lnTo>
                  <a:lnTo>
                    <a:pt x="0" y="68"/>
                  </a:lnTo>
                  <a:lnTo>
                    <a:pt x="14" y="51"/>
                  </a:lnTo>
                  <a:lnTo>
                    <a:pt x="33" y="39"/>
                  </a:lnTo>
                  <a:lnTo>
                    <a:pt x="54" y="32"/>
                  </a:lnTo>
                  <a:lnTo>
                    <a:pt x="79" y="32"/>
                  </a:lnTo>
                  <a:lnTo>
                    <a:pt x="102" y="30"/>
                  </a:lnTo>
                  <a:lnTo>
                    <a:pt x="126" y="28"/>
                  </a:lnTo>
                  <a:lnTo>
                    <a:pt x="149" y="25"/>
                  </a:lnTo>
                  <a:lnTo>
                    <a:pt x="172" y="18"/>
                  </a:lnTo>
                  <a:lnTo>
                    <a:pt x="156" y="12"/>
                  </a:lnTo>
                  <a:lnTo>
                    <a:pt x="142" y="12"/>
                  </a:lnTo>
                  <a:lnTo>
                    <a:pt x="126" y="12"/>
                  </a:lnTo>
                  <a:lnTo>
                    <a:pt x="112" y="12"/>
                  </a:lnTo>
                  <a:lnTo>
                    <a:pt x="96" y="12"/>
                  </a:lnTo>
                  <a:lnTo>
                    <a:pt x="82" y="14"/>
                  </a:lnTo>
                  <a:lnTo>
                    <a:pt x="68" y="16"/>
                  </a:lnTo>
                  <a:lnTo>
                    <a:pt x="54" y="18"/>
                  </a:lnTo>
                  <a:lnTo>
                    <a:pt x="68" y="0"/>
                  </a:lnTo>
                  <a:lnTo>
                    <a:pt x="110" y="0"/>
                  </a:lnTo>
                  <a:lnTo>
                    <a:pt x="152" y="2"/>
                  </a:lnTo>
                  <a:lnTo>
                    <a:pt x="194" y="5"/>
                  </a:lnTo>
                  <a:lnTo>
                    <a:pt x="238" y="11"/>
                  </a:lnTo>
                  <a:lnTo>
                    <a:pt x="278" y="12"/>
                  </a:lnTo>
                  <a:lnTo>
                    <a:pt x="320" y="16"/>
                  </a:lnTo>
                  <a:lnTo>
                    <a:pt x="362" y="16"/>
                  </a:lnTo>
                  <a:lnTo>
                    <a:pt x="404" y="1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16600" y="6051240"/>
              <a:ext cx="243000" cy="29880"/>
            </a:xfrm>
            <a:custGeom>
              <a:avLst/>
              <a:gdLst/>
              <a:ahLst/>
              <a:rect l="l" t="t" r="r" b="b"/>
              <a:pathLst>
                <a:path w="306" h="37">
                  <a:moveTo>
                    <a:pt x="284" y="10"/>
                  </a:moveTo>
                  <a:lnTo>
                    <a:pt x="0" y="37"/>
                  </a:lnTo>
                  <a:lnTo>
                    <a:pt x="0" y="30"/>
                  </a:lnTo>
                  <a:lnTo>
                    <a:pt x="37" y="24"/>
                  </a:lnTo>
                  <a:lnTo>
                    <a:pt x="75" y="21"/>
                  </a:lnTo>
                  <a:lnTo>
                    <a:pt x="114" y="16"/>
                  </a:lnTo>
                  <a:lnTo>
                    <a:pt x="152" y="14"/>
                  </a:lnTo>
                  <a:lnTo>
                    <a:pt x="189" y="10"/>
                  </a:lnTo>
                  <a:lnTo>
                    <a:pt x="229" y="7"/>
                  </a:lnTo>
                  <a:lnTo>
                    <a:pt x="266" y="3"/>
                  </a:lnTo>
                  <a:lnTo>
                    <a:pt x="306" y="0"/>
                  </a:lnTo>
                  <a:lnTo>
                    <a:pt x="28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51440" y="6064200"/>
              <a:ext cx="272880" cy="31320"/>
            </a:xfrm>
            <a:custGeom>
              <a:avLst/>
              <a:gdLst/>
              <a:ahLst/>
              <a:rect l="l" t="t" r="r" b="b"/>
              <a:pathLst>
                <a:path w="345" h="40">
                  <a:moveTo>
                    <a:pt x="345" y="14"/>
                  </a:moveTo>
                  <a:lnTo>
                    <a:pt x="301" y="14"/>
                  </a:lnTo>
                  <a:lnTo>
                    <a:pt x="257" y="15"/>
                  </a:lnTo>
                  <a:lnTo>
                    <a:pt x="214" y="19"/>
                  </a:lnTo>
                  <a:lnTo>
                    <a:pt x="172" y="24"/>
                  </a:lnTo>
                  <a:lnTo>
                    <a:pt x="130" y="28"/>
                  </a:lnTo>
                  <a:lnTo>
                    <a:pt x="88" y="31"/>
                  </a:lnTo>
                  <a:lnTo>
                    <a:pt x="46" y="35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5" y="26"/>
                  </a:lnTo>
                  <a:lnTo>
                    <a:pt x="70" y="21"/>
                  </a:lnTo>
                  <a:lnTo>
                    <a:pt x="105" y="15"/>
                  </a:lnTo>
                  <a:lnTo>
                    <a:pt x="142" y="12"/>
                  </a:lnTo>
                  <a:lnTo>
                    <a:pt x="177" y="7"/>
                  </a:lnTo>
                  <a:lnTo>
                    <a:pt x="214" y="5"/>
                  </a:lnTo>
                  <a:lnTo>
                    <a:pt x="250" y="1"/>
                  </a:lnTo>
                  <a:lnTo>
                    <a:pt x="289" y="0"/>
                  </a:lnTo>
                  <a:lnTo>
                    <a:pt x="34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16640" y="6084720"/>
              <a:ext cx="199800" cy="31320"/>
            </a:xfrm>
            <a:custGeom>
              <a:avLst/>
              <a:gdLst/>
              <a:ahLst/>
              <a:rect l="l" t="t" r="r" b="b"/>
              <a:pathLst>
                <a:path w="252" h="40">
                  <a:moveTo>
                    <a:pt x="238" y="9"/>
                  </a:moveTo>
                  <a:lnTo>
                    <a:pt x="209" y="12"/>
                  </a:lnTo>
                  <a:lnTo>
                    <a:pt x="179" y="16"/>
                  </a:lnTo>
                  <a:lnTo>
                    <a:pt x="149" y="19"/>
                  </a:lnTo>
                  <a:lnTo>
                    <a:pt x="119" y="25"/>
                  </a:lnTo>
                  <a:lnTo>
                    <a:pt x="88" y="28"/>
                  </a:lnTo>
                  <a:lnTo>
                    <a:pt x="56" y="32"/>
                  </a:lnTo>
                  <a:lnTo>
                    <a:pt x="27" y="35"/>
                  </a:lnTo>
                  <a:lnTo>
                    <a:pt x="0" y="40"/>
                  </a:lnTo>
                  <a:lnTo>
                    <a:pt x="6" y="30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37" y="26"/>
                  </a:lnTo>
                  <a:lnTo>
                    <a:pt x="63" y="23"/>
                  </a:lnTo>
                  <a:lnTo>
                    <a:pt x="90" y="19"/>
                  </a:lnTo>
                  <a:lnTo>
                    <a:pt x="116" y="16"/>
                  </a:lnTo>
                  <a:lnTo>
                    <a:pt x="142" y="12"/>
                  </a:lnTo>
                  <a:lnTo>
                    <a:pt x="168" y="7"/>
                  </a:lnTo>
                  <a:lnTo>
                    <a:pt x="196" y="4"/>
                  </a:lnTo>
                  <a:lnTo>
                    <a:pt x="224" y="0"/>
                  </a:lnTo>
                  <a:lnTo>
                    <a:pt x="252" y="0"/>
                  </a:lnTo>
                  <a:lnTo>
                    <a:pt x="2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97360" y="6084720"/>
              <a:ext cx="15840" cy="75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7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17" y="3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43520" y="6087960"/>
              <a:ext cx="390600" cy="36000"/>
            </a:xfrm>
            <a:custGeom>
              <a:avLst/>
              <a:gdLst/>
              <a:ahLst/>
              <a:rect l="l" t="t" r="r" b="b"/>
              <a:pathLst>
                <a:path w="492" h="46">
                  <a:moveTo>
                    <a:pt x="492" y="9"/>
                  </a:moveTo>
                  <a:lnTo>
                    <a:pt x="431" y="14"/>
                  </a:lnTo>
                  <a:lnTo>
                    <a:pt x="370" y="20"/>
                  </a:lnTo>
                  <a:lnTo>
                    <a:pt x="308" y="25"/>
                  </a:lnTo>
                  <a:lnTo>
                    <a:pt x="249" y="30"/>
                  </a:lnTo>
                  <a:lnTo>
                    <a:pt x="188" y="34"/>
                  </a:lnTo>
                  <a:lnTo>
                    <a:pt x="128" y="39"/>
                  </a:lnTo>
                  <a:lnTo>
                    <a:pt x="67" y="42"/>
                  </a:lnTo>
                  <a:lnTo>
                    <a:pt x="9" y="46"/>
                  </a:lnTo>
                  <a:lnTo>
                    <a:pt x="7" y="42"/>
                  </a:lnTo>
                  <a:lnTo>
                    <a:pt x="6" y="39"/>
                  </a:lnTo>
                  <a:lnTo>
                    <a:pt x="0" y="39"/>
                  </a:lnTo>
                  <a:lnTo>
                    <a:pt x="11" y="35"/>
                  </a:lnTo>
                  <a:lnTo>
                    <a:pt x="23" y="35"/>
                  </a:lnTo>
                  <a:lnTo>
                    <a:pt x="35" y="35"/>
                  </a:lnTo>
                  <a:lnTo>
                    <a:pt x="49" y="35"/>
                  </a:lnTo>
                  <a:lnTo>
                    <a:pt x="91" y="30"/>
                  </a:lnTo>
                  <a:lnTo>
                    <a:pt x="137" y="25"/>
                  </a:lnTo>
                  <a:lnTo>
                    <a:pt x="184" y="21"/>
                  </a:lnTo>
                  <a:lnTo>
                    <a:pt x="231" y="18"/>
                  </a:lnTo>
                  <a:lnTo>
                    <a:pt x="277" y="13"/>
                  </a:lnTo>
                  <a:lnTo>
                    <a:pt x="322" y="9"/>
                  </a:lnTo>
                  <a:lnTo>
                    <a:pt x="368" y="4"/>
                  </a:lnTo>
                  <a:lnTo>
                    <a:pt x="415" y="0"/>
                  </a:lnTo>
                  <a:lnTo>
                    <a:pt x="49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09960" y="6107040"/>
              <a:ext cx="93600" cy="40680"/>
            </a:xfrm>
            <a:custGeom>
              <a:avLst/>
              <a:gdLst/>
              <a:ahLst/>
              <a:rect l="l" t="t" r="r" b="b"/>
              <a:pathLst>
                <a:path w="119" h="52">
                  <a:moveTo>
                    <a:pt x="119" y="7"/>
                  </a:moveTo>
                  <a:lnTo>
                    <a:pt x="117" y="19"/>
                  </a:lnTo>
                  <a:lnTo>
                    <a:pt x="110" y="31"/>
                  </a:lnTo>
                  <a:lnTo>
                    <a:pt x="100" y="38"/>
                  </a:lnTo>
                  <a:lnTo>
                    <a:pt x="89" y="49"/>
                  </a:lnTo>
                  <a:lnTo>
                    <a:pt x="77" y="51"/>
                  </a:lnTo>
                  <a:lnTo>
                    <a:pt x="67" y="52"/>
                  </a:lnTo>
                  <a:lnTo>
                    <a:pt x="54" y="51"/>
                  </a:lnTo>
                  <a:lnTo>
                    <a:pt x="44" y="51"/>
                  </a:lnTo>
                  <a:lnTo>
                    <a:pt x="32" y="47"/>
                  </a:lnTo>
                  <a:lnTo>
                    <a:pt x="21" y="44"/>
                  </a:lnTo>
                  <a:lnTo>
                    <a:pt x="11" y="40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4" y="33"/>
                  </a:lnTo>
                  <a:lnTo>
                    <a:pt x="30" y="33"/>
                  </a:lnTo>
                  <a:lnTo>
                    <a:pt x="44" y="33"/>
                  </a:lnTo>
                  <a:lnTo>
                    <a:pt x="60" y="33"/>
                  </a:lnTo>
                  <a:lnTo>
                    <a:pt x="72" y="31"/>
                  </a:lnTo>
                  <a:lnTo>
                    <a:pt x="86" y="26"/>
                  </a:lnTo>
                  <a:lnTo>
                    <a:pt x="95" y="16"/>
                  </a:lnTo>
                  <a:lnTo>
                    <a:pt x="103" y="2"/>
                  </a:lnTo>
                  <a:lnTo>
                    <a:pt x="112" y="0"/>
                  </a:lnTo>
                  <a:lnTo>
                    <a:pt x="1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9480" y="6117840"/>
              <a:ext cx="276120" cy="31680"/>
            </a:xfrm>
            <a:custGeom>
              <a:avLst/>
              <a:gdLst/>
              <a:ahLst/>
              <a:rect l="l" t="t" r="r" b="b"/>
              <a:pathLst>
                <a:path w="348" h="40">
                  <a:moveTo>
                    <a:pt x="348" y="0"/>
                  </a:moveTo>
                  <a:lnTo>
                    <a:pt x="304" y="7"/>
                  </a:lnTo>
                  <a:lnTo>
                    <a:pt x="261" y="14"/>
                  </a:lnTo>
                  <a:lnTo>
                    <a:pt x="217" y="17"/>
                  </a:lnTo>
                  <a:lnTo>
                    <a:pt x="175" y="22"/>
                  </a:lnTo>
                  <a:lnTo>
                    <a:pt x="131" y="26"/>
                  </a:lnTo>
                  <a:lnTo>
                    <a:pt x="87" y="29"/>
                  </a:lnTo>
                  <a:lnTo>
                    <a:pt x="45" y="35"/>
                  </a:lnTo>
                  <a:lnTo>
                    <a:pt x="3" y="40"/>
                  </a:lnTo>
                  <a:lnTo>
                    <a:pt x="0" y="21"/>
                  </a:lnTo>
                  <a:lnTo>
                    <a:pt x="44" y="15"/>
                  </a:lnTo>
                  <a:lnTo>
                    <a:pt x="87" y="12"/>
                  </a:lnTo>
                  <a:lnTo>
                    <a:pt x="131" y="8"/>
                  </a:lnTo>
                  <a:lnTo>
                    <a:pt x="175" y="7"/>
                  </a:lnTo>
                  <a:lnTo>
                    <a:pt x="217" y="3"/>
                  </a:lnTo>
                  <a:lnTo>
                    <a:pt x="261" y="1"/>
                  </a:lnTo>
                  <a:lnTo>
                    <a:pt x="304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24600" y="6130800"/>
              <a:ext cx="185760" cy="26640"/>
            </a:xfrm>
            <a:custGeom>
              <a:avLst/>
              <a:gdLst/>
              <a:ahLst/>
              <a:rect l="l" t="t" r="r" b="b"/>
              <a:pathLst>
                <a:path w="234" h="34">
                  <a:moveTo>
                    <a:pt x="234" y="0"/>
                  </a:moveTo>
                  <a:lnTo>
                    <a:pt x="208" y="7"/>
                  </a:lnTo>
                  <a:lnTo>
                    <a:pt x="180" y="14"/>
                  </a:lnTo>
                  <a:lnTo>
                    <a:pt x="150" y="18"/>
                  </a:lnTo>
                  <a:lnTo>
                    <a:pt x="122" y="21"/>
                  </a:lnTo>
                  <a:lnTo>
                    <a:pt x="91" y="23"/>
                  </a:lnTo>
                  <a:lnTo>
                    <a:pt x="61" y="25"/>
                  </a:lnTo>
                  <a:lnTo>
                    <a:pt x="31" y="27"/>
                  </a:lnTo>
                  <a:lnTo>
                    <a:pt x="5" y="34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26" y="21"/>
                  </a:lnTo>
                  <a:lnTo>
                    <a:pt x="56" y="18"/>
                  </a:lnTo>
                  <a:lnTo>
                    <a:pt x="86" y="14"/>
                  </a:lnTo>
                  <a:lnTo>
                    <a:pt x="115" y="13"/>
                  </a:lnTo>
                  <a:lnTo>
                    <a:pt x="145" y="9"/>
                  </a:lnTo>
                  <a:lnTo>
                    <a:pt x="175" y="6"/>
                  </a:lnTo>
                  <a:lnTo>
                    <a:pt x="205" y="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22680" y="6149880"/>
              <a:ext cx="33120" cy="18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5"/>
                  </a:moveTo>
                  <a:lnTo>
                    <a:pt x="42" y="12"/>
                  </a:lnTo>
                  <a:lnTo>
                    <a:pt x="37" y="16"/>
                  </a:lnTo>
                  <a:lnTo>
                    <a:pt x="28" y="19"/>
                  </a:lnTo>
                  <a:lnTo>
                    <a:pt x="21" y="23"/>
                  </a:lnTo>
                  <a:lnTo>
                    <a:pt x="14" y="17"/>
                  </a:lnTo>
                  <a:lnTo>
                    <a:pt x="7" y="17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1" y="5"/>
                  </a:lnTo>
                  <a:lnTo>
                    <a:pt x="21" y="2"/>
                  </a:lnTo>
                  <a:lnTo>
                    <a:pt x="32" y="0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64160" y="6152760"/>
              <a:ext cx="230040" cy="31680"/>
            </a:xfrm>
            <a:custGeom>
              <a:avLst/>
              <a:gdLst/>
              <a:ahLst/>
              <a:rect l="l" t="t" r="r" b="b"/>
              <a:pathLst>
                <a:path w="290" h="41">
                  <a:moveTo>
                    <a:pt x="290" y="2"/>
                  </a:moveTo>
                  <a:lnTo>
                    <a:pt x="256" y="7"/>
                  </a:lnTo>
                  <a:lnTo>
                    <a:pt x="222" y="13"/>
                  </a:lnTo>
                  <a:lnTo>
                    <a:pt x="187" y="16"/>
                  </a:lnTo>
                  <a:lnTo>
                    <a:pt x="152" y="21"/>
                  </a:lnTo>
                  <a:lnTo>
                    <a:pt x="114" y="25"/>
                  </a:lnTo>
                  <a:lnTo>
                    <a:pt x="77" y="28"/>
                  </a:lnTo>
                  <a:lnTo>
                    <a:pt x="40" y="34"/>
                  </a:lnTo>
                  <a:lnTo>
                    <a:pt x="4" y="41"/>
                  </a:lnTo>
                  <a:lnTo>
                    <a:pt x="0" y="20"/>
                  </a:lnTo>
                  <a:lnTo>
                    <a:pt x="35" y="18"/>
                  </a:lnTo>
                  <a:lnTo>
                    <a:pt x="72" y="16"/>
                  </a:lnTo>
                  <a:lnTo>
                    <a:pt x="109" y="13"/>
                  </a:lnTo>
                  <a:lnTo>
                    <a:pt x="145" y="9"/>
                  </a:lnTo>
                  <a:lnTo>
                    <a:pt x="180" y="4"/>
                  </a:lnTo>
                  <a:lnTo>
                    <a:pt x="217" y="2"/>
                  </a:lnTo>
                  <a:lnTo>
                    <a:pt x="254" y="0"/>
                  </a:lnTo>
                  <a:lnTo>
                    <a:pt x="29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89240" y="6157800"/>
              <a:ext cx="417600" cy="61560"/>
            </a:xfrm>
            <a:custGeom>
              <a:avLst/>
              <a:gdLst/>
              <a:ahLst/>
              <a:rect l="l" t="t" r="r" b="b"/>
              <a:pathLst>
                <a:path w="527" h="78">
                  <a:moveTo>
                    <a:pt x="467" y="14"/>
                  </a:moveTo>
                  <a:lnTo>
                    <a:pt x="450" y="14"/>
                  </a:lnTo>
                  <a:lnTo>
                    <a:pt x="432" y="17"/>
                  </a:lnTo>
                  <a:lnTo>
                    <a:pt x="415" y="19"/>
                  </a:lnTo>
                  <a:lnTo>
                    <a:pt x="397" y="24"/>
                  </a:lnTo>
                  <a:lnTo>
                    <a:pt x="378" y="28"/>
                  </a:lnTo>
                  <a:lnTo>
                    <a:pt x="362" y="31"/>
                  </a:lnTo>
                  <a:lnTo>
                    <a:pt x="343" y="35"/>
                  </a:lnTo>
                  <a:lnTo>
                    <a:pt x="327" y="40"/>
                  </a:lnTo>
                  <a:lnTo>
                    <a:pt x="348" y="38"/>
                  </a:lnTo>
                  <a:lnTo>
                    <a:pt x="369" y="38"/>
                  </a:lnTo>
                  <a:lnTo>
                    <a:pt x="390" y="38"/>
                  </a:lnTo>
                  <a:lnTo>
                    <a:pt x="411" y="38"/>
                  </a:lnTo>
                  <a:lnTo>
                    <a:pt x="432" y="36"/>
                  </a:lnTo>
                  <a:lnTo>
                    <a:pt x="453" y="35"/>
                  </a:lnTo>
                  <a:lnTo>
                    <a:pt x="474" y="33"/>
                  </a:lnTo>
                  <a:lnTo>
                    <a:pt x="500" y="33"/>
                  </a:lnTo>
                  <a:lnTo>
                    <a:pt x="527" y="54"/>
                  </a:lnTo>
                  <a:lnTo>
                    <a:pt x="460" y="61"/>
                  </a:lnTo>
                  <a:lnTo>
                    <a:pt x="394" y="66"/>
                  </a:lnTo>
                  <a:lnTo>
                    <a:pt x="327" y="68"/>
                  </a:lnTo>
                  <a:lnTo>
                    <a:pt x="261" y="71"/>
                  </a:lnTo>
                  <a:lnTo>
                    <a:pt x="192" y="71"/>
                  </a:lnTo>
                  <a:lnTo>
                    <a:pt x="128" y="71"/>
                  </a:lnTo>
                  <a:lnTo>
                    <a:pt x="63" y="73"/>
                  </a:lnTo>
                  <a:lnTo>
                    <a:pt x="0" y="78"/>
                  </a:lnTo>
                  <a:lnTo>
                    <a:pt x="37" y="75"/>
                  </a:lnTo>
                  <a:lnTo>
                    <a:pt x="73" y="71"/>
                  </a:lnTo>
                  <a:lnTo>
                    <a:pt x="110" y="66"/>
                  </a:lnTo>
                  <a:lnTo>
                    <a:pt x="149" y="61"/>
                  </a:lnTo>
                  <a:lnTo>
                    <a:pt x="184" y="52"/>
                  </a:lnTo>
                  <a:lnTo>
                    <a:pt x="219" y="47"/>
                  </a:lnTo>
                  <a:lnTo>
                    <a:pt x="255" y="42"/>
                  </a:lnTo>
                  <a:lnTo>
                    <a:pt x="292" y="40"/>
                  </a:lnTo>
                  <a:lnTo>
                    <a:pt x="311" y="33"/>
                  </a:lnTo>
                  <a:lnTo>
                    <a:pt x="332" y="29"/>
                  </a:lnTo>
                  <a:lnTo>
                    <a:pt x="353" y="26"/>
                  </a:lnTo>
                  <a:lnTo>
                    <a:pt x="374" y="24"/>
                  </a:lnTo>
                  <a:lnTo>
                    <a:pt x="394" y="19"/>
                  </a:lnTo>
                  <a:lnTo>
                    <a:pt x="415" y="15"/>
                  </a:lnTo>
                  <a:lnTo>
                    <a:pt x="434" y="8"/>
                  </a:lnTo>
                  <a:lnTo>
                    <a:pt x="453" y="0"/>
                  </a:lnTo>
                  <a:lnTo>
                    <a:pt x="462" y="5"/>
                  </a:lnTo>
                  <a:lnTo>
                    <a:pt x="467" y="14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0280" y="6189480"/>
              <a:ext cx="196920" cy="29880"/>
            </a:xfrm>
            <a:custGeom>
              <a:avLst/>
              <a:gdLst/>
              <a:ahLst/>
              <a:rect l="l" t="t" r="r" b="b"/>
              <a:pathLst>
                <a:path w="248" h="38">
                  <a:moveTo>
                    <a:pt x="0" y="38"/>
                  </a:moveTo>
                  <a:lnTo>
                    <a:pt x="0" y="14"/>
                  </a:lnTo>
                  <a:lnTo>
                    <a:pt x="26" y="9"/>
                  </a:lnTo>
                  <a:lnTo>
                    <a:pt x="58" y="7"/>
                  </a:lnTo>
                  <a:lnTo>
                    <a:pt x="89" y="7"/>
                  </a:lnTo>
                  <a:lnTo>
                    <a:pt x="121" y="7"/>
                  </a:lnTo>
                  <a:lnTo>
                    <a:pt x="152" y="5"/>
                  </a:lnTo>
                  <a:lnTo>
                    <a:pt x="185" y="3"/>
                  </a:lnTo>
                  <a:lnTo>
                    <a:pt x="217" y="2"/>
                  </a:lnTo>
                  <a:lnTo>
                    <a:pt x="248" y="0"/>
                  </a:lnTo>
                  <a:lnTo>
                    <a:pt x="217" y="5"/>
                  </a:lnTo>
                  <a:lnTo>
                    <a:pt x="185" y="12"/>
                  </a:lnTo>
                  <a:lnTo>
                    <a:pt x="156" y="16"/>
                  </a:lnTo>
                  <a:lnTo>
                    <a:pt x="126" y="19"/>
                  </a:lnTo>
                  <a:lnTo>
                    <a:pt x="94" y="21"/>
                  </a:lnTo>
                  <a:lnTo>
                    <a:pt x="63" y="26"/>
                  </a:lnTo>
                  <a:lnTo>
                    <a:pt x="31" y="3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73520" y="6227640"/>
              <a:ext cx="135000" cy="23400"/>
            </a:xfrm>
            <a:custGeom>
              <a:avLst/>
              <a:gdLst/>
              <a:ahLst/>
              <a:rect l="l" t="t" r="r" b="b"/>
              <a:pathLst>
                <a:path w="172" h="30">
                  <a:moveTo>
                    <a:pt x="172" y="5"/>
                  </a:moveTo>
                  <a:lnTo>
                    <a:pt x="149" y="7"/>
                  </a:lnTo>
                  <a:lnTo>
                    <a:pt x="128" y="10"/>
                  </a:lnTo>
                  <a:lnTo>
                    <a:pt x="107" y="12"/>
                  </a:lnTo>
                  <a:lnTo>
                    <a:pt x="86" y="16"/>
                  </a:lnTo>
                  <a:lnTo>
                    <a:pt x="65" y="16"/>
                  </a:lnTo>
                  <a:lnTo>
                    <a:pt x="44" y="19"/>
                  </a:lnTo>
                  <a:lnTo>
                    <a:pt x="23" y="23"/>
                  </a:lnTo>
                  <a:lnTo>
                    <a:pt x="2" y="30"/>
                  </a:lnTo>
                  <a:lnTo>
                    <a:pt x="2" y="21"/>
                  </a:lnTo>
                  <a:lnTo>
                    <a:pt x="0" y="12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7" y="7"/>
                  </a:lnTo>
                  <a:lnTo>
                    <a:pt x="37" y="7"/>
                  </a:lnTo>
                  <a:lnTo>
                    <a:pt x="48" y="5"/>
                  </a:lnTo>
                  <a:lnTo>
                    <a:pt x="58" y="3"/>
                  </a:lnTo>
                  <a:lnTo>
                    <a:pt x="69" y="2"/>
                  </a:lnTo>
                  <a:lnTo>
                    <a:pt x="79" y="0"/>
                  </a:lnTo>
                  <a:lnTo>
                    <a:pt x="172" y="0"/>
                  </a:lnTo>
                  <a:lnTo>
                    <a:pt x="17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19240" y="6238800"/>
              <a:ext cx="147960" cy="21600"/>
            </a:xfrm>
            <a:custGeom>
              <a:avLst/>
              <a:gdLst/>
              <a:ahLst/>
              <a:rect l="l" t="t" r="r" b="b"/>
              <a:pathLst>
                <a:path w="185" h="28">
                  <a:moveTo>
                    <a:pt x="185" y="0"/>
                  </a:moveTo>
                  <a:lnTo>
                    <a:pt x="162" y="5"/>
                  </a:lnTo>
                  <a:lnTo>
                    <a:pt x="140" y="10"/>
                  </a:lnTo>
                  <a:lnTo>
                    <a:pt x="117" y="14"/>
                  </a:lnTo>
                  <a:lnTo>
                    <a:pt x="94" y="19"/>
                  </a:lnTo>
                  <a:lnTo>
                    <a:pt x="70" y="21"/>
                  </a:lnTo>
                  <a:lnTo>
                    <a:pt x="45" y="23"/>
                  </a:lnTo>
                  <a:lnTo>
                    <a:pt x="21" y="24"/>
                  </a:lnTo>
                  <a:lnTo>
                    <a:pt x="0" y="28"/>
                  </a:lnTo>
                  <a:lnTo>
                    <a:pt x="17" y="24"/>
                  </a:lnTo>
                  <a:lnTo>
                    <a:pt x="38" y="21"/>
                  </a:lnTo>
                  <a:lnTo>
                    <a:pt x="61" y="17"/>
                  </a:lnTo>
                  <a:lnTo>
                    <a:pt x="87" y="14"/>
                  </a:lnTo>
                  <a:lnTo>
                    <a:pt x="112" y="9"/>
                  </a:lnTo>
                  <a:lnTo>
                    <a:pt x="136" y="3"/>
                  </a:lnTo>
                  <a:lnTo>
                    <a:pt x="161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49640" y="6241680"/>
              <a:ext cx="533520" cy="25200"/>
            </a:xfrm>
            <a:custGeom>
              <a:avLst/>
              <a:gdLst/>
              <a:ahLst/>
              <a:rect l="l" t="t" r="r" b="b"/>
              <a:pathLst>
                <a:path w="672" h="32">
                  <a:moveTo>
                    <a:pt x="661" y="13"/>
                  </a:moveTo>
                  <a:lnTo>
                    <a:pt x="586" y="16"/>
                  </a:lnTo>
                  <a:lnTo>
                    <a:pt x="511" y="18"/>
                  </a:lnTo>
                  <a:lnTo>
                    <a:pt x="434" y="20"/>
                  </a:lnTo>
                  <a:lnTo>
                    <a:pt x="359" y="21"/>
                  </a:lnTo>
                  <a:lnTo>
                    <a:pt x="282" y="21"/>
                  </a:lnTo>
                  <a:lnTo>
                    <a:pt x="205" y="23"/>
                  </a:lnTo>
                  <a:lnTo>
                    <a:pt x="129" y="25"/>
                  </a:lnTo>
                  <a:lnTo>
                    <a:pt x="58" y="32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14" y="30"/>
                  </a:lnTo>
                  <a:lnTo>
                    <a:pt x="0" y="32"/>
                  </a:lnTo>
                  <a:lnTo>
                    <a:pt x="79" y="20"/>
                  </a:lnTo>
                  <a:lnTo>
                    <a:pt x="159" y="13"/>
                  </a:lnTo>
                  <a:lnTo>
                    <a:pt x="238" y="11"/>
                  </a:lnTo>
                  <a:lnTo>
                    <a:pt x="318" y="11"/>
                  </a:lnTo>
                  <a:lnTo>
                    <a:pt x="397" y="9"/>
                  </a:lnTo>
                  <a:lnTo>
                    <a:pt x="476" y="9"/>
                  </a:lnTo>
                  <a:lnTo>
                    <a:pt x="555" y="6"/>
                  </a:lnTo>
                  <a:lnTo>
                    <a:pt x="639" y="0"/>
                  </a:lnTo>
                  <a:lnTo>
                    <a:pt x="672" y="2"/>
                  </a:lnTo>
                  <a:lnTo>
                    <a:pt x="66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76760" y="6260760"/>
              <a:ext cx="69840" cy="15480"/>
            </a:xfrm>
            <a:custGeom>
              <a:avLst/>
              <a:gdLst/>
              <a:ahLst/>
              <a:rect l="l" t="t" r="r" b="b"/>
              <a:pathLst>
                <a:path w="87" h="21">
                  <a:moveTo>
                    <a:pt x="87" y="2"/>
                  </a:moveTo>
                  <a:lnTo>
                    <a:pt x="77" y="4"/>
                  </a:lnTo>
                  <a:lnTo>
                    <a:pt x="66" y="7"/>
                  </a:lnTo>
                  <a:lnTo>
                    <a:pt x="56" y="9"/>
                  </a:lnTo>
                  <a:lnTo>
                    <a:pt x="47" y="12"/>
                  </a:lnTo>
                  <a:lnTo>
                    <a:pt x="36" y="14"/>
                  </a:lnTo>
                  <a:lnTo>
                    <a:pt x="26" y="16"/>
                  </a:lnTo>
                  <a:lnTo>
                    <a:pt x="15" y="18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0" y="4"/>
                  </a:lnTo>
                  <a:lnTo>
                    <a:pt x="8" y="2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7" y="0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6284880"/>
              <a:ext cx="123840" cy="15480"/>
            </a:xfrm>
            <a:custGeom>
              <a:avLst/>
              <a:gdLst/>
              <a:ahLst/>
              <a:rect l="l" t="t" r="r" b="b"/>
              <a:pathLst>
                <a:path w="156" h="19">
                  <a:moveTo>
                    <a:pt x="156" y="8"/>
                  </a:moveTo>
                  <a:lnTo>
                    <a:pt x="138" y="12"/>
                  </a:lnTo>
                  <a:lnTo>
                    <a:pt x="121" y="15"/>
                  </a:lnTo>
                  <a:lnTo>
                    <a:pt x="102" y="17"/>
                  </a:lnTo>
                  <a:lnTo>
                    <a:pt x="82" y="19"/>
                  </a:lnTo>
                  <a:lnTo>
                    <a:pt x="61" y="17"/>
                  </a:lnTo>
                  <a:lnTo>
                    <a:pt x="42" y="17"/>
                  </a:lnTo>
                  <a:lnTo>
                    <a:pt x="23" y="17"/>
                  </a:lnTo>
                  <a:lnTo>
                    <a:pt x="7" y="19"/>
                  </a:lnTo>
                  <a:lnTo>
                    <a:pt x="0" y="14"/>
                  </a:lnTo>
                  <a:lnTo>
                    <a:pt x="7" y="8"/>
                  </a:lnTo>
                  <a:lnTo>
                    <a:pt x="19" y="5"/>
                  </a:lnTo>
                  <a:lnTo>
                    <a:pt x="35" y="5"/>
                  </a:lnTo>
                  <a:lnTo>
                    <a:pt x="51" y="5"/>
                  </a:lnTo>
                  <a:lnTo>
                    <a:pt x="68" y="5"/>
                  </a:lnTo>
                  <a:lnTo>
                    <a:pt x="82" y="3"/>
                  </a:lnTo>
                  <a:lnTo>
                    <a:pt x="98" y="3"/>
                  </a:lnTo>
                  <a:lnTo>
                    <a:pt x="112" y="1"/>
                  </a:lnTo>
                  <a:lnTo>
                    <a:pt x="128" y="0"/>
                  </a:lnTo>
                  <a:lnTo>
                    <a:pt x="15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75040" y="6294240"/>
              <a:ext cx="147600" cy="16920"/>
            </a:xfrm>
            <a:custGeom>
              <a:avLst/>
              <a:gdLst/>
              <a:ahLst/>
              <a:rect l="l" t="t" r="r" b="b"/>
              <a:pathLst>
                <a:path w="188" h="23">
                  <a:moveTo>
                    <a:pt x="188" y="4"/>
                  </a:moveTo>
                  <a:lnTo>
                    <a:pt x="188" y="11"/>
                  </a:lnTo>
                  <a:lnTo>
                    <a:pt x="182" y="14"/>
                  </a:lnTo>
                  <a:lnTo>
                    <a:pt x="174" y="16"/>
                  </a:lnTo>
                  <a:lnTo>
                    <a:pt x="167" y="19"/>
                  </a:lnTo>
                  <a:lnTo>
                    <a:pt x="144" y="19"/>
                  </a:lnTo>
                  <a:lnTo>
                    <a:pt x="123" y="19"/>
                  </a:lnTo>
                  <a:lnTo>
                    <a:pt x="102" y="19"/>
                  </a:lnTo>
                  <a:lnTo>
                    <a:pt x="81" y="21"/>
                  </a:lnTo>
                  <a:lnTo>
                    <a:pt x="60" y="21"/>
                  </a:lnTo>
                  <a:lnTo>
                    <a:pt x="39" y="21"/>
                  </a:lnTo>
                  <a:lnTo>
                    <a:pt x="20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3" y="16"/>
                  </a:lnTo>
                  <a:lnTo>
                    <a:pt x="48" y="14"/>
                  </a:lnTo>
                  <a:lnTo>
                    <a:pt x="70" y="11"/>
                  </a:lnTo>
                  <a:lnTo>
                    <a:pt x="93" y="9"/>
                  </a:lnTo>
                  <a:lnTo>
                    <a:pt x="114" y="5"/>
                  </a:lnTo>
                  <a:lnTo>
                    <a:pt x="137" y="4"/>
                  </a:lnTo>
                  <a:lnTo>
                    <a:pt x="160" y="0"/>
                  </a:lnTo>
                  <a:lnTo>
                    <a:pt x="186" y="0"/>
                  </a:lnTo>
                  <a:lnTo>
                    <a:pt x="1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26040" y="6394320"/>
              <a:ext cx="272880" cy="23400"/>
            </a:xfrm>
            <a:custGeom>
              <a:avLst/>
              <a:gdLst/>
              <a:ahLst/>
              <a:rect l="l" t="t" r="r" b="b"/>
              <a:pathLst>
                <a:path w="345" h="32">
                  <a:moveTo>
                    <a:pt x="345" y="0"/>
                  </a:moveTo>
                  <a:lnTo>
                    <a:pt x="303" y="5"/>
                  </a:lnTo>
                  <a:lnTo>
                    <a:pt x="261" y="11"/>
                  </a:lnTo>
                  <a:lnTo>
                    <a:pt x="219" y="16"/>
                  </a:lnTo>
                  <a:lnTo>
                    <a:pt x="178" y="21"/>
                  </a:lnTo>
                  <a:lnTo>
                    <a:pt x="136" y="23"/>
                  </a:lnTo>
                  <a:lnTo>
                    <a:pt x="94" y="26"/>
                  </a:lnTo>
                  <a:lnTo>
                    <a:pt x="52" y="28"/>
                  </a:lnTo>
                  <a:lnTo>
                    <a:pt x="10" y="32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35" y="18"/>
                  </a:lnTo>
                  <a:lnTo>
                    <a:pt x="52" y="14"/>
                  </a:lnTo>
                  <a:lnTo>
                    <a:pt x="70" y="14"/>
                  </a:lnTo>
                  <a:lnTo>
                    <a:pt x="87" y="12"/>
                  </a:lnTo>
                  <a:lnTo>
                    <a:pt x="107" y="12"/>
                  </a:lnTo>
                  <a:lnTo>
                    <a:pt x="126" y="11"/>
                  </a:lnTo>
                  <a:lnTo>
                    <a:pt x="147" y="11"/>
                  </a:lnTo>
                  <a:lnTo>
                    <a:pt x="170" y="5"/>
                  </a:lnTo>
                  <a:lnTo>
                    <a:pt x="194" y="4"/>
                  </a:lnTo>
                  <a:lnTo>
                    <a:pt x="219" y="0"/>
                  </a:lnTo>
                  <a:lnTo>
                    <a:pt x="245" y="0"/>
                  </a:lnTo>
                  <a:lnTo>
                    <a:pt x="269" y="0"/>
                  </a:lnTo>
                  <a:lnTo>
                    <a:pt x="294" y="0"/>
                  </a:lnTo>
                  <a:lnTo>
                    <a:pt x="318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41800" y="5757840"/>
              <a:ext cx="426960" cy="514080"/>
            </a:xfrm>
            <a:custGeom>
              <a:avLst/>
              <a:gdLst/>
              <a:ahLst/>
              <a:rect l="l" t="t" r="r" b="b"/>
              <a:pathLst>
                <a:path w="537" h="647">
                  <a:moveTo>
                    <a:pt x="0" y="21"/>
                  </a:moveTo>
                  <a:lnTo>
                    <a:pt x="241" y="75"/>
                  </a:lnTo>
                  <a:lnTo>
                    <a:pt x="416" y="42"/>
                  </a:lnTo>
                  <a:lnTo>
                    <a:pt x="525" y="0"/>
                  </a:lnTo>
                  <a:lnTo>
                    <a:pt x="537" y="554"/>
                  </a:lnTo>
                  <a:lnTo>
                    <a:pt x="394" y="621"/>
                  </a:lnTo>
                  <a:lnTo>
                    <a:pt x="189" y="647"/>
                  </a:lnTo>
                  <a:lnTo>
                    <a:pt x="0" y="6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65640" y="5669280"/>
              <a:ext cx="68400" cy="623160"/>
            </a:xfrm>
            <a:custGeom>
              <a:avLst/>
              <a:gdLst/>
              <a:ahLst/>
              <a:rect l="l" t="t" r="r" b="b"/>
              <a:pathLst>
                <a:path w="85" h="785">
                  <a:moveTo>
                    <a:pt x="70" y="89"/>
                  </a:moveTo>
                  <a:lnTo>
                    <a:pt x="70" y="159"/>
                  </a:lnTo>
                  <a:lnTo>
                    <a:pt x="70" y="231"/>
                  </a:lnTo>
                  <a:lnTo>
                    <a:pt x="70" y="299"/>
                  </a:lnTo>
                  <a:lnTo>
                    <a:pt x="71" y="369"/>
                  </a:lnTo>
                  <a:lnTo>
                    <a:pt x="71" y="437"/>
                  </a:lnTo>
                  <a:lnTo>
                    <a:pt x="75" y="506"/>
                  </a:lnTo>
                  <a:lnTo>
                    <a:pt x="78" y="574"/>
                  </a:lnTo>
                  <a:lnTo>
                    <a:pt x="85" y="642"/>
                  </a:lnTo>
                  <a:lnTo>
                    <a:pt x="82" y="654"/>
                  </a:lnTo>
                  <a:lnTo>
                    <a:pt x="82" y="668"/>
                  </a:lnTo>
                  <a:lnTo>
                    <a:pt x="84" y="680"/>
                  </a:lnTo>
                  <a:lnTo>
                    <a:pt x="85" y="694"/>
                  </a:lnTo>
                  <a:lnTo>
                    <a:pt x="85" y="707"/>
                  </a:lnTo>
                  <a:lnTo>
                    <a:pt x="85" y="719"/>
                  </a:lnTo>
                  <a:lnTo>
                    <a:pt x="85" y="731"/>
                  </a:lnTo>
                  <a:lnTo>
                    <a:pt x="85" y="743"/>
                  </a:lnTo>
                  <a:lnTo>
                    <a:pt x="75" y="742"/>
                  </a:lnTo>
                  <a:lnTo>
                    <a:pt x="71" y="735"/>
                  </a:lnTo>
                  <a:lnTo>
                    <a:pt x="70" y="726"/>
                  </a:lnTo>
                  <a:lnTo>
                    <a:pt x="70" y="719"/>
                  </a:lnTo>
                  <a:lnTo>
                    <a:pt x="66" y="638"/>
                  </a:lnTo>
                  <a:lnTo>
                    <a:pt x="64" y="560"/>
                  </a:lnTo>
                  <a:lnTo>
                    <a:pt x="61" y="478"/>
                  </a:lnTo>
                  <a:lnTo>
                    <a:pt x="59" y="395"/>
                  </a:lnTo>
                  <a:lnTo>
                    <a:pt x="56" y="311"/>
                  </a:lnTo>
                  <a:lnTo>
                    <a:pt x="56" y="227"/>
                  </a:lnTo>
                  <a:lnTo>
                    <a:pt x="52" y="143"/>
                  </a:lnTo>
                  <a:lnTo>
                    <a:pt x="52" y="65"/>
                  </a:lnTo>
                  <a:lnTo>
                    <a:pt x="50" y="53"/>
                  </a:lnTo>
                  <a:lnTo>
                    <a:pt x="47" y="40"/>
                  </a:lnTo>
                  <a:lnTo>
                    <a:pt x="42" y="26"/>
                  </a:lnTo>
                  <a:lnTo>
                    <a:pt x="36" y="16"/>
                  </a:lnTo>
                  <a:lnTo>
                    <a:pt x="24" y="21"/>
                  </a:lnTo>
                  <a:lnTo>
                    <a:pt x="14" y="25"/>
                  </a:lnTo>
                  <a:lnTo>
                    <a:pt x="10" y="112"/>
                  </a:lnTo>
                  <a:lnTo>
                    <a:pt x="12" y="201"/>
                  </a:lnTo>
                  <a:lnTo>
                    <a:pt x="12" y="294"/>
                  </a:lnTo>
                  <a:lnTo>
                    <a:pt x="15" y="388"/>
                  </a:lnTo>
                  <a:lnTo>
                    <a:pt x="17" y="481"/>
                  </a:lnTo>
                  <a:lnTo>
                    <a:pt x="22" y="574"/>
                  </a:lnTo>
                  <a:lnTo>
                    <a:pt x="28" y="666"/>
                  </a:lnTo>
                  <a:lnTo>
                    <a:pt x="33" y="759"/>
                  </a:lnTo>
                  <a:lnTo>
                    <a:pt x="43" y="763"/>
                  </a:lnTo>
                  <a:lnTo>
                    <a:pt x="56" y="759"/>
                  </a:lnTo>
                  <a:lnTo>
                    <a:pt x="64" y="752"/>
                  </a:lnTo>
                  <a:lnTo>
                    <a:pt x="75" y="754"/>
                  </a:lnTo>
                  <a:lnTo>
                    <a:pt x="68" y="764"/>
                  </a:lnTo>
                  <a:lnTo>
                    <a:pt x="57" y="773"/>
                  </a:lnTo>
                  <a:lnTo>
                    <a:pt x="47" y="778"/>
                  </a:lnTo>
                  <a:lnTo>
                    <a:pt x="36" y="785"/>
                  </a:lnTo>
                  <a:lnTo>
                    <a:pt x="22" y="770"/>
                  </a:lnTo>
                  <a:lnTo>
                    <a:pt x="15" y="754"/>
                  </a:lnTo>
                  <a:lnTo>
                    <a:pt x="14" y="733"/>
                  </a:lnTo>
                  <a:lnTo>
                    <a:pt x="15" y="712"/>
                  </a:lnTo>
                  <a:lnTo>
                    <a:pt x="15" y="689"/>
                  </a:lnTo>
                  <a:lnTo>
                    <a:pt x="17" y="668"/>
                  </a:lnTo>
                  <a:lnTo>
                    <a:pt x="17" y="647"/>
                  </a:lnTo>
                  <a:lnTo>
                    <a:pt x="14" y="630"/>
                  </a:lnTo>
                  <a:lnTo>
                    <a:pt x="8" y="544"/>
                  </a:lnTo>
                  <a:lnTo>
                    <a:pt x="5" y="464"/>
                  </a:lnTo>
                  <a:lnTo>
                    <a:pt x="1" y="388"/>
                  </a:lnTo>
                  <a:lnTo>
                    <a:pt x="1" y="315"/>
                  </a:lnTo>
                  <a:lnTo>
                    <a:pt x="0" y="241"/>
                  </a:lnTo>
                  <a:lnTo>
                    <a:pt x="0" y="168"/>
                  </a:lnTo>
                  <a:lnTo>
                    <a:pt x="0" y="93"/>
                  </a:lnTo>
                  <a:lnTo>
                    <a:pt x="0" y="16"/>
                  </a:lnTo>
                  <a:lnTo>
                    <a:pt x="12" y="11"/>
                  </a:lnTo>
                  <a:lnTo>
                    <a:pt x="28" y="5"/>
                  </a:lnTo>
                  <a:lnTo>
                    <a:pt x="40" y="0"/>
                  </a:lnTo>
                  <a:lnTo>
                    <a:pt x="56" y="5"/>
                  </a:lnTo>
                  <a:lnTo>
                    <a:pt x="7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14760" y="5667480"/>
              <a:ext cx="28800" cy="573840"/>
            </a:xfrm>
            <a:custGeom>
              <a:avLst/>
              <a:gdLst/>
              <a:ahLst/>
              <a:rect l="l" t="t" r="r" b="b"/>
              <a:pathLst>
                <a:path w="37" h="724">
                  <a:moveTo>
                    <a:pt x="35" y="86"/>
                  </a:moveTo>
                  <a:lnTo>
                    <a:pt x="28" y="165"/>
                  </a:lnTo>
                  <a:lnTo>
                    <a:pt x="26" y="245"/>
                  </a:lnTo>
                  <a:lnTo>
                    <a:pt x="26" y="324"/>
                  </a:lnTo>
                  <a:lnTo>
                    <a:pt x="30" y="403"/>
                  </a:lnTo>
                  <a:lnTo>
                    <a:pt x="30" y="480"/>
                  </a:lnTo>
                  <a:lnTo>
                    <a:pt x="33" y="558"/>
                  </a:lnTo>
                  <a:lnTo>
                    <a:pt x="35" y="637"/>
                  </a:lnTo>
                  <a:lnTo>
                    <a:pt x="37" y="716"/>
                  </a:lnTo>
                  <a:lnTo>
                    <a:pt x="33" y="721"/>
                  </a:lnTo>
                  <a:lnTo>
                    <a:pt x="30" y="724"/>
                  </a:lnTo>
                  <a:lnTo>
                    <a:pt x="19" y="696"/>
                  </a:lnTo>
                  <a:lnTo>
                    <a:pt x="14" y="668"/>
                  </a:lnTo>
                  <a:lnTo>
                    <a:pt x="12" y="639"/>
                  </a:lnTo>
                  <a:lnTo>
                    <a:pt x="12" y="609"/>
                  </a:lnTo>
                  <a:lnTo>
                    <a:pt x="12" y="577"/>
                  </a:lnTo>
                  <a:lnTo>
                    <a:pt x="12" y="546"/>
                  </a:lnTo>
                  <a:lnTo>
                    <a:pt x="10" y="516"/>
                  </a:lnTo>
                  <a:lnTo>
                    <a:pt x="10" y="490"/>
                  </a:lnTo>
                  <a:lnTo>
                    <a:pt x="5" y="427"/>
                  </a:lnTo>
                  <a:lnTo>
                    <a:pt x="2" y="366"/>
                  </a:lnTo>
                  <a:lnTo>
                    <a:pt x="0" y="303"/>
                  </a:lnTo>
                  <a:lnTo>
                    <a:pt x="0" y="243"/>
                  </a:lnTo>
                  <a:lnTo>
                    <a:pt x="0" y="180"/>
                  </a:lnTo>
                  <a:lnTo>
                    <a:pt x="2" y="121"/>
                  </a:lnTo>
                  <a:lnTo>
                    <a:pt x="2" y="60"/>
                  </a:lnTo>
                  <a:lnTo>
                    <a:pt x="5" y="2"/>
                  </a:lnTo>
                  <a:lnTo>
                    <a:pt x="19" y="0"/>
                  </a:lnTo>
                  <a:lnTo>
                    <a:pt x="28" y="4"/>
                  </a:lnTo>
                  <a:lnTo>
                    <a:pt x="33" y="13"/>
                  </a:lnTo>
                  <a:lnTo>
                    <a:pt x="35" y="28"/>
                  </a:lnTo>
                  <a:lnTo>
                    <a:pt x="33" y="42"/>
                  </a:lnTo>
                  <a:lnTo>
                    <a:pt x="33" y="58"/>
                  </a:lnTo>
                  <a:lnTo>
                    <a:pt x="33" y="72"/>
                  </a:lnTo>
                  <a:lnTo>
                    <a:pt x="3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81560" y="5669280"/>
              <a:ext cx="73080" cy="604080"/>
            </a:xfrm>
            <a:custGeom>
              <a:avLst/>
              <a:gdLst/>
              <a:ahLst/>
              <a:rect l="l" t="t" r="r" b="b"/>
              <a:pathLst>
                <a:path w="93" h="763">
                  <a:moveTo>
                    <a:pt x="72" y="19"/>
                  </a:moveTo>
                  <a:lnTo>
                    <a:pt x="72" y="107"/>
                  </a:lnTo>
                  <a:lnTo>
                    <a:pt x="73" y="198"/>
                  </a:lnTo>
                  <a:lnTo>
                    <a:pt x="75" y="290"/>
                  </a:lnTo>
                  <a:lnTo>
                    <a:pt x="80" y="383"/>
                  </a:lnTo>
                  <a:lnTo>
                    <a:pt x="84" y="472"/>
                  </a:lnTo>
                  <a:lnTo>
                    <a:pt x="87" y="563"/>
                  </a:lnTo>
                  <a:lnTo>
                    <a:pt x="89" y="649"/>
                  </a:lnTo>
                  <a:lnTo>
                    <a:pt x="93" y="733"/>
                  </a:lnTo>
                  <a:lnTo>
                    <a:pt x="86" y="736"/>
                  </a:lnTo>
                  <a:lnTo>
                    <a:pt x="77" y="733"/>
                  </a:lnTo>
                  <a:lnTo>
                    <a:pt x="72" y="687"/>
                  </a:lnTo>
                  <a:lnTo>
                    <a:pt x="70" y="644"/>
                  </a:lnTo>
                  <a:lnTo>
                    <a:pt x="70" y="598"/>
                  </a:lnTo>
                  <a:lnTo>
                    <a:pt x="70" y="556"/>
                  </a:lnTo>
                  <a:lnTo>
                    <a:pt x="70" y="511"/>
                  </a:lnTo>
                  <a:lnTo>
                    <a:pt x="70" y="469"/>
                  </a:lnTo>
                  <a:lnTo>
                    <a:pt x="68" y="425"/>
                  </a:lnTo>
                  <a:lnTo>
                    <a:pt x="66" y="387"/>
                  </a:lnTo>
                  <a:lnTo>
                    <a:pt x="61" y="343"/>
                  </a:lnTo>
                  <a:lnTo>
                    <a:pt x="61" y="299"/>
                  </a:lnTo>
                  <a:lnTo>
                    <a:pt x="59" y="254"/>
                  </a:lnTo>
                  <a:lnTo>
                    <a:pt x="59" y="208"/>
                  </a:lnTo>
                  <a:lnTo>
                    <a:pt x="58" y="159"/>
                  </a:lnTo>
                  <a:lnTo>
                    <a:pt x="56" y="112"/>
                  </a:lnTo>
                  <a:lnTo>
                    <a:pt x="52" y="65"/>
                  </a:lnTo>
                  <a:lnTo>
                    <a:pt x="49" y="21"/>
                  </a:lnTo>
                  <a:lnTo>
                    <a:pt x="33" y="19"/>
                  </a:lnTo>
                  <a:lnTo>
                    <a:pt x="23" y="30"/>
                  </a:lnTo>
                  <a:lnTo>
                    <a:pt x="14" y="68"/>
                  </a:lnTo>
                  <a:lnTo>
                    <a:pt x="14" y="147"/>
                  </a:lnTo>
                  <a:lnTo>
                    <a:pt x="17" y="229"/>
                  </a:lnTo>
                  <a:lnTo>
                    <a:pt x="19" y="310"/>
                  </a:lnTo>
                  <a:lnTo>
                    <a:pt x="24" y="392"/>
                  </a:lnTo>
                  <a:lnTo>
                    <a:pt x="26" y="472"/>
                  </a:lnTo>
                  <a:lnTo>
                    <a:pt x="30" y="553"/>
                  </a:lnTo>
                  <a:lnTo>
                    <a:pt x="33" y="633"/>
                  </a:lnTo>
                  <a:lnTo>
                    <a:pt x="37" y="714"/>
                  </a:lnTo>
                  <a:lnTo>
                    <a:pt x="38" y="721"/>
                  </a:lnTo>
                  <a:lnTo>
                    <a:pt x="38" y="733"/>
                  </a:lnTo>
                  <a:lnTo>
                    <a:pt x="38" y="736"/>
                  </a:lnTo>
                  <a:lnTo>
                    <a:pt x="42" y="742"/>
                  </a:lnTo>
                  <a:lnTo>
                    <a:pt x="45" y="745"/>
                  </a:lnTo>
                  <a:lnTo>
                    <a:pt x="56" y="747"/>
                  </a:lnTo>
                  <a:lnTo>
                    <a:pt x="58" y="742"/>
                  </a:lnTo>
                  <a:lnTo>
                    <a:pt x="59" y="736"/>
                  </a:lnTo>
                  <a:lnTo>
                    <a:pt x="63" y="733"/>
                  </a:lnTo>
                  <a:lnTo>
                    <a:pt x="72" y="735"/>
                  </a:lnTo>
                  <a:lnTo>
                    <a:pt x="73" y="742"/>
                  </a:lnTo>
                  <a:lnTo>
                    <a:pt x="70" y="750"/>
                  </a:lnTo>
                  <a:lnTo>
                    <a:pt x="63" y="754"/>
                  </a:lnTo>
                  <a:lnTo>
                    <a:pt x="58" y="759"/>
                  </a:lnTo>
                  <a:lnTo>
                    <a:pt x="45" y="757"/>
                  </a:lnTo>
                  <a:lnTo>
                    <a:pt x="40" y="761"/>
                  </a:lnTo>
                  <a:lnTo>
                    <a:pt x="31" y="763"/>
                  </a:lnTo>
                  <a:lnTo>
                    <a:pt x="24" y="763"/>
                  </a:lnTo>
                  <a:lnTo>
                    <a:pt x="17" y="689"/>
                  </a:lnTo>
                  <a:lnTo>
                    <a:pt x="14" y="614"/>
                  </a:lnTo>
                  <a:lnTo>
                    <a:pt x="12" y="535"/>
                  </a:lnTo>
                  <a:lnTo>
                    <a:pt x="12" y="457"/>
                  </a:lnTo>
                  <a:lnTo>
                    <a:pt x="10" y="376"/>
                  </a:lnTo>
                  <a:lnTo>
                    <a:pt x="10" y="299"/>
                  </a:lnTo>
                  <a:lnTo>
                    <a:pt x="9" y="224"/>
                  </a:lnTo>
                  <a:lnTo>
                    <a:pt x="5" y="154"/>
                  </a:lnTo>
                  <a:lnTo>
                    <a:pt x="0" y="26"/>
                  </a:lnTo>
                  <a:lnTo>
                    <a:pt x="5" y="18"/>
                  </a:lnTo>
                  <a:lnTo>
                    <a:pt x="16" y="12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4" y="0"/>
                  </a:lnTo>
                  <a:lnTo>
                    <a:pt x="54" y="4"/>
                  </a:lnTo>
                  <a:lnTo>
                    <a:pt x="63" y="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49720" y="5677200"/>
              <a:ext cx="47520" cy="573840"/>
            </a:xfrm>
            <a:custGeom>
              <a:avLst/>
              <a:gdLst/>
              <a:ahLst/>
              <a:rect l="l" t="t" r="r" b="b"/>
              <a:pathLst>
                <a:path w="59" h="724">
                  <a:moveTo>
                    <a:pt x="52" y="220"/>
                  </a:moveTo>
                  <a:lnTo>
                    <a:pt x="49" y="283"/>
                  </a:lnTo>
                  <a:lnTo>
                    <a:pt x="49" y="348"/>
                  </a:lnTo>
                  <a:lnTo>
                    <a:pt x="49" y="411"/>
                  </a:lnTo>
                  <a:lnTo>
                    <a:pt x="50" y="475"/>
                  </a:lnTo>
                  <a:lnTo>
                    <a:pt x="52" y="538"/>
                  </a:lnTo>
                  <a:lnTo>
                    <a:pt x="54" y="601"/>
                  </a:lnTo>
                  <a:lnTo>
                    <a:pt x="56" y="662"/>
                  </a:lnTo>
                  <a:lnTo>
                    <a:pt x="59" y="724"/>
                  </a:lnTo>
                  <a:lnTo>
                    <a:pt x="50" y="722"/>
                  </a:lnTo>
                  <a:lnTo>
                    <a:pt x="47" y="715"/>
                  </a:lnTo>
                  <a:lnTo>
                    <a:pt x="45" y="706"/>
                  </a:lnTo>
                  <a:lnTo>
                    <a:pt x="43" y="699"/>
                  </a:lnTo>
                  <a:lnTo>
                    <a:pt x="38" y="636"/>
                  </a:lnTo>
                  <a:lnTo>
                    <a:pt x="35" y="573"/>
                  </a:lnTo>
                  <a:lnTo>
                    <a:pt x="31" y="512"/>
                  </a:lnTo>
                  <a:lnTo>
                    <a:pt x="29" y="451"/>
                  </a:lnTo>
                  <a:lnTo>
                    <a:pt x="28" y="388"/>
                  </a:lnTo>
                  <a:lnTo>
                    <a:pt x="26" y="328"/>
                  </a:lnTo>
                  <a:lnTo>
                    <a:pt x="24" y="269"/>
                  </a:lnTo>
                  <a:lnTo>
                    <a:pt x="24" y="211"/>
                  </a:lnTo>
                  <a:lnTo>
                    <a:pt x="17" y="194"/>
                  </a:lnTo>
                  <a:lnTo>
                    <a:pt x="14" y="176"/>
                  </a:lnTo>
                  <a:lnTo>
                    <a:pt x="14" y="160"/>
                  </a:lnTo>
                  <a:lnTo>
                    <a:pt x="14" y="145"/>
                  </a:lnTo>
                  <a:lnTo>
                    <a:pt x="14" y="127"/>
                  </a:lnTo>
                  <a:lnTo>
                    <a:pt x="14" y="110"/>
                  </a:lnTo>
                  <a:lnTo>
                    <a:pt x="12" y="94"/>
                  </a:lnTo>
                  <a:lnTo>
                    <a:pt x="8" y="78"/>
                  </a:lnTo>
                  <a:lnTo>
                    <a:pt x="7" y="63"/>
                  </a:lnTo>
                  <a:lnTo>
                    <a:pt x="8" y="47"/>
                  </a:lnTo>
                  <a:lnTo>
                    <a:pt x="7" y="33"/>
                  </a:lnTo>
                  <a:lnTo>
                    <a:pt x="0" y="24"/>
                  </a:lnTo>
                  <a:lnTo>
                    <a:pt x="5" y="0"/>
                  </a:lnTo>
                  <a:lnTo>
                    <a:pt x="21" y="21"/>
                  </a:lnTo>
                  <a:lnTo>
                    <a:pt x="33" y="47"/>
                  </a:lnTo>
                  <a:lnTo>
                    <a:pt x="40" y="73"/>
                  </a:lnTo>
                  <a:lnTo>
                    <a:pt x="47" y="101"/>
                  </a:lnTo>
                  <a:lnTo>
                    <a:pt x="47" y="129"/>
                  </a:lnTo>
                  <a:lnTo>
                    <a:pt x="49" y="160"/>
                  </a:lnTo>
                  <a:lnTo>
                    <a:pt x="50" y="190"/>
                  </a:lnTo>
                  <a:lnTo>
                    <a:pt x="52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ackground on Brewe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nded in 1987 – New York’s “Hometown” Beer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-Founders: Former Foreign Correspondent and a Former Bank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 and one brewery located in the Williamsburg section of Brookly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60s era former steel found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ed in May 199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0,000 Sq. Ft. fac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 Core Branded B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 Seasonal Br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 Brewmaster Reserv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 Post Roa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6019920" y="1981080"/>
          <a:ext cx="248580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48580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nagerial Problem Defin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O Asked For Detailed Analysis of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Production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tling outsourced in Upstate NY fac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g line located in Brooklyn facility (our focu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 Styles of beer kegged in Brookly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and schedule varies by month/sea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lternative production schedule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3276720" y="4343400"/>
          <a:ext cx="211428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343400"/>
                    <a:ext cx="2114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mulation of Probl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ve:  Identify production schedule that maximizes pro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lternative Production Sched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:  Fixed production plan based only on monthly forecasted dem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:  Variable production plan that takes into account the inventory leftover from the previous mon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:  Production based on the optimal Economic Order Quantity (EOQ) at varying levels of safety sto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52480" y="4800600"/>
          <a:ext cx="1905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1905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5105520" y="4800600"/>
          <a:ext cx="190476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800600"/>
                    <a:ext cx="19047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mulation of Problem (cont’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no production constra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ooklyn Brewery uses a First-In-First-Out inventory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er does not have an expiration d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costs include overhead, marketing expenses, executive salar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28800" y="4648320"/>
          <a:ext cx="188604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648320"/>
                    <a:ext cx="188604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5105520" y="46483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mulation of Problem (cont’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p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met monthly demand does not carry over to the next month.  Customers will buy beer from another brewe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tribution of monthly demand is Normal where monthly forecasted demand equals Monthly Mean Demand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Deviation of demand is seasonal, i.e. SD = % of Forecasted Dem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beer type for each month has an independent demand that is unaffected by other beer s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990720" y="3809880"/>
          <a:ext cx="7315200" cy="28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09880"/>
                    <a:ext cx="73152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Method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ystal Ball used to generate 1,000 different scenarios, creating actual schedule of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Company forecasted demand as the me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ed standard deviations to account for seas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t model in MS Excel to assess profitability of 3 Production schedules, using demand generated by Crystal B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057400" y="4800600"/>
          <a:ext cx="17906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800600"/>
                    <a:ext cx="17906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952880" y="4800600"/>
          <a:ext cx="167652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800600"/>
                    <a:ext cx="167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9:26:30Z</dcterms:created>
  <dc:creator>Stern School</dc:creator>
  <dc:description/>
  <dc:language>en-US</dc:language>
  <cp:lastModifiedBy>Stern School of Business</cp:lastModifiedBy>
  <dcterms:modified xsi:type="dcterms:W3CDTF">2003-05-05T17:21:41Z</dcterms:modified>
  <cp:revision>24</cp:revision>
  <dc:subject/>
  <dc:title>Brooklyn Brewery</dc:title>
</cp:coreProperties>
</file>