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5BA-0765-4BC3-9476-3638E88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620-2161-469B-AE77-767F0B25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327-6E89-469A-B711-3EDF9735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2CC-9F93-49D0-B62B-284F2DBE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DAF-07C9-4633-A233-7E01E5D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71-156B-45C8-B45E-03373C55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B1F-4237-494D-8367-B100BCF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3E4-CE96-4D86-ACDD-80BB387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971-9809-4D9F-9B52-057D01B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875-9B48-4BF2-A56B-E21B1CD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B89-BBBC-4E8E-ACB2-E44FED9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8E0-3849-4EF3-B070-3D47DD0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7e0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335B-0EE9-47A9-B4DA-5F24C532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 AND NINA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LER A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Co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nne 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Mal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tnak Vat-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2A-6593-4034-B8A4-33C12F6E91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8229600" cy="334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– 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5497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878-EA81-41D8-A763-5EBBFFC3B0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390840"/>
            <a:ext cx="8381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= Maximum dollars to be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dinner price = VLOOKUP for average dinner price (includes one appetizer, entrée, and dr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unch price = VLOOKUP; average dinner price x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014560"/>
            <a:ext cx="876312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70B-DCE0-4F6B-8C57-A1D087E0D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828800"/>
            <a:ext cx="8763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adjusts the output to reflect the number of days entered by the user on the input page.  This ‘constraint’ was incorporated using VBA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SolverOk SetCell:="$I$47", MaxMinVal:=1, ValueOf:=0, ByChange:=txtDecisionRange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Engine:=3, EngineDesc:="Standard Evolutionary"</a:t>
            </a:r>
            <a:r>
              <a:rPr b="0" lang="en-US" sz="2400" spc="-1" strike="noStrike">
                <a:solidFill>
                  <a:srgbClr val="000000"/>
                </a:solidFill>
                <a:latin typeface="CourierP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VBA equivalent of setting Solver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hose VBA because otherwise, we would have to set the Solver parameters manually each time the model was run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9F3-2455-49E1-9138-2374C92F7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740040" cy="227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41972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nt function prevents the same restaurant from being chosen more than once (based on user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UNTIF($B$35:$H$36,B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2D5-7522-4817-A3F5-00B884263B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s and Trib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feasible solution, model sends the user to Aquavit for every m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uavit is the first listing in the databas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; ‘solution’ is optimal within a local range, not necessarily for the entire data set; get new output with every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early version, Tim and Nina suggested lunch at Le Cirque and dinner at Gray’s Pap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2B4-B6BE-40BB-A478-9344C11B0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will keep trying to identify solutions regardless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n restaurant weighting will affect utilit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restaurant characteristics within the particular geographic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how much weight you assign to favorite cuisin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cannot be too low; welcome to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867-1E0B-446A-8696-9665B91F6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utur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particular restaurants the diner wants to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breakfast destinations into the dining schedu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chedule and price calculations for number of people in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restaurant selection to outer boroughs (read: neighboring suburbs) of the destination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n eliminate time/distance constraint; too dangerous to estimate time on LIE/BQE or A/C/E, B/D/F/Q, N/R, 1/2/3/9, or 4/5/6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C6C-CE82-431C-8D61-392B3DF669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7675" t="29148" r="53147" b="30317"/>
          <a:stretch/>
        </p:blipFill>
        <p:spPr>
          <a:xfrm>
            <a:off x="1600200" y="18288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B41-3626-46C0-A5D9-5FDAD17D6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0" indent="0" algn="ctr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 algn="ctr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&amp;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and Version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071-0127-4451-939E-C92BB7DDF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scription -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gat’s product offering is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tools for touris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online tool that generates itine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792-C72D-429F-AC53-E3C9EBF23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scription -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tool for www.zagat.co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recommended restaura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user preferences and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to any Zagat city or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s to be user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1DF-652A-41CD-9246-5449311F6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estaurant selections (lunch and dinner)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urants identified by unique index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Maximiz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gat Food, Décor, Service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um of all restaurants ratings, weighted by user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isine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Favorite cuisine utility) X (number of times favorite cuisine is on restaurant sched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Utility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 Utility) + (Cuisine Utilit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4E4-87DC-4CCF-B90D-E73972CC9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676520"/>
            <a:ext cx="8763120" cy="4572000"/>
          </a:xfrm>
          <a:prstGeom prst="rect">
            <a:avLst/>
          </a:prstGeom>
          <a:solidFill>
            <a:srgbClr val="7e0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– User Inpu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38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F54-882E-4601-9C33-B1B07F919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24560" y="198108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210672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ED0-4CA3-4804-A27D-23298875F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538280"/>
            <a:ext cx="8686800" cy="45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1C1-5948-4D33-BF5F-D72A76523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Data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Inclusion of “0” is necessary to represent the beginning destination of the traveler or resident used in the distance measurement to restau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768840"/>
            <a:ext cx="85345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s from Zaga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” is necessary to prevent the model from melt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OKUP function: Restaurant ids selected by Solver, provide related restaur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PS"/>
              </a:rPr>
              <a:t>=VLOOKUP(B32,Restaurants,2,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668-0C3A-447F-B489-457B08F6C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9:53:58Z</dcterms:created>
  <dc:creator>Stern</dc:creator>
  <dc:description/>
  <dc:language>en-US</dc:language>
  <cp:lastModifiedBy> </cp:lastModifiedBy>
  <dcterms:modified xsi:type="dcterms:W3CDTF">2003-05-01T13:36:57Z</dcterms:modified>
  <cp:revision>36</cp:revision>
  <dc:subject/>
  <dc:title>TIM AND NINA’S  KILLER APP</dc:title>
</cp:coreProperties>
</file>