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2919-C3F0-4440-9E7C-9734B06DD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(ads) x 23 (programs) integer grid: 1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x screenings per ad per progr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constraint, can’t screen commercial more than once per break – this indicates the number of breaks per program. You will see that no cell within the grid, in that column has a number greater than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x ad slots per progr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assumes each ad is 30 seconds, so you can’t assign more (number of breaks x duration of breaks/.5) ads than you have time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GR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number of times the ad will air during that program x the GRP for that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P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number of times the ad will air during that program x the CPM for that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PMs are not created equal = some ads want to target an audience that is more expensive to r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kimo, “New Tropical Falvors” could only air before 6p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ern Home Video, “Professors Gone Wild” could only air after 8p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s Ale, “Juran Loves It!” could only air after 6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/c of solver limitation, our commercials were limited to 8 (23X8=184), we originally had mo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didn’t use evolutionary solver, we go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nly worked for up to 4 commerc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, we received an: “unexpected error, insufficient memory” message after it had run for 4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that this is a shortcoming. Perhaps in next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ccommodate commercials in increments other than 30 seconds, we would have needed 2 grids and constraints would need to have been dynamic. Perhaps in next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alty = unmet GRP x 5. We chose 5 – can play around with it and assign different priorities to different clients in order of importance. We gave them all the same pena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F205-DCA8-47AF-AB15-270E2AED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3F0B-8CEE-42D4-AB94-DC9A9A26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2411-08E0-4235-80FF-D88BEFACB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6A30-1E86-4A62-9AA1-B4C52673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8157-E7C0-493E-88B2-C5B14F26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02B2-4DE2-42EF-A508-73ED1E76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6DC0-C247-4BA0-8E73-5C4C50F0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1C87-9155-4DA6-B215-759AA57B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FBAC-7B64-417C-8EBF-47E9C495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A8B9-DA4C-4C00-9A64-F53729D4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C148-FD47-4CC2-95EE-DD6F28C0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40FB-233D-4D7C-8A99-1FFFA2CF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D191-EF09-42AD-A761-FBD21EE7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ECEE-ABE7-4D12-9658-504068A8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D9DB-4AC1-49C1-B2B4-6845C91E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D044-9998-4332-BB0C-0A8BB972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9A6B-8854-4CB0-802B-4421087B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3607-3BBD-4EA9-A703-6436E464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4657-F1A9-4817-9712-B55C7925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E32F-7A41-4F79-813E-F972DCF0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B8D6-BC4C-4853-A79F-A25910A5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1962-D560-42AC-A80B-D08E3755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9AE8-A2D1-4724-943E-528A5687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F628-3DE0-4398-9CD0-35BD4467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938D-D213-49A9-9415-D0CC11FE555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631A-E514-4525-9A24-A980248D5B1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TV Spot Project 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18960" y="3270240"/>
            <a:ext cx="7010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Assigning Commercials to TV Spo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6982920" y="5130720"/>
            <a:ext cx="1898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y 1,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fer Dav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ori Do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saki Nagasaw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ejandro Sac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odel Overview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r model: 8 (commercials) x 23 (programs) (integer) gr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66680" y="5105520"/>
            <a:ext cx="7543800" cy="1601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28600" y="2514600"/>
            <a:ext cx="87631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odel Overview (continued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CP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mercials can’t exceed available slo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mercials can’t run more than once per 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ome commercials can’t air at certain ti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nalty for unmet GR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4343400" cy="2362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rcRect l="36252" t="34376" r="36252" b="35158"/>
          <a:stretch/>
        </p:blipFill>
        <p:spPr>
          <a:xfrm>
            <a:off x="5410080" y="4038480"/>
            <a:ext cx="3048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sul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ents reach target GRP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lowest possible CPM (total of $2,560 for all eight client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rame receives $640 (25% of the CP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80880" y="3681360"/>
            <a:ext cx="845820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sults (continued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36784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halleng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itial model was too much for Solver, Excel couldn’t handle i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ver can’t accommodate &gt; 200 decision vari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y worked with Evolutionary Solv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ed on minimizing CPM, not maximizing Comprame’s reven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y works with commercials in 30 second increments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Q&amp;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rial Problem Defin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l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oject Overview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prame is an advertising agency dealing exclusively with Channel 2 in Managua, Nicaragu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very week Comprame receives orders from several clients to allocate commercials among spots available on Channel 2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prame receives 25% of the total client ad dollars spent as reven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oject Overview (continued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ach client has the following criteri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ach target demographic aud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ross Ratings Poin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(GRP): sum total ratings points that the client wants to achieve, within their target demographic, for that wee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ach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= (Demo Universe/100) X Demo Ra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 cheaply as poss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st per Thousan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(CPM) = (Cost per Spot/Demo Rating) X 1,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ata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rame Client and Spot Li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0880" y="2409840"/>
            <a:ext cx="8534520" cy="2771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2409840" y="5562720"/>
            <a:ext cx="1933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rofessors Gone WILD!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ancun 2003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0" t="0" r="75479" b="0"/>
          <a:stretch/>
        </p:blipFill>
        <p:spPr>
          <a:xfrm>
            <a:off x="380880" y="5597640"/>
            <a:ext cx="1752840" cy="65088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6858000" y="5105520"/>
            <a:ext cx="1828440" cy="1600200"/>
            <a:chOff x="6858000" y="5105520"/>
            <a:chExt cx="1828440" cy="1600200"/>
          </a:xfrm>
        </p:grpSpPr>
        <p:pic>
          <p:nvPicPr>
            <p:cNvPr id="112" name="" descr=""/>
            <p:cNvPicPr/>
            <p:nvPr/>
          </p:nvPicPr>
          <p:blipFill>
            <a:blip r:embed="rId3"/>
            <a:srcRect l="0" t="16673" r="0" b="0"/>
            <a:stretch/>
          </p:blipFill>
          <p:spPr>
            <a:xfrm>
              <a:off x="6858000" y="5181840"/>
              <a:ext cx="117036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4"/>
            <a:stretch/>
          </p:blipFill>
          <p:spPr>
            <a:xfrm>
              <a:off x="6858000" y="5943960"/>
              <a:ext cx="117036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808760" y="5105520"/>
              <a:ext cx="877680" cy="304920"/>
            </a:xfrm>
            <a:prstGeom prst="wedgeRectCallout">
              <a:avLst>
                <a:gd name="adj1" fmla="val -66319"/>
                <a:gd name="adj2" fmla="val 165106"/>
              </a:avLst>
            </a:prstGeom>
            <a:solidFill>
              <a:srgbClr val="cc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 like it!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" descr=""/>
          <p:cNvPicPr/>
          <p:nvPr/>
        </p:nvPicPr>
        <p:blipFill>
          <a:blip r:embed="rId5"/>
          <a:srcRect l="22921" t="11610" r="37702" b="18839"/>
          <a:stretch/>
        </p:blipFill>
        <p:spPr>
          <a:xfrm>
            <a:off x="4952880" y="5715000"/>
            <a:ext cx="1219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ata (continued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nnel 2’s Commercial Spo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99061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ata (continued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nnel 2’s Ratings Inform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130480"/>
            <a:ext cx="990612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anagerial Problem Defini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locate commercials in time slots so tha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ach commercial reaches target GRP of specific demographic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tal CPM for that target demographic is minimiz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considered the follow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slots avail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ngth of slots and commerc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 of d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P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ormul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ision Variab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hen to air commercials and reach target audience (GRP) with lowest cost (CP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CP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mercials can’t exceed available slo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ome commercials can’t air at certain tim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kimo, “New Tropical Flavors” only before 6p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ern Home Video, “Professors Gone Wild” only after 8p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ass Ale, “Juran Loves It!” only after 6p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mercial can’t run more than once per 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lient needs to reach target GR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16:42:21Z</dcterms:created>
  <dc:creator>Lori Dorr</dc:creator>
  <dc:description/>
  <dc:language>en-US</dc:language>
  <cp:lastModifiedBy>Lori Dorr</cp:lastModifiedBy>
  <dcterms:modified xsi:type="dcterms:W3CDTF">2003-04-30T20:28:31Z</dcterms:modified>
  <cp:revision>39</cp:revision>
  <dc:subject/>
  <dc:title>TV Spot Project </dc:title>
</cp:coreProperties>
</file>