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81D-CFFD-46DD-9FAF-9556B51D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B3F-D78C-4F15-BD2C-D100C4E7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45F-CF86-4CD2-BB8F-33B89AE0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5DA-15EA-4244-BED3-082D0DCE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F95-949D-4E76-8383-1962C453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D47-3D54-49A6-B930-75167438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C1C-502E-42B1-8EF1-3650E7BD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E5E-49C2-48B4-B175-BAAB89CF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E6E-6F56-420E-9BA6-EFD827A1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18A-088D-48EC-B909-0F4EDED1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454-1B5D-4770-A829-49944853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E73-5B2F-4E37-ADEE-B55618C3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5880"/>
            <a:ext cx="9143640" cy="762120"/>
            <a:chOff x="0" y="6095880"/>
            <a:chExt cx="9143640" cy="762120"/>
          </a:xfrm>
        </p:grpSpPr>
        <p:sp>
          <p:nvSpPr>
            <p:cNvPr id="6" name=""/>
            <p:cNvSpPr/>
            <p:nvPr/>
          </p:nvSpPr>
          <p:spPr>
            <a:xfrm>
              <a:off x="5720400" y="6095880"/>
              <a:ext cx="151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Sensitiv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234920" y="6095880"/>
              <a:ext cx="1908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Conclus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383000" y="6095880"/>
              <a:ext cx="13370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Approa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174480" y="6095880"/>
              <a:ext cx="12081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711360" indent="-7113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711360" indent="-7113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7200" y="6095880"/>
              <a:ext cx="1546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Forecas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095880"/>
              <a:ext cx="1627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Introdu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095880"/>
              <a:ext cx="91436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858000"/>
              <a:ext cx="91436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095880"/>
              <a:ext cx="0" cy="762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27200" y="609588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174480" y="609588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383000" y="609588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720400" y="609588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3640" y="6095880"/>
              <a:ext cx="0" cy="762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234920" y="609588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5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2310-5573-4260-A24B-3CA876B6C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ncial Impact of Snow Cleaning Operations in NY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uricio Ju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l Pa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mshi Rokk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drigo Sa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refore, the real question is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895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s a tren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statisticall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significa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he negative trend in the snowfall </a:t>
            </a:r>
            <a:r>
              <a:rPr b="0" i="1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i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statistically significa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9880" y="2583000"/>
            <a:ext cx="5105520" cy="3284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-43200" y="4322880"/>
            <a:ext cx="34333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9.4% conf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this tre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neg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752480"/>
            <a:ext cx="647712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owfall = 33.82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.0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*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213372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133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6248520" cy="60948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8600" y="2666880"/>
          <a:ext cx="350532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666880"/>
                    <a:ext cx="350532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While the trend for the “ flip a coin” event was statistically insignifica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2286000"/>
          <a:ext cx="350532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350532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38480" y="2286000"/>
            <a:ext cx="4724640" cy="3178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40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Forecast: next season snowfal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2590560" cy="901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43760" y="2257560"/>
            <a:ext cx="2543040" cy="3257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2960" y="152388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nowfall = 33.82 - 0.09 *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8360" y="4038480"/>
            <a:ext cx="46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</a:rPr>
              <a:t>95% Confidence Interval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32080" y="4562640"/>
            <a:ext cx="3122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2.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1.96*14.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   -    50.2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ffcc66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Forecast: it will stop snowing in Manhattan in year 2262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62520" y="2254320"/>
            <a:ext cx="4495680" cy="3537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04920" y="1914480"/>
            <a:ext cx="3124080" cy="981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Feeding the model with Crystal Bal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input for our model, we used Crystal Ball to generate variables for 2 sources of uncertai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unt of Snow in the seas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of Snowy D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3809880"/>
            <a:ext cx="1371600" cy="9144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4022640"/>
            <a:ext cx="1143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3809880"/>
            <a:ext cx="1371600" cy="9144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4175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D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4800600"/>
            <a:ext cx="1371600" cy="9144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5029200"/>
            <a:ext cx="1143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4572000"/>
            <a:ext cx="685800" cy="990720"/>
          </a:xfrm>
          <a:custGeom>
            <a:avLst/>
            <a:gdLst>
              <a:gd name="textAreaLeft" fmla="*/ 91800 w 685800"/>
              <a:gd name="textAreaRight" fmla="*/ 594000 w 6858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43800" y="4495680"/>
            <a:ext cx="685800" cy="1067040"/>
          </a:xfrm>
          <a:custGeom>
            <a:avLst/>
            <a:gdLst>
              <a:gd name="textAreaLeft" fmla="*/ 91800 w 685800"/>
              <a:gd name="textAreaRight" fmla="*/ 594000 w 68580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88080" y="6095880"/>
            <a:ext cx="1374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Feeding the model with Crystal Bal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1: Amount of Snow in the season (inch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ing the right distribution 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514600"/>
            <a:ext cx="350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52880" cy="3281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88080" y="6095880"/>
            <a:ext cx="1374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Feeding the model with Crystal Bal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2: Number of Snowy D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historical data about this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ggest snow storm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.2 inches in 2 days  (Dec 26-27, 194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5.5 inches in 1 day   (Dec 26-27, 194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514600"/>
            <a:ext cx="350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14600" y="4056120"/>
            <a:ext cx="411480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P / Queuing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38080" y="1427040"/>
            <a:ext cx="73915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st of Keeping the Roads Clea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8520" y="1752480"/>
          <a:ext cx="8356680" cy="430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752480"/>
                    <a:ext cx="835668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76720" y="2473200"/>
            <a:ext cx="2057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2473200"/>
            <a:ext cx="2210040" cy="2971800"/>
          </a:xfrm>
          <a:prstGeom prst="rect">
            <a:avLst/>
          </a:prstGeom>
          <a:solidFill>
            <a:srgbClr val="00ff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33200" y="609588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ntroduction to the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jecting one season forec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nputting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P / Queu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nsitivity Analys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ecreasing service level leads to cost saving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YC Budget: $41 B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t. of Sanitation (DOS) Budget: $155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114800" y="1676520"/>
          <a:ext cx="5029200" cy="4287600"/>
        </p:xfrm>
        <a:graphic>
          <a:graphicData uri="http://schemas.openxmlformats.org/drawingml/2006/table">
            <a:tbl>
              <a:tblPr/>
              <a:tblGrid>
                <a:gridCol w="988920"/>
                <a:gridCol w="1484280"/>
                <a:gridCol w="1401840"/>
                <a:gridCol w="115416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q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 ($mill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∆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 Cost ($1000’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of Budg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1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1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533200" y="609588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Increasing Service Level may also lead to savings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1 – NYC paid out $500 M in lawsuit cla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37.5 M related to slip-and-fa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10% related to snow accumulation, increasing service level may actually lead to cost sav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33200" y="609588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2003 Snow Removal Budget at Various Service Lev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04920" y="1676520"/>
          <a:ext cx="7848360" cy="45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7848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533200" y="609588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global warming – not happening fast enou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ing the tolerance level for snow accumulation can have a meaningful effect on DOS Bud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47440" y="6095880"/>
            <a:ext cx="21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YC has to provide numerous services to citizens, and has to do so with limited financial resources ($41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ow cleaning being one of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 NYC budget deficit is approximately $6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ing mayor and city departments to propose cuts in various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89720" y="609588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 snow fall for the next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stion: does data show a trend towards global warm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a single season cost profile of snow cleaning operations at various service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 level defined in terms of maximum allowable snow accumulation on ro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ight aspects of snow cleaning operations that could lead to savings to DOS and NY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189720" y="609588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nd analysis to forecast snow fall am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ystal Ball to determine snow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uing Theory to estimate servic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ar programming to optimize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89720" y="609588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How will the next snow season look like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tiva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are able to better forecast next season’s snowfall, we can reduce the budg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3186000"/>
            <a:ext cx="3048120" cy="1982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989960" y="5195880"/>
            <a:ext cx="386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5-96: 75.6 in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" y="5195880"/>
            <a:ext cx="36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1-02: 3.5 in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486400" y="3187800"/>
          <a:ext cx="3200400" cy="19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3187800"/>
                    <a:ext cx="320040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66"/>
                </a:solidFill>
                <a:latin typeface="Arial"/>
              </a:rPr>
              <a:t>A visual examination of past data suggested huge variability and no trends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981080"/>
          <a:ext cx="784872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8487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66"/>
                </a:solidFill>
                <a:latin typeface="Arial"/>
              </a:rPr>
              <a:t>All forecast methods suggested decreases in snowfall per year…</a:t>
            </a:r>
            <a:endParaRPr b="0" lang="en-US" sz="3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224000" y="1981080"/>
          <a:ext cx="27334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981080"/>
                    <a:ext cx="27334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140440" y="1981080"/>
          <a:ext cx="282564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0440" y="1981080"/>
                    <a:ext cx="28256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106640" y="3962520"/>
          <a:ext cx="296856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6640" y="3962520"/>
                    <a:ext cx="29685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073480" y="3962520"/>
          <a:ext cx="2959200" cy="18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3480" y="3962520"/>
                    <a:ext cx="2959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But Excel provides trend lines even for a “ flip a coin” event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41320" y="1981080"/>
          <a:ext cx="566136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1981080"/>
                    <a:ext cx="566136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15:06:31Z</dcterms:created>
  <dc:creator> PVP</dc:creator>
  <dc:description/>
  <dc:language>en-US</dc:language>
  <cp:lastModifiedBy>Damian Benders</cp:lastModifiedBy>
  <dcterms:modified xsi:type="dcterms:W3CDTF">2003-05-01T17:43:45Z</dcterms:modified>
  <cp:revision>72</cp:revision>
  <dc:subject/>
  <dc:title>Financial Impact of Snow Cleaning Operations in NYC</dc:title>
</cp:coreProperties>
</file>