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690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779120" y="3964320"/>
            <a:ext cx="690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1864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779120" y="396432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18640" y="396432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50480" y="160020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779120" y="396432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14800" y="396432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50480" y="396432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79120" y="1600200"/>
            <a:ext cx="6907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690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33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18640" y="1600200"/>
            <a:ext cx="33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765440" y="274320"/>
            <a:ext cx="692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18640" y="1600200"/>
            <a:ext cx="33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79120" y="396432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779120" y="1600200"/>
            <a:ext cx="6907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33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1864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18640" y="396432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1864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79120" y="3964320"/>
            <a:ext cx="690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690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79120" y="3964320"/>
            <a:ext cx="690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1864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79120" y="396432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18640" y="396432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50480" y="160020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79120" y="396432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114800" y="396432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50480" y="3964320"/>
            <a:ext cx="222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690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33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8640" y="1600200"/>
            <a:ext cx="33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65440" y="274320"/>
            <a:ext cx="692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640" y="1600200"/>
            <a:ext cx="33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79120" y="396432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337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64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18640" y="396432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18640" y="1600200"/>
            <a:ext cx="337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79120" y="3964320"/>
            <a:ext cx="690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csd.toshiba.com/cgi-bin/tais/pc/pc_prodList.jsp?BV_SessionID=@@@@0656009113.1050603355@@@@&amp;BV_EngineID=ccciadcidiiiklmcgfkceghdgngdgli.0&amp;comm=CS&amp;plin=Portable%20Computers&amp;pfam=Satellite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dell.com/us/en/dhs/products/model_inspn_inspn_5100.htm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dell.com/us/en/dhs/products/model_inspn_inspn_5100.htm" TargetMode="External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hyperlink" Target="http://www.csd.toshiba.com/cgi-bin/tais/pc/pc_prodList.jsp?BV_SessionID=@@@@0656009113.1050603355@@@@&amp;BV_EngineID=ccciadcidiiiklmcgfkceghdgngdgli.0&amp;comm=CS&amp;plin=Portable%20Computers&amp;pfam=Satellite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dell.com/us/en/dhs/products/model_inspn_inspn_5100.htm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dell.com/us/en/dhs/products/model_inspn_inspn_5100.htm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dell.com/us/en/dhs/products/model_inspn_inspn_5100.htm" TargetMode="External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11480" y="409680"/>
            <a:ext cx="6584760" cy="595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79120" y="1600200"/>
            <a:ext cx="690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62800" y="6271920"/>
            <a:ext cx="21333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73360" y="6244920"/>
            <a:ext cx="4556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7360" y="2957400"/>
            <a:ext cx="1179720" cy="1067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1355760" cy="13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Inspiron 51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1120" y="160200"/>
            <a:ext cx="1092240" cy="10652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4138560"/>
            <a:ext cx="1355760" cy="139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1378080"/>
            <a:ext cx="1355760" cy="13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Inspiron 51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1120" y="1538280"/>
            <a:ext cx="1092240" cy="106524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0" y="2760840"/>
            <a:ext cx="1355760" cy="13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529240"/>
            <a:ext cx="1355760" cy="13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Inspiron 5100"/>
          <p:cNvPicPr/>
          <p:nvPr/>
        </p:nvPicPr>
        <p:blipFill>
          <a:blip r:embed="rId9"/>
          <a:stretch/>
        </p:blipFill>
        <p:spPr>
          <a:xfrm>
            <a:off x="185760" y="4290840"/>
            <a:ext cx="1092240" cy="103824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193680" y="5635800"/>
            <a:ext cx="1096920" cy="98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11480" y="409680"/>
            <a:ext cx="6584760" cy="5956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7840" y="1520640"/>
            <a:ext cx="6900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6973920" y="6171840"/>
            <a:ext cx="1960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8920" y="2913120"/>
            <a:ext cx="117936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1355760" cy="13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Inspiron 51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1120" y="160200"/>
            <a:ext cx="1092240" cy="1065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4138560"/>
            <a:ext cx="1355760" cy="139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78080"/>
            <a:ext cx="1355760" cy="13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Inspiron 51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1120" y="1538280"/>
            <a:ext cx="1092240" cy="1065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2760840"/>
            <a:ext cx="1355760" cy="13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529240"/>
            <a:ext cx="1355760" cy="13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Inspiron 51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5760" y="4290840"/>
            <a:ext cx="1092240" cy="1038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193680" y="5635800"/>
            <a:ext cx="1096920" cy="982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0680" y="1433160"/>
            <a:ext cx="6900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TERN LAPT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014560" y="2457360"/>
            <a:ext cx="6400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 Inventor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25520" y="4902120"/>
            <a:ext cx="240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d M. Col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en M. Jhav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a M.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etra Zarakiot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6160" y="35337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8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21240" y="330120"/>
            <a:ext cx="68097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677600" y="1600200"/>
            <a:ext cx="677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/M/25 queuing model to simulate laptop rentals in order to determine the number of Dell laptops necessary to minimize dis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number generator based on service time mean, std.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ma, exponential distributions used in Ex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65440" y="-330840"/>
            <a:ext cx="6921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7949" r="809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28760" y="3985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Case Model (25 compu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nterpre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701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current number of computers avail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wait time = 78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wait time = 14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Utilization 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DISSATISFIED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1768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Mod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79120" y="1600200"/>
            <a:ext cx="701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ensitivity analysis, increments of 10 computers we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different level of computers, the following were calcul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wait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1768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odel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1768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11280" y="1557360"/>
            <a:ext cx="729144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79480" y="1599840"/>
            <a:ext cx="660096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additional computer - $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-off between additional cost and reduced wait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for Ster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1768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3360" y="3552840"/>
            <a:ext cx="74055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9480" y="1600200"/>
            <a:ext cx="337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1768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82920" y="1514520"/>
            <a:ext cx="5157720" cy="3387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07400" y="5415120"/>
            <a:ext cx="53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per bonded laborer in Nike sweatsho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1120" y="547848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66800" y="5356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0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79480" y="1600200"/>
            <a:ext cx="337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1768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64880" y="5538960"/>
            <a:ext cx="319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per slice of pizz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1120" y="547848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20560" y="55404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921040" y="1468440"/>
            <a:ext cx="383688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79480" y="1600200"/>
            <a:ext cx="337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1768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04840" y="5553000"/>
            <a:ext cx="359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per MBA per minut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1120" y="547848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20560" y="55404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27200" y="1557360"/>
            <a:ext cx="49849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79480" y="1600200"/>
            <a:ext cx="337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1768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44280" y="5541840"/>
            <a:ext cx="462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of a MBA’s time per Stern I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61120" y="547848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8760" y="55404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0.14..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94000" y="1481040"/>
            <a:ext cx="3344760" cy="374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1240" y="330120"/>
            <a:ext cx="68097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30520" y="1630440"/>
            <a:ext cx="690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s computer lab has 45 compu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Dells and 20 Toshi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l computers are newer and better than Toshib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hou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am- 9:00pm Monday - Frid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am- 5:00pm Saturday - Sun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comes to the lab and checks out a computer for a maximum of 4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dditional time, student should recheck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limit to the amount of time that a computer can be check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check out Toshibas only when no Dells are no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794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the number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average wai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utilization from 0.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sh the Toshi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future decision-making, the lab should keep record of all students turn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821240" y="330120"/>
            <a:ext cx="68097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79120" y="1819080"/>
            <a:ext cx="69073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laptops should Stern IT have available for student rent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nim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stomer dis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1240" y="330120"/>
            <a:ext cx="68097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79120" y="1819080"/>
            <a:ext cx="69073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: Computer Lab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00 hours of real data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identific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out times for each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each computer check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ssumption 1]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Toshiba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51200" y="1587240"/>
            <a:ext cx="662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shiba laptops are not an alternative to Dell laptops at 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67000" y="6183360"/>
            <a:ext cx="682560" cy="88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21600" y="6219720"/>
            <a:ext cx="68256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0800" y="60627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60706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09960" y="2833560"/>
            <a:ext cx="6121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ssumption 2]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ptop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79480" y="2006280"/>
            <a:ext cx="33768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is       not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class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day Peak (12PM-3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day Off-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75440" y="4033800"/>
          <a:ext cx="3427200" cy="19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5440" y="4033800"/>
                    <a:ext cx="342720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272200" y="1789200"/>
            <a:ext cx="344304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1240" y="330120"/>
            <a:ext cx="68097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09680" y="1730520"/>
          <a:ext cx="6158160" cy="4654440"/>
        </p:xfrm>
        <a:graphic>
          <a:graphicData uri="http://schemas.openxmlformats.org/drawingml/2006/table">
            <a:tbl>
              <a:tblPr/>
              <a:tblGrid>
                <a:gridCol w="2052720"/>
                <a:gridCol w="41054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s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ll lapt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of laptop use per check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val ti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laptop check out ti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tion factor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satisfa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tudent waits until laptop is 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 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l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7800" y="3678120"/>
            <a:ext cx="1033200" cy="71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00640" y="4521240"/>
            <a:ext cx="676080" cy="3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12880" y="3757680"/>
            <a:ext cx="3511440" cy="2293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ssumption 3]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 Tim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79480" y="1476360"/>
            <a:ext cx="3376800" cy="2168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08560" y="1476360"/>
            <a:ext cx="3378240" cy="2168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79480" y="3816360"/>
            <a:ext cx="3376800" cy="2168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308560" y="3816360"/>
            <a:ext cx="3378240" cy="2168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633320" y="5950080"/>
            <a:ext cx="526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st Fit for Extend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Gamma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84520" y="3757680"/>
            <a:ext cx="3511440" cy="2293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5440" y="27432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ssumption 4]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ival Tim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51120" y="1463760"/>
            <a:ext cx="3376440" cy="2166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80200" y="1463760"/>
            <a:ext cx="3377880" cy="2166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851120" y="3803760"/>
            <a:ext cx="3376440" cy="2166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96040" y="3817800"/>
            <a:ext cx="3378240" cy="2152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47800" y="6219720"/>
            <a:ext cx="57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st Fit for Extend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Exponenti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8:13:18Z</dcterms:created>
  <dc:creator>Stern School</dc:creator>
  <dc:description/>
  <dc:language>en-US</dc:language>
  <cp:lastModifiedBy>Stern</cp:lastModifiedBy>
  <dcterms:modified xsi:type="dcterms:W3CDTF">2003-05-01T21:24:59Z</dcterms:modified>
  <cp:revision>32</cp:revision>
  <dc:subject/>
  <dc:title>Slide 1</dc:title>
</cp:coreProperties>
</file>