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B29-A41A-4E54-95C9-FB07F7C4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442-B09A-46E5-B134-8ED0EBD7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E1C-C002-4A6B-AF00-49186EAD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B96-A810-4DE6-AA2B-6A143134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2343-FCBA-437C-9E45-91555C58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888A-19AA-4AFF-9140-FC2FACF4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8ABA-E06A-4114-83FC-D5AB4DC9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FEB3-7B4B-4393-9ACB-AA00D15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2060-5D73-4BFC-AB0B-FB338EC6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4DF1-4616-4B41-BD71-DB27FDCC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CE95-68E6-4E91-955E-37FE5FA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FC1-7D91-46E0-88EC-79F7A28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5448-FCFC-4CE4-BFEE-3DE2D3F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5F65-E9FC-4DDB-96D4-4D3090C8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491A-36CA-4A8B-AB6A-857DF314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8284-DE09-4864-974A-02756EEB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5DA5-E6CF-487A-9263-82D47B73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4B7-9F69-411D-9026-3F7EC680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787-C9FF-45A3-9A7F-CFC00B4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E9D-53F7-432D-8A14-9FBD7B1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0E4-5CE3-4E2F-B766-5D04472C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0F1-2CFD-442E-BCE6-4205B3CD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541-5C4C-4B38-86C9-6EA123E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BA9-7969-420B-8F9E-A033ACB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B22E-9C01-4A49-9D69-2BE8DEE9D92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68B-D11E-4B42-8054-D04E19CB6C3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ST OF VANGU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2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fter taking risk into account, the proposed asset allocation strategy i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en though each fund is well diversified within its asset class, there is still diversification benefits investing in this fund of fun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3048120"/>
          <a:ext cx="7543800" cy="169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48120"/>
                    <a:ext cx="7543800" cy="16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the last 5 years, the volatility in asset prices have been extremely high.  Investors and financial advisors have been hard-pressed to find a viable mutual fund investment strategy to ride the volatility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e have built a model that provides an asset allocation solution for financial advisor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w Vanguard fund of fun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vestment timeframe: 5 yea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cellent product for nervous investors due to diversification between fixed income and equity fun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nguard gets 20% of any return above the principal amou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STMENT PHILOSO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ol of15 fixed income &amp; 15 equity fun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versification benefit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ide variety of risk-return profi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ximize Vanguard’s risk adjusted pro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terest is aligned with that of clients due to profit shar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60-month historical returns data were collected and used to forecast the returns for the 5-year investment timefra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sumption: each of the 60 monthly historical returns were equally likely to occur in the next 60 month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ean portfolio returns and standard deviations were then comput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cision Variabl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, fraction of investment in fund 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ximize (profit to Vanguard/SD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fit to Vanguard = Max{0, 20%*[(1+rp)^60*-1]*P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p = expected portfolio retur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 = princip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D = expected 60-month portfolio standard devi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47920" y="2743200"/>
                <a:ext cx="350028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66840" y="1919160"/>
          <a:ext cx="8548560" cy="378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919160"/>
                    <a:ext cx="85485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36840" y="1941480"/>
          <a:ext cx="4116240" cy="40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6840" y="1941480"/>
                    <a:ext cx="411624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36:51Z</dcterms:created>
  <dc:creator>Damian Benders</dc:creator>
  <dc:description/>
  <dc:language>en-US</dc:language>
  <cp:lastModifiedBy>Damian Benders</cp:lastModifiedBy>
  <dcterms:modified xsi:type="dcterms:W3CDTF">2003-04-24T16:52:18Z</dcterms:modified>
  <cp:revision>6</cp:revision>
  <dc:subject/>
  <dc:title>THE BEST OF VANGUARD</dc:title>
</cp:coreProperties>
</file>