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B21-6C35-4C92-89C4-527046C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507-8774-4352-8FED-1AEB827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44C-361C-4273-BD04-4DD2FB79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E40-17E5-4C1B-8B9D-6E42791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3A2-1287-4439-B4B9-2AF6AE7B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923-D428-4670-BEF3-2E890050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450E-2DCD-493A-A424-45982F82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17A-F7B9-4155-B107-EA7AC83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A98-5F15-442A-A0F9-B9C94AE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A56-0C08-4BD6-8A2D-2EF115A8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3140-B6DD-4B5F-A93E-79762A7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FE6-5C22-425A-9F6F-FB88FFA7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8BBA-785A-422F-AA94-289A388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FD8B-B304-401D-854E-5C75BF4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1F40-FF33-460B-815A-AB8AAE63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6674-A7DA-482E-A228-CBB9EDDB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134-D5C2-41F4-9F6E-CCBDA2CE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BDE-6144-498C-A54E-36262F2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20A-CE48-4631-83C9-7D45922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A42-FEC3-42BD-AC5F-25CCFE4A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B85-0D4B-420E-9479-132A77C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4A8-5824-4154-906B-D859650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7EE-8031-4DA6-B1C6-E0CBA29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619-3350-413C-BB2C-C014214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E9E1-7834-4AA0-985B-DC409DECC69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22F-6E1C-4229-ACD8-2EFBB0FAD46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ST OF VANGU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2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fter taking risk into account, the proposed asset allocation strategy i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n though each fund is well diversified within its asset class, there is still diversification benefits investing in this fund of fun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3048120"/>
          <a:ext cx="7543800" cy="16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754380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the last 5 years, the volatility in asset prices have been extremely high.  Investors and financial advisors have been hard-pressed to find a viable mutual fund investment strategy to ride the volatility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e have built a model that provides an asset allocation solution for financial adviso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w Vanguard fund of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vestment timeframe: 5 yea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cellent product for nervous investors due to diversification between fixed income and equity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nguard gets 20% of any return above the principal amou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PHILOSO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ol of15 fixed income &amp; 15 equity fun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versification benefit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de variety of risk-return profi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ximize Vanguard’s risk adjusted pro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erest is aligned with that of clients due to profit shar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60-month historical returns data were collected and used to forecast the returns for the 5-year investment timefra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sumption: each of the 60 monthly historical returns were equally likely to occur in the next 60 mon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an portfolio returns and standard deviations were then comput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ision Variab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, fraction of investment in fund 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ximize (profit to Vanguard/SD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fit to Vanguard = Max{0, 20%*[(1+rp)^60*-1]*P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p = expected portfolio retur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 = princip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D = expected 60-month portfolio standard devi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47920" y="2743200"/>
                <a:ext cx="350028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66840" y="1919160"/>
          <a:ext cx="8548560" cy="37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919160"/>
                    <a:ext cx="85485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36840" y="1941480"/>
          <a:ext cx="411624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941480"/>
                    <a:ext cx="411624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36:51Z</dcterms:created>
  <dc:creator>Damian Benders</dc:creator>
  <dc:description/>
  <dc:language>en-US</dc:language>
  <cp:lastModifiedBy>Damian Benders</cp:lastModifiedBy>
  <dcterms:modified xsi:type="dcterms:W3CDTF">2003-04-24T16:52:18Z</dcterms:modified>
  <cp:revision>6</cp:revision>
  <dc:subject/>
  <dc:title>THE BEST OF VANGUARD</dc:title>
</cp:coreProperties>
</file>