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16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BED4-73A3-487F-BAEF-CC6F587D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eighted the importance of options 1 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r Model evaluates weightings and selects best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d utility should make everyone hap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eighted the importance of options 1 t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r Model evaluates weightings and selects best o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d utility should make everyone happ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s chosen based on preferences/utili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ddition factors contribution into weighting of maximum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916-2179-4F66-845D-FA389E68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DF0-0773-4ECF-863A-0B6212F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ED7-6851-42CF-8F05-3C776F36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044-C5CC-418D-9DB1-0E1F7DFF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520-4537-4CDA-AF1F-F35FF9B7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394-4FB0-4638-89A8-5FE665F4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2E4-0063-4BC5-9188-06995A7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152-BC54-4752-88B8-8C83417C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12D-1F7E-43F3-843D-3C3B24D3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4F7-4798-43F7-AD4A-40DD5AC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3FF-BA1A-456A-8CDB-DD1953B1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CC8-DDD0-4093-B887-5DEB2A5D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BF93-8723-4FB7-93DA-5F768AD7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ach House …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gone ba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hlia K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hal 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Updegr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Ho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43828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odels – Spring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it done! Time to party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s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 know how long it will 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d situation requires better suited mod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71800" y="19051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0560" y="36939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0 -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8288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-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8288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/B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-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/K/B T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-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304812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B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– 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572000"/>
            <a:ext cx="990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rig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 –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-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4572000"/>
            <a:ext cx="914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bi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-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182880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 Th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–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9051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46483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4648320"/>
            <a:ext cx="45720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00200" y="2437920"/>
            <a:ext cx="457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114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819520"/>
            <a:ext cx="1371600" cy="14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2133720"/>
            <a:ext cx="685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14600" y="42667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124080" y="35053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4191120"/>
            <a:ext cx="2286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58000" y="2514600"/>
            <a:ext cx="1981080" cy="1488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629400" y="2209680"/>
            <a:ext cx="2514600" cy="2210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9080" y="39765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-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33526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8769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10280" y="426672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13372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800240" y="304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152280"/>
            <a:ext cx="5334120" cy="28195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57200"/>
            <a:ext cx="3962520" cy="38098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3733920"/>
            <a:ext cx="198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D14:G14,1,D14:G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791320" y="28951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152920" y="1828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7632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VLOOKUP(1,H14:I17,2, FA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76212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57640" y="838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8762760" y="2133720"/>
            <a:ext cx="15228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600200"/>
            <a:ext cx="2286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$L$5:$R$5,L9:R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270160"/>
            <a:ext cx="4572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G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7680" y="442800"/>
          <a:ext cx="8480520" cy="609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442800"/>
                    <a:ext cx="848052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457200"/>
          <a:ext cx="8305920" cy="59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305920" cy="59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H="1">
            <a:off x="4800240" y="3049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733920"/>
            <a:ext cx="198144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D14:G14,1,D14:G1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791320" y="28951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152920" y="18288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76320"/>
            <a:ext cx="25146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VLOOKUP(1,H14:I17,2, FA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86600" y="76212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R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57640" y="8380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8762760" y="2133720"/>
            <a:ext cx="15228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5720" y="1600200"/>
            <a:ext cx="2286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$L$5:$R$5,L9:R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0" y="2270160"/>
            <a:ext cx="4572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G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4495680" cy="2528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2514600" y="990720"/>
            <a:ext cx="358128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209680" y="1523880"/>
            <a:ext cx="3962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133720" y="2361960"/>
            <a:ext cx="579096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’ll never make the party in 15 day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ta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sh time shows it can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1752480"/>
            <a:ext cx="27432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SUMPRODUCT(X8:X15,Z8:Z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2057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52240" y="2438280"/>
            <a:ext cx="828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W8-X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248160" y="27432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3048120"/>
            <a:ext cx="3200400" cy="2895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2590920"/>
            <a:ext cx="144756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days – ready to pa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2157480"/>
          <a:ext cx="8991720" cy="32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8991720" cy="32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23840" y="2162160"/>
          <a:ext cx="8915400" cy="32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2162160"/>
                    <a:ext cx="891540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752480"/>
            <a:ext cx="274320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SUMPRODUCT(X8:X15,Z8:Z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057400"/>
            <a:ext cx="76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52240" y="2438280"/>
            <a:ext cx="828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W8-X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48160" y="2743200"/>
            <a:ext cx="75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 days – ready to par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228600" y="3819600"/>
            <a:ext cx="4724280" cy="2657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1676520" y="3505320"/>
            <a:ext cx="29718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3962520"/>
            <a:ext cx="5867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828800" y="3124080"/>
            <a:ext cx="2514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ge Wapner ru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33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roject to build a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such as flooring, home theater, cabinets, etc need to b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has different values (utility) for each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ed to choose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82680" y="1079640"/>
          <a:ext cx="656604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079640"/>
                    <a:ext cx="656604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36440"/>
            <a:ext cx="541044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J5:J33,Q5:Q33)+SUMPRODUCT(K5:K33,Q5:Q33)+SUMPRODUCT(L5:L33,Q5:Q33)+SUMPRODUCT(M5:M33,Q5:Q3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33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28600"/>
            <a:ext cx="22096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C5:F36,J5:M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57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7720" y="6400800"/>
            <a:ext cx="6487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447920" y="6248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1143000"/>
            <a:ext cx="1981080" cy="121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1066680"/>
            <a:ext cx="1447920" cy="7621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280" y="874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76760" y="1066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55200" y="8524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76160" y="1066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660240"/>
          <a:ext cx="8661240" cy="551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0240"/>
                    <a:ext cx="866124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04920" y="685800"/>
          <a:ext cx="8534160" cy="542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53416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136440"/>
            <a:ext cx="541044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J5:J33,Q5:Q33)+SUMPRODUCT(K5:K33,Q5:Q33)+SUMPRODUCT(L5:L33,Q5:Q33)+SUMPRODUCT(M5:M33,Q5:Q3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5335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28600"/>
            <a:ext cx="220968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PRODUCT(C5:F36,J5:M3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457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7720" y="6400800"/>
            <a:ext cx="6487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47920" y="6248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819520" y="3048120"/>
            <a:ext cx="6324480" cy="3557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 flipV="1">
            <a:off x="2438280" y="1066680"/>
            <a:ext cx="1981440" cy="243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2514240"/>
            <a:ext cx="114300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2362320"/>
            <a:ext cx="304776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ism a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ill maximiz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tay withi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 who contribute more, get more say in what options ar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0"/>
            <a:ext cx="4572000" cy="2971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339840"/>
          <a:ext cx="7543800" cy="60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9840"/>
                    <a:ext cx="75438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762120" y="352440"/>
          <a:ext cx="7543800" cy="605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52440"/>
                    <a:ext cx="75438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276720" y="2971800"/>
            <a:ext cx="5257800" cy="29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4572000" y="1828800"/>
            <a:ext cx="114300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9880" y="1599840"/>
            <a:ext cx="17528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05520" y="990720"/>
            <a:ext cx="99036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89480" y="264960"/>
            <a:ext cx="46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1660680"/>
            <a:ext cx="16761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ver Optim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1066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83120" y="6507000"/>
            <a:ext cx="1343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ized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400800" y="64767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0"/>
            <a:ext cx="4572000" cy="2971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609480"/>
            <a:ext cx="25146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SUMIF($J$14:$J$42,1,E$14:E$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914400"/>
            <a:ext cx="7621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J3*J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685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1403280"/>
            <a:ext cx="58752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1219320"/>
            <a:ext cx="99072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MIN(J7:J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5334120"/>
            <a:ext cx="571500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90560" y="347760"/>
          <a:ext cx="7545240" cy="60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347760"/>
                    <a:ext cx="7545240" cy="60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3:54:52Z</dcterms:created>
  <dc:creator>Jon Howell</dc:creator>
  <dc:description/>
  <dc:language>en-US</dc:language>
  <cp:lastModifiedBy>Jon Howell</cp:lastModifiedBy>
  <dcterms:modified xsi:type="dcterms:W3CDTF">2003-05-01T16:47:25Z</dcterms:modified>
  <cp:revision>11</cp:revision>
  <dc:subject/>
  <dc:title>The Beach House … …gone bad!</dc:title>
</cp:coreProperties>
</file>