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5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16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F26C-C20B-42A7-91E5-9A0A57137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erson weighted the importance of options 1 t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r Model evaluates weightings and selects best 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d utility should make everyone happ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erson weighted the importance of options 1 t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r Model evaluates weightings and selects best 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d utility should make everyone happ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chosen based on preferences/utili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factors contribution into weighting of maximum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chosen based on preferences/utili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factors contribution into weighting of maximum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chosen based on preferences/utili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factors contribution into weighting of maximum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488-8953-4CF3-9924-BBCD112F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D5D-3F37-42D3-85B4-D648A818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763-1336-41D7-8EDA-4A77BFBC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D87-BF4E-4EB7-8020-33C272E1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562-45B6-4ECD-BDE1-1216B0A2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C55-6EA1-424E-A8C8-2AA788ED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7D8-4BAE-40F5-AABC-D805574D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22A-B74A-43AB-9DDA-8DCC584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E03-5393-4CAD-B0DE-B378E50F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5DE-B185-4CCB-A81E-FB4DD174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076-AB1A-4C4E-A02F-EF19F4D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43A-9888-4799-9514-4947AF2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A129-A5D7-43B5-B76B-F2566CEA5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ach House 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gone b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hlia K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hal 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Updegr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Ho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odels – Spring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it done! Time to party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s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know how long it will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situation requires better suited mod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71800" y="19051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0560" y="36939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0 -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8288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-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18288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/B Fl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-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45720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/K/B 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-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048120"/>
            <a:ext cx="990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B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– 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572000"/>
            <a:ext cx="9903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rig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– 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45720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45720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in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-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1828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Th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–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19051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46483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6483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00200" y="2437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114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819520"/>
            <a:ext cx="1371600" cy="14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21337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514600" y="42667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124080" y="35053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1911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58000" y="2514600"/>
            <a:ext cx="1981080" cy="1488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629400" y="2209680"/>
            <a:ext cx="2514600" cy="2210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99080" y="39765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6 -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33526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8769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10280" y="426672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1337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800240" y="3049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152280"/>
            <a:ext cx="5334120" cy="2819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57200"/>
            <a:ext cx="3962520" cy="3809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3733920"/>
            <a:ext cx="198144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D14:G14,1,D14:G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791320" y="28951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152920" y="1828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7632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VLOOKUP(1,H14:I17,2, FAL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76212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R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7640" y="8380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8762760" y="2133720"/>
            <a:ext cx="15228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1600200"/>
            <a:ext cx="2286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$L$5:$R$5,L9:R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270160"/>
            <a:ext cx="4572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G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7680" y="442800"/>
          <a:ext cx="8480520" cy="609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442800"/>
                    <a:ext cx="848052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457200"/>
          <a:ext cx="8305920" cy="59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305920" cy="59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 flipH="1">
            <a:off x="4800240" y="3049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733920"/>
            <a:ext cx="198144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D14:G14,1,D14:G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5791320" y="28951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152920" y="1828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7632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VLOOKUP(1,H14:I17,2, FAL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76212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R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857640" y="8380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8762760" y="2133720"/>
            <a:ext cx="15228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1600200"/>
            <a:ext cx="2286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$L$5:$R$5,L9:R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2270160"/>
            <a:ext cx="4572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G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4495680" cy="2528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2514600" y="990720"/>
            <a:ext cx="35812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209680" y="1523880"/>
            <a:ext cx="39625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33720" y="2361960"/>
            <a:ext cx="579096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’ll never make the party in 15 day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sh time shows it can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1752480"/>
            <a:ext cx="27432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SUMPRODUCT(X8:X15,Z8:Z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205740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52240" y="2438280"/>
            <a:ext cx="828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W8-X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160" y="274320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3048120"/>
            <a:ext cx="3200400" cy="2895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2590920"/>
            <a:ext cx="1447560" cy="761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 days – ready to par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2157480"/>
          <a:ext cx="8991720" cy="325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8991720" cy="32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23840" y="2162160"/>
          <a:ext cx="8915400" cy="32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2162160"/>
                    <a:ext cx="891540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1752480"/>
            <a:ext cx="27432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SUMPRODUCT(X8:X15,Z8:Z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05740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52240" y="2438280"/>
            <a:ext cx="828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W8-X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248160" y="274320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 days – ready to par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28600" y="3819600"/>
            <a:ext cx="4724280" cy="2657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1676520" y="3505320"/>
            <a:ext cx="29718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76520" y="3962520"/>
            <a:ext cx="5867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828800" y="3124080"/>
            <a:ext cx="2514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ge Wapner ru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33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roject to build a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such as flooring, home theater, cabinets, etc need to b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has different values (utility) for each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 to choose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82680" y="1079640"/>
          <a:ext cx="656604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079640"/>
                    <a:ext cx="656604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36440"/>
            <a:ext cx="541044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J5:J33,Q5:Q33)+SUMPRODUCT(K5:K33,Q5:Q33)+SUMPRODUCT(L5:L33,Q5:Q33)+SUMPRODUCT(M5:M33,Q5:Q3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335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22096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C5:F36,J5:M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57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7720" y="6400800"/>
            <a:ext cx="6487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447920" y="6248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1143000"/>
            <a:ext cx="1981080" cy="121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1066680"/>
            <a:ext cx="1447920" cy="762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280" y="874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476760" y="1066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55200" y="8524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76160" y="1066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660240"/>
          <a:ext cx="8661240" cy="551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0240"/>
                    <a:ext cx="866124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04920" y="685800"/>
          <a:ext cx="8534160" cy="542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53416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136440"/>
            <a:ext cx="541044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J5:J33,Q5:Q33)+SUMPRODUCT(K5:K33,Q5:Q33)+SUMPRODUCT(L5:L33,Q5:Q33)+SUMPRODUCT(M5:M33,Q5:Q3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5335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28600"/>
            <a:ext cx="22096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C5:F36,J5:M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457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7720" y="6400800"/>
            <a:ext cx="6487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47920" y="6248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819520" y="3048120"/>
            <a:ext cx="6324480" cy="3557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 flipV="1">
            <a:off x="2438280" y="1066680"/>
            <a:ext cx="1981440" cy="243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72000" y="2514240"/>
            <a:ext cx="114300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962520" y="2362320"/>
            <a:ext cx="304776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ism a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ill maximize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ay within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 who contribute more, get more say in what options ar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660680"/>
            <a:ext cx="16761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ver Optim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066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3120" y="6507000"/>
            <a:ext cx="1343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00800" y="64767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0"/>
            <a:ext cx="4572000" cy="2971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609480"/>
            <a:ext cx="25146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$J$14:$J$42,1,E$14:E$4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91440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J3*J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685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403280"/>
            <a:ext cx="5875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1219320"/>
            <a:ext cx="9907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IN(J7:J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339840"/>
          <a:ext cx="7543800" cy="605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9840"/>
                    <a:ext cx="75438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62120" y="352440"/>
          <a:ext cx="7543800" cy="605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2440"/>
                    <a:ext cx="75438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1660680"/>
            <a:ext cx="16761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ver Optim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1066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83120" y="6507000"/>
            <a:ext cx="1343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400800" y="64767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609480"/>
            <a:ext cx="25146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$J$14:$J$42,1,E$14:E$4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91440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J3*J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685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1403280"/>
            <a:ext cx="5875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219320"/>
            <a:ext cx="9907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IN(J7:J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5257800" cy="295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4572000" y="1828800"/>
            <a:ext cx="1143000" cy="22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09880" y="1599840"/>
            <a:ext cx="17528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990720"/>
            <a:ext cx="99036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1660680"/>
            <a:ext cx="16761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ver Optim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1066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83120" y="6507000"/>
            <a:ext cx="1343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00800" y="64767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0"/>
            <a:ext cx="4572000" cy="2971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609480"/>
            <a:ext cx="25146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$J$14:$J$42,1,E$14:E$4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91440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J3*J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685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1403280"/>
            <a:ext cx="5875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1219320"/>
            <a:ext cx="9907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IN(J7:J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5334120"/>
            <a:ext cx="5715000" cy="1066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90560" y="347760"/>
          <a:ext cx="7545240" cy="60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347760"/>
                    <a:ext cx="754524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3:54:52Z</dcterms:created>
  <dc:creator>Jon Howell</dc:creator>
  <dc:description/>
  <dc:language>en-US</dc:language>
  <cp:lastModifiedBy>Jon Howell</cp:lastModifiedBy>
  <dcterms:modified xsi:type="dcterms:W3CDTF">2003-05-01T16:47:25Z</dcterms:modified>
  <cp:revision>11</cp:revision>
  <dc:subject/>
  <dc:title>The Beach House … …gone bad!</dc:title>
</cp:coreProperties>
</file>