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6.jpeg" ContentType="image/jpeg"/>
  <Override PartName="/ppt/media/image5.wmf" ContentType="image/x-wmf"/>
  <Override PartName="/ppt/media/image9.wmf" ContentType="image/x-wmf"/>
  <Override PartName="/ppt/media/image8.wmf" ContentType="image/x-wmf"/>
  <Override PartName="/ppt/media/image13.wmf" ContentType="image/x-wmf"/>
  <Override PartName="/ppt/media/image30.png" ContentType="image/png"/>
  <Override PartName="/ppt/media/image28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7.gif" ContentType="image/gif"/>
  <Override PartName="/ppt/media/image32.jpeg" ContentType="image/jpeg"/>
  <Override PartName="/ppt/media/image20.png" ContentType="image/png"/>
  <Override PartName="/ppt/media/image18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wmf" ContentType="image/x-wmf"/>
  <Override PartName="/ppt/media/image16.wmf" ContentType="image/x-wm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10AE-3286-417F-95C9-F805E4A3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1630-BA99-43DF-B415-C1CD200D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288B-905E-4A74-9FAF-FCF68C42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F114-3D4F-4CA0-9ACB-2B68DA6B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B090-46F9-418D-9E27-78722EAB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4D1E-EADE-4E1C-94F3-77B1EDB3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BE36-B2E3-4713-9A28-D00A9744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1DC4-5026-4B19-982A-DA7BE52C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BAA3-02D6-4B2E-A469-C45752C2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25E5-7A12-4BC2-99A2-8C395336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C0CB-F7C2-44C7-B8AA-D8F3C50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FF0F-265D-43C4-9B40-655FB18C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80FD-F22B-4592-A5EA-19315ACE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F336-2943-4748-8E3E-342C4F56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97C1-5330-42CF-9511-D2F538F0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79B9-819A-4061-BF46-B70FC7E2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3E90-AB83-4FD3-8150-3E8F5AA2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516F-9B87-45E9-B693-F0720E7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ED83-84C4-4B22-98A2-BCCE100B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0053-6D8A-4389-BD9C-A2DA3ED3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90E8-11E2-4D10-AFD1-07BECF3D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56F8-FA38-4DD2-9C9A-1BD41520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6BF55-B4F9-4984-9249-C70D877A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A551-258F-436F-883C-B66578E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3C7D-155E-4952-B748-E74FA821B7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CA7C-A0FE-4A71-9DCD-95531C104F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hyperlink" Target="http://www.hawaiiantropic.com/pageant/mhti.shtml" TargetMode="External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952880" cy="6248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4800600"/>
            <a:ext cx="3200400" cy="91440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Juran’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17766" t="0" r="19992" b="27285"/>
          <a:stretch/>
        </p:blipFill>
        <p:spPr>
          <a:xfrm>
            <a:off x="3733920" y="6858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8904" t="0" r="19992" b="34570"/>
          <a:stretch/>
        </p:blipFill>
        <p:spPr>
          <a:xfrm>
            <a:off x="3048120" y="243828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248160" y="51051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ter B. Chi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y Meerberg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ing W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i Ip Ken Ch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30481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76240" y="1676520"/>
            <a:ext cx="739152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Frontier for Consideration Set of F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80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ison of Risk, Return, and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83944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09960" y="3657600"/>
            <a:ext cx="3124080" cy="701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38080" y="5334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erent Portfolio Composition Depending on Risk Appetite, Expected Return and Availability of Money Up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ing Along the Front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66760" y="1143000"/>
            <a:ext cx="8610480" cy="4876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6033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sition of Vanguard Funds for Different Returns on the Efficient Fronti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Frontier Inv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stal Ball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43400" cy="2406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838188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2481120" cy="2187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8763120" cy="110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8305920" y="2666520"/>
            <a:ext cx="0" cy="7621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stal Ball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05320" y="2438280"/>
            <a:ext cx="0" cy="1447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276360" y="3886200"/>
            <a:ext cx="228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133720"/>
            <a:ext cx="0" cy="2057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028840" y="2133720"/>
            <a:ext cx="3049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352680" y="4191120"/>
            <a:ext cx="3048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35496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 Year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61405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Year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61405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 Year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5053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 Year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casted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505320" cy="2190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505320" cy="2190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724280" y="1371600"/>
            <a:ext cx="3505320" cy="2190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09480" y="3897360"/>
            <a:ext cx="350532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ies to Make $3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5800" y="1447920"/>
            <a:ext cx="3657600" cy="2623320"/>
            <a:chOff x="685800" y="1447920"/>
            <a:chExt cx="3657600" cy="2623320"/>
          </a:xfrm>
        </p:grpSpPr>
        <p:sp>
          <p:nvSpPr>
            <p:cNvPr id="200" name=""/>
            <p:cNvSpPr/>
            <p:nvPr/>
          </p:nvSpPr>
          <p:spPr>
            <a:xfrm>
              <a:off x="685800" y="37339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Year – 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rcRect l="51563" t="3125" r="4688" b="60422"/>
            <a:stretch/>
          </p:blipFill>
          <p:spPr>
            <a:xfrm>
              <a:off x="685800" y="1447920"/>
              <a:ext cx="36576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4800600" y="1447920"/>
            <a:ext cx="3657600" cy="2623320"/>
            <a:chOff x="4800600" y="1447920"/>
            <a:chExt cx="3657600" cy="2623320"/>
          </a:xfrm>
        </p:grpSpPr>
        <p:sp>
          <p:nvSpPr>
            <p:cNvPr id="203" name=""/>
            <p:cNvSpPr/>
            <p:nvPr/>
          </p:nvSpPr>
          <p:spPr>
            <a:xfrm>
              <a:off x="5029200" y="37339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 Year – 9.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rcRect l="51563" t="44795" r="4688" b="18753"/>
            <a:stretch/>
          </p:blipFill>
          <p:spPr>
            <a:xfrm>
              <a:off x="4800600" y="1447920"/>
              <a:ext cx="36576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4800600" y="4038480"/>
            <a:ext cx="3657600" cy="2623320"/>
            <a:chOff x="4800600" y="4038480"/>
            <a:chExt cx="3657600" cy="2623320"/>
          </a:xfrm>
        </p:grpSpPr>
        <p:sp>
          <p:nvSpPr>
            <p:cNvPr id="206" name=""/>
            <p:cNvSpPr/>
            <p:nvPr/>
          </p:nvSpPr>
          <p:spPr>
            <a:xfrm>
              <a:off x="5029200" y="632448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 Year – 91.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3"/>
            <a:srcRect l="4688" t="3125" r="51563" b="60422"/>
            <a:stretch/>
          </p:blipFill>
          <p:spPr>
            <a:xfrm>
              <a:off x="4800600" y="4038480"/>
              <a:ext cx="36576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"/>
          <p:cNvGrpSpPr/>
          <p:nvPr/>
        </p:nvGrpSpPr>
        <p:grpSpPr>
          <a:xfrm>
            <a:off x="685800" y="4078440"/>
            <a:ext cx="3657600" cy="2583360"/>
            <a:chOff x="685800" y="4078440"/>
            <a:chExt cx="3657600" cy="2583360"/>
          </a:xfrm>
        </p:grpSpPr>
        <p:sp>
          <p:nvSpPr>
            <p:cNvPr id="209" name=""/>
            <p:cNvSpPr/>
            <p:nvPr/>
          </p:nvSpPr>
          <p:spPr>
            <a:xfrm>
              <a:off x="762120" y="632448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Year – 62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685800" y="4078440"/>
              <a:ext cx="3657600" cy="22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Recommendations for Juran’$ Million$$$$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791320" y="4191120"/>
            <a:ext cx="2895480" cy="2438280"/>
            <a:chOff x="5791320" y="4191120"/>
            <a:chExt cx="2895480" cy="243828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5791320" y="4191120"/>
              <a:ext cx="28954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rcRect l="14112" t="0" r="25661" b="34502"/>
            <a:stretch/>
          </p:blipFill>
          <p:spPr>
            <a:xfrm>
              <a:off x="7086600" y="4284720"/>
              <a:ext cx="45720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4956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80880" y="1371600"/>
            <a:ext cx="54104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Our Professor’s True Calling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438280"/>
            <a:ext cx="8229600" cy="1633680"/>
            <a:chOff x="457200" y="2438280"/>
            <a:chExt cx="8229600" cy="16336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822960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057400" y="2833560"/>
              <a:ext cx="2286000" cy="825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5e5ff"/>
                  </a:solidFill>
                  <a:latin typeface="Garamond"/>
                </a:rPr>
                <a:t>JURAN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76720" y="3641760"/>
              <a:ext cx="2743200" cy="3682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5e5ff"/>
                  </a:solidFill>
                  <a:latin typeface="Garamond"/>
                </a:rPr>
                <a:t>DAVID C. JUR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The Road to Riche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1817640" cy="150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1828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long until Prof. Juran can blow $30 mill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1782720" cy="1434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1422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Setting up Base Case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 Investment: $2,000,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(Don’t be fooled - the man has been stocking it away!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nual Contribution: $450,000 to $550,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(Assumes continuation of Cousin Tony’s “waste management consulting” business - not included in this presentation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stment Vehicles: Vanguard Index Fund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utable fir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estments insur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w maintenanc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ccessful manageme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ideration Facto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estment Amoun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60958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d flexible investment model for millionaires and MBA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629400" y="3276720"/>
            <a:ext cx="1428840" cy="190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781680" y="4952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usin To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4309920" cy="499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952880" y="3081240"/>
            <a:ext cx="838440" cy="2590920"/>
          </a:xfrm>
          <a:prstGeom prst="rightArrow">
            <a:avLst>
              <a:gd name="adj1" fmla="val 50000"/>
              <a:gd name="adj2" fmla="val 68560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371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 Total Vanguard Index F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190512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 Index F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6+ Yrs Operating His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the Consideration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943600" y="2793960"/>
          <a:ext cx="2496960" cy="3911760"/>
        </p:xfrm>
        <a:graphic>
          <a:graphicData uri="http://schemas.openxmlformats.org/drawingml/2006/table">
            <a:tbl>
              <a:tblPr/>
              <a:tblGrid>
                <a:gridCol w="774720"/>
                <a:gridCol w="1722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owth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Stock Mkt Id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ded Mkt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all-Cap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T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erging Mkts Stock Inde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uropean Stock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ific Stock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Int'l Stock Inde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anced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rt-Term Bond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-Term Bond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Bond Mkt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ng-Term Bond Inde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60199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 and Standard Deviation  calculated from annual returns over life of each f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Returns, Mean and Standard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447920"/>
          <a:ext cx="3726000" cy="43066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684000"/>
                <a:gridCol w="9082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n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. Dev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timal Alloc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7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6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4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7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7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8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6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8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4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6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8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.9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8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7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0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0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0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1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0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5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648320" y="2362320"/>
            <a:ext cx="838080" cy="2590560"/>
          </a:xfrm>
          <a:prstGeom prst="rightArrow">
            <a:avLst>
              <a:gd name="adj1" fmla="val 50000"/>
              <a:gd name="adj2" fmla="val 68560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274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odel layout shown in Ex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60958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ll data of quarterly returns from Q2 1996 to Q1 2003 in Exce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ical Returns, Correlation and Covar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1523880"/>
          <a:ext cx="3670200" cy="4400640"/>
        </p:xfrm>
        <a:graphic>
          <a:graphicData uri="http://schemas.openxmlformats.org/drawingml/2006/table">
            <a:tbl>
              <a:tblPr/>
              <a:tblGrid>
                <a:gridCol w="723600"/>
                <a:gridCol w="736560"/>
                <a:gridCol w="736560"/>
                <a:gridCol w="736920"/>
                <a:gridCol w="736560"/>
              </a:tblGrid>
              <a:tr h="2462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3.4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7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8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6.3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4.0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0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9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2.6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6.8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8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.1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0.6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0.4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.6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0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5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8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.3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9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7.8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1.3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0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.4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3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7.1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3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.0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2.8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7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9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9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.4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.6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9.7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7.9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.5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.5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7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7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8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4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9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7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4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191120" y="3276720"/>
            <a:ext cx="609480" cy="609480"/>
          </a:xfrm>
          <a:prstGeom prst="plus">
            <a:avLst>
              <a:gd name="adj" fmla="val 36458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276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elation and Covariance tables for all 16 funds (as shown in Excel mod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4419720" y="57150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72400" y="36572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4967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6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54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534816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5334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934320" y="527220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527220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5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: Each fund requires a minimum investment of $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ding the Optimal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4114800"/>
          <a:ext cx="5257800" cy="1728720"/>
        </p:xfrm>
        <a:graphic>
          <a:graphicData uri="http://schemas.openxmlformats.org/drawingml/2006/table">
            <a:tbl>
              <a:tblPr/>
              <a:tblGrid>
                <a:gridCol w="2438640"/>
                <a:gridCol w="228600"/>
                <a:gridCol w="1143000"/>
                <a:gridCol w="457200"/>
                <a:gridCol w="9903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cted Portfolio Ret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ized Me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5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&gt;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5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rtfolio Vari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rtfolio Stan. Dev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5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l Investment Requ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44,945.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838080" y="1709640"/>
          <a:ext cx="7453440" cy="1947960"/>
        </p:xfrm>
        <a:graphic>
          <a:graphicData uri="http://schemas.openxmlformats.org/drawingml/2006/table">
            <a:tbl>
              <a:tblPr/>
              <a:tblGrid>
                <a:gridCol w="861840"/>
                <a:gridCol w="2006640"/>
                <a:gridCol w="787680"/>
                <a:gridCol w="519120"/>
                <a:gridCol w="287280"/>
                <a:gridCol w="884160"/>
                <a:gridCol w="287280"/>
                <a:gridCol w="18194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 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 Inv Req Cal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Index Fund In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.3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.3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ng-Term Bond Ind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allest Alloc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4788000" cy="1922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9917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4788000" cy="1544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525744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9718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257440" y="5029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895480"/>
            <a:ext cx="5029200" cy="228600"/>
          </a:xfrm>
          <a:prstGeom prst="rect">
            <a:avLst/>
          </a:prstGeom>
          <a:noFill/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962160" y="5791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791320" y="2743200"/>
            <a:ext cx="3276360" cy="1782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638680" y="50292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me return, less risk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..who’s lookin’ out for Jura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ding the Optimal Allocation (con’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038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&amp; Retur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21:39:29Z</dcterms:created>
  <dc:creator>Stern School</dc:creator>
  <dc:description/>
  <dc:language>en-US</dc:language>
  <cp:lastModifiedBy>Wai Ip (Ken) Chan</cp:lastModifiedBy>
  <dcterms:modified xsi:type="dcterms:W3CDTF">2003-05-05T21:48:48Z</dcterms:modified>
  <cp:revision>24</cp:revision>
  <dc:subject/>
  <dc:title>Slide 1</dc:title>
</cp:coreProperties>
</file>