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AF3-4C48-4F61-9A51-1D47F581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BE0-A7E0-4E79-8821-C821CC82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965-2679-4238-8E97-F37F2D0B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795-C963-467E-B864-D72FA4AE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0B48-1BD4-4A85-809F-4B854BC1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9F21-315E-4648-BE4F-A9F57507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DAB8-0C88-43A1-82CF-5736E0F4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16D2-CCBB-4C5D-B671-F94399DA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F684-F8A5-456B-A6B5-F27546F1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812B-AAF9-442A-9C9E-E76A11F2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A919-8973-4961-B12D-8BE4FAB4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0CA-4939-41DF-BDEB-FC45E519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ECD5-E51E-4C03-8C8E-8BD8DBAA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0E8F-6088-4E28-81C7-F33BA27A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33C6-893B-4699-9F8D-1B96C0E1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3D59-91CD-4C2E-927E-1E47B665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60F5-3FED-4E59-BA39-099E7375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652-A8C3-4765-AD28-C2012B38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25C-4560-424F-B6CC-55896644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659-CBC5-4554-8575-98708CC6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EF4-6111-45ED-BC90-A4605096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857-8207-4486-B651-DE9A5DC8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058-804C-4E69-9AE9-BB3C2574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BAC-3735-4939-B286-502E8C7C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79AE-42B7-477D-845B-68B6EFFA5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6055-5B78-47D3-BDA9-971D0DA73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Times New Roman"/>
              </a:rPr>
              <a:t>Decision Models B60.2350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at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ier Rojo Alvar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iel Az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tza 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tavo Oliv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nsley Quiohi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n optimization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use solver to define the optimal combination of floors and the ratio 1br/2br to be built that maximizes pro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hypothesis made the numbers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80010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629320" cy="2948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Model: Tribe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76520" y="1736640"/>
            <a:ext cx="655308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Model: Chelse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97040" y="1676520"/>
            <a:ext cx="645624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Model: Soh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52480" y="1843200"/>
            <a:ext cx="652320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Sensitivity Analys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use of our model is to study what would happen with our project if different decisions were adopted or if reality was different from our assu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nalyze sensitivities we have used different tools: Solver, Solver Tables and graphical displ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Sensitivity Analysi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could influence sales forecast in Soho it could turn a positive N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371600" y="1908000"/>
            <a:ext cx="723888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of NPV of project based on Sale prices of 1br. and 2br. apart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Sensitivity Analysi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19320" y="180036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14400" y="1371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of NPV of project based on % of area needed for infra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68520" y="2394000"/>
            <a:ext cx="6661080" cy="4311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Sensitivity Analysi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62120" y="137160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number of floors needed depending on sales prices of 1br and 2br apart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6227640" cy="41148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Sensitivity Analysi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Juran’s Construction Compan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133720"/>
            <a:ext cx="373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89240" y="2257560"/>
            <a:ext cx="2711160" cy="3460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14800" y="1905120"/>
            <a:ext cx="5029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gend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ject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/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nsitivity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Recommendation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20 story building in Chel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200 one br. apartments and 60 two br. apart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NPV of the project: $27,240,7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Investment = Profits/Cost = 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523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Project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Juran’s Construction Company owns 3 parcels of land in Manhattan in different neighborhoods – Tribeca, Chelsea and Soh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ximize Each Building’s Profit = NPV of Sales – NPV of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cc"/>
                </a:solidFill>
                <a:latin typeface="Times New Roman"/>
              </a:rPr>
              <a:t>Decision variables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mal number of floors to bu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of 1 and 2 bedroom apart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neighborhood to bui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Project Constraint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number of 1br and 2br a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uilding will have at least 5 floors      (foundations constra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infrastructure needed to support the building such as wiring, supporting bins, etc. increases by 1% for each additional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area per floor &lt;= available area after supporting infrastructur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Data/Assum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building is a function of surface built, cost of land, type of apartments built and number of flo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 Cost = Cost of land + Cost of foundations + Cost of construction + Air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Sales = #m2*Price per m2 (Price depends on the type of apart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Data/Assum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Prices and costs are the same across neighborhoods but differ for 1br and 2br a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demand for the next five years has been estimat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8229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Data/Assum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70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ly, the sale profile per neighborhood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Data/Assum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=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period = 5 years (regardless of the number of floors or number of apartments bui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surface to be built in any of the neighborho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429000" y="4800600"/>
            <a:ext cx="3086640" cy="1678680"/>
            <a:chOff x="3429000" y="4800600"/>
            <a:chExt cx="3086640" cy="1678680"/>
          </a:xfrm>
        </p:grpSpPr>
        <p:sp>
          <p:nvSpPr>
            <p:cNvPr id="151" name=""/>
            <p:cNvSpPr/>
            <p:nvPr/>
          </p:nvSpPr>
          <p:spPr>
            <a:xfrm>
              <a:off x="3429000" y="4800600"/>
              <a:ext cx="2362320" cy="1295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2400" y="502920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04880" y="601956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8:25:16Z</dcterms:created>
  <dc:creator>Stern School</dc:creator>
  <dc:description/>
  <dc:language>en-US</dc:language>
  <cp:lastModifiedBy>ADL</cp:lastModifiedBy>
  <dcterms:modified xsi:type="dcterms:W3CDTF">2003-04-29T08:01:11Z</dcterms:modified>
  <cp:revision>22</cp:revision>
  <dc:subject/>
  <dc:title>Decision Models B60.2350</dc:title>
</cp:coreProperties>
</file>