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14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3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4.png" ContentType="image/png"/>
  <Override PartName="/ppt/media/image9.png" ContentType="image/png"/>
  <Override PartName="/ppt/media/image13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634-802F-49B5-9299-F9993BA78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4F44-EC7B-46B3-88BC-0178CB8B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9749-E12A-4F4B-AEAB-75731415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4DE-D88B-4200-8672-254B7CE1E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C62-2E28-451D-BF6D-A85CFD26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5BD-3EFD-4DB9-BC5C-F24CAAE23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09315-1EAE-4A2D-A7E9-909FB20A8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8E0D-80C9-44C1-ADD9-BBA8D27F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78FF-E55D-4946-AC2F-E79B4531F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350720" y="165240"/>
            <a:ext cx="779292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F0407-C86A-4AFB-BD0B-309A3DE3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6752-8434-49C8-9B90-5E1ADC29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5EB-98B5-410F-9B25-56C5D27FF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D372F-7C5D-4FB1-A848-4EEBBA50F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104F8-3665-421C-B95F-9652FBDD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70CB-124A-4D17-B4BC-0B7DC646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9048-6B40-407B-8A00-ACA18CF16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1321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3760920"/>
            <a:ext cx="250236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0AAB-4646-4593-9C3E-A05E18CE1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C88B-D4D1-4BD1-A287-7970E6E4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1492-14B3-4243-B96A-180EB92B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562F-B3A8-40BC-9E95-417607944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350720" y="165240"/>
            <a:ext cx="779292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7C62-11B5-43A0-82D7-F38653C1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6264-F9B4-422D-B0AD-5E7EDC0E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3760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E1B4-1C28-4388-8C67-64EA2A81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1321920"/>
            <a:ext cx="37926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3760920"/>
            <a:ext cx="7772400" cy="222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80D3-7549-49EA-9DEE-6EBF73F4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915840"/>
            <a:ext cx="9067680" cy="42840"/>
          </a:xfrm>
          <a:prstGeom prst="rect">
            <a:avLst/>
          </a:prstGeom>
          <a:gradFill rotWithShape="0">
            <a:gsLst>
              <a:gs pos="0">
                <a:srgbClr val="bac7d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709F-5C78-4535-A909-DE16283F2B60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51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50760" y="7920"/>
            <a:ext cx="938160" cy="87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5C0C-307A-4400-B225-FA9003C5C25E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16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3054240"/>
            <a:ext cx="9067680" cy="42840"/>
          </a:xfrm>
          <a:prstGeom prst="rect">
            <a:avLst/>
          </a:prstGeom>
          <a:gradFill rotWithShape="0">
            <a:gsLst>
              <a:gs pos="0">
                <a:srgbClr val="bac7d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0760" y="2146320"/>
            <a:ext cx="938160" cy="879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amazon.com/images/P/0743249992.01.LZZZZZZZ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>
            <a:hlinkClick r:id="rId1"/>
          </p:cNvPr>
          <p:cNvPicPr/>
          <p:nvPr/>
        </p:nvPicPr>
        <p:blipFill>
          <a:blip r:embed="rId2"/>
          <a:srcRect l="5292" t="6509" r="12199" b="23283"/>
          <a:stretch/>
        </p:blipFill>
        <p:spPr>
          <a:xfrm>
            <a:off x="2058840" y="3706920"/>
            <a:ext cx="2060640" cy="26938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20200" y="15807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Blackjack – “Bringing Down the House”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720960"/>
            <a:ext cx="6060960" cy="26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y 3, 200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en Babbit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Amy Coh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eidi Fis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Justin McGro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ike Paga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ul Quinl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76320" y="2806560"/>
            <a:ext cx="9067680" cy="42840"/>
          </a:xfrm>
          <a:prstGeom prst="rect">
            <a:avLst/>
          </a:prstGeom>
          <a:gradFill rotWithShape="0">
            <a:gsLst>
              <a:gs pos="0">
                <a:srgbClr val="bac7de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Summary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rystal Ball simulation of one hand of blackjack at exactly four decks into a six deck shuff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unt how many times you win in 10,000 ga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splay winning percentages given certain cou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ise a strategy based on output for a gambling team to guarantee profitable payout over a sustained peri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ED7-69CC-4BD9-A16E-67A0C74EA9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Excel detail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33608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mulating Shuffle:  Used Crystal Ball to simulate the deal of cards using the random fun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rank and vlookup functions in excel to identify which cards would be dealt wh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0" t="14505" r="39197" b="30836"/>
          <a:stretch/>
        </p:blipFill>
        <p:spPr>
          <a:xfrm>
            <a:off x="1951200" y="3044880"/>
            <a:ext cx="5246640" cy="353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3BC0-74FF-47C5-8680-9FCF995D58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Excel detail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491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sed Excel to model basic player strate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sed conventional blackjack strateg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Vlookup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yer decides to stay or hit based on count until they decide hand is strong enough to stay or until they bu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14279" r="1377" b="53492"/>
          <a:stretch/>
        </p:blipFill>
        <p:spPr>
          <a:xfrm>
            <a:off x="419040" y="2533680"/>
            <a:ext cx="8529840" cy="20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726AA-A6A3-4366-B911-6AC4FC9D885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Excel detail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38102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player finishes hand, dealer deals self cards based on basic blackjack ru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gnificant complication with model when dealing with the optional value of an 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Used true function to identify whether an ace exis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dentified proper strategy based on count/rules/player strateg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4466" r="79464" b="26342"/>
          <a:stretch/>
        </p:blipFill>
        <p:spPr>
          <a:xfrm>
            <a:off x="5726160" y="1111320"/>
            <a:ext cx="2531880" cy="5460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3116-92D8-4BE5-8E6E-F9BE31C8AE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 – assumptions/shortcoming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50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ok into account “true count” – dividing count by the number of cards left in the d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able to incorporate ability to split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comes measure only one hand at certain point in d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deally, full simulation would estimate gains and losses over full run through dec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ver change betting strategy (as we would in practice)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are only looking at odds of winning, not measuring dollar winn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D198-0058-4E03-AF31-073E193FA9F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561960" y="1217520"/>
            <a:ext cx="7862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odel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14003" r="0" b="23881"/>
          <a:stretch/>
        </p:blipFill>
        <p:spPr>
          <a:xfrm>
            <a:off x="792000" y="1123920"/>
            <a:ext cx="7331400" cy="3400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2513160" y="4646520"/>
            <a:ext cx="377820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34C4-44EF-4DE0-9370-4BD9320120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2600" y="1351080"/>
          <a:ext cx="7772400" cy="4610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351080"/>
                    <a:ext cx="77724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E28-4B9C-4EEC-B0E7-32CD349F779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182600" y="1343160"/>
          <a:ext cx="7772400" cy="462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2600" y="1343160"/>
                    <a:ext cx="7772400" cy="46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874-681F-4A08-AE76-D9B7E2C747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average, the dealer wins 48.1% of the time and the player wins 42.4% of the time (the rest are pushe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-$143,100 assuming $100/hand and 25,000 han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jack 4.8% of hands; double down 5.6% of hands with 58% chance of win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ackjack adds $60k to winnings, double down adds $12k to decrease loss to $71k for playe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basic betting strategy, changes in “the count” have minimal effect on the chances of winning and pay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t no count was the player’s chance of winning higher than the dealer’s chance of winn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62283-F517-49D8-B24F-863C829C3EE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Conclusion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layer strategy” may impact odds – changing strategy at high counts may lead to higher winning percentag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, we re-ran the model changing player strategy so player doesn’t hit on “bust” hands (ie showing 12 or higher) to take advantage of knowledge of “high” count……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5AB4-8966-4C6B-A695-BD023C36CF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Outline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nagerial Probl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jack overvie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del Detai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clus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&amp;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1FFC-4546-40B1-9DDE-646446F32B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239840" y="1322280"/>
          <a:ext cx="765648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1322280"/>
                    <a:ext cx="76564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DBA-D6D8-4509-9972-2BFC3ED252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Result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39840" y="1322280"/>
          <a:ext cx="7656480" cy="46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9840" y="1322280"/>
                    <a:ext cx="765648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8E2C-B08A-46B4-A007-E7472C4BC3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Conclusion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n average, with the revised strategy the dealer wins 50.2% of the time and the player wins 42.3% of the time (the rest are pushes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st as MIT gambling team, assume increased bet of $4,000 for favorable counts (+9 and +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+$13k profit assuming $100/hand and 25,000 hands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lackjack 4.8% of hands; double down 5.7% of hands with 56% chance of winning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lackjack adds $60k to winnings, double down adds $12k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ith revised betting strategy, changes in “the count” have significant effect on the chances of winning and payou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 player’s chance of winning was higher than the dealer’s chance of winning for counts of +9 and +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1D8-2C98-4A43-8461-B7DF889742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Revised Conclusion (Cont.)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90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to take into account splitting cards in next model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to build in more dynamic strategy for avoiding bust in big hand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A BIG BANKROLL IN ORDER TO MAKE PROFIT…..CAN WE BORROW SOME MORE CASH??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8EE7-BD4F-437F-905F-8344896EBFF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61960" y="1306440"/>
            <a:ext cx="786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56120" y="2530440"/>
            <a:ext cx="283032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dddddd"/>
                </a:solidFill>
                <a:latin typeface="Tahoma"/>
              </a:rPr>
              <a:t>Q &amp; A</a:t>
            </a:r>
            <a:endParaRPr b="0" lang="en-US" sz="6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2CA5-B26F-453F-BB8F-4C4F78C1C7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61960" y="1344600"/>
            <a:ext cx="786276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Managerial Problem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’m an MBA student with $100K in loans to pay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ow can I bankroll my loans to pay off my debt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DCF2-ED36-4D15-957B-039F82432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Overview of Blackjack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sic strategy – get as close to 21 as possible without going ov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mber cards are worth the value on the card, face cards are worth 10, ace is worth 1 or 11 at player (or dealer’s) ch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ting decision is made before cards are dealt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layer makes decision to hit or stay after seeing only one of dealer’s c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ptions also include “split” and “double down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ler must hit up to 17, must stay on 17 or abo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aler with an ace must hit on “soft” 17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3DCD-75BC-4904-8B47-B670121DCE9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“</a:t>
            </a: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Bringing Down the House”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 group of MIT students devised a system to “beat” the game of blackjack in casin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fferent players bet minimal amounts and play by basic strategy, all the while keeping “counts” of high and low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ll in the “big player” when there were a lot of high cards in the de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ig player” bet tens of thousands of dollars on single h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stimated total gain of more than $10  million!!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7AD2-1C56-4D9A-9D7B-13FFA55748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Overview – “the count”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t actually remembering each card play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ke Ray Babbitt in Rain Main (“one chip for good, two for bad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ep a running count of high and low c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s 2 through 6 = +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s 7, 8 and 9 = 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rd 10, face cards, and aces = 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positive count skews odds in favor of the play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0489-7959-41BA-B703-76E2A1497A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Why it works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132192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lackjack has a memo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ards dealt out of a six-deck sho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nce a card is shown, it will not reappear (i.e. – only 24 9’s, 24 8’s, etc.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igh cards favor play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chances of getting a high han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chances of hitting with a 10 on a “double down”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4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crease chances of dealer bust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dvantage is small in percentage terms, but with a large enough bankroll you can maximize this advantage and beat the hous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6CB2-4A9F-49BD-83C0-A3C213A53FE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Sample Hand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 flipV="1" rot="5400000">
            <a:off x="2194560" y="-274680"/>
            <a:ext cx="4701960" cy="7564320"/>
          </a:xfrm>
          <a:prstGeom prst="flowChartDelay">
            <a:avLst/>
          </a:prstGeom>
          <a:solidFill>
            <a:srgbClr val="008000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6508" t="5207" r="85909" b="81360"/>
          <a:stretch/>
        </p:blipFill>
        <p:spPr>
          <a:xfrm>
            <a:off x="3610080" y="1339920"/>
            <a:ext cx="780840" cy="1036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rcRect l="72354" t="20662" r="19709" b="66260"/>
          <a:stretch/>
        </p:blipFill>
        <p:spPr>
          <a:xfrm>
            <a:off x="4470480" y="1370160"/>
            <a:ext cx="817560" cy="1009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rcRect l="58961" t="20151" r="33091" b="66658"/>
          <a:stretch/>
        </p:blipFill>
        <p:spPr>
          <a:xfrm>
            <a:off x="4424400" y="4443480"/>
            <a:ext cx="817560" cy="1017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93040" y="5191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: +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7440" y="56991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: Double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6560" y="61959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: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rcRect l="45664" t="19565" r="46325" b="66944"/>
          <a:stretch/>
        </p:blipFill>
        <p:spPr>
          <a:xfrm>
            <a:off x="3484440" y="4433760"/>
            <a:ext cx="825480" cy="10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B43-9C09-44C8-BEC6-EE46232DE2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165240"/>
            <a:ext cx="7792920" cy="8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ddddd"/>
                </a:solidFill>
                <a:latin typeface="Tahoma"/>
              </a:rPr>
              <a:t>Sample Hand </a:t>
            </a:r>
            <a:endParaRPr b="0" lang="en-US" sz="3600" spc="-1" strike="noStrike">
              <a:solidFill>
                <a:srgbClr val="dddddd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 flipV="1" rot="5400000">
            <a:off x="2194560" y="-274680"/>
            <a:ext cx="4701960" cy="7564320"/>
          </a:xfrm>
          <a:prstGeom prst="flowChartDelay">
            <a:avLst/>
          </a:prstGeom>
          <a:solidFill>
            <a:srgbClr val="008000"/>
          </a:solidFill>
          <a:ln w="5724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rcRect l="72354" t="20662" r="19709" b="66260"/>
          <a:stretch/>
        </p:blipFill>
        <p:spPr>
          <a:xfrm>
            <a:off x="4470480" y="1370160"/>
            <a:ext cx="817560" cy="1009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rcRect l="58961" t="20151" r="33091" b="66658"/>
          <a:stretch/>
        </p:blipFill>
        <p:spPr>
          <a:xfrm>
            <a:off x="4424400" y="4443480"/>
            <a:ext cx="817560" cy="10173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93040" y="5191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unt: +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7440" y="569916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t: Double Dow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2080" y="619596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ult: W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rcRect l="45664" t="19565" r="46325" b="66944"/>
          <a:stretch/>
        </p:blipFill>
        <p:spPr>
          <a:xfrm>
            <a:off x="3484440" y="4433760"/>
            <a:ext cx="825480" cy="10432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rcRect l="85629" t="21046" r="6516" b="66009"/>
          <a:stretch/>
        </p:blipFill>
        <p:spPr>
          <a:xfrm>
            <a:off x="5305320" y="4444920"/>
            <a:ext cx="809640" cy="1000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rcRect l="85629" t="21046" r="6516" b="66009"/>
          <a:stretch/>
        </p:blipFill>
        <p:spPr>
          <a:xfrm>
            <a:off x="3502080" y="1362240"/>
            <a:ext cx="809640" cy="100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CD0F-6894-47F3-8454-0B5C4FC7D5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22:32:14Z</dcterms:created>
  <dc:creator>Dan Rubin</dc:creator>
  <dc:description/>
  <dc:language>en-US</dc:language>
  <cp:lastModifiedBy>Stern School of Business</cp:lastModifiedBy>
  <dcterms:modified xsi:type="dcterms:W3CDTF">2004-05-02T21:41:10Z</dcterms:modified>
  <cp:revision>389</cp:revision>
  <dc:subject/>
  <dc:title>BorgWarner</dc:title>
</cp:coreProperties>
</file>