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074-2ACD-4033-8827-54F6A548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3760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E9D-7EBF-4D59-80BE-99B194A4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7ED-FC0A-4022-AB84-487C2347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34F-A4DD-414C-82FE-BD66B1D7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829F-766E-4A7E-B6D7-B20FF60F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D4CB-A104-47CE-B880-B1DB96DF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3C62-EED2-4AE0-84F9-D10CF893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FC74-6F56-4C8E-A335-5DD9C515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9C1C-BE34-40C8-AD2A-0A0F054D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50720" y="165240"/>
            <a:ext cx="779292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C54D-9EDC-416F-9DB9-33DBC28B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684D-7B27-40F9-A75B-E28C8127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775-21FB-4C9B-9A37-66431261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A235-BE30-4A23-9768-50679C21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07ED-F0F9-4D33-8039-9183B1C9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3760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61A9-EC53-466C-89B6-60DFFAFB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EF28-7E5A-4041-B182-ED4A0CE2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CDAB-2BE9-4930-B3CA-F91A1F61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876-C971-438D-9443-9ED5EEA9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BC4-E251-4ADF-A7A9-10E86994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5F8-0B11-4B4C-A03C-2516D934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50720" y="165240"/>
            <a:ext cx="779292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51A-780F-435C-B824-49A31860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1EA-6776-4C8D-B343-2FFEBD57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F11-6EB2-42AC-8D98-F78B38CC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4E7-C194-423B-81A6-F7163ED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915840"/>
            <a:ext cx="9067680" cy="42840"/>
          </a:xfrm>
          <a:prstGeom prst="rect">
            <a:avLst/>
          </a:prstGeom>
          <a:gradFill rotWithShape="0">
            <a:gsLst>
              <a:gs pos="0">
                <a:srgbClr val="bac7d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FFE-8E34-4861-845A-ECFBB3762A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1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0760" y="7920"/>
            <a:ext cx="93816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492F-FB49-44D6-BADB-F0F03234400F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1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3054240"/>
            <a:ext cx="9067680" cy="42840"/>
          </a:xfrm>
          <a:prstGeom prst="rect">
            <a:avLst/>
          </a:prstGeom>
          <a:gradFill rotWithShape="0">
            <a:gsLst>
              <a:gs pos="0">
                <a:srgbClr val="bac7d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0" y="2146320"/>
            <a:ext cx="938160" cy="87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amazon.com/images/P/0743249992.01.LZZZZZZZ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rcRect l="5292" t="6509" r="12199" b="23283"/>
          <a:stretch/>
        </p:blipFill>
        <p:spPr>
          <a:xfrm>
            <a:off x="2058840" y="3706920"/>
            <a:ext cx="2060640" cy="269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0200" y="15807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Blackjack – “Bringing Down the House”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720960"/>
            <a:ext cx="6060960" cy="26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3, 200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en Babbit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y Coh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idi Fis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stin McGro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ke Pag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ul Quinl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2806560"/>
            <a:ext cx="9067680" cy="42840"/>
          </a:xfrm>
          <a:prstGeom prst="rect">
            <a:avLst/>
          </a:prstGeom>
          <a:gradFill rotWithShape="0">
            <a:gsLst>
              <a:gs pos="0">
                <a:srgbClr val="bac7d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Summary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ystal Ball simulation of one hand of blackjack at exactly four decks into a six deck shuff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 how many times you win in 10,000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winning percentages given certain cou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ise a strategy based on output for a gambling team to guarantee profitable payout over a sustained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5C3-D051-4C71-A51A-106A5A304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– Excel detail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33608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ulating Shuffle:  Used Crystal Ball to simulate the deal of cards using the random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rank and vlookup functions in excel to identify which cards would be dealt wh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14505" r="39197" b="30836"/>
          <a:stretch/>
        </p:blipFill>
        <p:spPr>
          <a:xfrm>
            <a:off x="1951200" y="3044880"/>
            <a:ext cx="5246640" cy="353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314-746F-45F2-8DBB-8E828C5413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– Excel detail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491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Excel to model basic player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conventional blackjack strate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lookup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yer decides to stay or hit based on count until they decide hand is strong enough to stay or until they b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14279" r="1377" b="53492"/>
          <a:stretch/>
        </p:blipFill>
        <p:spPr>
          <a:xfrm>
            <a:off x="419040" y="2533680"/>
            <a:ext cx="8529840" cy="20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C49-EAEA-4585-AC4C-E89CC3B4C9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– Excel detail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8102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player finishes hand, dealer deals self cards based on basic blackjack ru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gnificant complication with model when dealing with the optional value of an 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d true function to identify whether an ace exis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dentified proper strategy based on count/rules/player strateg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4466" r="79464" b="26342"/>
          <a:stretch/>
        </p:blipFill>
        <p:spPr>
          <a:xfrm>
            <a:off x="5726160" y="1111320"/>
            <a:ext cx="2531880" cy="54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8A5-9D5A-4242-A89E-B8AEF23C64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– assumptions/shortcoming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into account “true count” – dividing count by the number of cards left in the d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ble to incorporate ability to split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comes measure only one hand at certain point in d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ally, full simulation would estimate gains and losses over full run through d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r change betting strategy (as we would in practic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are only looking at odds of winning, not measuring dollar winn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A00-B2B0-461C-9E82-91E12E5B59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61960" y="1217520"/>
            <a:ext cx="78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14003" r="0" b="23881"/>
          <a:stretch/>
        </p:blipFill>
        <p:spPr>
          <a:xfrm>
            <a:off x="792000" y="1123920"/>
            <a:ext cx="7331400" cy="3400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13160" y="4646520"/>
            <a:ext cx="377820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510-B0DE-459A-AD13-194E7DEFB5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2600" y="1351080"/>
          <a:ext cx="777240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351080"/>
                    <a:ext cx="77724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444-CDAC-4BED-98D9-02C1CDE541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82600" y="1343160"/>
          <a:ext cx="777240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343160"/>
                    <a:ext cx="777240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4C9-E62B-4DED-912A-3322BCED14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average, the dealer wins 48.1% of the time and the player wins 42.4% of the time (the rest are pushe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$143,100 assuming $100/hand and 25,000 han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jack 4.8% of hands; double down 5.6% of hands with 58% chance of win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ackjack adds $60k to winnings, double down adds $12k to decrease loss to $71k for play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basic betting strategy, changes in “the count” have minimal effect on the chances of winning and pay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no count was the player’s chance of winning higher than the dealer’s chance of wi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2D2-A91C-44A1-8833-3C1F82A993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r strategy” may impact odds – changing strategy at high counts may lead to higher winning percenta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, we re-ran the model changing player strategy so player doesn’t hit on “bust” hands (ie showing 12 or higher) to take advantage of knowledge of “high” count……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60F-3F3C-4815-BE08-6AA06F6F13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Outline 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erial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ckjack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 Det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&amp;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E63-72A5-420B-8811-C24B44A4A4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vised Result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39840" y="1322280"/>
          <a:ext cx="7656480" cy="46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1322280"/>
                    <a:ext cx="76564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4A7-6E7C-469C-808B-EB8487F9C4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vised Result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39840" y="1322280"/>
          <a:ext cx="7656480" cy="46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1322280"/>
                    <a:ext cx="76564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B0A-4728-4577-8597-183A04A8D2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vised Conclusion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average, with the revised strategy the dealer wins 50.2% of the time and the player wins 42.3% of the time (the rest are pushe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 as MIT gambling team, assume increased bet of $4,000 for favorable counts (+9 and +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$13k profit assuming $100/hand and 25,000 han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jack 4.8% of hands; double down 5.7% of hands with 56% chance of win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ackjack adds $60k to winnings, double down adds $12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revised betting strategy, changes in “the count” have significant effect on the chances of winning and pay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layer’s chance of winning was higher than the dealer’s chance of winning for counts of +9 and +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F80-76D3-450A-B069-3652469EC1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vised Conclusion (Cont.) 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to take into account splitting cards in next mod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to build in more dynamic strategy for avoiding bust in big han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A BIG BANKROLL IN ORDER TO MAKE PROFIT…..CAN WE BORROW SOME MORE CASH??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B92-DEBF-4824-9DCA-38171EFAA3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56120" y="2530440"/>
            <a:ext cx="28303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ddddd"/>
                </a:solidFill>
                <a:latin typeface="Tahoma"/>
              </a:rPr>
              <a:t>Q &amp; A</a:t>
            </a:r>
            <a:endParaRPr b="0" lang="en-US" sz="6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A90-C344-4D66-AAD4-7656B30C18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61960" y="1344600"/>
            <a:ext cx="7862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anagerial Problem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an MBA student with $100K in loans to pa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can I bankroll my loans to pay off my deb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DBA-4299-4B80-8EC6-5A2A25C2E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Overview of Blackjack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 strategy – get as close to 21 as possible without going 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mber cards are worth the value on the card, face cards are worth 10, ace is worth 1 or 11 at player (or dealer’s)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ing decision is made before cards are deal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yer makes decision to hit or stay after seeing only one of dealer’s c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tions also include “split” and “double down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aler must hit up to 17, must stay on 17 or ab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aler with an ace must hit on “soft” 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571-1414-4EFA-AC7C-8DE0A5E40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Bringing Down the House”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MIT students devised a system to “beat” the game of blackjack in casi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 players bet minimal amounts and play by basic strategy, all the while keeping “counts” of high and low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in the “big player” when there were a lot of high cards in the d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player” bet tens of thousands of dollars on singl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total gain of more than $10  million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455-0A84-4F0C-80C8-5C93390551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Overview – “the count”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ctually remembering each card pla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Ray Babbitt in Rain Main (“one chip for good, two for bad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a running count of high and low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ds 2 through 6 = 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ds 7, 8 and 9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d 10, face cards, and aces = 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positive count skews odds in favor of the play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1DC-6D7A-49F3-B882-1F3DCD8DB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Why it work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ckjack has a mem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ds dealt out of a six-deck sho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 card is shown, it will not reappear (i.e. – only 24 9’s, 24 8’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ards favor play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chances of getting a high h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chances of hitting with a 10 on a “double down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chances of dealer bus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 is small in percentage terms, but with a large enough bankroll you can maximize this advantage and beat the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029-5C73-4B58-AC53-B8035B31DB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Sample Hand 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 flipV="1" rot="5400000">
            <a:off x="2194560" y="-274680"/>
            <a:ext cx="4701960" cy="7564320"/>
          </a:xfrm>
          <a:prstGeom prst="flowChartDelay">
            <a:avLst/>
          </a:prstGeom>
          <a:solidFill>
            <a:srgbClr val="008000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6508" t="5207" r="85909" b="81360"/>
          <a:stretch/>
        </p:blipFill>
        <p:spPr>
          <a:xfrm>
            <a:off x="3610080" y="1339920"/>
            <a:ext cx="780840" cy="103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72354" t="20662" r="19709" b="66260"/>
          <a:stretch/>
        </p:blipFill>
        <p:spPr>
          <a:xfrm>
            <a:off x="4470480" y="1370160"/>
            <a:ext cx="817560" cy="1009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58961" t="20151" r="33091" b="66658"/>
          <a:stretch/>
        </p:blipFill>
        <p:spPr>
          <a:xfrm>
            <a:off x="4424400" y="4443480"/>
            <a:ext cx="817560" cy="1017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3040" y="5191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nt: +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440" y="56991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: Double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560" y="61959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: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rcRect l="45664" t="19565" r="46325" b="66944"/>
          <a:stretch/>
        </p:blipFill>
        <p:spPr>
          <a:xfrm>
            <a:off x="3484440" y="4433760"/>
            <a:ext cx="825480" cy="10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890-36A1-4986-8725-160EE935E1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Sample Hand 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2194560" y="-274680"/>
            <a:ext cx="4701960" cy="7564320"/>
          </a:xfrm>
          <a:prstGeom prst="flowChartDelay">
            <a:avLst/>
          </a:prstGeom>
          <a:solidFill>
            <a:srgbClr val="008000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72354" t="20662" r="19709" b="66260"/>
          <a:stretch/>
        </p:blipFill>
        <p:spPr>
          <a:xfrm>
            <a:off x="4470480" y="1370160"/>
            <a:ext cx="817560" cy="100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58961" t="20151" r="33091" b="66658"/>
          <a:stretch/>
        </p:blipFill>
        <p:spPr>
          <a:xfrm>
            <a:off x="4424400" y="4443480"/>
            <a:ext cx="817560" cy="1017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3040" y="5191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nt: +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7440" y="56991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: Double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080" y="619596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: W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rcRect l="45664" t="19565" r="46325" b="66944"/>
          <a:stretch/>
        </p:blipFill>
        <p:spPr>
          <a:xfrm>
            <a:off x="3484440" y="4433760"/>
            <a:ext cx="825480" cy="1043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rcRect l="85629" t="21046" r="6516" b="66009"/>
          <a:stretch/>
        </p:blipFill>
        <p:spPr>
          <a:xfrm>
            <a:off x="5305320" y="444492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rcRect l="85629" t="21046" r="6516" b="66009"/>
          <a:stretch/>
        </p:blipFill>
        <p:spPr>
          <a:xfrm>
            <a:off x="3502080" y="1362240"/>
            <a:ext cx="809640" cy="100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472-6C3A-4277-AA7A-E372D1D7D1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2:32:14Z</dcterms:created>
  <dc:creator>Dan Rubin</dc:creator>
  <dc:description/>
  <dc:language>en-US</dc:language>
  <cp:lastModifiedBy>Stern School of Business</cp:lastModifiedBy>
  <dcterms:modified xsi:type="dcterms:W3CDTF">2004-05-02T21:41:10Z</dcterms:modified>
  <cp:revision>389</cp:revision>
  <dc:subject/>
  <dc:title>BorgWarner</dc:title>
</cp:coreProperties>
</file>