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02F-0E38-43AD-8C51-BC0A2C62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144-BE7A-46B2-B06B-D081A8FD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533-2ABA-43E3-9E7F-72106F9F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14F-F2E9-457C-ABC0-ECF0CFA0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21A-D2EE-40C5-844E-4718E880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30B-5DC5-44A9-A2A7-A0ADA068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7D6-A888-483E-806D-C5659CA5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649-09AE-4F42-A5E0-86778B72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38E-19CF-4E43-8E7C-FCCB1417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46A-E922-4269-97C5-86583010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845-2698-4E58-AD6A-4FB302E6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7E9-0E53-4E57-A3D2-1938707E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E8BC-A019-457E-BBFB-4EBB2A82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utomotive Analysis Tool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“So you want to buy a ca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992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uster Analysis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dentified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2162160"/>
            <a:ext cx="8928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960" t="20526" r="982" b="5003"/>
          <a:stretch/>
        </p:blipFill>
        <p:spPr>
          <a:xfrm>
            <a:off x="380880" y="91440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-Stag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33352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commend automobile that maximizes user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d on relative attribute values and budget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vide an additional consideration set based on cl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alysis of 107 cars and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del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7080" y="2384280"/>
            <a:ext cx="8806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r Enters Relative Attribute Values and Budget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el Calculates Utility values based on these Scores &amp; Identi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omobile with Highest Utility given budget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el then links this “Best Car” with Cars in the Sam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rface returns Highest Utility Car, as well as Compar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ge 1-Attribut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927080"/>
            <a:ext cx="8542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s are ranked between 1-5 on six main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kings approximate a 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 utility values are calculated from user’s relative rankings of attributes and car attribute ran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st utility car returned subject to user’s budget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r Attribute Rank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55400" y="192708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534440" cy="14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53444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73560" y="4229280"/>
            <a:ext cx="33613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irbags/Person &amp; All whee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371600" y="2209680"/>
            <a:ext cx="838080" cy="1981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12160" y="3657600"/>
            <a:ext cx="67464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2286000"/>
            <a:ext cx="228600" cy="1371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7520" y="4724280"/>
            <a:ext cx="369648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orsepower &amp; Standar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723920" y="2209320"/>
            <a:ext cx="381240" cy="2514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91800" y="3962520"/>
            <a:ext cx="10465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arra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562720" y="2133720"/>
            <a:ext cx="304560" cy="182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20600" y="1447920"/>
            <a:ext cx="134496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unk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552720" y="16765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0280" y="3733920"/>
            <a:ext cx="118368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assen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848360" y="2209680"/>
            <a:ext cx="533160" cy="1524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r Attribute Distribution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55400" y="192708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77240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19480" y="3809880"/>
            <a:ext cx="146844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an + .5 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7360" y="4038480"/>
            <a:ext cx="141516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an - .5 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6280" y="4800600"/>
            <a:ext cx="15829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an + 1.5 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9960" y="3809880"/>
            <a:ext cx="152964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an - 1.5 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90720" y="2057400"/>
            <a:ext cx="533160" cy="1752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980720" y="2209680"/>
            <a:ext cx="838440" cy="182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285640" y="2285640"/>
            <a:ext cx="2057400" cy="152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981080" y="2438280"/>
            <a:ext cx="152640" cy="2362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ge 2-Cluste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600200"/>
            <a:ext cx="8069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ied 10 “centroids” and corresponding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m of squared distances technique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Passenger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M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Cargo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Safety (Airbags per person/All wheel dr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Service (Warranty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Power (Horsepower/Standard transmi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3581280"/>
          <a:ext cx="8001000" cy="30481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uste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2653" r="14563" b="5311"/>
          <a:stretch/>
        </p:blipFill>
        <p:spPr>
          <a:xfrm>
            <a:off x="457200" y="1752480"/>
            <a:ext cx="78487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uster Analysis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dentified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357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9:46:59Z</dcterms:created>
  <dc:creator>opportun</dc:creator>
  <dc:description/>
  <dc:language>en-US</dc:language>
  <cp:lastModifiedBy>Kyle Vahle</cp:lastModifiedBy>
  <dcterms:modified xsi:type="dcterms:W3CDTF">2004-04-23T19:13:25Z</dcterms:modified>
  <cp:revision>13</cp:revision>
  <dc:subject/>
  <dc:title>Automotive Analysis Tool “So you want to buy a car”</dc:title>
</cp:coreProperties>
</file>