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C9C4-D915-4DE8-B0DD-B8E7DE3B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43DC-DBF6-45B0-AC30-1F2B4E86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67F9-A60A-469B-A10F-2FE2E85D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8F8-6728-40F7-96EE-AB9D33B1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9593-9658-4DB7-83C2-C4407D17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639C-A0B2-4362-BBF9-BBC560A5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AFBC-F2E2-4FEA-B278-862E12C1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6B97-BA25-4700-B0BB-377FC276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6A0-7919-4A28-8F50-F71286AE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6CFC-B643-434C-94E0-A5DA59A3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2B5C-9E51-4E5B-87FE-1A8355F7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A20-4397-4BF7-8687-4DB6B7E5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9944-D4B5-428E-9CCC-D17E87804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utomotive Analysis Tool</a:t>
            </a:r>
            <a:br>
              <a:rPr sz="44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“So you want to buy a ca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66992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uster Analysis</a:t>
            </a:r>
            <a:br>
              <a:rPr sz="44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Identified Clus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8000" y="2162160"/>
            <a:ext cx="89280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1960" t="20526" r="982" b="5003"/>
          <a:stretch/>
        </p:blipFill>
        <p:spPr>
          <a:xfrm>
            <a:off x="380880" y="914400"/>
            <a:ext cx="8305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2-Stag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333520"/>
            <a:ext cx="8915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commend automobile that maximizes user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ased on relative attribute values and budget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vide an additional consideration set based on clu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nalysis of 107 cars and tru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odel Method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7080" y="2384280"/>
            <a:ext cx="8806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ser Enters Relative Attribute Values and Budget Constr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del Calculates Utility values based on these Scores &amp; Identif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omobile with Highest Utility given budget constr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del then links this “Best Car” with Cars in the Same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terface returns Highest Utility Car, as well as Compar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tage 1-Attribute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927080"/>
            <a:ext cx="8542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rs are ranked between 1-5 on six main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ankings approximate a normal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tal utility values are calculated from user’s relative rankings of attributes and car attribute rank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ighest utility car returned subject to user’s budget constr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ar Attribute Rank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455400" y="1927080"/>
            <a:ext cx="33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981080"/>
          <a:ext cx="7534440" cy="14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53444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73560" y="4229280"/>
            <a:ext cx="33613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irbags/Person &amp; All wheel Dr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371600" y="2209680"/>
            <a:ext cx="838080" cy="19814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12160" y="3657600"/>
            <a:ext cx="67464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P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2286000"/>
            <a:ext cx="228600" cy="1371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7520" y="4724280"/>
            <a:ext cx="369648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Horsepower &amp; Standar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4723920" y="2209320"/>
            <a:ext cx="381240" cy="2514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91800" y="3962520"/>
            <a:ext cx="10465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arran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562720" y="2133720"/>
            <a:ext cx="304560" cy="1828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20600" y="1447920"/>
            <a:ext cx="134496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runk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552720" y="1676520"/>
            <a:ext cx="68580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50280" y="3733920"/>
            <a:ext cx="118368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assen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7848360" y="2209680"/>
            <a:ext cx="533160" cy="1524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ar Attribute Distribution Lev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455400" y="1927080"/>
            <a:ext cx="33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772400" cy="1676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119480" y="3809880"/>
            <a:ext cx="146844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ean + .5 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7360" y="4038480"/>
            <a:ext cx="141516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ean - .5 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6280" y="4800600"/>
            <a:ext cx="15829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ean + 1.5 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9960" y="3809880"/>
            <a:ext cx="152964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ean - 1.5 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990720" y="2057400"/>
            <a:ext cx="533160" cy="1752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1980720" y="2209680"/>
            <a:ext cx="838440" cy="1828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285640" y="2285640"/>
            <a:ext cx="2057400" cy="1523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981080" y="2438280"/>
            <a:ext cx="152640" cy="2362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tage 2-Cluster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600200"/>
            <a:ext cx="8069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ied 10 “centroids” and corresponding 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m of squared distances technique based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 Passenger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 M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 Cargo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 Safety (Airbags per person/All wheel dr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 Service (Warranty l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 Power (Horsepower/Standard transmis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3581280"/>
          <a:ext cx="8001000" cy="304812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30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uster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2653" r="14563" b="5311"/>
          <a:stretch/>
        </p:blipFill>
        <p:spPr>
          <a:xfrm>
            <a:off x="457200" y="1752480"/>
            <a:ext cx="784872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uster Analysis</a:t>
            </a:r>
            <a:br>
              <a:rPr sz="44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Identified Clus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33572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9:46:59Z</dcterms:created>
  <dc:creator>opportun</dc:creator>
  <dc:description/>
  <dc:language>en-US</dc:language>
  <cp:lastModifiedBy>Kyle Vahle</cp:lastModifiedBy>
  <dcterms:modified xsi:type="dcterms:W3CDTF">2004-04-23T19:13:25Z</dcterms:modified>
  <cp:revision>13</cp:revision>
  <dc:subject/>
  <dc:title>Automotive Analysis Tool “So you want to buy a car”</dc:title>
</cp:coreProperties>
</file>