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19.jpeg" ContentType="image/jpeg"/>
  <Override PartName="/ppt/media/image9.png" ContentType="image/png"/>
  <Override PartName="/ppt/media/image8.png" ContentType="image/png"/>
  <Override PartName="/ppt/media/image7.wmf" ContentType="image/x-wmf"/>
  <Override PartName="/ppt/media/image12.png" ContentType="image/png"/>
  <Override PartName="/ppt/media/image10.png" ContentType="image/png"/>
  <Override PartName="/ppt/media/image5.png" ContentType="image/png"/>
  <Override PartName="/ppt/media/crowdcheersmall.wav" ContentType="audio/x-wav"/>
  <Override PartName="/ppt/media/image2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3.png" ContentType="image/png"/>
  <Override PartName="/ppt/media/image1.png" ContentType="image/png"/>
  <Override PartName="/ppt/media/kick.wav" ContentType="audio/x-wav"/>
  <Override PartName="/ppt/media/image4.png" ContentType="image/png"/>
  <Override PartName="/ppt/media/whistleshort.wav" ContentType="audio/x-wav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6376-982E-4361-8ED8-C3CF291A7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676080"/>
            <a:ext cx="7543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2E78-B0F6-4302-B900-785430AC0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676080"/>
            <a:ext cx="7543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DB54-529F-4DD6-8671-0EB380645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676080"/>
            <a:ext cx="7543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8076-63E7-4CAC-BF53-35B100F15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1F553-6880-4850-B00A-0A49920D0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676080"/>
            <a:ext cx="7543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4B83A-2191-4AC9-A994-D999FF797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676080"/>
            <a:ext cx="7543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71BE4-9CE5-443F-BD12-D72A133B2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676080"/>
            <a:ext cx="7543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5B7AD-BCF7-4404-A3BB-EE64013A5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676080"/>
            <a:ext cx="7543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BC295-5D1E-4B50-AEC7-A59B2C2B3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66320" y="676080"/>
            <a:ext cx="7543800" cy="49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7FE66-B4A7-4E28-94EC-C2954CB1A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676080"/>
            <a:ext cx="7543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71C19-06CB-46C5-862C-BF207118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676080"/>
            <a:ext cx="7543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E183-FA83-45CC-B61F-4DF3B61D0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676080"/>
            <a:ext cx="7543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E2178-B229-4225-A3DA-7EFAB24EA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676080"/>
            <a:ext cx="7543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49D62-6028-4D9A-B681-3A8AE371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676080"/>
            <a:ext cx="7543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9334F-B04C-4370-972A-6C443DAFB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676080"/>
            <a:ext cx="7543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B643D-13BD-4CC6-8171-3C1267C60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676080"/>
            <a:ext cx="7543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C75A1-1327-4AF1-8EC2-BA7507031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676080"/>
            <a:ext cx="7543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925E-A082-464D-8066-5CF95A4F5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676080"/>
            <a:ext cx="7543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B50A-4629-45A6-AD14-53F9D594B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676080"/>
            <a:ext cx="7543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5FA1-133A-477F-8066-2CFBE12C4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66320" y="676080"/>
            <a:ext cx="7543800" cy="49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3E19-F696-4A1B-ADBF-490AABD6C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676080"/>
            <a:ext cx="7543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90F1-840B-460C-82DF-29EA6A42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676080"/>
            <a:ext cx="7543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074D-3E47-4E6A-83CB-CAEBA8BAD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676080"/>
            <a:ext cx="7543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404D-36C1-4FF6-9D30-9C642EB84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76240" y="6480"/>
              <a:ext cx="19080" cy="1103040"/>
            </a:xfrm>
            <a:custGeom>
              <a:avLst/>
              <a:gdLst/>
              <a:ahLst/>
              <a:rect l="l" t="t" r="r" b="b"/>
              <a:pathLst>
                <a:path w="12" h="695">
                  <a:moveTo>
                    <a:pt x="12" y="0"/>
                  </a:moveTo>
                  <a:lnTo>
                    <a:pt x="0" y="0"/>
                  </a:lnTo>
                  <a:lnTo>
                    <a:pt x="0" y="695"/>
                  </a:lnTo>
                  <a:lnTo>
                    <a:pt x="12" y="695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76240" y="2576520"/>
              <a:ext cx="19080" cy="4281480"/>
            </a:xfrm>
            <a:custGeom>
              <a:avLst/>
              <a:gdLst/>
              <a:ahLst/>
              <a:rect l="l" t="t" r="r" b="b"/>
              <a:pathLst>
                <a:path w="12" h="2697">
                  <a:moveTo>
                    <a:pt x="0" y="2697"/>
                  </a:moveTo>
                  <a:lnTo>
                    <a:pt x="12" y="2697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2697"/>
                  </a:lnTo>
                  <a:lnTo>
                    <a:pt x="0" y="2697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617840" y="1833480"/>
              <a:ext cx="7522920" cy="19080"/>
            </a:xfrm>
            <a:custGeom>
              <a:avLst/>
              <a:gdLst/>
              <a:ahLst/>
              <a:rect l="l" t="t" r="r" b="b"/>
              <a:pathLst>
                <a:path w="4724" h="12">
                  <a:moveTo>
                    <a:pt x="4724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4724" y="12"/>
                  </a:lnTo>
                  <a:lnTo>
                    <a:pt x="4724" y="0"/>
                  </a:lnTo>
                  <a:lnTo>
                    <a:pt x="472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76240" y="2176560"/>
              <a:ext cx="19080" cy="399960"/>
            </a:xfrm>
            <a:custGeom>
              <a:avLst/>
              <a:gdLst/>
              <a:ahLst/>
              <a:rect l="l" t="t" r="r" b="b"/>
              <a:pathLst>
                <a:path w="12" h="252">
                  <a:moveTo>
                    <a:pt x="0" y="252"/>
                  </a:moveTo>
                  <a:lnTo>
                    <a:pt x="12" y="25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252"/>
                  </a:lnTo>
                  <a:lnTo>
                    <a:pt x="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76240" y="1109520"/>
              <a:ext cx="19080" cy="400320"/>
            </a:xfrm>
            <a:custGeom>
              <a:avLst/>
              <a:gdLst/>
              <a:ahLst/>
              <a:rect l="l" t="t" r="r" b="b"/>
              <a:pathLst>
                <a:path w="12" h="252">
                  <a:moveTo>
                    <a:pt x="12" y="0"/>
                  </a:moveTo>
                  <a:lnTo>
                    <a:pt x="0" y="0"/>
                  </a:lnTo>
                  <a:lnTo>
                    <a:pt x="0" y="252"/>
                  </a:lnTo>
                  <a:lnTo>
                    <a:pt x="12" y="252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52600" y="1833480"/>
              <a:ext cx="664920" cy="19080"/>
            </a:xfrm>
            <a:custGeom>
              <a:avLst/>
              <a:gdLst/>
              <a:ahLst/>
              <a:rect l="l" t="t" r="r" b="b"/>
              <a:pathLst>
                <a:path w="418" h="12">
                  <a:moveTo>
                    <a:pt x="0" y="0"/>
                  </a:moveTo>
                  <a:lnTo>
                    <a:pt x="0" y="12"/>
                  </a:lnTo>
                  <a:lnTo>
                    <a:pt x="418" y="12"/>
                  </a:lnTo>
                  <a:lnTo>
                    <a:pt x="41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676080"/>
            <a:ext cx="7543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632DE-5CAF-44AF-A7CB-3DCA6F218A35}" type="slidenum"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2/18/0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0" y="28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1800" y="28656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380880" y="6400800"/>
            <a:ext cx="84582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" name="" descr=""/>
          <p:cNvPicPr/>
          <p:nvPr/>
        </p:nvPicPr>
        <p:blipFill>
          <a:blip r:embed="rId2"/>
          <a:stretch/>
        </p:blipFill>
        <p:spPr>
          <a:xfrm>
            <a:off x="8493120" y="0"/>
            <a:ext cx="641520" cy="83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94CA2-8C5F-44E5-BC16-B76BDEF7BDF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ffff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ffff66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66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66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66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kick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kick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kick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kick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kick.wav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kick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kick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audio" Target="../media/kick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kick.wav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kick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kick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istleshort.wav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kick.wav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audio" Target="../media/crowdcheersmall.wav"/><Relationship Id="rId8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kick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kick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kick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kick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kick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kick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audio" Target="../media/kick.wav"/><Relationship Id="rId6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34680" y="1725480"/>
            <a:ext cx="78994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e Brazilian Soccer League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98160" y="558468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May 3, 200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42280" y="3886200"/>
            <a:ext cx="14821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66"/>
                </a:solidFill>
                <a:uFillTx/>
                <a:latin typeface="Arial"/>
              </a:rPr>
              <a:t>Team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ahoma"/>
              </a:rPr>
              <a:t>Nilton Bast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ahoma"/>
              </a:rPr>
              <a:t>Emilio Fabbrizz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ahoma"/>
              </a:rPr>
              <a:t>Theo Keremi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ahoma"/>
              </a:rPr>
              <a:t>Daniel Roev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ahoma"/>
              </a:rPr>
              <a:t>Kathy Walt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168800" y="2478240"/>
            <a:ext cx="852480" cy="111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082880" y="401760"/>
            <a:ext cx="25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Formulation and Methodolog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676080"/>
            <a:ext cx="7543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Formulation of the problem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85680" y="2031840"/>
            <a:ext cx="9024840" cy="39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082880" y="401760"/>
            <a:ext cx="25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Formulation and Methodolog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676080"/>
            <a:ext cx="7543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Formulation of the problem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70000" y="3755880"/>
            <a:ext cx="8874000" cy="19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Revenue </a:t>
            </a: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=(OFFSET($C$1,MATCH(IF(E57=1,B57,C57),$A$2:$A$25,0),1)*$J$54+VLOOKUP(OFFSET($C$1,MATCH(IF(E57=1,B57,C57),$A$2:$A$25,0),0),$I$51:$J$53,2))+G57*VLOOKUP((VLOOKUP(B57,$A$2:$E$25,5)+VLOOKUP(C57,$A$2:$E$25,5)),$C$33:$D$37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Expens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=$I$46+(OFFSET($C$1,MATCH(IF(E57=1,B57,C57),$A$2:$A$25,0),1)*$I$47)+OFFSET($H$26,VLOOKUP(B57,$A$2:$G$25,7),VLOOKUP(C57,$A$2:$G$25,7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01760" y="1998720"/>
            <a:ext cx="8437320" cy="14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082880" y="401760"/>
            <a:ext cx="25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Formulation and Methodolog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676080"/>
            <a:ext cx="7543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Formulation of the problem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38200" y="1852560"/>
            <a:ext cx="7377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57840" indent="-35784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Revenue Gene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6040" indent="-286560">
              <a:lnSpc>
                <a:spcPct val="13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Each team is categorized according to their capacity to bring fans to the stadium and their ability to increase TV audi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6040" indent="-286560">
              <a:lnSpc>
                <a:spcPct val="13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Also, according to the stadium category, advertising revenue is assign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6040" indent="-286560">
              <a:lnSpc>
                <a:spcPct val="13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Each team is categorized with a TV revenue assign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6040" indent="-286560">
              <a:lnSpc>
                <a:spcPct val="13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Each Team has a home projected attenda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6040" indent="-286560">
              <a:lnSpc>
                <a:spcPct val="13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Ex: Coritiba vs Santos (Home Team Coritiba and TV broadcasted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5880" indent="-286560">
              <a:lnSpc>
                <a:spcPct val="130000"/>
              </a:lnSpc>
              <a:spcBef>
                <a:spcPts val="400"/>
              </a:spcBef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Revenue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575720" indent="-286560">
              <a:lnSpc>
                <a:spcPct val="130000"/>
              </a:lnSpc>
              <a:spcBef>
                <a:spcPts val="34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Projected Attendance: 7,000 x $15= </a:t>
            </a: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$105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575720" indent="-286560">
              <a:lnSpc>
                <a:spcPct val="130000"/>
              </a:lnSpc>
              <a:spcBef>
                <a:spcPts val="34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TV Revenue (3-Coritiba+1Santos)=</a:t>
            </a: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$350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575720" indent="-286560">
              <a:lnSpc>
                <a:spcPct val="130000"/>
              </a:lnSpc>
              <a:spcBef>
                <a:spcPts val="34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Advertising (3-Coritiba)=</a:t>
            </a: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66"/>
                </a:solidFill>
                <a:uFillTx/>
                <a:latin typeface="Arial"/>
              </a:rPr>
              <a:t>$  20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4" marL="2005560" indent="-286560">
              <a:lnSpc>
                <a:spcPct val="130000"/>
              </a:lnSpc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$475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16040" indent="-286560">
              <a:lnSpc>
                <a:spcPct val="130000"/>
              </a:lnSpc>
              <a:spcBef>
                <a:spcPts val="34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209600" y="1863720"/>
            <a:ext cx="563760" cy="527040"/>
          </a:xfrm>
          <a:prstGeom prst="rightArrow">
            <a:avLst>
              <a:gd name="adj1" fmla="val 54167"/>
              <a:gd name="adj2" fmla="val 49621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082880" y="401760"/>
            <a:ext cx="25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Formulation and Methodolog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676080"/>
            <a:ext cx="7543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Formulation of the problem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38200" y="1852560"/>
            <a:ext cx="7377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57840" indent="-35784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Expen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6040" indent="-286560">
              <a:lnSpc>
                <a:spcPct val="13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Each game has a fixed cost of $70,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6040" indent="-286560">
              <a:lnSpc>
                <a:spcPct val="13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A variable cost of $2 per estimated attende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6040" indent="-286560">
              <a:lnSpc>
                <a:spcPct val="13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Every game has a variable travel cost which depend on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5880" indent="-286560">
              <a:lnSpc>
                <a:spcPct val="130000"/>
              </a:lnSpc>
              <a:spcBef>
                <a:spcPts val="400"/>
              </a:spcBef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Distance between cities, lodging, group exp. and extr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6040" indent="-286560">
              <a:lnSpc>
                <a:spcPct val="13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Each team has a home projected attenda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6040" indent="-286560">
              <a:lnSpc>
                <a:spcPct val="13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Ex: Coritiba vs Santos (home team Coritiba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5880" indent="-286560">
              <a:lnSpc>
                <a:spcPct val="130000"/>
              </a:lnSpc>
              <a:spcBef>
                <a:spcPts val="400"/>
              </a:spcBef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Expense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575720" indent="-286560">
              <a:lnSpc>
                <a:spcPct val="130000"/>
              </a:lnSpc>
              <a:spcBef>
                <a:spcPts val="34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Projected Attendance: 7,000 x $2= </a:t>
            </a: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$14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575720" indent="-286560">
              <a:lnSpc>
                <a:spcPct val="130000"/>
              </a:lnSpc>
              <a:spcBef>
                <a:spcPts val="34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Fixed Cost=</a:t>
            </a: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$70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575720" indent="-286560">
              <a:lnSpc>
                <a:spcPct val="130000"/>
              </a:lnSpc>
              <a:spcBef>
                <a:spcPts val="34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Travel Costs (Santos traveling costs)=</a:t>
            </a: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66"/>
                </a:solidFill>
                <a:uFillTx/>
                <a:latin typeface="Arial"/>
              </a:rPr>
              <a:t>$14,62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4" marL="2005560" indent="-286560">
              <a:lnSpc>
                <a:spcPct val="130000"/>
              </a:lnSpc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$98,62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16040" indent="-286560">
              <a:lnSpc>
                <a:spcPct val="130000"/>
              </a:lnSpc>
              <a:spcBef>
                <a:spcPts val="34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09600" y="1863720"/>
            <a:ext cx="563760" cy="527040"/>
          </a:xfrm>
          <a:prstGeom prst="rightArrow">
            <a:avLst>
              <a:gd name="adj1" fmla="val 54167"/>
              <a:gd name="adj2" fmla="val 49621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082880" y="401760"/>
            <a:ext cx="25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Formulation and Methodolog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676080"/>
            <a:ext cx="7543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e Methodology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438200" y="1852560"/>
            <a:ext cx="7377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>
              <a:lnSpc>
                <a:spcPct val="130000"/>
              </a:lnSpc>
              <a:spcBef>
                <a:spcPts val="4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We asked SOLVER t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13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Maximize the profit by determining the optimal match schedule in order to fulfill all the constraints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30000"/>
              </a:lnSpc>
              <a:spcBef>
                <a:spcPts val="4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First Problem…..SOLVER can’t do it…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30000"/>
              </a:lnSpc>
              <a:spcBef>
                <a:spcPts val="4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30000"/>
              </a:lnSpc>
              <a:spcBef>
                <a:spcPts val="4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40649" t="44306" r="39737" b="39877"/>
          <a:stretch/>
        </p:blipFill>
        <p:spPr>
          <a:xfrm>
            <a:off x="2468520" y="3538440"/>
            <a:ext cx="3238560" cy="246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082880" y="401760"/>
            <a:ext cx="25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Formulation and Methodolog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676080"/>
            <a:ext cx="7543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e Methodology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438200" y="1852560"/>
            <a:ext cx="7377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>
              <a:lnSpc>
                <a:spcPct val="130000"/>
              </a:lnSpc>
              <a:spcBef>
                <a:spcPts val="4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We reduced the number of teams from 24 to 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13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5 games are played every weekend, 45 games in the seas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30000"/>
              </a:lnSpc>
              <a:spcBef>
                <a:spcPts val="4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30000"/>
              </a:lnSpc>
              <a:spcBef>
                <a:spcPts val="4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219320" y="3294000"/>
            <a:ext cx="6673680" cy="219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082880" y="401760"/>
            <a:ext cx="25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Formulation and Methodolog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320" y="676080"/>
            <a:ext cx="7543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e Methodology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003320" y="3651120"/>
            <a:ext cx="7356600" cy="13399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304920" y="5065560"/>
            <a:ext cx="8718480" cy="11988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438200" y="1852560"/>
            <a:ext cx="7705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>
              <a:lnSpc>
                <a:spcPct val="130000"/>
              </a:lnSpc>
              <a:spcBef>
                <a:spcPts val="4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Redefined the constraints to be fulfilled by the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30000"/>
              </a:lnSpc>
              <a:spcBef>
                <a:spcPts val="4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We ran the model in three stag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Rounds scheduling (grey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TV broadcasting scheduling and home/away determination (yellow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Saturday matches scheduling (whit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30000"/>
              </a:lnSpc>
              <a:spcBef>
                <a:spcPts val="4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30000"/>
              </a:lnSpc>
              <a:spcBef>
                <a:spcPts val="4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30000"/>
              </a:lnSpc>
              <a:spcBef>
                <a:spcPts val="4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162080" y="4367160"/>
            <a:ext cx="6438960" cy="4050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944360" y="1763280"/>
            <a:ext cx="6259320" cy="50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7960" indent="-507960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Soccer 101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507960" indent="-507960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Problem Definition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507960" indent="-507960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Formulation &amp; Methodology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-4572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Objective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-4572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Decision Variable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-4572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Constraint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marL="507960" indent="-507960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Resul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507960" indent="-507960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Q&amp;A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1066320" y="676080"/>
            <a:ext cx="7543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089000" y="40176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Resul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676080"/>
            <a:ext cx="7543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e Results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85960" y="1852560"/>
            <a:ext cx="7929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>
              <a:lnSpc>
                <a:spcPct val="130000"/>
              </a:lnSpc>
              <a:spcBef>
                <a:spcPts val="45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With the new championship version, SOLVER found a solution, but it wasn’t the optim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30000"/>
              </a:lnSpc>
              <a:spcBef>
                <a:spcPts val="45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30000"/>
              </a:lnSpc>
              <a:spcBef>
                <a:spcPts val="45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30000"/>
              </a:lnSpc>
              <a:spcBef>
                <a:spcPts val="45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30000"/>
              </a:lnSpc>
              <a:spcBef>
                <a:spcPts val="45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30000"/>
              </a:lnSpc>
              <a:spcBef>
                <a:spcPts val="45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30000"/>
              </a:lnSpc>
              <a:spcBef>
                <a:spcPts val="45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21470" t="13888" r="37393" b="61112"/>
          <a:stretch/>
        </p:blipFill>
        <p:spPr>
          <a:xfrm>
            <a:off x="1989000" y="3395520"/>
            <a:ext cx="5234040" cy="231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089000" y="40176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Resul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320" y="676080"/>
            <a:ext cx="7543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e Results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006800" y="243000"/>
            <a:ext cx="4043520" cy="59911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878040" y="1849320"/>
            <a:ext cx="2989080" cy="41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We reached a profit to CBF to $11,223,875 with a match schedule fulfilling all the constrai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The model for 24 teams is ready to go….we will wait for the next SOLVER version or use a more powerful linear programming softw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162080" y="1852560"/>
            <a:ext cx="6438960" cy="4050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944360" y="1763280"/>
            <a:ext cx="6259320" cy="50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7960" indent="-507960">
              <a:lnSpc>
                <a:spcPct val="12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occer 101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507960" indent="-507960">
              <a:lnSpc>
                <a:spcPct val="12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blem Definition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507960" indent="-507960">
              <a:lnSpc>
                <a:spcPct val="12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ormulation &amp; Methodology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-457200">
              <a:spcBef>
                <a:spcPts val="45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bjective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-457200">
              <a:spcBef>
                <a:spcPts val="45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cision Variable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-457200">
              <a:spcBef>
                <a:spcPts val="45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nstraint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marL="507960" indent="-507960">
              <a:lnSpc>
                <a:spcPct val="12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sul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507960" indent="-507960">
              <a:lnSpc>
                <a:spcPct val="12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Q&amp;A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1066320" y="676080"/>
            <a:ext cx="7543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162080" y="4867200"/>
            <a:ext cx="6438960" cy="4050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1944360" y="1763280"/>
            <a:ext cx="6259320" cy="50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7960" indent="-507960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Soccer 101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507960" indent="-507960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Problem Definition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507960" indent="-507960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Formulation &amp; Methodology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-4572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Objective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-4572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Decision Variable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-4572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Constraint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marL="507960" indent="-507960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Resul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507960" indent="-507960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Q&amp;A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1066320" y="676080"/>
            <a:ext cx="7543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6320" y="676080"/>
            <a:ext cx="7543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Press Conference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090440" y="40176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Q&amp;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130400" y="1595520"/>
            <a:ext cx="7705800" cy="4734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5637240" y="3056040"/>
            <a:ext cx="650880" cy="7966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1328760" y="3176640"/>
            <a:ext cx="662040" cy="7952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4210200" y="3029040"/>
            <a:ext cx="645840" cy="7966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5"/>
          <a:stretch/>
        </p:blipFill>
        <p:spPr>
          <a:xfrm>
            <a:off x="6864480" y="3192480"/>
            <a:ext cx="685800" cy="7970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6"/>
          <a:stretch/>
        </p:blipFill>
        <p:spPr>
          <a:xfrm>
            <a:off x="2111400" y="3098880"/>
            <a:ext cx="671400" cy="79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087560" y="40176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occer 1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676080"/>
            <a:ext cx="7543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What everyone should know about the business of Soccer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38200" y="1852560"/>
            <a:ext cx="7377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Soccer is the world’s largest s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13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Officially, 240 million people worldwide actively 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13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In Brazil alone, anyone who can walk plays the g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The Business of Soccer is hu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13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Worldwide, the soccer industry has an estimated size of ~$200 b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13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The most successful soccer nation in history hence plays a key ro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The Brazilian leag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13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One of the most widely watched leagues in the worl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13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24 teams, 12 matches every week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13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Approximately 65K spectators in stadiums, 50 million on TV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09600" y="1863720"/>
            <a:ext cx="563760" cy="527040"/>
          </a:xfrm>
          <a:prstGeom prst="rightArrow">
            <a:avLst>
              <a:gd name="adj1" fmla="val 54167"/>
              <a:gd name="adj2" fmla="val 49621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09600" y="3051000"/>
            <a:ext cx="563760" cy="527400"/>
          </a:xfrm>
          <a:prstGeom prst="rightArrow">
            <a:avLst>
              <a:gd name="adj1" fmla="val 54167"/>
              <a:gd name="adj2" fmla="val 49587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209600" y="4260960"/>
            <a:ext cx="563760" cy="527040"/>
          </a:xfrm>
          <a:prstGeom prst="rightArrow">
            <a:avLst>
              <a:gd name="adj1" fmla="val 54167"/>
              <a:gd name="adj2" fmla="val 49621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162080" y="2338560"/>
            <a:ext cx="6438960" cy="40464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944360" y="1763280"/>
            <a:ext cx="6259320" cy="50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7960" indent="-507960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Soccer 101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507960" indent="-507960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Problem Definition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507960" indent="-507960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Formulation &amp; Methodology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-4572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Objective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-4572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Decision Variable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-4572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Constraint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marL="507960" indent="-507960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Resul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507960" indent="-507960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Q&amp;A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066320" y="676080"/>
            <a:ext cx="7543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087200" y="401760"/>
            <a:ext cx="163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Problem Defini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676080"/>
            <a:ext cx="7543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How to maximize the profits to the CBF (Confederacão Brasileira de Futebol)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38200" y="2009880"/>
            <a:ext cx="7377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65400" indent="-365400">
              <a:lnSpc>
                <a:spcPct val="130000"/>
              </a:lnSpc>
              <a:spcBef>
                <a:spcPts val="4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The Brazilian Soccer League is governed by the Confederação Brasileira de Futebol – CBF (“The League”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65400" indent="-365400">
              <a:lnSpc>
                <a:spcPct val="130000"/>
              </a:lnSpc>
              <a:spcBef>
                <a:spcPts val="400"/>
              </a:spcBef>
              <a:spcAft>
                <a:spcPts val="400"/>
              </a:spcAft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The League consists of 24 teams from around the count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65400" indent="-365400">
              <a:lnSpc>
                <a:spcPct val="130000"/>
              </a:lnSpc>
              <a:spcBef>
                <a:spcPts val="400"/>
              </a:spcBef>
              <a:spcAft>
                <a:spcPts val="400"/>
              </a:spcAft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There are 12 games every week and each team has to play the other 23 team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65400" indent="-365400">
              <a:lnSpc>
                <a:spcPct val="130000"/>
              </a:lnSpc>
              <a:spcBef>
                <a:spcPts val="4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The League has to schedule 12 games every wee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65400" indent="-365400">
              <a:lnSpc>
                <a:spcPct val="130000"/>
              </a:lnSpc>
              <a:spcBef>
                <a:spcPts val="4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There are a number of additional constraints to consider such as the days the games can be played on, stadium availability,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65400" indent="-365400">
              <a:lnSpc>
                <a:spcPct val="130000"/>
              </a:lnSpc>
              <a:spcBef>
                <a:spcPts val="4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Profits come from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48040" indent="-292680">
              <a:lnSpc>
                <a:spcPct val="130000"/>
              </a:lnSpc>
              <a:spcBef>
                <a:spcPts val="4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Ticket s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48040" indent="-292680">
              <a:lnSpc>
                <a:spcPct val="130000"/>
              </a:lnSpc>
              <a:spcBef>
                <a:spcPts val="4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TV broadcasting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48040" indent="-292680">
              <a:lnSpc>
                <a:spcPct val="130000"/>
              </a:lnSpc>
              <a:spcBef>
                <a:spcPts val="4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Advertis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224000" y="2049480"/>
            <a:ext cx="447480" cy="419040"/>
          </a:xfrm>
          <a:prstGeom prst="rightArrow">
            <a:avLst>
              <a:gd name="adj1" fmla="val 54167"/>
              <a:gd name="adj2" fmla="val 49537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224000" y="2725560"/>
            <a:ext cx="447480" cy="419400"/>
          </a:xfrm>
          <a:prstGeom prst="rightArrow">
            <a:avLst>
              <a:gd name="adj1" fmla="val 54167"/>
              <a:gd name="adj2" fmla="val 49495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224000" y="3149640"/>
            <a:ext cx="447480" cy="419040"/>
          </a:xfrm>
          <a:prstGeom prst="rightArrow">
            <a:avLst>
              <a:gd name="adj1" fmla="val 54167"/>
              <a:gd name="adj2" fmla="val 49537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24000" y="3873600"/>
            <a:ext cx="447480" cy="419040"/>
          </a:xfrm>
          <a:prstGeom prst="rightArrow">
            <a:avLst>
              <a:gd name="adj1" fmla="val 54167"/>
              <a:gd name="adj2" fmla="val 49537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24000" y="4254480"/>
            <a:ext cx="447480" cy="419040"/>
          </a:xfrm>
          <a:prstGeom prst="rightArrow">
            <a:avLst>
              <a:gd name="adj1" fmla="val 54167"/>
              <a:gd name="adj2" fmla="val 49537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24000" y="4935600"/>
            <a:ext cx="447480" cy="419040"/>
          </a:xfrm>
          <a:prstGeom prst="rightArrow">
            <a:avLst>
              <a:gd name="adj1" fmla="val 54167"/>
              <a:gd name="adj2" fmla="val 49537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62080" y="2867040"/>
            <a:ext cx="6438960" cy="40464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944360" y="1763280"/>
            <a:ext cx="6259320" cy="50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7960" indent="-507960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Soccer 101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507960" indent="-507960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Problem Definition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507960" indent="-507960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Formulation &amp; Methodology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-4572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Objective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-4572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Decision Variable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-4572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Constraint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marL="507960" indent="-507960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Resul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507960" indent="-507960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Q&amp;A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066320" y="676080"/>
            <a:ext cx="7543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082880" y="401760"/>
            <a:ext cx="25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Formulation and Methodolog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676080"/>
            <a:ext cx="7543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e formulation of the problem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438200" y="1852560"/>
            <a:ext cx="7377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35160" indent="-33516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Decision Variab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0320" indent="-268200">
              <a:lnSpc>
                <a:spcPct val="13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Determine the match sche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72800" indent="-268200">
              <a:lnSpc>
                <a:spcPct val="130000"/>
              </a:lnSpc>
              <a:spcBef>
                <a:spcPts val="400"/>
              </a:spcBef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24 Teams = 12 games per weekend (total=276 gam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70320" indent="-268200">
              <a:lnSpc>
                <a:spcPct val="13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Determine local and away teams (according to revenue gene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72800" indent="-268200">
              <a:lnSpc>
                <a:spcPct val="130000"/>
              </a:lnSpc>
              <a:spcBef>
                <a:spcPts val="400"/>
              </a:spcBef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Teams are categorized by their ranking (Leaders, Average and Newcomers) and by their revenue generation abi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70320" indent="-268200">
              <a:lnSpc>
                <a:spcPct val="13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Determine games to be TV broadcast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70320" indent="-268200">
              <a:lnSpc>
                <a:spcPct val="13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Determine games to be played on Saturday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160" indent="-33516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Objec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0320" indent="-268200">
              <a:lnSpc>
                <a:spcPct val="13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Determine a match schedule that will strike a balance between all teams and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70320" indent="-268200">
              <a:lnSpc>
                <a:spcPct val="13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Maximize the profits to the CB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160" indent="-33516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9600" y="1863720"/>
            <a:ext cx="563760" cy="527040"/>
          </a:xfrm>
          <a:prstGeom prst="rightArrow">
            <a:avLst>
              <a:gd name="adj1" fmla="val 54167"/>
              <a:gd name="adj2" fmla="val 49621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09600" y="4846680"/>
            <a:ext cx="563760" cy="527040"/>
          </a:xfrm>
          <a:prstGeom prst="rightArrow">
            <a:avLst>
              <a:gd name="adj1" fmla="val 54167"/>
              <a:gd name="adj2" fmla="val 49621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082880" y="401760"/>
            <a:ext cx="25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Formulation and Methodolog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676080"/>
            <a:ext cx="7543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e formulation of the problem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438200" y="1852560"/>
            <a:ext cx="7377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Constrai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14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Season is limited to 12 games per weekend over 23 weeken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14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No team can play each other more than anoth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14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Games are limited to Saturdays and Sundays onl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14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Each weekend, only two matches are broadcast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14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There should be at most 4 matches on Saturday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14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Teams should play every weekend but only once per week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14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No team can play home more than 11 games in the seas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14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No  team can play on Saturdays more than 4 games in the seas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14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No team can be TV broadcasted more than 3 times in the seas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209600" y="1863720"/>
            <a:ext cx="563760" cy="527040"/>
          </a:xfrm>
          <a:prstGeom prst="rightArrow">
            <a:avLst>
              <a:gd name="adj1" fmla="val 54167"/>
              <a:gd name="adj2" fmla="val 49621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082880" y="401760"/>
            <a:ext cx="25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Formulation and Methodolog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676080"/>
            <a:ext cx="7543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Formulation of the problem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941400" y="1981080"/>
            <a:ext cx="4626000" cy="41911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872320" y="1976400"/>
            <a:ext cx="2323800" cy="17906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5877000" y="3975120"/>
            <a:ext cx="2638440" cy="9810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5880240" y="5168880"/>
            <a:ext cx="1761840" cy="657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2T23:59:35Z</dcterms:created>
  <dc:creator>Daniel</dc:creator>
  <dc:description/>
  <dc:language>en-US</dc:language>
  <cp:lastModifiedBy>Emilio</cp:lastModifiedBy>
  <dcterms:modified xsi:type="dcterms:W3CDTF">2004-05-03T13:17:06Z</dcterms:modified>
  <cp:revision>76</cp:revision>
  <dc:subject/>
  <dc:title>Southwest Flying Ahead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