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7D8-DF91-4917-8564-311B9E47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500-DAF1-4B79-B75E-E813C46F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8C0-87F1-4A65-8C96-10E58281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258-6829-4DFE-93A3-37A81C35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72F-E8F6-4384-88CE-DB5C5CFD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CCC-3C53-4617-8BB5-1118A286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DC23-670B-4FEE-83AF-21FECAE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F47F-D7EF-4C9B-9FFC-5E2511B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7DA-3CCE-4FA2-927F-7097DB5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676-86F3-49C8-B7B2-74DFF08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5BA1-320A-419B-AD01-A999336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9AA-404A-4A26-BF73-B3F3AAC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F8F6-2938-4CAC-A1FA-6F9279F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98B4-8170-46B5-9A4E-986BB75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5B0-074A-4463-8C1A-4BA9777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571-06A6-4F31-9234-4B82BAE8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2E8E-E3BF-4B1A-A5EA-CCC20D98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C26-A2C0-4BD0-9C5C-8753EF9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F95-9418-427E-B977-B678040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E20-3B0D-498F-92A6-A6B8531D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B14-4320-4040-A49D-ED42C6D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9E7-FF8F-4097-8DF7-106A484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E88-52D4-44E8-B481-0221659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33C-3BC5-4399-8366-323CBCA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130-F70C-46E3-BA25-155FBF0B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03252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172200"/>
            <a:ext cx="3352680" cy="423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95920"/>
            <a:ext cx="9144000" cy="26208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31680"/>
            <a:ext cx="2133720" cy="11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E73-53B6-462D-8E22-1078C2C65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3252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172200"/>
            <a:ext cx="3352680" cy="42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requent Flyer Madnes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na Greenber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Joshua Kurtzi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etsy Schmand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oms Sili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sa Urre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 (2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752480"/>
            <a:ext cx="1447920" cy="13716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 Ti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1920" y="1752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8480" y="15238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9040" y="20574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0600" y="2743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5600" y="35053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$.15 per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31560" y="44197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$.15 per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666880"/>
            <a:ext cx="1828800" cy="1752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en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 mi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22720" y="275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5360" y="41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657600"/>
            <a:ext cx="16765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251460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F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5181480"/>
            <a:ext cx="152424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47920" y="19047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19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16761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1981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809880" y="3047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5440" y="4054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057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114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077320" y="3200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33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676520"/>
            <a:ext cx="1409760" cy="1218960"/>
          </a:xfrm>
          <a:custGeom>
            <a:avLst/>
            <a:gdLst/>
            <a:ahLst/>
            <a:rect l="l" t="t" r="r" b="b"/>
            <a:pathLst>
              <a:path w="888" h="768">
                <a:moveTo>
                  <a:pt x="432" y="768"/>
                </a:moveTo>
                <a:cubicBezTo>
                  <a:pt x="660" y="568"/>
                  <a:pt x="888" y="368"/>
                  <a:pt x="816" y="240"/>
                </a:cubicBezTo>
                <a:cubicBezTo>
                  <a:pt x="744" y="112"/>
                  <a:pt x="144" y="4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990720" cy="731880"/>
          </a:xfrm>
          <a:custGeom>
            <a:avLst/>
            <a:gdLst/>
            <a:ahLst/>
            <a:rect l="l" t="t" r="r" b="b"/>
            <a:pathLst>
              <a:path w="592" h="560">
                <a:moveTo>
                  <a:pt x="384" y="560"/>
                </a:moveTo>
                <a:cubicBezTo>
                  <a:pt x="488" y="360"/>
                  <a:pt x="592" y="160"/>
                  <a:pt x="528" y="80"/>
                </a:cubicBezTo>
                <a:cubicBezTo>
                  <a:pt x="464" y="0"/>
                  <a:pt x="88" y="80"/>
                  <a:pt x="0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02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65248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67320" y="28195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sten your seatbelt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Suggested Improvement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egrate more airlin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crease number of city pai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se more dynamic pricing, seat availability, standard deviations, etc. dat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ilor utility (objective) function to encompass cash available, miles objective and trip necessit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836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0" y="1371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What’s the deal with frequent flyer miles?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merican Airlines launched in 19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r repeat purchases and loyal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 80 million frequent fli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% of seats are for award ticke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F partner with hotels and rental car agenc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Perquisites of FF Program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Josh has no miles on AA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705360" cy="485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65" t="42340" r="17048" b="41984"/>
          <a:stretch/>
        </p:blipFill>
        <p:spPr>
          <a:xfrm>
            <a:off x="2971800" y="3276720"/>
            <a:ext cx="3124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 Function(s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bjective Function(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miles 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cash out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F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nstraints (1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ity pairing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ate of trav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affects availability of FF seats and price of ticke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ity—peak vs. off-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efore travel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ass of serv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vs. busines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nstraints (2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ite status (or lack thereof for poor Stern student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inum members have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F miles availab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estinations and classes require different mile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MIA: 25,000 (Ec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LHR: 40,000 (Ec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LHR: 90,000 (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is Price Threshold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eryone has a reference price when they think about air tra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NYC to LAX ~ $500, NYC - ORD ~ $3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ariability impacts price. Actual prices may be $220 - $80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andomness in the system is what we’re trying to mod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 (1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76920" y="1981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2895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7840" y="1843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69120" y="2743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828800"/>
            <a:ext cx="2743200" cy="198108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ty Pai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vel Da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e Thresho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ass of F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 FF mi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057400"/>
            <a:ext cx="1295280" cy="106668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362320"/>
            <a:ext cx="1600200" cy="1447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36576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7160" y="380988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876920"/>
            <a:ext cx="137160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24816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1" idx="0"/>
            <a:endCxn id="113" idx="0"/>
          </p:cNvCxnSpPr>
          <p:nvPr/>
        </p:nvCxnSpPr>
        <p:spPr>
          <a:xfrm rot="5400000">
            <a:off x="3583080" y="-141480"/>
            <a:ext cx="183240" cy="4150440"/>
          </a:xfrm>
          <a:prstGeom prst="curvedConnector5">
            <a:avLst>
              <a:gd name="adj1" fmla="val -241732"/>
              <a:gd name="adj2" fmla="val 50000"/>
              <a:gd name="adj3" fmla="val -24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7:06:02Z</dcterms:created>
  <dc:creator>Betsy Schmandt</dc:creator>
  <dc:description/>
  <dc:language>en-US</dc:language>
  <cp:lastModifiedBy>baseuser</cp:lastModifiedBy>
  <dcterms:modified xsi:type="dcterms:W3CDTF">2004-05-02T19:13:21Z</dcterms:modified>
  <cp:revision>19</cp:revision>
  <dc:subject/>
  <dc:title>Slide 1</dc:title>
</cp:coreProperties>
</file>