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8.wmf" ContentType="image/x-wmf"/>
  <Override PartName="/ppt/media/image3.jpeg" ContentType="image/jpeg"/>
  <Override PartName="/ppt/media/image30.png" ContentType="image/png"/>
  <Override PartName="/ppt/media/image27.wmf" ContentType="image/x-wmf"/>
  <Override PartName="/ppt/media/image24.png" ContentType="image/png"/>
  <Override PartName="/ppt/media/image11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23.png" ContentType="image/png"/>
  <Override PartName="/ppt/media/image13.jpeg" ContentType="image/jpeg"/>
  <Override PartName="/ppt/media/image33.wmf" ContentType="image/x-wmf"/>
  <Override PartName="/ppt/media/image36.wmf" ContentType="image/x-wmf"/>
  <Override PartName="/ppt/media/image9.jpeg" ContentType="image/jpeg"/>
  <Override PartName="/ppt/media/image37.wmf" ContentType="image/x-wmf"/>
  <Override PartName="/ppt/media/image31.png" ContentType="image/png"/>
  <Override PartName="/ppt/media/image40.wmf" ContentType="image/x-wmf"/>
  <Override PartName="/ppt/media/image7.jpeg" ContentType="image/jpeg"/>
  <Override PartName="/ppt/media/image42.wmf" ContentType="image/x-wmf"/>
  <Override PartName="/ppt/media/image39.png" ContentType="image/png"/>
  <Override PartName="/ppt/media/image43.jpeg" ContentType="image/jpeg"/>
  <Override PartName="/ppt/media/image41.wmf" ContentType="image/x-wmf"/>
  <Override PartName="/ppt/media/image38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34.png" ContentType="image/png"/>
  <Override PartName="/ppt/media/image5.jpeg" ContentType="image/jpeg"/>
  <Override PartName="/ppt/media/image20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3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18C-90E9-4345-8956-7E1A4313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F3C-FC8D-49CF-BD32-C1B23D5C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E7E-DDEB-4185-BBD5-2F511595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E1D-52D3-480C-87A9-9A9BCA26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F25-890A-4306-A502-2EE6683E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50F-70DD-49CE-ABCF-9631F6FF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786-EDAB-4669-A206-FB41A91A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EB3-AF01-4B9F-A3D9-7007F81C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DB9-D0EA-441F-9F2A-15DBA583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E7B-677D-4345-89D0-D2A75949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2BF-9B5E-4073-A264-C6C1331E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998-5A91-4EDC-BD5F-55D3E636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56AC-65F4-4F69-B34A-D1EAF6FFFCD3}" type="slidenum">
              <a:rPr b="0" lang="ko-KR" sz="1400" spc="-1" strike="noStrike">
                <a:solidFill>
                  <a:srgbClr val="ffffff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638680" cy="2845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164960" cy="1164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54864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5410080"/>
            <a:ext cx="533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eam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ae-Hoon Ahn, Kyounghye Cheong, Leon Hen-tov, Sandra Lee,  Ted Ol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543800" y="380880"/>
            <a:ext cx="107964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467480" y="5486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80880" y="1395360"/>
            <a:ext cx="84582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ustomer Assump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Sale price per beer is $5.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Attendance is normally distribu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eekend: Mean = 47,663; Std Dev = 8,56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eekday: Mean = 38,172; Std Dev = 6,83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Number of beers consumed per person is normally distribu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ean = 1.5; Std Dev = 0.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ercentage of population consuming beer is normally distribut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ean = 40%; Std Dev = 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Vendor Assump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Each vendor works for 5 hours per game for $8/hr ($40 per gam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st per beer is $0.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Variable vendor costs of $200 per number of vendors is incurred each g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Fixed costs of $3,000 are incurred for each g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Vendors sell beers at 1 beer per minu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Vendors are occupied 80% of the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Max number of beers sold per vendor is 2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olution Methodology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Use Crystal B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Random vari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xpected Attend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xpected % of Beer Drin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xpected average number of beers per beer drink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Forecast vari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ofit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% of demand m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Various number of vendor lev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verage Number of Beer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1851120"/>
            <a:ext cx="64008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verage % of Beer Drinker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1628640"/>
            <a:ext cx="61722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verage Weekday Attendance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62940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olution Methodolog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day Mod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1595520"/>
            <a:ext cx="83822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day Result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177040" cy="2316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85582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eekday: Maximum Profit Level (115 vendo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55344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day: % of Demand Met at Maximum Profit Lev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15 vendo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2165400"/>
            <a:ext cx="62485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y are the Yankees so hated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879560"/>
            <a:ext cx="1155600" cy="1168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85080" y="1828800"/>
            <a:ext cx="1244520" cy="1231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05320" y="3327480"/>
            <a:ext cx="1562040" cy="1396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447920" y="3441600"/>
            <a:ext cx="1206360" cy="97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85800" y="4724280"/>
            <a:ext cx="1066680" cy="133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7086600" y="4876920"/>
            <a:ext cx="121932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3124080" y="1905120"/>
            <a:ext cx="2210040" cy="650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5791320" y="3352680"/>
            <a:ext cx="1143000" cy="99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581280" y="5194440"/>
            <a:ext cx="142236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day: % of Demand Met with 95% service lev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0 vendo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16292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day: Profit Level with   95% service lev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0 vendo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2075040"/>
            <a:ext cx="693396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day Profit vs. Service Lev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76480" y="1447920"/>
            <a:ext cx="6789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verage Weekend Attendance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16292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olution Methodolog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end Mod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1547640"/>
            <a:ext cx="84582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end Result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7925040" cy="2408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82296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eekend: Maximum Profit Level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0 vendo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9961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end: % of Demand Met at Maximum Profit Lev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0 vendo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52560" y="1905120"/>
            <a:ext cx="55389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end: % of Demand Met with 95% service lev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45 vendo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8580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end: Profit Level with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95% service lev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45 vendo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1629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Not enough beer vendors!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71920" y="2362320"/>
            <a:ext cx="1079280" cy="1625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6680" y="2362320"/>
            <a:ext cx="1079640" cy="1625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570720" y="2438280"/>
            <a:ext cx="175248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29360" y="426708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83080" y="4267080"/>
            <a:ext cx="14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re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5720" y="2692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21120" y="2666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70720" y="4276800"/>
            <a:ext cx="15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happy F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03440" y="2387520"/>
            <a:ext cx="965160" cy="1498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11240" y="2724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1960" y="426708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m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er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end Profit vs. Service Lev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76480" y="1447920"/>
            <a:ext cx="6789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cus on Servic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ximum Profi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ekday 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15 vendors (mean profit $76,30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ekend 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30 vendors (mean profit $90,74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95% Servic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ekday 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30 vendors (mean profit $74,78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ekend 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5 vendors (mean profit $89,74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mitations of the Mod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Advance Ticket Sales will reduce forecast error in attendance estim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orporate weather forec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 other factors such as who the Yankees are playing, who’s pitching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k fan beer consumption habits by inning and section (Upper v. Lower Deck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ers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3281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nagerial Problem Defin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termine the optimal number of beer vendors at Yankee Stadium to maximize profits while maintaining an acceptable level of serv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ormula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The optimal number of beer vend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The minimum % of demand m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Maximize profits while maintaining the acceptable level of ser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onstrai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tadium capacity is 57,47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e acceptable level of service is approximately 95%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e total # of beers sold cannot exceed the maximum # of beers each vendor could sel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x Beers =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굴림"/>
              </a:rPr>
              <a:t>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굴림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굴림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where 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  <a:ea typeface="굴림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= # of beer vend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nd y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  <a:ea typeface="굴림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= max number of beers sold per ven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e total number of vendors must be an integ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003 Season Attendanc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14520" y="1143000"/>
          <a:ext cx="799596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1143000"/>
                    <a:ext cx="799596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verage % of Total Capacity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00600" y="1405080"/>
            <a:ext cx="2322360" cy="522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1905120" y="1405080"/>
          <a:ext cx="2084400" cy="522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405080"/>
                    <a:ext cx="20844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Tahoma"/>
                <a:ea typeface="굴림"/>
              </a:rPr>
              <a:t>Weekend vs. Weekday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105520" y="1852560"/>
          <a:ext cx="3352680" cy="4319640"/>
        </p:xfrm>
        <a:graphic>
          <a:graphicData uri="http://schemas.openxmlformats.org/drawingml/2006/table">
            <a:tbl>
              <a:tblPr/>
              <a:tblGrid>
                <a:gridCol w="1236600"/>
                <a:gridCol w="222120"/>
                <a:gridCol w="1893960"/>
              </a:tblGrid>
              <a:tr h="5068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Weekend Attend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      </a:t>
                      </a:r>
                      <a:r>
                        <a:rPr b="0" lang="ko-KR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47,6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Std 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8,5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30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Weekday Attend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      </a:t>
                      </a:r>
                      <a:r>
                        <a:rPr b="0" lang="ko-KR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38,17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Std 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       </a:t>
                      </a:r>
                      <a:r>
                        <a:rPr b="0" lang="ko-KR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6,83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5268960" y="380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66680" y="1447920"/>
          <a:ext cx="307656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30765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8:19:20Z</dcterms:created>
  <dc:creator>Sandra Lee</dc:creator>
  <dc:description/>
  <dc:language>en-US</dc:language>
  <cp:lastModifiedBy>Kyounghye (Kay) Cheong</cp:lastModifiedBy>
  <dcterms:modified xsi:type="dcterms:W3CDTF">2004-04-26T18:50:04Z</dcterms:modified>
  <cp:revision>159</cp:revision>
  <dc:subject/>
  <dc:title>Beer Here…..</dc:title>
</cp:coreProperties>
</file>