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2B0-658C-418C-B967-E6550441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6C3-855F-49B4-B358-B3B5D4DF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B22-6F46-47F8-8C59-DAA57652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21D-3476-4B54-ACC1-5FCB5585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A388-AF43-4CC2-BCA4-95CAEA91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135F-F9A0-4291-A8E8-32FEB7A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C096-18BA-44C1-B4EF-8634E14D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E6D5-9757-4C38-9242-2D7ACB40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5F6-CEDD-4713-B17A-CBBA6A3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4B0-3D20-47E5-ADD2-1F6D659A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759-CAE8-48AF-A420-A0D95D6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C17-7300-410E-A22F-46BFDBD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F2C-6BCD-4BEE-809A-0D36202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8218-7F5F-4A2E-B945-941E023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2496-94D5-408D-95AC-FB3713F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8544-5FCC-4321-8337-C317E2CC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399C-DBC9-4182-A416-5447FE6B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9BA-A018-4BFC-BC09-540EF0D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99D-B51A-4068-B9E5-478EF49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61C-4CB0-40C2-9177-DE6C4E1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4E1-B397-42F0-8173-3CB3F5B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311-AEBC-416D-B2DB-BB99E08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671-913E-4265-9404-FE5F62A1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2AB-4470-4CE8-96D0-886991B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662-457A-4767-9B1A-9C29AD932A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856-5B7C-4598-BCEC-ACA3683D91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alysis of investment opportunities in the oil industry using Monte Carlo Simulation and Portfolio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6553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los Aco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cob Esay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t Hy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guel Angel Viramo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nte Carlo Simulation:  What is Random? Aren’t prices also Random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3711600"/>
            <a:ext cx="3652920" cy="1851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14400" y="2340000"/>
            <a:ext cx="3422520" cy="117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952880" y="341460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6560" y="182088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Variables and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15000" y="3567240"/>
            <a:ext cx="2743200" cy="1062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98360" y="3124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523880"/>
            <a:ext cx="381024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7500"/>
              <a:gd name="adj5" fmla="val 188888"/>
              <a:gd name="adj6" fmla="val -27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riangular distribution is the common standard in the oil industry.  It is very hard to come up with empiric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2286000"/>
            <a:ext cx="381024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7791"/>
              <a:gd name="adj5" fmla="val 240740"/>
              <a:gd name="adj6" fmla="val -2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lognormal distribution was used as cost estimates tend to skew to the right and they can’t be considered normal as costs can’t b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nte Carlo Simulation:  Th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60560" y="1600200"/>
            <a:ext cx="68641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nte Carlo Simulation:  Output Summary per Site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2065320"/>
            <a:ext cx="4038480" cy="36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17196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80320" y="16905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 10,000 ru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35640" y="16444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tion of NPV’s for Site 1 under different Price Scenarios (1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886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 Portfolio for One Scenari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rtfolio Optimization:  Th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3962160"/>
            <a:ext cx="4038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V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whether or not to develop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are independ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05520" y="2590920"/>
            <a:ext cx="3657600" cy="2209680"/>
            <a:chOff x="5105520" y="2590920"/>
            <a:chExt cx="3657600" cy="22096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5105520" y="2590920"/>
              <a:ext cx="36576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5105520" y="2590920"/>
              <a:ext cx="36576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25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831320" y="3595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9051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Risk Retur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91520" y="14479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89548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6800" y="21337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76520" y="2362320"/>
            <a:ext cx="1600200" cy="761760"/>
            <a:chOff x="1676520" y="2362320"/>
            <a:chExt cx="1600200" cy="761760"/>
          </a:xfrm>
        </p:grpSpPr>
        <p:grpSp>
          <p:nvGrpSpPr>
            <p:cNvPr id="219" name=""/>
            <p:cNvGrpSpPr/>
            <p:nvPr/>
          </p:nvGrpSpPr>
          <p:grpSpPr>
            <a:xfrm>
              <a:off x="1707840" y="2362320"/>
              <a:ext cx="1413720" cy="641880"/>
              <a:chOff x="1707840" y="2362320"/>
              <a:chExt cx="1413720" cy="64188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2000" y="2362320"/>
                <a:ext cx="79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0" y="26668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64480" y="2666880"/>
                <a:ext cx="62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is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07840" y="2514600"/>
                <a:ext cx="57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676520" y="2362320"/>
              <a:ext cx="16002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Two-Way Solver Tab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5267160" cy="3687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144792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model multiple objective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 Levels and Maximum Investment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Optimal Order of Entr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14600" y="3244680"/>
            <a:ext cx="6094440" cy="2698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693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sites are added to drilling schedule occurs from “Northwest” to “Southea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d Risk-Return Ratio possible with addition of six drilling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rtfolio Optimization:  Portfolio for One Scenari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rtfolio Optimization: Efficient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onti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633680"/>
          <a:ext cx="7543800" cy="43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3680"/>
                    <a:ext cx="75438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895480" y="1981080"/>
            <a:ext cx="31244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Q&amp;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erministic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olumetric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tivity and Optimal Production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PV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te Carlo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tfolio Optim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gerial Problem Defi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. Distinctive properties for each site (i.e. area, depth, porosity, saturation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 No NPV Negative proj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Choice to develop is bin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752480"/>
            <a:ext cx="75438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iven a set of ten different exploratory sites we need to determine the optimal portfolio of sites to develop that will maximize expected profits and minimizes risks under several oil price scena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ree Step Methodolog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76520"/>
            <a:ext cx="2840040" cy="129528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76560" y="1676520"/>
            <a:ext cx="2838600" cy="1295280"/>
          </a:xfrm>
          <a:custGeom>
            <a:avLst/>
            <a:gdLst>
              <a:gd name="textAreaLeft" fmla="*/ 0 w 2838600"/>
              <a:gd name="textAreaRight" fmla="*/ 2838960 w 2838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89560" y="1676520"/>
            <a:ext cx="2840040" cy="129528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994040"/>
            <a:ext cx="21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50000" y="2071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4000" y="19512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7960" y="11444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6720" y="11444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7280" y="11444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143160"/>
            <a:ext cx="2210040" cy="285768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857680"/>
              <a:gd name="textAreaBottom" fmla="*/ 2750040 h 2857680"/>
            </a:gdLst>
            <a:ahLst/>
            <a:rect l="textAreaLeft" t="textAreaTop" r="textAreaRight" b="textAreaBottom"/>
            <a:pathLst>
              <a:path w="21600" h="27929">
                <a:moveTo>
                  <a:pt x="3600" y="0"/>
                </a:moveTo>
                <a:arcTo wR="3600" hR="3600" stAng="16200000" swAng="-5400000"/>
                <a:lnTo>
                  <a:pt x="0" y="24329"/>
                </a:lnTo>
                <a:arcTo wR="3600" hR="3600" stAng="10800000" swAng="-5400000"/>
                <a:lnTo>
                  <a:pt x="18000" y="27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site, determine the distribution for the net present values (NPV’s) with mean and standard devi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124080"/>
            <a:ext cx="2209680" cy="2857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857680"/>
              <a:gd name="textAreaBottom" fmla="*/ 2750040 h 2857680"/>
            </a:gdLst>
            <a:ahLst/>
            <a:rect l="textAreaLeft" t="textAreaTop" r="textAreaRight" b="textAreaBottom"/>
            <a:pathLst>
              <a:path w="21600" h="27933">
                <a:moveTo>
                  <a:pt x="3600" y="0"/>
                </a:moveTo>
                <a:arcTo wR="3600" hR="3600" stAng="16200000" swAng="-5400000"/>
                <a:lnTo>
                  <a:pt x="0" y="24333"/>
                </a:lnTo>
                <a:arcTo wR="3600" hR="3600" stAng="10800000" swAng="-5400000"/>
                <a:lnTo>
                  <a:pt x="18000" y="27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 Opti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folio of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 six diffe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 scena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0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4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8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2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6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0/Bar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124080"/>
            <a:ext cx="2209680" cy="2857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857680"/>
              <a:gd name="textAreaBottom" fmla="*/ 2750040 h 2857680"/>
            </a:gdLst>
            <a:ahLst/>
            <a:rect l="textAreaLeft" t="textAreaTop" r="textAreaRight" b="textAreaBottom"/>
            <a:pathLst>
              <a:path w="21600" h="27933">
                <a:moveTo>
                  <a:pt x="3600" y="0"/>
                </a:moveTo>
                <a:arcTo wR="3600" hR="3600" stAng="16200000" swAng="-5400000"/>
                <a:lnTo>
                  <a:pt x="0" y="24333"/>
                </a:lnTo>
                <a:arcTo wR="3600" hR="3600" stAng="10800000" swAng="-5400000"/>
                <a:lnTo>
                  <a:pt x="18000" y="27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site, evalu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xplorator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portunity and N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Volumetric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Productivity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al 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Financial Analysi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PV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Volumetric Analysis:  Evaluation of Exploratory Opportuni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me = Area*Depth*Porosity*Saturation*Recov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80988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967320" y="2133720"/>
            <a:ext cx="2995920" cy="2209320"/>
            <a:chOff x="967320" y="2133720"/>
            <a:chExt cx="2995920" cy="2209320"/>
          </a:xfrm>
        </p:grpSpPr>
        <p:sp>
          <p:nvSpPr>
            <p:cNvPr id="110" name=""/>
            <p:cNvSpPr/>
            <p:nvPr/>
          </p:nvSpPr>
          <p:spPr>
            <a:xfrm>
              <a:off x="967320" y="278712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26560" y="2515680"/>
              <a:ext cx="2071440" cy="70920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4040" y="295200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31400" y="284292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7520" y="300672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4440" y="306108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2680" y="289764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306108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84000" y="3006720"/>
              <a:ext cx="6876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1400" y="306108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78800" y="2842920"/>
              <a:ext cx="6912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8320" y="2570040"/>
              <a:ext cx="69120" cy="599760"/>
            </a:xfrm>
            <a:custGeom>
              <a:avLst/>
              <a:gdLst>
                <a:gd name="textAreaLeft" fmla="*/ 44280 w 69120"/>
                <a:gd name="textAreaRight" fmla="*/ 69480 w 69120"/>
                <a:gd name="textAreaTop" fmla="*/ 15480 h 599760"/>
                <a:gd name="textAreaBottom" fmla="*/ 58428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2707920" y="1424880"/>
              <a:ext cx="108720" cy="2071440"/>
            </a:xfrm>
            <a:custGeom>
              <a:avLst/>
              <a:gdLst>
                <a:gd name="textAreaLeft" fmla="*/ 69480 w 108720"/>
                <a:gd name="textAreaRight" fmla="*/ 109080 w 108720"/>
                <a:gd name="textAreaTop" fmla="*/ 54000 h 2071440"/>
                <a:gd name="textAreaBottom" fmla="*/ 2017440 h 20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8120" y="21337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140920" y="3661200"/>
              <a:ext cx="897480" cy="681840"/>
              <a:chOff x="2140920" y="3661200"/>
              <a:chExt cx="897480" cy="681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140920" y="3661200"/>
                <a:ext cx="897480" cy="681840"/>
              </a:xfrm>
              <a:custGeom>
                <a:avLst/>
                <a:gdLst/>
                <a:ahLst/>
                <a:rect l="l" t="t" r="r" b="b"/>
                <a:pathLst>
                  <a:path w="1960" h="1456">
                    <a:moveTo>
                      <a:pt x="496" y="264"/>
                    </a:moveTo>
                    <a:cubicBezTo>
                      <a:pt x="760" y="160"/>
                      <a:pt x="1368" y="0"/>
                      <a:pt x="1600" y="120"/>
                    </a:cubicBezTo>
                    <a:cubicBezTo>
                      <a:pt x="1832" y="240"/>
                      <a:pt x="1960" y="768"/>
                      <a:pt x="1888" y="984"/>
                    </a:cubicBezTo>
                    <a:cubicBezTo>
                      <a:pt x="1816" y="1200"/>
                      <a:pt x="1424" y="1376"/>
                      <a:pt x="1168" y="1416"/>
                    </a:cubicBezTo>
                    <a:cubicBezTo>
                      <a:pt x="912" y="1456"/>
                      <a:pt x="544" y="1336"/>
                      <a:pt x="352" y="1224"/>
                    </a:cubicBezTo>
                    <a:cubicBezTo>
                      <a:pt x="160" y="1112"/>
                      <a:pt x="0" y="896"/>
                      <a:pt x="16" y="744"/>
                    </a:cubicBezTo>
                    <a:cubicBezTo>
                      <a:pt x="32" y="592"/>
                      <a:pt x="232" y="368"/>
                      <a:pt x="496" y="264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278800" y="3769920"/>
                <a:ext cx="610560" cy="452880"/>
                <a:chOff x="2278800" y="3769920"/>
                <a:chExt cx="610560" cy="452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338920" y="4003920"/>
                  <a:ext cx="255600" cy="210240"/>
                </a:xfrm>
                <a:custGeom>
                  <a:avLst/>
                  <a:gdLst/>
                  <a:ahLst/>
                  <a:rect l="l" t="t" r="r" b="b"/>
                  <a:pathLst>
                    <a:path w="560" h="448">
                      <a:moveTo>
                        <a:pt x="272" y="440"/>
                      </a:moveTo>
                      <a:cubicBezTo>
                        <a:pt x="304" y="440"/>
                        <a:pt x="320" y="432"/>
                        <a:pt x="368" y="392"/>
                      </a:cubicBezTo>
                      <a:cubicBezTo>
                        <a:pt x="416" y="352"/>
                        <a:pt x="560" y="264"/>
                        <a:pt x="560" y="200"/>
                      </a:cubicBezTo>
                      <a:cubicBezTo>
                        <a:pt x="560" y="136"/>
                        <a:pt x="456" y="16"/>
                        <a:pt x="368" y="8"/>
                      </a:cubicBezTo>
                      <a:cubicBezTo>
                        <a:pt x="280" y="0"/>
                        <a:pt x="64" y="88"/>
                        <a:pt x="32" y="152"/>
                      </a:cubicBezTo>
                      <a:cubicBezTo>
                        <a:pt x="0" y="216"/>
                        <a:pt x="144" y="336"/>
                        <a:pt x="176" y="392"/>
                      </a:cubicBezTo>
                      <a:cubicBezTo>
                        <a:pt x="208" y="448"/>
                        <a:pt x="240" y="440"/>
                        <a:pt x="272" y="44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278800" y="3824280"/>
                  <a:ext cx="202680" cy="179280"/>
                </a:xfrm>
                <a:custGeom>
                  <a:avLst/>
                  <a:gdLst/>
                  <a:ahLst/>
                  <a:rect l="l" t="t" r="r" b="b"/>
                  <a:pathLst>
                    <a:path w="440" h="384">
                      <a:moveTo>
                        <a:pt x="96" y="48"/>
                      </a:moveTo>
                      <a:cubicBezTo>
                        <a:pt x="40" y="96"/>
                        <a:pt x="0" y="288"/>
                        <a:pt x="48" y="336"/>
                      </a:cubicBezTo>
                      <a:cubicBezTo>
                        <a:pt x="96" y="384"/>
                        <a:pt x="328" y="384"/>
                        <a:pt x="384" y="336"/>
                      </a:cubicBezTo>
                      <a:cubicBezTo>
                        <a:pt x="440" y="288"/>
                        <a:pt x="432" y="96"/>
                        <a:pt x="384" y="48"/>
                      </a:cubicBezTo>
                      <a:cubicBezTo>
                        <a:pt x="336" y="0"/>
                        <a:pt x="152" y="0"/>
                        <a:pt x="96" y="4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88480" y="3769920"/>
                  <a:ext cx="200880" cy="180360"/>
                </a:xfrm>
                <a:custGeom>
                  <a:avLst/>
                  <a:gdLst/>
                  <a:ahLst/>
                  <a:rect l="l" t="t" r="r" b="b"/>
                  <a:pathLst>
                    <a:path w="440" h="384">
                      <a:moveTo>
                        <a:pt x="96" y="48"/>
                      </a:moveTo>
                      <a:cubicBezTo>
                        <a:pt x="40" y="96"/>
                        <a:pt x="0" y="288"/>
                        <a:pt x="48" y="336"/>
                      </a:cubicBezTo>
                      <a:cubicBezTo>
                        <a:pt x="96" y="384"/>
                        <a:pt x="328" y="384"/>
                        <a:pt x="384" y="336"/>
                      </a:cubicBezTo>
                      <a:cubicBezTo>
                        <a:pt x="440" y="288"/>
                        <a:pt x="432" y="96"/>
                        <a:pt x="384" y="48"/>
                      </a:cubicBezTo>
                      <a:cubicBezTo>
                        <a:pt x="336" y="0"/>
                        <a:pt x="152" y="0"/>
                        <a:pt x="96" y="4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71200" y="4042440"/>
                  <a:ext cx="202320" cy="180360"/>
                </a:xfrm>
                <a:custGeom>
                  <a:avLst/>
                  <a:gdLst/>
                  <a:ahLst/>
                  <a:rect l="l" t="t" r="r" b="b"/>
                  <a:pathLst>
                    <a:path w="440" h="384">
                      <a:moveTo>
                        <a:pt x="96" y="48"/>
                      </a:moveTo>
                      <a:cubicBezTo>
                        <a:pt x="40" y="96"/>
                        <a:pt x="0" y="288"/>
                        <a:pt x="48" y="336"/>
                      </a:cubicBezTo>
                      <a:cubicBezTo>
                        <a:pt x="96" y="384"/>
                        <a:pt x="328" y="384"/>
                        <a:pt x="384" y="336"/>
                      </a:cubicBezTo>
                      <a:cubicBezTo>
                        <a:pt x="440" y="288"/>
                        <a:pt x="432" y="96"/>
                        <a:pt x="384" y="48"/>
                      </a:cubicBezTo>
                      <a:cubicBezTo>
                        <a:pt x="336" y="0"/>
                        <a:pt x="152" y="0"/>
                        <a:pt x="96" y="4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486160" y="3115440"/>
              <a:ext cx="344880" cy="545400"/>
            </a:xfrm>
            <a:prstGeom prst="downArrow">
              <a:avLst>
                <a:gd name="adj1" fmla="val 50000"/>
                <a:gd name="adj2" fmla="val 39535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38040" y="278712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os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160" y="2897640"/>
              <a:ext cx="276120" cy="16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8560" y="38239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tu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0" y="251460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05520" y="5133960"/>
            <a:ext cx="3886200" cy="276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343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number of Exploratory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2275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number of wells required to perform tests on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72428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ductivity:  Preparing for Produc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112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066680" y="2590920"/>
            <a:ext cx="2209680" cy="1143000"/>
            <a:chOff x="1066680" y="2590920"/>
            <a:chExt cx="2209680" cy="1143000"/>
          </a:xfrm>
        </p:grpSpPr>
        <p:sp>
          <p:nvSpPr>
            <p:cNvPr id="142" name=""/>
            <p:cNvSpPr/>
            <p:nvPr/>
          </p:nvSpPr>
          <p:spPr>
            <a:xfrm>
              <a:off x="1066680" y="281952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1960" y="281952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23880" y="3276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447560" y="2590920"/>
              <a:ext cx="1650960" cy="2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457200" y="12193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Separation between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198108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Optimal Number of 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3571920" cy="241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431496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1600200"/>
            <a:ext cx="1828800" cy="914400"/>
            <a:chOff x="1219320" y="1600200"/>
            <a:chExt cx="1828800" cy="914400"/>
          </a:xfrm>
        </p:grpSpPr>
        <p:sp>
          <p:nvSpPr>
            <p:cNvPr id="152" name=""/>
            <p:cNvSpPr/>
            <p:nvPr/>
          </p:nvSpPr>
          <p:spPr>
            <a:xfrm>
              <a:off x="1219320" y="160020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1600200"/>
              <a:ext cx="91440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2057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9360" y="19051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8280" y="30924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829040"/>
            <a:ext cx="247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(Total Barr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umulative F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800600"/>
            <a:ext cx="2286000" cy="762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480" y="49528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ductivity:  Measuring Flow and production schedu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038840" cy="216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312444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3124440" cy="160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16002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Profile per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251460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54356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724280" y="4038480"/>
            <a:ext cx="3429000" cy="1976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38862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the 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Production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inancial Analysis:  Cost Analysis for NPV Calcul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76520"/>
            <a:ext cx="2590560" cy="411480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4114800"/>
              <a:gd name="textAreaBottom" fmla="*/ 3988440 h 4114800"/>
            </a:gdLst>
            <a:ahLst/>
            <a:rect l="textAreaLeft" t="textAreaTop" r="textAreaRight" b="textAreaBottom"/>
            <a:pathLst>
              <a:path w="21600" h="34307">
                <a:moveTo>
                  <a:pt x="3600" y="0"/>
                </a:moveTo>
                <a:arcTo wR="3600" hR="3600" stAng="16200000" swAng="-5400000"/>
                <a:lnTo>
                  <a:pt x="0" y="30707"/>
                </a:lnTo>
                <a:arcTo wR="3600" hR="3600" stAng="10800000" swAng="-5400000"/>
                <a:lnTo>
                  <a:pt x="18000" y="34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l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seismic study and all exploratory exp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ismic Study*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atory Cost per Well * Number of Exploratory W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38560" y="1676520"/>
            <a:ext cx="2590920" cy="41148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4114800"/>
              <a:gd name="textAreaBottom" fmla="*/ 3988440 h 4114800"/>
            </a:gdLst>
            <a:ahLst/>
            <a:rect l="textAreaLeft" t="textAreaTop" r="textAreaRight" b="textAreaBottom"/>
            <a:pathLst>
              <a:path w="21600" h="34303">
                <a:moveTo>
                  <a:pt x="3600" y="0"/>
                </a:moveTo>
                <a:arcTo wR="3600" hR="3600" stAng="16200000" swAng="-5400000"/>
                <a:lnTo>
                  <a:pt x="0" y="30703"/>
                </a:lnTo>
                <a:arcTo wR="3600" hR="3600" stAng="10800000" swAng="-5400000"/>
                <a:lnTo>
                  <a:pt x="18000" y="3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all costs related to drilling, finishing, equipment and land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of Wells  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lling*Depth +                Finishing  +  Equipme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d Improvements*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676520"/>
            <a:ext cx="2590920" cy="41148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4114800"/>
              <a:gd name="textAreaBottom" fmla="*/ 3988440 h 4114800"/>
            </a:gdLst>
            <a:ahLst/>
            <a:rect l="textAreaLeft" t="textAreaTop" r="textAreaRight" b="textAreaBottom"/>
            <a:pathLst>
              <a:path w="21600" h="34303">
                <a:moveTo>
                  <a:pt x="3600" y="0"/>
                </a:moveTo>
                <a:arcTo wR="3600" hR="3600" stAng="16200000" swAng="-5400000"/>
                <a:lnTo>
                  <a:pt x="0" y="30703"/>
                </a:lnTo>
                <a:arcTo wR="3600" hR="3600" stAng="10800000" swAng="-5400000"/>
                <a:lnTo>
                  <a:pt x="18000" y="3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all Maintenance and Operat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xed Operating Cost  per Well) * (Number of W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Variable Operating Costs + Variable Maintenance Costs) * (Prod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9040" y="3809880"/>
            <a:ext cx="219384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267080"/>
            <a:ext cx="228600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4191120"/>
            <a:ext cx="23623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23623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52388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3809880"/>
            <a:ext cx="228600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724280"/>
            <a:ext cx="228600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V Calculation per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2324160"/>
            <a:ext cx="1871640" cy="2112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3048120" cy="2341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071800" y="2755800"/>
            <a:ext cx="38088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" y="1828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21680" y="156852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enues and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5200" y="160020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ary Output of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h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5680" y="2755800"/>
            <a:ext cx="381240" cy="1247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22860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8:36:21Z</dcterms:created>
  <dc:creator>Stern School of Business</dc:creator>
  <dc:description/>
  <dc:language>en-US</dc:language>
  <cp:lastModifiedBy>Matt Hynes</cp:lastModifiedBy>
  <dcterms:modified xsi:type="dcterms:W3CDTF">2004-04-26T13:37:21Z</dcterms:modified>
  <cp:revision>263</cp:revision>
  <dc:subject/>
  <dc:title>Final Project</dc:title>
</cp:coreProperties>
</file>